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FDDE-8949-418B-AE2C-4BD1FD9FC5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7841-DCC6-441C-9F6A-496390440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E44B-8B9F-47D8-8AD5-6E2C16E7E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5417-DFCC-455F-B41B-A9C3BEB34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6AF0-DA0D-4A81-A121-61D0864F0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048F-3990-4A62-97D3-463E7A017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581C-3D3D-4AEF-97DA-3CC3AD5E9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9F1B-1CE6-43FC-BCA1-2491A6D5F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EB5-22B8-4D09-89B0-38A4CC6A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F3F-83D6-423E-BF34-F536F68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2CC-AC6A-4BFE-8F65-FAAED006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A68-CDE2-47FE-A01A-F2BF2376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1423E-4DDD-4164-9864-714E1E95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EB7FD-9600-4DAA-9359-DE954AA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99CA-7791-4A2E-9101-EF5C66A2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AAAAC-9A56-448E-A3CB-AACB3E57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10CE6-D799-4F71-9909-207EC007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99209-AD06-4287-97C8-E297A6D0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04FCE-A2CD-48AB-98B9-72C89E35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A73-613B-43AD-844F-4FC8C358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15237-9E43-424F-80DA-1FC2584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931BA-2417-4795-BCDC-41F4D0C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E4FA7-08ED-4FE8-ACFB-1D476868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8D3CA-88A0-43FC-B71E-7575FA11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18F63-9A62-42FA-A4C4-CABE2CE5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CF19-91F3-4DB3-BCE8-8ADA3173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2895-093D-4C79-83EE-BD8A50E5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A734-D33C-4D57-B935-CACCE6DD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CEFC-0274-411C-A710-847521FD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34E6-E10B-4C5C-A16D-CD51C817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8F3-612C-4BE7-98A4-38D0A898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A602-C8D7-409B-A9ED-ABCE3A90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BE7B-9F8F-4BD3-B183-BB0FC3E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CC0B-AE87-48AF-9EAC-22D7DE7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6E67-3D5F-4274-A3C5-11B4999A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E466-BEE4-487F-9108-D2DD05EA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009D-D592-42FA-B53C-DA70DFE5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61BC1-0339-4057-A4A8-B4EF0337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18A7-5797-4F9C-9D27-1A456B59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1220-4B2D-42F0-A0B9-56B0A40F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DA168-97EE-46B4-9A47-0B9A5A24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761-7ED8-4BC8-9E65-0F323FE5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6CA4D-E8F9-4D86-948A-01C73280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B702-EDCA-4E95-A5FC-3A90C058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88D6-5BB3-4240-A110-098E3D43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FE02B-EDC7-46BB-94CF-2DD991C0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0029-EDDB-4A5D-974D-827C0817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E95C-A4DF-4420-B96D-9909F62B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DAE5-461E-473B-BD7E-37E0C8B8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51E4-2C6F-4328-A0BE-8F7E8F73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A1F7-888E-4C89-BB7F-AD78D18F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76CDA-8A15-48C0-AAB5-2EC631E4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983-58B8-41EB-92D6-800CF94A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D2A6-7447-4C4F-B715-045289D9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D8F14-10E2-4E98-AFA0-FBAF0302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F410F-4065-4F99-A463-D74C76F3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43AF2-B705-498D-B036-B56F876C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D194-3AB4-4E3F-9781-AA993666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3DDB6-2711-41E7-9BEB-F1A9615F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F091A-E494-4AEE-B192-E52B363B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ED323-1407-441A-BE1C-B16CDF46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2062F-3B55-4B43-B298-67ECE830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51AC7-370C-4401-A918-3142B057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8AF-3CF1-4F39-81D8-D78B0D5F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7B8A-90B6-4D47-B783-0BB7D3BB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67C7D-50DE-4F41-BCD4-6B694AB7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A7524-74A1-4CE2-B85B-19676F44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AD515-5709-488C-A411-CF537FBA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EF77D-7D5F-4238-9B3F-A2819DC8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925CA-4112-4A2E-877A-162AE2C0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DC7E-0C40-4AC9-983C-FB7E0E60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BC4B0-5D2F-43E4-A2A3-5A9CF36B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D6619-C1BC-4FD4-9084-1D1FD44B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3ACF-EFDC-4FAE-B250-6504008C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243-8C1D-4B93-9D7D-78B8A3A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2A9F-F2D7-44AC-B737-0B9CB25E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05D85-4B95-4E49-840D-CCD5516B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2C013-6E75-4FF9-98B4-E96541E6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B14F0-4101-4B57-91D8-F0FD8EDE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BF6A9-D023-4982-A5B6-5EC0BE9E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95708-AA02-44CE-B73A-46637AA8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E67EF-AC51-4FEC-9A8C-51D937F6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0CF80-0532-4679-9075-B4F38C52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D8BC2-3F73-4A65-A9F7-E619A94F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7B0E-3C4A-40B8-9F16-B3488CAB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889-E9E8-4920-8163-D9B3C29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EAD9D-E986-4716-93E3-C656115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9F79B-F208-4360-8697-03CB117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88AA7-BF87-4DFD-9473-7D67005E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77448-E9C6-4FE6-916E-7DB82CDF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68BC9-F75C-474B-932E-E46989E4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AA8-B162-49FE-A50D-2D288F5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47E8-28C3-4442-BF72-A3BAECA6F3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EC79-F54B-49C8-B367-380DE138D0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424E-7F97-48D2-9937-46AA3367A5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B649-67FD-4BB2-A85F-D4075F5A60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8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F221-8AB1-4E13-9BDF-B966887618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C924-90CD-455F-98B2-39F54B63EE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C7E0-72B5-43ED-9EF4-B75320D794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6"/>
          <p:cNvSpPr/>
          <p:nvPr/>
        </p:nvSpPr>
        <p:spPr>
          <a:xfrm>
            <a:off x="457200" y="152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Тема урока: «Сложение чисел с разными и одинаковыми знак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6172200" y="6116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Дугданова Е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4 + 3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04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8"/>
          <p:cNvSpPr/>
          <p:nvPr/>
        </p:nvSpPr>
        <p:spPr>
          <a:xfrm>
            <a:off x="147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1"/>
          <p:cNvSpPr/>
          <p:nvPr/>
        </p:nvSpPr>
        <p:spPr>
          <a:xfrm>
            <a:off x="1619280" y="2924280"/>
            <a:ext cx="2220840" cy="56520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565200"/>
              <a:gd name="textAreaBottom" fmla="*/ 565200 h 565200"/>
            </a:gdLst>
            <a:ahLst/>
            <a:rect l="textAreaLeft" t="textAreaTop" r="textAreaRight" b="textAreaBottom"/>
            <a:pathLst>
              <a:path w="1399" h="356">
                <a:moveTo>
                  <a:pt x="1399" y="356"/>
                </a:moveTo>
                <a:cubicBezTo>
                  <a:pt x="1346" y="313"/>
                  <a:pt x="1193" y="169"/>
                  <a:pt x="1079" y="110"/>
                </a:cubicBezTo>
                <a:cubicBezTo>
                  <a:pt x="965" y="51"/>
                  <a:pt x="846" y="0"/>
                  <a:pt x="714" y="0"/>
                </a:cubicBezTo>
                <a:cubicBezTo>
                  <a:pt x="582" y="0"/>
                  <a:pt x="403" y="52"/>
                  <a:pt x="284" y="110"/>
                </a:cubicBezTo>
                <a:cubicBezTo>
                  <a:pt x="165" y="168"/>
                  <a:pt x="59" y="298"/>
                  <a:pt x="0" y="3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3710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255780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0162 L 4.16667E-006 1.90751E-006 E">
                                      <p:cBhvr>
                                        <p:cTn id="21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3 + 8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28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18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0"/>
          <p:cNvSpPr/>
          <p:nvPr/>
        </p:nvSpPr>
        <p:spPr>
          <a:xfrm>
            <a:off x="234000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1"/>
          <p:cNvSpPr/>
          <p:nvPr/>
        </p:nvSpPr>
        <p:spPr>
          <a:xfrm>
            <a:off x="2411280" y="2924280"/>
            <a:ext cx="5747040" cy="569880"/>
          </a:xfrm>
          <a:custGeom>
            <a:avLst/>
            <a:gdLst>
              <a:gd name="textAreaLeft" fmla="*/ 0 w 5747040"/>
              <a:gd name="textAreaRight" fmla="*/ 5747400 w 57470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3620" h="359">
                <a:moveTo>
                  <a:pt x="3620" y="359"/>
                </a:moveTo>
                <a:cubicBezTo>
                  <a:pt x="3471" y="316"/>
                  <a:pt x="3026" y="162"/>
                  <a:pt x="2724" y="103"/>
                </a:cubicBezTo>
                <a:cubicBezTo>
                  <a:pt x="2422" y="44"/>
                  <a:pt x="2115" y="6"/>
                  <a:pt x="1810" y="3"/>
                </a:cubicBezTo>
                <a:cubicBezTo>
                  <a:pt x="1505" y="0"/>
                  <a:pt x="1198" y="26"/>
                  <a:pt x="896" y="85"/>
                </a:cubicBezTo>
                <a:cubicBezTo>
                  <a:pt x="594" y="144"/>
                  <a:pt x="187" y="302"/>
                  <a:pt x="0" y="3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8029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493416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003 0.00162 L 4.72222E-006 1.90751E-006 E">
                                      <p:cBhvr>
                                        <p:cTn id="258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3272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В  результате  сложения  чисел  с  разными  знаками  может получиться как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оложительное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, так и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отрицательное 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число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395280" y="4005360"/>
            <a:ext cx="38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+ (-4)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716000" y="4005000"/>
            <a:ext cx="39099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7) = 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356000" y="472428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 + 3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920" y="4869000"/>
            <a:ext cx="36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 + 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1928880" y="2643120"/>
            <a:ext cx="914400" cy="914400"/>
          </a:xfrm>
          <a:prstGeom prst="ellipse">
            <a:avLst/>
          </a:prstGeom>
          <a:solidFill>
            <a:srgbClr val="fcb7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6227640" y="2637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1692360" y="5661000"/>
            <a:ext cx="604836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знать знак су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2556000" y="5734080"/>
            <a:ext cx="4032000" cy="625320"/>
          </a:xfrm>
          <a:prstGeom prst="rect">
            <a:avLst/>
          </a:prstGeom>
          <a:gradFill rotWithShape="0">
            <a:gsLst>
              <a:gs pos="0">
                <a:srgbClr val="fcb7b2"/>
              </a:gs>
              <a:gs pos="50000">
                <a:srgbClr val="ffffff"/>
              </a:gs>
              <a:gs pos="100000">
                <a:srgbClr val="fcb7b2"/>
              </a:gs>
            </a:gsLst>
            <a:lin ang="5400000"/>
          </a:gra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 +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900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68052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47636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9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611280" y="3933720"/>
            <a:ext cx="2303280" cy="625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50920" y="299736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3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611280" y="206064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16000" y="1197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2195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536400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300720" y="3933720"/>
            <a:ext cx="2303640" cy="6256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6588000" y="299736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6227640" y="206064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5651640" y="1197000"/>
            <a:ext cx="230328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5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5219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812f"/>
                </a:solidFill>
                <a:latin typeface="Times New Roman"/>
              </a:rPr>
              <a:t>-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 flipV="1">
            <a:off x="363528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0"/>
          <p:cNvSpPr/>
          <p:nvPr/>
        </p:nvSpPr>
        <p:spPr>
          <a:xfrm flipV="1">
            <a:off x="550872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 flipV="1">
            <a:off x="270036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"/>
          <p:cNvSpPr/>
          <p:nvPr/>
        </p:nvSpPr>
        <p:spPr>
          <a:xfrm flipV="1">
            <a:off x="644364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3"/>
          <p:cNvSpPr/>
          <p:nvPr/>
        </p:nvSpPr>
        <p:spPr>
          <a:xfrm flipV="1">
            <a:off x="226836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687708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75564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V="1">
            <a:off x="838836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V="1">
            <a:off x="1332000" y="155700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7740720" y="1628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313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601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1"/>
          <p:cNvSpPr/>
          <p:nvPr/>
        </p:nvSpPr>
        <p:spPr>
          <a:xfrm>
            <a:off x="2916360" y="2852640"/>
            <a:ext cx="331308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2"/>
          <p:cNvSpPr/>
          <p:nvPr/>
        </p:nvSpPr>
        <p:spPr>
          <a:xfrm flipV="1">
            <a:off x="4572000" y="692280"/>
            <a:ext cx="0" cy="2087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4067280" y="260280"/>
            <a:ext cx="100800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3"/>
          <p:cNvSpPr/>
          <p:nvPr/>
        </p:nvSpPr>
        <p:spPr>
          <a:xfrm>
            <a:off x="205740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тобы сложить чис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38088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одинаков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6019920" y="1981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ным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6"/>
          <p:cNvSpPr/>
          <p:nvPr/>
        </p:nvSpPr>
        <p:spPr>
          <a:xfrm>
            <a:off x="743040" y="3618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 общий знак и сложи их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7"/>
          <p:cNvSpPr/>
          <p:nvPr/>
        </p:nvSpPr>
        <p:spPr>
          <a:xfrm>
            <a:off x="5248440" y="35496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знак большего модуля и из большего модуля вычти меньший мод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"/>
          <p:cNvSpPr/>
          <p:nvPr/>
        </p:nvSpPr>
        <p:spPr>
          <a:xfrm flipH="1">
            <a:off x="2286000" y="1219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5181480" y="12193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22096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71629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863640" y="49784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3+(-25)=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1066680" y="5619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+25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6175440" y="5340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45+40=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380880" y="1066680"/>
            <a:ext cx="41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5+(-3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391440" y="17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324480" y="11653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477120" y="2209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9" descr="3str5"/>
          <p:cNvPicPr/>
          <p:nvPr/>
        </p:nvPicPr>
        <p:blipFill>
          <a:blip r:embed="rId2"/>
          <a:stretch/>
        </p:blipFill>
        <p:spPr>
          <a:xfrm rot="10582800">
            <a:off x="5562000" y="159984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3str5"/>
          <p:cNvPicPr/>
          <p:nvPr/>
        </p:nvPicPr>
        <p:blipFill>
          <a:blip r:embed="rId3"/>
          <a:stretch/>
        </p:blipFill>
        <p:spPr>
          <a:xfrm rot="12564600">
            <a:off x="5562360" y="228528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3str5"/>
          <p:cNvPicPr/>
          <p:nvPr/>
        </p:nvPicPr>
        <p:blipFill>
          <a:blip r:embed="rId4"/>
          <a:stretch/>
        </p:blipFill>
        <p:spPr>
          <a:xfrm rot="9405600">
            <a:off x="5562360" y="685440"/>
            <a:ext cx="600120" cy="29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752480" y="40006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3809880" y="49402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666880" y="46353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"/>
          <p:cNvSpPr/>
          <p:nvPr/>
        </p:nvSpPr>
        <p:spPr>
          <a:xfrm>
            <a:off x="533520" y="106668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5+(-25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6572160" y="1066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6191280" y="228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6249960" y="198756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1" descr="3str5"/>
          <p:cNvPicPr/>
          <p:nvPr/>
        </p:nvPicPr>
        <p:blipFill>
          <a:blip r:embed="rId2"/>
          <a:stretch/>
        </p:blipFill>
        <p:spPr>
          <a:xfrm rot="9191400">
            <a:off x="5790600" y="761760"/>
            <a:ext cx="685800" cy="34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3str5"/>
          <p:cNvPicPr/>
          <p:nvPr/>
        </p:nvPicPr>
        <p:blipFill>
          <a:blip r:embed="rId3"/>
          <a:stretch/>
        </p:blipFill>
        <p:spPr>
          <a:xfrm rot="10639200">
            <a:off x="5755680" y="13712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3str5"/>
          <p:cNvPicPr/>
          <p:nvPr/>
        </p:nvPicPr>
        <p:blipFill>
          <a:blip r:embed="rId4"/>
          <a:stretch/>
        </p:blipFill>
        <p:spPr>
          <a:xfrm rot="12663000">
            <a:off x="5847840" y="2056680"/>
            <a:ext cx="6098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752480" y="4016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3962520" y="5029200"/>
            <a:ext cx="1981080" cy="990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ть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-15; +10; -32;  2 ; -7 ; 0; -4; 9,36; +7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Назовите отрицательн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азовите натура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Назовите положите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Назовите цел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ыделите квадратиком противополож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Выделите кружочком наибол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Выделите треугольником наимен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762280" y="45403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9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"/>
          <p:cNvSpPr/>
          <p:nvPr/>
        </p:nvSpPr>
        <p:spPr>
          <a:xfrm>
            <a:off x="914400" y="12193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48+15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6294600" y="19782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276960" y="108576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286680" y="2286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3str5"/>
          <p:cNvPicPr/>
          <p:nvPr/>
        </p:nvPicPr>
        <p:blipFill>
          <a:blip r:embed="rId2"/>
          <a:stretch/>
        </p:blipFill>
        <p:spPr>
          <a:xfrm rot="9506400">
            <a:off x="5562000" y="8377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3str5"/>
          <p:cNvPicPr/>
          <p:nvPr/>
        </p:nvPicPr>
        <p:blipFill>
          <a:blip r:embed="rId3"/>
          <a:stretch/>
        </p:blipFill>
        <p:spPr>
          <a:xfrm rot="10800000">
            <a:off x="5562360" y="15235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3str5"/>
          <p:cNvPicPr/>
          <p:nvPr/>
        </p:nvPicPr>
        <p:blipFill>
          <a:blip r:embed="rId4"/>
          <a:stretch/>
        </p:blipFill>
        <p:spPr>
          <a:xfrm rot="11800200">
            <a:off x="5517360" y="2269800"/>
            <a:ext cx="685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752480" y="3968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962520" y="5016600"/>
            <a:ext cx="1981080" cy="99036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2666880" y="4619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7" descr="2c5"/>
          <p:cNvPicPr/>
          <p:nvPr/>
        </p:nvPicPr>
        <p:blipFill>
          <a:blip r:embed="rId1"/>
          <a:stretch/>
        </p:blipFill>
        <p:spPr>
          <a:xfrm>
            <a:off x="4038480" y="1828800"/>
            <a:ext cx="4267440" cy="24415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2"/>
          <p:cNvSpPr/>
          <p:nvPr/>
        </p:nvSpPr>
        <p:spPr>
          <a:xfrm>
            <a:off x="291960" y="701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6+(-6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1584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70+5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68280" y="247032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+(-30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609480" y="3286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+12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1680" y="4121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63+(-73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8201160" y="587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915160" y="8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7505640" y="5934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8102520" y="495288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7696080" y="1676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7292880" y="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4419720" y="95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5880240" y="60548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4546440" y="6019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2" descr="2str1"/>
          <p:cNvPicPr/>
          <p:nvPr/>
        </p:nvPicPr>
        <p:blipFill>
          <a:blip r:embed="rId2"/>
          <a:stretch/>
        </p:blipFill>
        <p:spPr>
          <a:xfrm>
            <a:off x="8001000" y="3048120"/>
            <a:ext cx="825480" cy="9903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3"/>
          <p:cNvSpPr/>
          <p:nvPr/>
        </p:nvSpPr>
        <p:spPr>
          <a:xfrm>
            <a:off x="4254480" y="1295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ложение отрицатель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4267080" y="28954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положительных 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3997440" y="426708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исел с разн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33526E-006 L -0.64844 0.01203 E">
                                      <p:cBhvr>
                                        <p:cTn id="64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51445E-007 L -0.40521 0.21827 E">
                                      <p:cBhvr>
                                        <p:cTn id="653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5625 -0.51204 E">
                                      <p:cBhvr>
                                        <p:cTn id="65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48555E-006 L -0.60973 -0.24647 E">
                                      <p:cBhvr>
                                        <p:cTn id="661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4798E-006 L -0.575 0.35283 E">
                                      <p:cBhvr>
                                        <p:cTn id="66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53177 0.71991 E">
                                      <p:cBhvr>
                                        <p:cTn id="669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6532E-006 L -0.21666 0.83838 E">
                                      <p:cBhvr>
                                        <p:cTn id="673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72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Georgia"/>
              </a:rPr>
              <a:t>Выполните  сложение в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4"/>
              <p:cNvSpPr txBox="1"/>
              <p:nvPr/>
            </p:nvSpPr>
            <p:spPr>
              <a:xfrm>
                <a:off x="719280" y="1440000"/>
                <a:ext cx="77054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27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0" name="AutoShape 7"/>
          <p:cNvSpPr/>
          <p:nvPr/>
        </p:nvSpPr>
        <p:spPr>
          <a:xfrm>
            <a:off x="7524720" y="18900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ccd9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704880" y="53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80880" y="1514520"/>
          <a:ext cx="8382240" cy="26258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5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+(-9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+(-56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+75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+18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+(-24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+(-67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9+84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+29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914400" y="2057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то узнали нового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ему научилис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953040" cy="5047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127080" y="1125360"/>
            <a:ext cx="8642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2"/>
          <p:cNvSpPr/>
          <p:nvPr/>
        </p:nvSpPr>
        <p:spPr>
          <a:xfrm>
            <a:off x="2286000" y="260280"/>
            <a:ext cx="52387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4;-3;-2;-1;0. (-3;-2;-1;0;-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6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5;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; (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&l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-3 &lt;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 &gt; -6 (-8 &l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 &lt; -7 (-5 &gt;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 &gt; -20 (-30 &lt;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; (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0;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; (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0; (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│=2; (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7 и 7; (-4 и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шений нет; (решений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ос не только встречается в жизни, но и среди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7362720" y="5413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4 -0.24855 C -0.02101 -0.20532 -0.03125 -0.13179 -0.00365 -0.08601 C 0.02917 -0.03144 0.07778 -0.0511 0.10486 -0.06659 L 0.13924 -0.08948 C 0.16667 -0.10474 0.21597 -0.12347 0.25295 -0.06196 C 0.27708 -0.02312 0.27049 0.05734 0.23021 0.10081 C 0.18976 0.14405 0.12951 0.1348 0.1059 0.09549 C 0.06892 0.03445 0.09306 -0.02589 0.1099 -0.05826 L 0.13438 -0.09826 C 0.15156 -0.13017 0.17656 -0.18936 0.14375 -0.2437 C 0.1158 -0.28994 0.0599 -0.29179 0.01944 -0.24855 Z">
                                      <p:cBhvr>
                                        <p:cTn id="50" dur="5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2 0.03472 C 0.12327 0.09953 0.13941 0.17778 0.11459 0.20694 C 0.08594 0.2419 0.0356 0.1949 0.00695 0.16435 L -0.02987 0.12245 C -0.05799 0.09213 -0.10886 0.04653 -0.14167 0.08541 C -0.16251 0.11065 -0.1507 0.1919 -0.10643 0.25764 C -0.06285 0.32222 -0.00226 0.34838 0.01841 0.32291 C 0.0507 0.28356 0.02188 0.21065 0.00244 0.16967 L -0.025 0.11736 C -0.04462 0.07592 -0.07396 0.0044 -0.04514 -0.03033 C -0.02049 -0.05949 0.03577 -0.02986 0.07952 0.03472 Z">
                                      <p:cBhvr>
                                        <p:cTn id="52" dur="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51 0.06435 C -0.09723 0.04213 -0.1158 0.00532 -0.10851 -0.02662 C -0.09775 -0.07385 -0.06337 -0.10162 -0.03073 -0.08843 C -0.02032 -0.08426 -0.01146 -0.07662 -0.00469 -0.06528 C -0.00434 -0.06667 0.09062 0.13495 0.09166 0.13541 C 0.09062 0.13495 -0.07257 0.23194 -0.07223 0.23055 C -0.08264 0.23472 -0.09306 0.23472 -0.10365 0.23032 C -0.13611 0.21713 -0.15313 0.16851 -0.14202 0.1199 C -0.13507 0.08935 -0.10417 0.07268 -0.08351 0.06435 Z">
                                      <p:cBhvr>
                                        <p:cTn id="54" dur="5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8449 C 3.33333E-006 0.00579 0.02708 0.08009 0.06007 0.08009 C 0.09896 0.08009 0.11302 -0.00231 0.11892 -0.05162 L 0.125 -0.11736 C 0.13107 -0.16667 0.146 -0.24884 0.18993 -0.24884 C 0.21805 -0.24884 0.25 -0.17477 0.25 -0.08449 C 0.25 0.00579 0.21805 0.08009 0.18993 0.08009 C 0.146 0.08009 0.13107 -0.00231 0.125 -0.05162 L 0.11892 -0.11736 C 0.11302 -0.16667 0.09896 -0.24884 0.06007 -0.24884 C 0.02708 -0.24884 3.33333E-006 -0.17477 3.33333E-006 -0.08449 Z">
                                      <p:cBhvr>
                                        <p:cTn id="56" dur="5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0.00671 C 0.00973 0.00671 0.03681 0.04282 0.03681 0.0868 C 0.03681 0.13865 0.00677 0.1574 -0.01128 0.16527 L -0.03524 0.17338 C -0.0533 0.18148 -0.08333 0.20139 -0.08333 0.25995 C -0.08333 0.29745 -0.05625 0.34004 -0.02326 0.34004 C 0.00973 0.34004 0.03681 0.29745 0.03681 0.25995 C 0.03681 0.20139 0.00677 0.18148 -0.01128 0.17338 L -0.03524 0.16527 C -0.0533 0.1574 -0.08333 0.13865 -0.08333 0.0868 C -0.08333 0.04282 -0.05625 0.00671 -0.02326 0.00671 Z">
                                      <p:cBhvr>
                                        <p:cTn id="58" dur="5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38 -0.11204 C 0.21441 -0.12963 0.26597 -0.15093 0.28211 -0.1257 C 0.30607 -0.08796 0.28611 -0.0132 0.23646 0.04305 C 0.22048 0.06134 0.20382 0.075 0.18663 0.08356 C 0.18732 0.08472 -0.08507 0.18843 -0.08664 0.19005 C -0.08507 0.18843 0.03593 -0.15324 0.03646 -0.15185 C 0.046 -0.17315 0.0585 -0.19259 0.07482 -0.21111 C 0.12448 -0.26713 0.18316 -0.28102 0.20746 -0.24213 C 0.22326 -0.21806 0.19878 -0.1537 0.18038 -0.11204 Z">
                                      <p:cBhvr>
                                        <p:cTn id="60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89 0.18172 C -0.04236 0.22385 0.00764 0.23264 0.0507 0.20047 C 0.10139 0.1632 0.10434 0.11135 0.10261 0.08264 L 0.09775 0.04584 C 0.09601 0.01713 0.1 -0.03564 0.15747 -0.07777 C 0.19462 -0.10509 0.2507 -0.10115 0.26841 -0.05902 C 0.28542 -0.01689 0.25816 0.04885 0.22101 0.07616 C 0.16372 0.11806 0.12778 0.09422 0.11042 0.07663 L 0.08976 0.05163 C 0.07223 0.0345 0.03837 0.00926 -0.0125 0.04676 C -0.05642 0.07894 -0.07708 0.13959 -0.05989 0.18172 Z">
                                      <p:cBhvr>
                                        <p:cTn id="62" dur="5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0.00971 C -0.13681 -0.01434 -0.09896 -0.04879 -0.05399 -0.04879 C 0.0125 -0.04879 0.06667 -0.01295 0.06667 0.03237 C 0.06667 0.04694 0.06128 0.06035 0.05035 0.07237 C 0.05226 0.07237 -0.15833 0.25225 -0.15833 0.25364 C -0.15833 0.25225 -0.3691 0.07237 -0.36719 0.07237 C -0.37812 0.06035 -0.38333 0.04694 -0.38333 0.03237 C -0.38333 -0.01295 -0.32934 -0.04879 -0.26094 -0.04879 C -0.21771 -0.04879 -0.18003 -0.01434 -0.15833 0.00971 Z">
                                      <p:cBhvr>
                                        <p:cTn id="64" dur="5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-0.01736 C -0.02726 0.00162 0.00955 -0.01667 0.02448 -0.0581 C 0.04218 -0.10695 0.02152 -0.14213 0.00798 -0.15996 L -0.01077 -0.18148 C -0.02431 -0.19977 -0.04445 -0.23588 -0.02448 -0.29098 C -0.01164 -0.32639 0.02725 -0.3507 0.05694 -0.33148 C 0.08663 -0.31227 0.09652 -0.25648 0.08368 -0.22107 C 0.06371 -0.16621 0.02986 -0.16482 0.01076 -0.1676 L -0.01354 -0.17385 C -0.03247 -0.17709 -0.06598 -0.17662 -0.08368 -0.12801 C -0.09861 -0.08658 -0.08664 -0.03658 -0.05695 -0.01736 Z">
                                      <p:cBhvr>
                                        <p:cTn id="66" dur="5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49 -0.03769 C 0.14965 -0.04162 0.2 -0.04139 0.21875 -0.00486 C 0.24548 0.04994 0.23194 0.12647 0.18611 0.1674 C 0.1717 0.18081 0.15573 0.18774 0.13906 0.19006 C 0.13993 0.19167 -0.12795 0.18035 -0.12865 0.1815 C -0.12795 0.18035 -0.03334 -0.15376 -0.03229 -0.15237 C -0.02483 -0.17226 -0.01354 -0.18821 0.00121 -0.20116 C 0.04687 -0.24208 0.10555 -0.23052 0.13368 -0.17387 C 0.15139 -0.1385 0.13211 -0.07653 0.11649 -0.03769 Z">
                                      <p:cBhvr>
                                        <p:cTn id="68" dur="5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828800" y="22096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72"/>
                </a:solidFill>
                <a:latin typeface="Arial"/>
              </a:rPr>
              <a:t>Спасибо за уро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260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е числа на две группы по какому-нибудь принци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7473960" y="52070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704880" y="1293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ожи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5854680" y="1320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Отрица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90800" y="624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Порядок в числах нав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10834 -0.05996 E">
                                      <p:cBhvr>
                                        <p:cTn id="7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96296E-006 L -0.37499 -0.16667 E">
                                      <p:cBhvr>
                                        <p:cTn id="7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7 L -0.40833 -0.26667 E">
                                      <p:cBhvr>
                                        <p:cTn id="7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82659E-007 L -0.6 -0.02659 E">
                                      <p:cBhvr>
                                        <p:cTn id="80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7341E-007 L -0.775 0.19538 E">
                                      <p:cBhvr>
                                        <p:cTn id="8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96296E-006 L 0.13333 -0.06666 E">
                                      <p:cBhvr>
                                        <p:cTn id="8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18519E-006 L 0.67501 -0.14445 E">
                                      <p:cBhvr>
                                        <p:cTn id="8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3237E-006 L 0.475 0.12878 E">
                                      <p:cBhvr>
                                        <p:cTn id="8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4.07407E-006 L 0.525 -0.11111 E">
                                      <p:cBhvr>
                                        <p:cTn id="9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07153 -0.06359 E">
                                      <p:cBhvr>
                                        <p:cTn id="9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равнить числ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7" name="Содержимое 2" descr=""/>
          <p:cNvPicPr/>
          <p:nvPr/>
        </p:nvPicPr>
        <p:blipFill>
          <a:blip r:embed="rId1"/>
          <a:stretch/>
        </p:blipFill>
        <p:spPr>
          <a:xfrm>
            <a:off x="407880" y="1523880"/>
            <a:ext cx="8278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лова, которые можно отнести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 “+” и “-”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игрыш, проигрыш, отдал, взял, зарплата, налоги, долг и имуще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5) + (+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5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Georgia"/>
              </a:rPr>
              <a:t>Объясните  решение  пример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48000" y="2997360"/>
            <a:ext cx="5580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6 + (-6) = + (26 – 6)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916360" y="4005360"/>
            <a:ext cx="62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57 + 34 = -(57 – 34) = -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"/>
          <p:cNvSpPr txBox="1"/>
          <p:nvPr/>
        </p:nvSpPr>
        <p:spPr>
          <a:xfrm>
            <a:off x="4356000" y="5229360"/>
            <a:ext cx="410544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 7 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380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723780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0"/>
          <p:cNvSpPr/>
          <p:nvPr/>
        </p:nvSpPr>
        <p:spPr>
          <a:xfrm>
            <a:off x="738036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1"/>
          <p:cNvSpPr/>
          <p:nvPr/>
        </p:nvSpPr>
        <p:spPr>
          <a:xfrm>
            <a:off x="2411280" y="2924280"/>
            <a:ext cx="5007240" cy="536400"/>
          </a:xfrm>
          <a:custGeom>
            <a:avLst/>
            <a:gdLst>
              <a:gd name="textAreaLeft" fmla="*/ 0 w 5007240"/>
              <a:gd name="textAreaRight" fmla="*/ 5007600 w 50072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154" h="338">
                <a:moveTo>
                  <a:pt x="3154" y="338"/>
                </a:moveTo>
                <a:cubicBezTo>
                  <a:pt x="3006" y="297"/>
                  <a:pt x="2517" y="147"/>
                  <a:pt x="2258" y="91"/>
                </a:cubicBezTo>
                <a:cubicBezTo>
                  <a:pt x="1999" y="35"/>
                  <a:pt x="1827" y="0"/>
                  <a:pt x="1600" y="0"/>
                </a:cubicBezTo>
                <a:cubicBezTo>
                  <a:pt x="1373" y="0"/>
                  <a:pt x="1163" y="35"/>
                  <a:pt x="896" y="91"/>
                </a:cubicBezTo>
                <a:cubicBezTo>
                  <a:pt x="629" y="147"/>
                  <a:pt x="187" y="287"/>
                  <a:pt x="0" y="33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4645080" y="2349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6"/>
          <p:cNvSpPr/>
          <p:nvPr/>
        </p:nvSpPr>
        <p:spPr>
          <a:xfrm>
            <a:off x="5508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90751E-006 L -0.55121 0.00162 E">
                                      <p:cBhvr>
                                        <p:cTn id="16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уся</dc:creator>
  <dc:description/>
  <dc:language>en-US</dc:language>
  <cp:lastModifiedBy>Лена</cp:lastModifiedBy>
  <dcterms:modified xsi:type="dcterms:W3CDTF">2024-03-04T14:22:03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