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B43E-987C-4301-A2EB-A914E8F12E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E051-9726-45DB-AFC0-77BAB48FBC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20A1-EEE2-4E80-B9B3-A53A5928B7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A9D9-8C56-4523-8118-16BCFA8D2F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1030-B056-45AA-9646-D376417D99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E508-CE2E-4CC5-9DC1-EB2CC105DE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A35F-4AE7-4B6A-844C-C99521E10B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76B1-42C5-4F80-91B3-EFBEEDC6F4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5B60-167B-4D3C-9FD4-CE78BA93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F3E-4681-481B-A43E-C2BC43FF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41B2-F460-4520-8040-55FBDD62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8679-566A-4353-87FA-179D1DCB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651E4-7779-41C5-9258-023CA345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524CD-ADE5-4A95-A0C0-61F01BC9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DB8AE-94EB-423E-B650-E757560F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65042-2323-4B9C-98A4-350EA547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C1D9A-85C4-4CC3-9FD2-DBD6D1EA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94AE6-A143-4220-8A84-3F16A327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DF810-ADB8-4E2F-B0DB-92B37AA9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BD2-2CE5-47C9-8060-3614D207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DA33E-183A-4E80-BE8C-785AB9DA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7BEF3-DB82-4075-BFD5-B5404732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52710-F440-4B01-9E10-3808F66F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21946-3611-4B8E-8318-5C19E37D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E3572-24F0-456B-A7B4-9AF6619B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C117F-799A-41D8-91FD-9DCCB7AF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409C3-0A7C-4F17-9B2D-234527C9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30F1C-1598-4DBD-8A61-927ABB0C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C94F1-A816-4534-8CF5-14E39953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E2E8F-59DF-4AED-8ECC-024EDD30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313-9317-4352-A072-A0E8773E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2A107-2246-4CB1-A347-7119EA77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CC47C-A117-4110-B120-350AAEAA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3A207-2FEB-46FE-8AE3-26E26D24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7EACE-2BBC-4AD0-A15D-3ED60A0E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C3A71-C2FE-43B9-9B48-BF4135E7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E2071-CB24-4A06-A37A-91F66B5F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FCE96-29F9-495A-89C7-923A64B2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74861-11C2-4FD4-91B7-04030D65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79880-0D45-44FE-AE39-B01372DF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36E1C-8018-42A8-84F8-DE9BFF5D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4F3-C10E-4D49-9EC4-4E34C56E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57E84-AF14-4739-93E3-A3580C5B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85953-1206-4F03-B906-F5925370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B916D-C4CA-43DA-95D8-DDE27DA9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DE2FD-D02A-4288-8C6A-9780132B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83F3D-516F-422B-8653-7F5370D2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8EDBC-6BB6-4667-BCF7-8A33B324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98E84-4F92-4A81-9174-0B92AD28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01F22-1775-496A-87E1-95C0FD64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4D041-4614-495E-9BFA-67589737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1242A-63AE-4C02-9312-6B991A66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11B-80F4-4F86-8B11-E90DA7B0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32655-B9A9-40AC-A9DC-24FEA2F8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C8072-A839-48A5-9C43-39728A32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2C445-7FCB-409D-BDB0-21D560D7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C8AC2-8421-40BA-BD5C-D6DD5BC4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F0F77-8EAC-4E9C-8EDB-FDA3BF93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7BA3C-C12A-4887-90D4-C2F62D5B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6F88F-9F8F-4797-8CD6-BACCDAB0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3D38C-40B9-4D66-98CD-E36E9C3E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4C033-44FD-43EB-828A-2B97AFE2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A4C6A-AFE5-4C3B-AC74-9B724F7F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7647-A809-4C93-B443-DC854BBA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5E3C4-4307-4B47-A40E-B20A41A1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A6205-3089-46FD-BDBD-18A15B58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37513-1E8C-468A-9839-90FF164A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3DE2B-5ADA-42A3-B776-BC764BA0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4C9F6-B586-45DC-BF1A-AD12420B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0A4FD-451F-45E2-9CE8-EB059969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74558-C3E2-4B59-9EFE-9C71168E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E319F-9D3E-451B-9EEC-1C2495D4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2FF0D-EB49-42B7-BB31-0ED62B02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F1AC3-3375-4710-B275-FF8E9C75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DB4-0FEC-4527-B165-92F3C164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F4161-C384-4A8B-8B7F-F2A3B98A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0CA19-593A-43F8-BD12-9FACD745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AA846-0306-4DD6-A352-B3FEDDC1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72819-93DF-4CDF-BA52-DDDFCD22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11462-4D83-438C-AC70-F3922CFA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0283B-4921-4DE3-AAE9-7FA14A48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B0831-726C-48B6-9CE1-8494050D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D13B9-E143-4107-8FD8-00F1327B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7A367-6207-409F-9B3C-052B746F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FD557-C5E6-47A5-9D51-35C954FC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2C7-834B-4EBD-964C-CF842490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B003A-0762-410E-9F03-1CC124E2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4B6C0-5E12-4599-A2AD-56913F23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79046-FB27-4E73-B3EA-3BE9EF2C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5589A-CF35-4697-A863-B397BB3D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14EFC-CC2D-4F41-A638-6A05AB7A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5A3-3A06-4473-9C56-20ED6A96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65B3-0FB5-441E-977E-8CCF57CE4F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2104-6F98-49ED-8227-0737BBA3491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E659-DD7C-44D6-8BD5-1B00949B47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62E1-325A-41A4-B8F5-125678D2455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8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0D64-92DE-4827-B341-F40F3299E5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3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4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AB74-C831-421C-9137-D9A16455DC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EF96-9472-4916-930A-14F9E620DA4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6"/>
          <p:cNvSpPr/>
          <p:nvPr/>
        </p:nvSpPr>
        <p:spPr>
          <a:xfrm>
            <a:off x="457200" y="152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Тема урока: «Сложение чисел с разными и одинаковыми знакам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"/>
          <p:cNvSpPr/>
          <p:nvPr/>
        </p:nvSpPr>
        <p:spPr>
          <a:xfrm>
            <a:off x="6172200" y="61167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Дугданова Е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ложение  чисел  </a:t>
            </a:r>
            <a:br>
              <a:rPr sz="4000"/>
            </a:b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  разными  знакам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4 + 3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404" name="Rectangle 5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6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7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8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9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0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2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3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4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5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6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7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8"/>
          <p:cNvSpPr/>
          <p:nvPr/>
        </p:nvSpPr>
        <p:spPr>
          <a:xfrm>
            <a:off x="147816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0"/>
          <p:cNvSpPr/>
          <p:nvPr/>
        </p:nvSpPr>
        <p:spPr>
          <a:xfrm>
            <a:off x="161928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21"/>
          <p:cNvSpPr/>
          <p:nvPr/>
        </p:nvSpPr>
        <p:spPr>
          <a:xfrm>
            <a:off x="1619280" y="2924280"/>
            <a:ext cx="2220840" cy="56520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565200"/>
              <a:gd name="textAreaBottom" fmla="*/ 565200 h 565200"/>
            </a:gdLst>
            <a:ahLst/>
            <a:rect l="textAreaLeft" t="textAreaTop" r="textAreaRight" b="textAreaBottom"/>
            <a:pathLst>
              <a:path w="1399" h="356">
                <a:moveTo>
                  <a:pt x="1399" y="356"/>
                </a:moveTo>
                <a:cubicBezTo>
                  <a:pt x="1346" y="313"/>
                  <a:pt x="1193" y="169"/>
                  <a:pt x="1079" y="110"/>
                </a:cubicBezTo>
                <a:cubicBezTo>
                  <a:pt x="965" y="51"/>
                  <a:pt x="846" y="0"/>
                  <a:pt x="714" y="0"/>
                </a:cubicBezTo>
                <a:cubicBezTo>
                  <a:pt x="582" y="0"/>
                  <a:pt x="403" y="52"/>
                  <a:pt x="284" y="110"/>
                </a:cubicBezTo>
                <a:cubicBezTo>
                  <a:pt x="165" y="168"/>
                  <a:pt x="59" y="298"/>
                  <a:pt x="0" y="34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371016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3"/>
          <p:cNvSpPr/>
          <p:nvPr/>
        </p:nvSpPr>
        <p:spPr>
          <a:xfrm>
            <a:off x="2557800" y="242100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4" descr="CRCTR013"/>
          <p:cNvPicPr/>
          <p:nvPr/>
        </p:nvPicPr>
        <p:blipFill>
          <a:blip r:embed="rId1"/>
          <a:stretch/>
        </p:blipFill>
        <p:spPr>
          <a:xfrm>
            <a:off x="6300720" y="4005360"/>
            <a:ext cx="1909800" cy="2952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5" descr="CRCTR013"/>
          <p:cNvPicPr/>
          <p:nvPr/>
        </p:nvPicPr>
        <p:blipFill>
          <a:blip r:embed="rId2"/>
          <a:stretch/>
        </p:blipFill>
        <p:spPr>
          <a:xfrm flipH="1">
            <a:off x="900000" y="3933720"/>
            <a:ext cx="1873440" cy="29527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6"/>
          <p:cNvSpPr/>
          <p:nvPr/>
        </p:nvSpPr>
        <p:spPr>
          <a:xfrm>
            <a:off x="5292720" y="155736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28 0.00162 L 4.16667E-006 1.90751E-006 E">
                                      <p:cBhvr>
                                        <p:cTn id="213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ложение  чисел  </a:t>
            </a:r>
            <a:br>
              <a:rPr sz="4000"/>
            </a:b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  разными  знакам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3 + 8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428" name="Rectangle 5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7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8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9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0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1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2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3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5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6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7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Text Box 18"/>
          <p:cNvSpPr/>
          <p:nvPr/>
        </p:nvSpPr>
        <p:spPr>
          <a:xfrm>
            <a:off x="219744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20"/>
          <p:cNvSpPr/>
          <p:nvPr/>
        </p:nvSpPr>
        <p:spPr>
          <a:xfrm>
            <a:off x="234000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1"/>
          <p:cNvSpPr/>
          <p:nvPr/>
        </p:nvSpPr>
        <p:spPr>
          <a:xfrm>
            <a:off x="2411280" y="2924280"/>
            <a:ext cx="5747040" cy="569880"/>
          </a:xfrm>
          <a:custGeom>
            <a:avLst/>
            <a:gdLst>
              <a:gd name="textAreaLeft" fmla="*/ 0 w 5747040"/>
              <a:gd name="textAreaRight" fmla="*/ 5747400 w 574704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3620" h="359">
                <a:moveTo>
                  <a:pt x="3620" y="359"/>
                </a:moveTo>
                <a:cubicBezTo>
                  <a:pt x="3471" y="316"/>
                  <a:pt x="3026" y="162"/>
                  <a:pt x="2724" y="103"/>
                </a:cubicBezTo>
                <a:cubicBezTo>
                  <a:pt x="2422" y="44"/>
                  <a:pt x="2115" y="6"/>
                  <a:pt x="1810" y="3"/>
                </a:cubicBezTo>
                <a:cubicBezTo>
                  <a:pt x="1505" y="0"/>
                  <a:pt x="1198" y="26"/>
                  <a:pt x="896" y="85"/>
                </a:cubicBezTo>
                <a:cubicBezTo>
                  <a:pt x="594" y="144"/>
                  <a:pt x="187" y="302"/>
                  <a:pt x="0" y="35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2"/>
          <p:cNvSpPr/>
          <p:nvPr/>
        </p:nvSpPr>
        <p:spPr>
          <a:xfrm>
            <a:off x="802980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4934160" y="242100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4" descr="CRCTR013"/>
          <p:cNvPicPr/>
          <p:nvPr/>
        </p:nvPicPr>
        <p:blipFill>
          <a:blip r:embed="rId1"/>
          <a:stretch/>
        </p:blipFill>
        <p:spPr>
          <a:xfrm>
            <a:off x="6300720" y="4005360"/>
            <a:ext cx="1909800" cy="29527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5" descr="CRCTR013"/>
          <p:cNvPicPr/>
          <p:nvPr/>
        </p:nvPicPr>
        <p:blipFill>
          <a:blip r:embed="rId2"/>
          <a:stretch/>
        </p:blipFill>
        <p:spPr>
          <a:xfrm flipH="1">
            <a:off x="900000" y="3933720"/>
            <a:ext cx="1873440" cy="295272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26"/>
          <p:cNvSpPr/>
          <p:nvPr/>
        </p:nvSpPr>
        <p:spPr>
          <a:xfrm>
            <a:off x="5292720" y="155736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003 0.00162 L 4.72222E-006 1.90751E-006 E">
                                      <p:cBhvr>
                                        <p:cTn id="258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3272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b812f"/>
                </a:solidFill>
                <a:latin typeface="Georgia"/>
              </a:rPr>
              <a:t>В  результате  сложения  чисел  с  разными  знаками  может получиться как  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положительное</a:t>
            </a:r>
            <a:r>
              <a:rPr b="1" i="1" lang="ru-RU" sz="3200" spc="-1" strike="noStrike">
                <a:solidFill>
                  <a:srgbClr val="3b812f"/>
                </a:solidFill>
                <a:latin typeface="Georgia"/>
              </a:rPr>
              <a:t>, так и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отрицательное </a:t>
            </a:r>
            <a:r>
              <a:rPr b="1" i="1" lang="ru-RU" sz="3200" spc="-1" strike="noStrike">
                <a:solidFill>
                  <a:srgbClr val="3b812f"/>
                </a:solidFill>
                <a:latin typeface="Georgia"/>
              </a:rPr>
              <a:t>число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395280" y="4005360"/>
            <a:ext cx="38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+ (-4)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716000" y="4005000"/>
            <a:ext cx="39099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4 + (-7) = 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4356000" y="472428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4 + 3 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50920" y="4869000"/>
            <a:ext cx="367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3 + 8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8"/>
          <p:cNvSpPr/>
          <p:nvPr/>
        </p:nvSpPr>
        <p:spPr>
          <a:xfrm>
            <a:off x="1928880" y="2643120"/>
            <a:ext cx="914400" cy="914400"/>
          </a:xfrm>
          <a:prstGeom prst="ellipse">
            <a:avLst/>
          </a:prstGeom>
          <a:solidFill>
            <a:srgbClr val="fcb7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6227640" y="263700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1692360" y="5661000"/>
            <a:ext cx="6048360" cy="914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узнать знак сум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4"/>
          <p:cNvSpPr/>
          <p:nvPr/>
        </p:nvSpPr>
        <p:spPr>
          <a:xfrm>
            <a:off x="2556000" y="5734080"/>
            <a:ext cx="4032000" cy="625320"/>
          </a:xfrm>
          <a:prstGeom prst="rect">
            <a:avLst/>
          </a:prstGeom>
          <a:gradFill rotWithShape="0">
            <a:gsLst>
              <a:gs pos="0">
                <a:srgbClr val="fcb7b2"/>
              </a:gs>
              <a:gs pos="50000">
                <a:srgbClr val="ffffff"/>
              </a:gs>
              <a:gs pos="100000">
                <a:srgbClr val="fcb7b2"/>
              </a:gs>
            </a:gsLst>
            <a:lin ang="5400000"/>
          </a:gradFill>
          <a:ln w="9360">
            <a:solidFill>
              <a:srgbClr val="fcb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5 + 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9000" y="580536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6680520" y="580536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476360" y="4869000"/>
            <a:ext cx="230364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9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611280" y="3933720"/>
            <a:ext cx="2303280" cy="6256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4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250920" y="2997360"/>
            <a:ext cx="230328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3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611280" y="2060640"/>
            <a:ext cx="230328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6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1116000" y="1197000"/>
            <a:ext cx="2303640" cy="625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2"/>
          <p:cNvSpPr/>
          <p:nvPr/>
        </p:nvSpPr>
        <p:spPr>
          <a:xfrm>
            <a:off x="2195640" y="189000"/>
            <a:ext cx="1728720" cy="718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imes New Roman"/>
              </a:rPr>
              <a:t>-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3"/>
          <p:cNvSpPr/>
          <p:nvPr/>
        </p:nvSpPr>
        <p:spPr>
          <a:xfrm>
            <a:off x="5364000" y="4869000"/>
            <a:ext cx="230364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6300720" y="3933720"/>
            <a:ext cx="2303640" cy="6256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(-7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5"/>
          <p:cNvSpPr/>
          <p:nvPr/>
        </p:nvSpPr>
        <p:spPr>
          <a:xfrm>
            <a:off x="6588000" y="2997360"/>
            <a:ext cx="230364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6"/>
          <p:cNvSpPr/>
          <p:nvPr/>
        </p:nvSpPr>
        <p:spPr>
          <a:xfrm>
            <a:off x="6227640" y="2060640"/>
            <a:ext cx="230364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7"/>
          <p:cNvSpPr/>
          <p:nvPr/>
        </p:nvSpPr>
        <p:spPr>
          <a:xfrm>
            <a:off x="5651640" y="1197000"/>
            <a:ext cx="2303280" cy="625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45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5219640" y="189000"/>
            <a:ext cx="1728720" cy="7189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b812f"/>
                </a:solidFill>
                <a:latin typeface="Times New Roman"/>
              </a:rPr>
              <a:t>-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9"/>
          <p:cNvSpPr/>
          <p:nvPr/>
        </p:nvSpPr>
        <p:spPr>
          <a:xfrm flipV="1">
            <a:off x="3635280" y="5300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0"/>
          <p:cNvSpPr/>
          <p:nvPr/>
        </p:nvSpPr>
        <p:spPr>
          <a:xfrm flipV="1">
            <a:off x="5508720" y="5300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1"/>
          <p:cNvSpPr/>
          <p:nvPr/>
        </p:nvSpPr>
        <p:spPr>
          <a:xfrm flipV="1">
            <a:off x="2700360" y="4365720"/>
            <a:ext cx="0" cy="57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2"/>
          <p:cNvSpPr/>
          <p:nvPr/>
        </p:nvSpPr>
        <p:spPr>
          <a:xfrm flipV="1">
            <a:off x="6443640" y="4365720"/>
            <a:ext cx="0" cy="57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3"/>
          <p:cNvSpPr/>
          <p:nvPr/>
        </p:nvSpPr>
        <p:spPr>
          <a:xfrm flipV="1">
            <a:off x="2268360" y="3428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4"/>
          <p:cNvSpPr/>
          <p:nvPr/>
        </p:nvSpPr>
        <p:spPr>
          <a:xfrm flipV="1">
            <a:off x="6877080" y="3428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5"/>
          <p:cNvSpPr/>
          <p:nvPr/>
        </p:nvSpPr>
        <p:spPr>
          <a:xfrm flipV="1">
            <a:off x="755640" y="249192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6"/>
          <p:cNvSpPr/>
          <p:nvPr/>
        </p:nvSpPr>
        <p:spPr>
          <a:xfrm flipV="1">
            <a:off x="8388360" y="249192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7"/>
          <p:cNvSpPr/>
          <p:nvPr/>
        </p:nvSpPr>
        <p:spPr>
          <a:xfrm flipV="1">
            <a:off x="1332000" y="155700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8"/>
          <p:cNvSpPr/>
          <p:nvPr/>
        </p:nvSpPr>
        <p:spPr>
          <a:xfrm flipV="1">
            <a:off x="7740720" y="1628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9"/>
          <p:cNvSpPr/>
          <p:nvPr/>
        </p:nvSpPr>
        <p:spPr>
          <a:xfrm flipV="1">
            <a:off x="3132000" y="764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0"/>
          <p:cNvSpPr/>
          <p:nvPr/>
        </p:nvSpPr>
        <p:spPr>
          <a:xfrm flipV="1">
            <a:off x="6012000" y="764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31"/>
          <p:cNvSpPr/>
          <p:nvPr/>
        </p:nvSpPr>
        <p:spPr>
          <a:xfrm>
            <a:off x="2916360" y="2852640"/>
            <a:ext cx="3313080" cy="7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32"/>
          <p:cNvSpPr/>
          <p:nvPr/>
        </p:nvSpPr>
        <p:spPr>
          <a:xfrm flipV="1">
            <a:off x="4572000" y="692280"/>
            <a:ext cx="0" cy="2087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33"/>
          <p:cNvSpPr/>
          <p:nvPr/>
        </p:nvSpPr>
        <p:spPr>
          <a:xfrm>
            <a:off x="4067280" y="260280"/>
            <a:ext cx="1008000" cy="7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3"/>
          <p:cNvSpPr/>
          <p:nvPr/>
        </p:nvSpPr>
        <p:spPr>
          <a:xfrm>
            <a:off x="2057400" y="762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Чтобы сложить чис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4"/>
          <p:cNvSpPr/>
          <p:nvPr/>
        </p:nvSpPr>
        <p:spPr>
          <a:xfrm>
            <a:off x="380880" y="20574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одинаковыми зна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6019920" y="19810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ным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на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6"/>
          <p:cNvSpPr/>
          <p:nvPr/>
        </p:nvSpPr>
        <p:spPr>
          <a:xfrm>
            <a:off x="743040" y="36180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оставь  общий знак и сложи их мод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7"/>
          <p:cNvSpPr/>
          <p:nvPr/>
        </p:nvSpPr>
        <p:spPr>
          <a:xfrm>
            <a:off x="5248440" y="35496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оставь знак большего модуля и из большего модуля вычти меньший моду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8"/>
          <p:cNvSpPr/>
          <p:nvPr/>
        </p:nvSpPr>
        <p:spPr>
          <a:xfrm flipH="1">
            <a:off x="2286000" y="121932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9"/>
          <p:cNvSpPr/>
          <p:nvPr/>
        </p:nvSpPr>
        <p:spPr>
          <a:xfrm>
            <a:off x="5181480" y="121932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0"/>
          <p:cNvSpPr/>
          <p:nvPr/>
        </p:nvSpPr>
        <p:spPr>
          <a:xfrm>
            <a:off x="220968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1"/>
          <p:cNvSpPr/>
          <p:nvPr/>
        </p:nvSpPr>
        <p:spPr>
          <a:xfrm>
            <a:off x="716292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3"/>
          <p:cNvSpPr/>
          <p:nvPr/>
        </p:nvSpPr>
        <p:spPr>
          <a:xfrm>
            <a:off x="863640" y="49784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23+(-25)=-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5"/>
          <p:cNvSpPr/>
          <p:nvPr/>
        </p:nvSpPr>
        <p:spPr>
          <a:xfrm>
            <a:off x="1066680" y="5619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5+25=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6"/>
          <p:cNvSpPr/>
          <p:nvPr/>
        </p:nvSpPr>
        <p:spPr>
          <a:xfrm>
            <a:off x="6175440" y="5340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45+40=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8" descr=""/>
          <p:cNvPicPr/>
          <p:nvPr/>
        </p:nvPicPr>
        <p:blipFill>
          <a:blip r:embed="rId1"/>
          <a:srcRect l="27343" t="20052" r="6438" b="23817"/>
          <a:stretch/>
        </p:blipFill>
        <p:spPr>
          <a:xfrm>
            <a:off x="457200" y="2894040"/>
            <a:ext cx="5943600" cy="364788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"/>
          <p:cNvSpPr/>
          <p:nvPr/>
        </p:nvSpPr>
        <p:spPr>
          <a:xfrm>
            <a:off x="380880" y="1066680"/>
            <a:ext cx="416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5+(-32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6391440" y="1746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3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324480" y="116532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6477120" y="2209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9" descr="3str5"/>
          <p:cNvPicPr/>
          <p:nvPr/>
        </p:nvPicPr>
        <p:blipFill>
          <a:blip r:embed="rId2"/>
          <a:stretch/>
        </p:blipFill>
        <p:spPr>
          <a:xfrm rot="10582800">
            <a:off x="5562000" y="1599840"/>
            <a:ext cx="609480" cy="3049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3str5"/>
          <p:cNvPicPr/>
          <p:nvPr/>
        </p:nvPicPr>
        <p:blipFill>
          <a:blip r:embed="rId3"/>
          <a:stretch/>
        </p:blipFill>
        <p:spPr>
          <a:xfrm rot="12564600">
            <a:off x="5562360" y="2285280"/>
            <a:ext cx="609480" cy="3049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1" descr="3str5"/>
          <p:cNvPicPr/>
          <p:nvPr/>
        </p:nvPicPr>
        <p:blipFill>
          <a:blip r:embed="rId4"/>
          <a:stretch/>
        </p:blipFill>
        <p:spPr>
          <a:xfrm rot="9405600">
            <a:off x="5562360" y="685440"/>
            <a:ext cx="600120" cy="29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1752480" y="40006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умай ещё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>
            <a:off x="3809880" y="4940280"/>
            <a:ext cx="1981440" cy="9907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3c4"/>
          <p:cNvPicPr/>
          <p:nvPr/>
        </p:nvPicPr>
        <p:blipFill>
          <a:blip r:embed="rId1"/>
          <a:stretch/>
        </p:blipFill>
        <p:spPr>
          <a:xfrm>
            <a:off x="2666880" y="838080"/>
            <a:ext cx="4953240" cy="31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2666880" y="463536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лод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" descr="2c6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8" descr=""/>
          <p:cNvPicPr/>
          <p:nvPr/>
        </p:nvPicPr>
        <p:blipFill>
          <a:blip r:embed="rId1"/>
          <a:srcRect l="27343" t="20052" r="6438" b="23817"/>
          <a:stretch/>
        </p:blipFill>
        <p:spPr>
          <a:xfrm>
            <a:off x="457200" y="2894040"/>
            <a:ext cx="5943600" cy="36478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2"/>
          <p:cNvSpPr/>
          <p:nvPr/>
        </p:nvSpPr>
        <p:spPr>
          <a:xfrm>
            <a:off x="533520" y="1066680"/>
            <a:ext cx="464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85+(-25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6572160" y="1066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6191280" y="22860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6249960" y="198756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11" descr="3str5"/>
          <p:cNvPicPr/>
          <p:nvPr/>
        </p:nvPicPr>
        <p:blipFill>
          <a:blip r:embed="rId2"/>
          <a:stretch/>
        </p:blipFill>
        <p:spPr>
          <a:xfrm rot="9191400">
            <a:off x="5790600" y="761760"/>
            <a:ext cx="685800" cy="342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3str5"/>
          <p:cNvPicPr/>
          <p:nvPr/>
        </p:nvPicPr>
        <p:blipFill>
          <a:blip r:embed="rId3"/>
          <a:stretch/>
        </p:blipFill>
        <p:spPr>
          <a:xfrm rot="10639200">
            <a:off x="5755680" y="137124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3" descr="3str5"/>
          <p:cNvPicPr/>
          <p:nvPr/>
        </p:nvPicPr>
        <p:blipFill>
          <a:blip r:embed="rId4"/>
          <a:stretch/>
        </p:blipFill>
        <p:spPr>
          <a:xfrm rot="12663000">
            <a:off x="5847840" y="2056680"/>
            <a:ext cx="6098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1752480" y="401652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умай ещё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"/>
          <p:cNvSpPr/>
          <p:nvPr/>
        </p:nvSpPr>
        <p:spPr>
          <a:xfrm>
            <a:off x="3962520" y="5029200"/>
            <a:ext cx="1981080" cy="99072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6" descr="3c4"/>
          <p:cNvPicPr/>
          <p:nvPr/>
        </p:nvPicPr>
        <p:blipFill>
          <a:blip r:embed="rId1"/>
          <a:stretch/>
        </p:blipFill>
        <p:spPr>
          <a:xfrm>
            <a:off x="2666880" y="838080"/>
            <a:ext cx="4953240" cy="31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ать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-15; +10; -32;  2 ; -7 ; 0; -4; 9,36; +7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Назовите отрицательные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Назовите натуральн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Назовите положительн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Назовите цел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Выделите квадратиком противоположные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Выделите кружочком наибольшее целое чис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.Выделите треугольником наименьшее целое чис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2762280" y="45403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лод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2c6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9" descr=""/>
          <p:cNvPicPr/>
          <p:nvPr/>
        </p:nvPicPr>
        <p:blipFill>
          <a:blip r:embed="rId1"/>
          <a:srcRect l="27343" t="20052" r="6438" b="23817"/>
          <a:stretch/>
        </p:blipFill>
        <p:spPr>
          <a:xfrm>
            <a:off x="457200" y="2894040"/>
            <a:ext cx="5943600" cy="36478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"/>
          <p:cNvSpPr/>
          <p:nvPr/>
        </p:nvSpPr>
        <p:spPr>
          <a:xfrm>
            <a:off x="914400" y="121932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48+15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6294600" y="197820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6276960" y="108576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6286680" y="22860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6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1" descr="3str5"/>
          <p:cNvPicPr/>
          <p:nvPr/>
        </p:nvPicPr>
        <p:blipFill>
          <a:blip r:embed="rId2"/>
          <a:stretch/>
        </p:blipFill>
        <p:spPr>
          <a:xfrm rot="9506400">
            <a:off x="5562000" y="83772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2" descr="3str5"/>
          <p:cNvPicPr/>
          <p:nvPr/>
        </p:nvPicPr>
        <p:blipFill>
          <a:blip r:embed="rId3"/>
          <a:stretch/>
        </p:blipFill>
        <p:spPr>
          <a:xfrm rot="10800000">
            <a:off x="5562360" y="152352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3" descr="3str5"/>
          <p:cNvPicPr/>
          <p:nvPr/>
        </p:nvPicPr>
        <p:blipFill>
          <a:blip r:embed="rId4"/>
          <a:stretch/>
        </p:blipFill>
        <p:spPr>
          <a:xfrm rot="11800200">
            <a:off x="5517360" y="2269800"/>
            <a:ext cx="6858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752480" y="396864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умай ещё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3962520" y="5016600"/>
            <a:ext cx="1981080" cy="99036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3c4"/>
          <p:cNvPicPr/>
          <p:nvPr/>
        </p:nvPicPr>
        <p:blipFill>
          <a:blip r:embed="rId1"/>
          <a:stretch/>
        </p:blipFill>
        <p:spPr>
          <a:xfrm>
            <a:off x="2666880" y="838080"/>
            <a:ext cx="4953240" cy="31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2666880" y="46195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лод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3" descr="2c6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7" descr="2c5"/>
          <p:cNvPicPr/>
          <p:nvPr/>
        </p:nvPicPr>
        <p:blipFill>
          <a:blip r:embed="rId1"/>
          <a:stretch/>
        </p:blipFill>
        <p:spPr>
          <a:xfrm>
            <a:off x="4038480" y="1828800"/>
            <a:ext cx="4267440" cy="244152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2"/>
          <p:cNvSpPr/>
          <p:nvPr/>
        </p:nvSpPr>
        <p:spPr>
          <a:xfrm>
            <a:off x="291960" y="7016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26+(-6)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533520" y="158436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70+5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368280" y="2470320"/>
            <a:ext cx="26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+(-30)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609480" y="32860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0+12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31680" y="4121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63+(-73)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8201160" y="5875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5915160" y="85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7505640" y="5934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8102520" y="4952880"/>
            <a:ext cx="10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7696080" y="16765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1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7292880" y="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5"/>
          <p:cNvSpPr/>
          <p:nvPr/>
        </p:nvSpPr>
        <p:spPr>
          <a:xfrm>
            <a:off x="4419720" y="95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5880240" y="605484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4546440" y="6019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2" descr="2str1"/>
          <p:cNvPicPr/>
          <p:nvPr/>
        </p:nvPicPr>
        <p:blipFill>
          <a:blip r:embed="rId2"/>
          <a:stretch/>
        </p:blipFill>
        <p:spPr>
          <a:xfrm>
            <a:off x="8001000" y="3048120"/>
            <a:ext cx="825480" cy="99036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23"/>
          <p:cNvSpPr/>
          <p:nvPr/>
        </p:nvSpPr>
        <p:spPr>
          <a:xfrm>
            <a:off x="4254480" y="12952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ложение отрицатель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4267080" y="28954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ожение положительных 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3997440" y="4267080"/>
            <a:ext cx="4419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чисел с разными зна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33526E-006 L -0.64844 0.01203 E">
                                      <p:cBhvr>
                                        <p:cTn id="649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51445E-007 L -0.40521 0.21827 E">
                                      <p:cBhvr>
                                        <p:cTn id="653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-0.5625 -0.51204 E">
                                      <p:cBhvr>
                                        <p:cTn id="657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48555E-006 L -0.60973 -0.24647 E">
                                      <p:cBhvr>
                                        <p:cTn id="661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4798E-006 L -0.575 0.35283 E">
                                      <p:cBhvr>
                                        <p:cTn id="665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-0.53177 0.71991 E">
                                      <p:cBhvr>
                                        <p:cTn id="669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6532E-006 L -0.21666 0.83838 E">
                                      <p:cBhvr>
                                        <p:cTn id="673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723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Georgia"/>
              </a:rPr>
              <a:t>Выполните  сложение в тетра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4"/>
              <p:cNvSpPr txBox="1"/>
              <p:nvPr/>
            </p:nvSpPr>
            <p:spPr>
              <a:xfrm>
                <a:off x="719280" y="1440000"/>
                <a:ext cx="7705440" cy="42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277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0" name="AutoShape 7"/>
          <p:cNvSpPr/>
          <p:nvPr/>
        </p:nvSpPr>
        <p:spPr>
          <a:xfrm>
            <a:off x="7524720" y="189000"/>
            <a:ext cx="1440000" cy="360360"/>
          </a:xfrm>
          <a:custGeom>
            <a:avLst/>
            <a:gdLst>
              <a:gd name="textAreaLeft" fmla="*/ 23040 w 1440000"/>
              <a:gd name="textAreaRight" fmla="*/ 1416960 w 14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6249" h="21600">
                <a:moveTo>
                  <a:pt x="0" y="0"/>
                </a:moveTo>
                <a:lnTo>
                  <a:pt x="86249" y="0"/>
                </a:lnTo>
                <a:lnTo>
                  <a:pt x="86249" y="21600"/>
                </a:lnTo>
                <a:lnTo>
                  <a:pt x="0" y="21600"/>
                </a:lnTo>
                <a:close/>
              </a:path>
              <a:path fill="lightenLess" w="86249" h="21600">
                <a:moveTo>
                  <a:pt x="0" y="0"/>
                </a:moveTo>
                <a:lnTo>
                  <a:pt x="86249" y="0"/>
                </a:lnTo>
                <a:lnTo>
                  <a:pt x="84849" y="1400"/>
                </a:lnTo>
                <a:lnTo>
                  <a:pt x="1400" y="1400"/>
                </a:lnTo>
                <a:close/>
              </a:path>
              <a:path fill="darken" w="86249" h="21600">
                <a:moveTo>
                  <a:pt x="86249" y="0"/>
                </a:moveTo>
                <a:lnTo>
                  <a:pt x="86249" y="21600"/>
                </a:lnTo>
                <a:lnTo>
                  <a:pt x="84849" y="20200"/>
                </a:lnTo>
                <a:lnTo>
                  <a:pt x="84849" y="1400"/>
                </a:lnTo>
                <a:close/>
              </a:path>
              <a:path fill="darkenLess" w="86249" h="21600">
                <a:moveTo>
                  <a:pt x="86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9" y="20200"/>
                </a:lnTo>
                <a:close/>
              </a:path>
              <a:path fill="lighten" w="86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ccd9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704880" y="53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2"/>
                </a:solidFill>
                <a:latin typeface="Arial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380880" y="1514520"/>
          <a:ext cx="8382240" cy="262584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56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72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72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4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+(-9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+(-56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+75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+18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+(-24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+(-67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9+84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+29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914400" y="2057400"/>
            <a:ext cx="7238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2"/>
                </a:solidFill>
                <a:latin typeface="Arial"/>
              </a:rPr>
              <a:t>Что узнали нового 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2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72"/>
                </a:solidFill>
                <a:latin typeface="Arial"/>
              </a:rPr>
              <a:t>чему научилис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3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6953040" cy="5047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"/>
          <p:cNvPicPr/>
          <p:nvPr/>
        </p:nvPicPr>
        <p:blipFill>
          <a:blip r:embed="rId2"/>
          <a:stretch/>
        </p:blipFill>
        <p:spPr>
          <a:xfrm>
            <a:off x="127080" y="1125360"/>
            <a:ext cx="86421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рямоугольник 2"/>
          <p:cNvSpPr/>
          <p:nvPr/>
        </p:nvSpPr>
        <p:spPr>
          <a:xfrm>
            <a:off x="2286000" y="260280"/>
            <a:ext cx="523872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4;-3;-2;-1;0. (-3;-2;-1;0;-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6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15;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5; (-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10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&lt;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-3 &lt; 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0 &gt; -6 (-8 &lt;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-9 &lt; -7 (-5 &gt;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2 &gt; -20 (-30 &lt;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-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; (-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0; 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1; (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0; (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а│=2; (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│=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-7 и 7; (-4 и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Решений нет; (решений н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ос не только встречается в жизни, но и среди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752480" y="22096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2666880" y="25146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5181480" y="24382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609480" y="35812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09680" y="49528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6172200" y="41911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4038480" y="36576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1"/>
          <p:cNvSpPr/>
          <p:nvPr/>
        </p:nvSpPr>
        <p:spPr>
          <a:xfrm>
            <a:off x="4114800" y="51055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7362720" y="54133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7772400" y="3276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4 -0.24855 C -0.02101 -0.20532 -0.03125 -0.13179 -0.00365 -0.08601 C 0.02917 -0.03144 0.07778 -0.0511 0.10486 -0.06659 L 0.13924 -0.08948 C 0.16667 -0.10474 0.21597 -0.12347 0.25295 -0.06196 C 0.27708 -0.02312 0.27049 0.05734 0.23021 0.10081 C 0.18976 0.14405 0.12951 0.1348 0.1059 0.09549 C 0.06892 0.03445 0.09306 -0.02589 0.1099 -0.05826 L 0.13438 -0.09826 C 0.15156 -0.13017 0.17656 -0.18936 0.14375 -0.2437 C 0.1158 -0.28994 0.0599 -0.29179 0.01944 -0.24855 Z">
                                      <p:cBhvr>
                                        <p:cTn id="50" dur="5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2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952 0.03472 C 0.12327 0.09953 0.13941 0.17778 0.11459 0.20694 C 0.08594 0.2419 0.0356 0.1949 0.00695 0.16435 L -0.02987 0.12245 C -0.05799 0.09213 -0.10886 0.04653 -0.14167 0.08541 C -0.16251 0.11065 -0.1507 0.1919 -0.10643 0.25764 C -0.06285 0.32222 -0.00226 0.34838 0.01841 0.32291 C 0.0507 0.28356 0.02188 0.21065 0.00244 0.16967 L -0.025 0.11736 C -0.04462 0.07592 -0.07396 0.0044 -0.04514 -0.03033 C -0.02049 -0.05949 0.03577 -0.02986 0.07952 0.03472 Z">
                                      <p:cBhvr>
                                        <p:cTn id="52" dur="5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51 0.06435 C -0.09723 0.04213 -0.1158 0.00532 -0.10851 -0.02662 C -0.09775 -0.07385 -0.06337 -0.10162 -0.03073 -0.08843 C -0.02032 -0.08426 -0.01146 -0.07662 -0.00469 -0.06528 C -0.00434 -0.06667 0.09062 0.13495 0.09166 0.13541 C 0.09062 0.13495 -0.07257 0.23194 -0.07223 0.23055 C -0.08264 0.23472 -0.09306 0.23472 -0.10365 0.23032 C -0.13611 0.21713 -0.15313 0.16851 -0.14202 0.1199 C -0.13507 0.08935 -0.10417 0.07268 -0.08351 0.06435 Z">
                                      <p:cBhvr>
                                        <p:cTn id="54" dur="5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8449 C 3.33333E-006 0.00579 0.02708 0.08009 0.06007 0.08009 C 0.09896 0.08009 0.11302 -0.00231 0.11892 -0.05162 L 0.125 -0.11736 C 0.13107 -0.16667 0.146 -0.24884 0.18993 -0.24884 C 0.21805 -0.24884 0.25 -0.17477 0.25 -0.08449 C 0.25 0.00579 0.21805 0.08009 0.18993 0.08009 C 0.146 0.08009 0.13107 -0.00231 0.125 -0.05162 L 0.11892 -0.11736 C 0.11302 -0.16667 0.09896 -0.24884 0.06007 -0.24884 C 0.02708 -0.24884 3.33333E-006 -0.17477 3.33333E-006 -0.08449 Z">
                                      <p:cBhvr>
                                        <p:cTn id="56" dur="5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2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26 0.00671 C 0.00973 0.00671 0.03681 0.04282 0.03681 0.0868 C 0.03681 0.13865 0.00677 0.1574 -0.01128 0.16527 L -0.03524 0.17338 C -0.0533 0.18148 -0.08333 0.20139 -0.08333 0.25995 C -0.08333 0.29745 -0.05625 0.34004 -0.02326 0.34004 C 0.00973 0.34004 0.03681 0.29745 0.03681 0.25995 C 0.03681 0.20139 0.00677 0.18148 -0.01128 0.17338 L -0.03524 0.16527 C -0.0533 0.1574 -0.08333 0.13865 -0.08333 0.0868 C -0.08333 0.04282 -0.05625 0.00671 -0.02326 0.00671 Z">
                                      <p:cBhvr>
                                        <p:cTn id="58" dur="5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38 -0.11204 C 0.21441 -0.12963 0.26597 -0.15093 0.28211 -0.1257 C 0.30607 -0.08796 0.28611 -0.0132 0.23646 0.04305 C 0.22048 0.06134 0.20382 0.075 0.18663 0.08356 C 0.18732 0.08472 -0.08507 0.18843 -0.08664 0.19005 C -0.08507 0.18843 0.03593 -0.15324 0.03646 -0.15185 C 0.046 -0.17315 0.0585 -0.19259 0.07482 -0.21111 C 0.12448 -0.26713 0.18316 -0.28102 0.20746 -0.24213 C 0.22326 -0.21806 0.19878 -0.1537 0.18038 -0.11204 Z">
                                      <p:cBhvr>
                                        <p:cTn id="60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89 0.18172 C -0.04236 0.22385 0.00764 0.23264 0.0507 0.20047 C 0.10139 0.1632 0.10434 0.11135 0.10261 0.08264 L 0.09775 0.04584 C 0.09601 0.01713 0.1 -0.03564 0.15747 -0.07777 C 0.19462 -0.10509 0.2507 -0.10115 0.26841 -0.05902 C 0.28542 -0.01689 0.25816 0.04885 0.22101 0.07616 C 0.16372 0.11806 0.12778 0.09422 0.11042 0.07663 L 0.08976 0.05163 C 0.07223 0.0345 0.03837 0.00926 -0.0125 0.04676 C -0.05642 0.07894 -0.07708 0.13959 -0.05989 0.18172 Z">
                                      <p:cBhvr>
                                        <p:cTn id="62" dur="5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833 0.00971 C -0.13681 -0.01434 -0.09896 -0.04879 -0.05399 -0.04879 C 0.0125 -0.04879 0.06667 -0.01295 0.06667 0.03237 C 0.06667 0.04694 0.06128 0.06035 0.05035 0.07237 C 0.05226 0.07237 -0.15833 0.25225 -0.15833 0.25364 C -0.15833 0.25225 -0.3691 0.07237 -0.36719 0.07237 C -0.37812 0.06035 -0.38333 0.04694 -0.38333 0.03237 C -0.38333 -0.01295 -0.32934 -0.04879 -0.26094 -0.04879 C -0.21771 -0.04879 -0.18003 -0.01434 -0.15833 0.00971 Z">
                                      <p:cBhvr>
                                        <p:cTn id="64" dur="5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2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95 -0.01736 C -0.02726 0.00162 0.00955 -0.01667 0.02448 -0.0581 C 0.04218 -0.10695 0.02152 -0.14213 0.00798 -0.15996 L -0.01077 -0.18148 C -0.02431 -0.19977 -0.04445 -0.23588 -0.02448 -0.29098 C -0.01164 -0.32639 0.02725 -0.3507 0.05694 -0.33148 C 0.08663 -0.31227 0.09652 -0.25648 0.08368 -0.22107 C 0.06371 -0.16621 0.02986 -0.16482 0.01076 -0.1676 L -0.01354 -0.17385 C -0.03247 -0.17709 -0.06598 -0.17662 -0.08368 -0.12801 C -0.09861 -0.08658 -0.08664 -0.03658 -0.05695 -0.01736 Z">
                                      <p:cBhvr>
                                        <p:cTn id="66" dur="5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649 -0.03769 C 0.14965 -0.04162 0.2 -0.04139 0.21875 -0.00486 C 0.24548 0.04994 0.23194 0.12647 0.18611 0.1674 C 0.1717 0.18081 0.15573 0.18774 0.13906 0.19006 C 0.13993 0.19167 -0.12795 0.18035 -0.12865 0.1815 C -0.12795 0.18035 -0.03334 -0.15376 -0.03229 -0.15237 C -0.02483 -0.17226 -0.01354 -0.18821 0.00121 -0.20116 C 0.04687 -0.24208 0.10555 -0.23052 0.13368 -0.17387 C 0.15139 -0.1385 0.13211 -0.07653 0.11649 -0.03769 Z">
                                      <p:cBhvr>
                                        <p:cTn id="68" dur="5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1828800" y="2209680"/>
            <a:ext cx="5029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72"/>
                </a:solidFill>
                <a:latin typeface="Arial"/>
              </a:rPr>
              <a:t>Спасибо за урок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1066680" y="2602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делите числа на две группы по какому-нибудь принцип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752480" y="22096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2666880" y="25146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5181480" y="24382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609480" y="35812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2209680" y="49528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6172200" y="41911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4038480" y="36576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4114800" y="51055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7473960" y="520704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7772400" y="3276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704880" y="12938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ожительн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5854680" y="13208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Отрицательн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1990800" y="6240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Arial"/>
              </a:rPr>
              <a:t>Порядок в числах нав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-0.10834 -0.05996 E">
                                      <p:cBhvr>
                                        <p:cTn id="74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2.96296E-006 L -0.37499 -0.16667 E">
                                      <p:cBhvr>
                                        <p:cTn id="76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3.7037E-007 L -0.40833 -0.26667 E">
                                      <p:cBhvr>
                                        <p:cTn id="78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9.82659E-007 L -0.6 -0.02659 E">
                                      <p:cBhvr>
                                        <p:cTn id="80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7341E-007 L -0.775 0.19538 E">
                                      <p:cBhvr>
                                        <p:cTn id="82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2.96296E-006 L 0.13333 -0.06666 E">
                                      <p:cBhvr>
                                        <p:cTn id="84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5.18519E-006 L 0.67501 -0.14445 E">
                                      <p:cBhvr>
                                        <p:cTn id="86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83237E-006 L 0.475 0.12878 E">
                                      <p:cBhvr>
                                        <p:cTn id="88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4.07407E-006 L 0.525 -0.11111 E">
                                      <p:cBhvr>
                                        <p:cTn id="90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10405E-006 L -0.07153 -0.06359 E">
                                      <p:cBhvr>
                                        <p:cTn id="92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равнить числ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67" name="Содержимое 2" descr=""/>
          <p:cNvPicPr/>
          <p:nvPr/>
        </p:nvPicPr>
        <p:blipFill>
          <a:blip r:embed="rId1"/>
          <a:stretch/>
        </p:blipFill>
        <p:spPr>
          <a:xfrm>
            <a:off x="407880" y="1523880"/>
            <a:ext cx="82789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лова, которые можно отнести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 “+” и “-”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ыигрыш, проигрыш, отдал, взял, зарплата, налоги, долг и имущест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+3) + (+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+5) + (+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+3) + (+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5) + (-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4) + (+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3) + (-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4) + (-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3) + (-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4) + (-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-3) + (+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Georgia"/>
              </a:rPr>
              <a:t>Объясните  решение  примеров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348000" y="2997360"/>
            <a:ext cx="5580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6 + (-6) = + (26 – 6) =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916360" y="4005360"/>
            <a:ext cx="62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57 + 34 = -(57 – 34) = -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WordArt 6"/>
          <p:cNvSpPr txBox="1"/>
          <p:nvPr/>
        </p:nvSpPr>
        <p:spPr>
          <a:xfrm>
            <a:off x="4356000" y="5229360"/>
            <a:ext cx="4105440" cy="11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Молодцы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ложение  чисел  </a:t>
            </a:r>
            <a:br>
              <a:rPr sz="4000"/>
            </a:br>
            <a:r>
              <a:rPr b="1" i="1" lang="ru-RU" sz="4000" spc="-1" strike="noStrike">
                <a:solidFill>
                  <a:srgbClr val="3b812f"/>
                </a:solidFill>
                <a:latin typeface="Georgia"/>
              </a:rPr>
              <a:t>с  разными  знакам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4 + (- 7 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250920" y="3068640"/>
            <a:ext cx="8569080" cy="914400"/>
            <a:chOff x="250920" y="3068640"/>
            <a:chExt cx="8569080" cy="914400"/>
          </a:xfrm>
        </p:grpSpPr>
        <p:sp>
          <p:nvSpPr>
            <p:cNvPr id="380" name="Rectangle 5"/>
            <p:cNvSpPr/>
            <p:nvPr/>
          </p:nvSpPr>
          <p:spPr>
            <a:xfrm>
              <a:off x="250920" y="3068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5      -4      -3      -2      -1       0       1       2        3       4       5   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>
              <a:off x="684360" y="3500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7"/>
            <p:cNvSpPr/>
            <p:nvPr/>
          </p:nvSpPr>
          <p:spPr>
            <a:xfrm>
              <a:off x="97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>
              <a:off x="169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9"/>
            <p:cNvSpPr/>
            <p:nvPr/>
          </p:nvSpPr>
          <p:spPr>
            <a:xfrm>
              <a:off x="241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0"/>
            <p:cNvSpPr/>
            <p:nvPr/>
          </p:nvSpPr>
          <p:spPr>
            <a:xfrm>
              <a:off x="313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1"/>
            <p:cNvSpPr/>
            <p:nvPr/>
          </p:nvSpPr>
          <p:spPr>
            <a:xfrm>
              <a:off x="385128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2"/>
            <p:cNvSpPr/>
            <p:nvPr/>
          </p:nvSpPr>
          <p:spPr>
            <a:xfrm>
              <a:off x="457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3"/>
            <p:cNvSpPr/>
            <p:nvPr/>
          </p:nvSpPr>
          <p:spPr>
            <a:xfrm>
              <a:off x="529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4"/>
            <p:cNvSpPr/>
            <p:nvPr/>
          </p:nvSpPr>
          <p:spPr>
            <a:xfrm>
              <a:off x="601200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5"/>
            <p:cNvSpPr/>
            <p:nvPr/>
          </p:nvSpPr>
          <p:spPr>
            <a:xfrm>
              <a:off x="673272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>
              <a:off x="745164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7"/>
            <p:cNvSpPr/>
            <p:nvPr/>
          </p:nvSpPr>
          <p:spPr>
            <a:xfrm>
              <a:off x="8172360" y="3427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 Box 18"/>
          <p:cNvSpPr/>
          <p:nvPr/>
        </p:nvSpPr>
        <p:spPr>
          <a:xfrm>
            <a:off x="723780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20"/>
          <p:cNvSpPr/>
          <p:nvPr/>
        </p:nvSpPr>
        <p:spPr>
          <a:xfrm>
            <a:off x="7380360" y="3429000"/>
            <a:ext cx="1429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21"/>
          <p:cNvSpPr/>
          <p:nvPr/>
        </p:nvSpPr>
        <p:spPr>
          <a:xfrm>
            <a:off x="2411280" y="2924280"/>
            <a:ext cx="5007240" cy="536400"/>
          </a:xfrm>
          <a:custGeom>
            <a:avLst/>
            <a:gdLst>
              <a:gd name="textAreaLeft" fmla="*/ 0 w 5007240"/>
              <a:gd name="textAreaRight" fmla="*/ 5007600 w 500724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3154" h="338">
                <a:moveTo>
                  <a:pt x="3154" y="338"/>
                </a:moveTo>
                <a:cubicBezTo>
                  <a:pt x="3006" y="297"/>
                  <a:pt x="2517" y="147"/>
                  <a:pt x="2258" y="91"/>
                </a:cubicBezTo>
                <a:cubicBezTo>
                  <a:pt x="1999" y="35"/>
                  <a:pt x="1827" y="0"/>
                  <a:pt x="1600" y="0"/>
                </a:cubicBezTo>
                <a:cubicBezTo>
                  <a:pt x="1373" y="0"/>
                  <a:pt x="1163" y="35"/>
                  <a:pt x="896" y="91"/>
                </a:cubicBezTo>
                <a:cubicBezTo>
                  <a:pt x="629" y="147"/>
                  <a:pt x="187" y="287"/>
                  <a:pt x="0" y="33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219744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3"/>
          <p:cNvSpPr/>
          <p:nvPr/>
        </p:nvSpPr>
        <p:spPr>
          <a:xfrm>
            <a:off x="4645080" y="234936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4" descr="CRCTR013"/>
          <p:cNvPicPr/>
          <p:nvPr/>
        </p:nvPicPr>
        <p:blipFill>
          <a:blip r:embed="rId1"/>
          <a:stretch/>
        </p:blipFill>
        <p:spPr>
          <a:xfrm>
            <a:off x="6300720" y="4005360"/>
            <a:ext cx="1909800" cy="29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5" descr="CRCTR013"/>
          <p:cNvPicPr/>
          <p:nvPr/>
        </p:nvPicPr>
        <p:blipFill>
          <a:blip r:embed="rId2"/>
          <a:stretch/>
        </p:blipFill>
        <p:spPr>
          <a:xfrm flipH="1">
            <a:off x="900000" y="3933720"/>
            <a:ext cx="1873440" cy="295272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26"/>
          <p:cNvSpPr/>
          <p:nvPr/>
        </p:nvSpPr>
        <p:spPr>
          <a:xfrm>
            <a:off x="5508720" y="1557360"/>
            <a:ext cx="5032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90751E-006 L -0.55121 0.00162 E">
                                      <p:cBhvr>
                                        <p:cTn id="168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нуся</dc:creator>
  <dc:description/>
  <dc:language>en-US</dc:language>
  <cp:lastModifiedBy>Лена</cp:lastModifiedBy>
  <dcterms:modified xsi:type="dcterms:W3CDTF">2024-03-04T14:22:03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