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gif" ContentType="image/gif"/>
  <Override PartName="/ppt/media/image5.gif" ContentType="image/gif"/>
  <Override PartName="/ppt/media/image9.png" ContentType="image/png"/>
  <Override PartName="/ppt/media/image6.gif" ContentType="image/gif"/>
  <Override PartName="/ppt/media/image7.gif" ContentType="image/gif"/>
  <Override PartName="/ppt/media/image8.gif" ContentType="image/gif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84F4-1477-4E8C-93A0-019EA1468FD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E990-52C1-495B-8F51-7EC1B0D11E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CBAF-FC65-4679-9A42-E3B3192DFF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EAA4-7950-460A-92F5-9FEB517F23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170F-2680-46B9-8754-090E5C09CD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FA09-DEB0-493C-B787-6D719F8CE5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EEBF-2A9D-4C75-980E-3C20C812A1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7212-13BE-42E6-A783-BBFF573504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510E-A96F-4EEF-A0A4-68406CC6B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3C88-BC27-4F89-864D-1AA71D10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10B4-0EEE-4FA2-919E-07FB1E3F7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C22B-475F-4558-9CE2-A43ED97ED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7E297E-769B-4C4C-858C-05B119E96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D6F8F-F73C-47C3-A1B1-B55FC9E9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20DA7E-2579-4A43-BC23-EAA57E47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F2C54-AD1E-4729-AA04-E3C89313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3A92E-1690-428A-9548-814C53D7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28E10-B56B-4BB4-B238-06920C3F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D0E3D-0C96-4F51-BB78-C02D1F27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B546-1839-43FE-A30E-4D7236CC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DB7F4-A740-47FA-9A93-DBCEF915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31711-21CB-45AA-830D-39A412A2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D3A2C9-3B5E-42A2-BF6F-9EB68E61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281423-FC01-425A-8E29-C27C37A74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EA7B4-022D-43AB-8313-9E17A44BD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442B3-2321-4F29-9249-1AB8B50D4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DD1FE-B66F-4193-A8F1-EA7C3C5E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0A47C-8D44-4B9D-A8A8-25EEAA79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863F1-CBBA-4BAC-8FB1-7CD2721A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E8448-0B9A-4923-8458-C0C441BC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02C4-E376-47B3-9E86-E7BA7933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9F651-70E4-42D9-8AB7-6519A6A3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99312-C8D1-4CBA-9CEF-5D179FFC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A941D-614C-488D-A402-F21E2AF0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A20C3-4B5B-45DE-9700-5E4817B2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9926F-136E-4FF0-85A3-792091A6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66811-2DFD-493A-891B-29FDC3336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EACBD-3BDC-44BD-8030-D2E4E85F0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FD884-E410-4E86-9CD6-3EC53C091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ECC00-975C-48B4-A9ED-B597E4FB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A872C-B7B8-483A-AF54-0158ED82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74A0-CD39-4490-BBEE-37E564E6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BA79F-A9B7-4B5E-9B66-C3CB17C2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12E06-181C-48EB-94D8-BDFA99CD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9C4F3-161A-4C6C-8D64-D38F5245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9EDF7-0930-42A7-B6C9-80DEE068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46C4F-26E1-45C3-8B70-5BFDCDF9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83647-BF4B-4057-8D54-D3F89D7E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EFD9F-FC5F-406A-B613-5F5EAFCA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86B1F-FE7E-41EE-8A5B-90AAAC5C1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306F5-B843-436B-BC91-2F7867AA2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A4CC1-805F-4798-A6E9-5052F2C44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7D53-D0A1-4B2E-B116-AEF227D8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6DC82-E08B-4869-A646-A0D22DC4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B436A-05C1-4E94-8180-CE29A7C8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527DD-B845-4FC9-905C-BBAC06F5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CCE4E-E21E-45FD-9487-D097A5D7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96318-2AE4-44DE-A2A8-280D1E0D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31FB3-8C4A-4BAF-B928-01F45618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8FC2A-D24F-49EC-AD65-B3ED24C7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712DA-7A87-49C1-B4D8-5FB79FAD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28378-CBFE-4BAD-902C-19D36D91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06B95-1C2B-47C8-9340-1341D04F2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341C-BA45-451B-ACD4-C644F5E1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D5643-FD9C-4CBE-88F4-AF068AC41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2CBFE-F26A-47C2-B7D9-FED1A1418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2455B-AAB4-40A7-9B74-1C2522E0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EFADC-BFBC-4319-A3C2-8D3151A8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9EAA4-7D51-4D80-B76E-6E02A75F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56D6E-6CB8-43BD-B40C-CC6E1049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59DE3-C69B-4349-89EE-A915A9A6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15135-F4CF-4FA3-8FBC-9DCC2550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E0544-DE23-464C-8D98-23CB6DAC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B70AE-4B8B-40C6-80A1-8BBFA1D1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3338-300B-463A-8DC6-DC210763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F66EF-C77F-4AA5-A3EB-1F10DAFA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1973E-3678-479C-8624-9E281D59E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65D6F-A8B0-472C-9F1B-B61CE4FFD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95408-A16C-4268-8F29-90B98E991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F4748-9435-49AC-B09B-0B4B3778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114D8-9F1E-4CFA-B8AF-2D7814C4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9F6E4-2EC0-46B1-9F20-2F53A01B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1DC86-C6B1-44D1-993D-D6E0E25B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F459F-995F-4ECC-8859-7FBE8862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65311-AD44-49ED-AF3F-703D0AAF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55D8-FE08-4320-9945-F37E27C0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FCCE9-DCB7-4479-A3D3-009F1B53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A9D33-22FC-42E3-8742-B07D436E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300EB-3471-4B7E-9364-07B8A7A4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B7C7C-21A3-47F1-9EC3-DCAC9760F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368E3-93F4-40B3-80C9-D074AAB36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3C57-8866-439A-AE68-23EC6C4E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B8F2-F05A-44C2-80F6-D7BCEDA579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30C6-AE3C-44C9-9AB2-C5923D60738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95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6CEB-868A-4414-85FE-6FD17845E69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4321-1D3E-41DA-A86E-7327E32B012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8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A450-1726-44AA-809A-8508CDA8F00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3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4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4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B4DF-3987-4317-A247-467E7EBA76C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27AB-6DB0-410D-B88A-670F1AFE501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6"/>
          <p:cNvSpPr/>
          <p:nvPr/>
        </p:nvSpPr>
        <p:spPr>
          <a:xfrm>
            <a:off x="457200" y="1522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Тема урока: «Сложение чисел с разными и одинаковыми знакам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"/>
          <p:cNvSpPr/>
          <p:nvPr/>
        </p:nvSpPr>
        <p:spPr>
          <a:xfrm>
            <a:off x="6172200" y="611676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Дугданова Е.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b812f"/>
                </a:solidFill>
                <a:latin typeface="Georgia"/>
              </a:rPr>
              <a:t>Сложение  чисел  </a:t>
            </a:r>
            <a:br>
              <a:rPr sz="4000"/>
            </a:br>
            <a:r>
              <a:rPr b="1" i="1" lang="ru-RU" sz="4000" spc="-1" strike="noStrike">
                <a:solidFill>
                  <a:srgbClr val="3b812f"/>
                </a:solidFill>
                <a:latin typeface="Georgia"/>
              </a:rPr>
              <a:t>с  разными  знаками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-4 + 3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4"/>
          <p:cNvGrpSpPr/>
          <p:nvPr/>
        </p:nvGrpSpPr>
        <p:grpSpPr>
          <a:xfrm>
            <a:off x="250920" y="3068640"/>
            <a:ext cx="8569080" cy="914400"/>
            <a:chOff x="250920" y="3068640"/>
            <a:chExt cx="8569080" cy="914400"/>
          </a:xfrm>
        </p:grpSpPr>
        <p:sp>
          <p:nvSpPr>
            <p:cNvPr id="404" name="Rectangle 5"/>
            <p:cNvSpPr/>
            <p:nvPr/>
          </p:nvSpPr>
          <p:spPr>
            <a:xfrm>
              <a:off x="250920" y="306864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6"/>
            <p:cNvSpPr/>
            <p:nvPr/>
          </p:nvSpPr>
          <p:spPr>
            <a:xfrm>
              <a:off x="684360" y="350064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7"/>
            <p:cNvSpPr/>
            <p:nvPr/>
          </p:nvSpPr>
          <p:spPr>
            <a:xfrm>
              <a:off x="97164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8"/>
            <p:cNvSpPr/>
            <p:nvPr/>
          </p:nvSpPr>
          <p:spPr>
            <a:xfrm>
              <a:off x="169236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9"/>
            <p:cNvSpPr/>
            <p:nvPr/>
          </p:nvSpPr>
          <p:spPr>
            <a:xfrm>
              <a:off x="241128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0"/>
            <p:cNvSpPr/>
            <p:nvPr/>
          </p:nvSpPr>
          <p:spPr>
            <a:xfrm>
              <a:off x="313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1"/>
            <p:cNvSpPr/>
            <p:nvPr/>
          </p:nvSpPr>
          <p:spPr>
            <a:xfrm>
              <a:off x="385128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12"/>
            <p:cNvSpPr/>
            <p:nvPr/>
          </p:nvSpPr>
          <p:spPr>
            <a:xfrm>
              <a:off x="457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13"/>
            <p:cNvSpPr/>
            <p:nvPr/>
          </p:nvSpPr>
          <p:spPr>
            <a:xfrm>
              <a:off x="529272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14"/>
            <p:cNvSpPr/>
            <p:nvPr/>
          </p:nvSpPr>
          <p:spPr>
            <a:xfrm>
              <a:off x="601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15"/>
            <p:cNvSpPr/>
            <p:nvPr/>
          </p:nvSpPr>
          <p:spPr>
            <a:xfrm>
              <a:off x="673272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16"/>
            <p:cNvSpPr/>
            <p:nvPr/>
          </p:nvSpPr>
          <p:spPr>
            <a:xfrm>
              <a:off x="745164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17"/>
            <p:cNvSpPr/>
            <p:nvPr/>
          </p:nvSpPr>
          <p:spPr>
            <a:xfrm>
              <a:off x="817236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18"/>
          <p:cNvSpPr/>
          <p:nvPr/>
        </p:nvSpPr>
        <p:spPr>
          <a:xfrm>
            <a:off x="1478160" y="285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20"/>
          <p:cNvSpPr/>
          <p:nvPr/>
        </p:nvSpPr>
        <p:spPr>
          <a:xfrm>
            <a:off x="1619280" y="342900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21"/>
          <p:cNvSpPr/>
          <p:nvPr/>
        </p:nvSpPr>
        <p:spPr>
          <a:xfrm>
            <a:off x="1619280" y="2924280"/>
            <a:ext cx="2220840" cy="565200"/>
          </a:xfrm>
          <a:custGeom>
            <a:avLst/>
            <a:gdLst>
              <a:gd name="textAreaLeft" fmla="*/ 0 w 2220840"/>
              <a:gd name="textAreaRight" fmla="*/ 2221200 w 2220840"/>
              <a:gd name="textAreaTop" fmla="*/ 0 h 565200"/>
              <a:gd name="textAreaBottom" fmla="*/ 565200 h 565200"/>
            </a:gdLst>
            <a:ahLst/>
            <a:rect l="textAreaLeft" t="textAreaTop" r="textAreaRight" b="textAreaBottom"/>
            <a:pathLst>
              <a:path w="1399" h="356">
                <a:moveTo>
                  <a:pt x="1399" y="356"/>
                </a:moveTo>
                <a:cubicBezTo>
                  <a:pt x="1346" y="313"/>
                  <a:pt x="1193" y="169"/>
                  <a:pt x="1079" y="110"/>
                </a:cubicBezTo>
                <a:cubicBezTo>
                  <a:pt x="965" y="51"/>
                  <a:pt x="846" y="0"/>
                  <a:pt x="714" y="0"/>
                </a:cubicBezTo>
                <a:cubicBezTo>
                  <a:pt x="582" y="0"/>
                  <a:pt x="403" y="52"/>
                  <a:pt x="284" y="110"/>
                </a:cubicBezTo>
                <a:cubicBezTo>
                  <a:pt x="165" y="168"/>
                  <a:pt x="59" y="298"/>
                  <a:pt x="0" y="34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2"/>
          <p:cNvSpPr/>
          <p:nvPr/>
        </p:nvSpPr>
        <p:spPr>
          <a:xfrm>
            <a:off x="3710160" y="285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3"/>
          <p:cNvSpPr/>
          <p:nvPr/>
        </p:nvSpPr>
        <p:spPr>
          <a:xfrm>
            <a:off x="2557800" y="2421000"/>
            <a:ext cx="56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24" descr="CRCTR013"/>
          <p:cNvPicPr/>
          <p:nvPr/>
        </p:nvPicPr>
        <p:blipFill>
          <a:blip r:embed="rId1"/>
          <a:stretch/>
        </p:blipFill>
        <p:spPr>
          <a:xfrm>
            <a:off x="6300720" y="4005360"/>
            <a:ext cx="1909800" cy="29527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5" descr="CRCTR013"/>
          <p:cNvPicPr/>
          <p:nvPr/>
        </p:nvPicPr>
        <p:blipFill>
          <a:blip r:embed="rId2"/>
          <a:stretch/>
        </p:blipFill>
        <p:spPr>
          <a:xfrm flipH="1">
            <a:off x="900000" y="3933720"/>
            <a:ext cx="1873440" cy="295272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26"/>
          <p:cNvSpPr/>
          <p:nvPr/>
        </p:nvSpPr>
        <p:spPr>
          <a:xfrm>
            <a:off x="5292720" y="1557360"/>
            <a:ext cx="50328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628 0.00162 L 4.16667E-006 1.90751E-006 E">
                                      <p:cBhvr>
                                        <p:cTn id="213" dur="2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b812f"/>
                </a:solidFill>
                <a:latin typeface="Georgia"/>
              </a:rPr>
              <a:t>Сложение  чисел  </a:t>
            </a:r>
            <a:br>
              <a:rPr sz="4000"/>
            </a:br>
            <a:r>
              <a:rPr b="1" i="1" lang="ru-RU" sz="4000" spc="-1" strike="noStrike">
                <a:solidFill>
                  <a:srgbClr val="3b812f"/>
                </a:solidFill>
                <a:latin typeface="Georgia"/>
              </a:rPr>
              <a:t>с  разными  знаками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-3 + 8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4"/>
          <p:cNvGrpSpPr/>
          <p:nvPr/>
        </p:nvGrpSpPr>
        <p:grpSpPr>
          <a:xfrm>
            <a:off x="250920" y="3068640"/>
            <a:ext cx="8569080" cy="914400"/>
            <a:chOff x="250920" y="3068640"/>
            <a:chExt cx="8569080" cy="914400"/>
          </a:xfrm>
        </p:grpSpPr>
        <p:sp>
          <p:nvSpPr>
            <p:cNvPr id="428" name="Rectangle 5"/>
            <p:cNvSpPr/>
            <p:nvPr/>
          </p:nvSpPr>
          <p:spPr>
            <a:xfrm>
              <a:off x="250920" y="306864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6"/>
            <p:cNvSpPr/>
            <p:nvPr/>
          </p:nvSpPr>
          <p:spPr>
            <a:xfrm>
              <a:off x="684360" y="350064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7"/>
            <p:cNvSpPr/>
            <p:nvPr/>
          </p:nvSpPr>
          <p:spPr>
            <a:xfrm>
              <a:off x="97164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8"/>
            <p:cNvSpPr/>
            <p:nvPr/>
          </p:nvSpPr>
          <p:spPr>
            <a:xfrm>
              <a:off x="169236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9"/>
            <p:cNvSpPr/>
            <p:nvPr/>
          </p:nvSpPr>
          <p:spPr>
            <a:xfrm>
              <a:off x="241128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10"/>
            <p:cNvSpPr/>
            <p:nvPr/>
          </p:nvSpPr>
          <p:spPr>
            <a:xfrm>
              <a:off x="313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11"/>
            <p:cNvSpPr/>
            <p:nvPr/>
          </p:nvSpPr>
          <p:spPr>
            <a:xfrm>
              <a:off x="385128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12"/>
            <p:cNvSpPr/>
            <p:nvPr/>
          </p:nvSpPr>
          <p:spPr>
            <a:xfrm>
              <a:off x="457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13"/>
            <p:cNvSpPr/>
            <p:nvPr/>
          </p:nvSpPr>
          <p:spPr>
            <a:xfrm>
              <a:off x="529272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14"/>
            <p:cNvSpPr/>
            <p:nvPr/>
          </p:nvSpPr>
          <p:spPr>
            <a:xfrm>
              <a:off x="601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15"/>
            <p:cNvSpPr/>
            <p:nvPr/>
          </p:nvSpPr>
          <p:spPr>
            <a:xfrm>
              <a:off x="673272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16"/>
            <p:cNvSpPr/>
            <p:nvPr/>
          </p:nvSpPr>
          <p:spPr>
            <a:xfrm>
              <a:off x="745164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17"/>
            <p:cNvSpPr/>
            <p:nvPr/>
          </p:nvSpPr>
          <p:spPr>
            <a:xfrm>
              <a:off x="817236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Text Box 18"/>
          <p:cNvSpPr/>
          <p:nvPr/>
        </p:nvSpPr>
        <p:spPr>
          <a:xfrm>
            <a:off x="2197440" y="2924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20"/>
          <p:cNvSpPr/>
          <p:nvPr/>
        </p:nvSpPr>
        <p:spPr>
          <a:xfrm>
            <a:off x="2340000" y="342900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21"/>
          <p:cNvSpPr/>
          <p:nvPr/>
        </p:nvSpPr>
        <p:spPr>
          <a:xfrm>
            <a:off x="2411280" y="2924280"/>
            <a:ext cx="5747040" cy="569880"/>
          </a:xfrm>
          <a:custGeom>
            <a:avLst/>
            <a:gdLst>
              <a:gd name="textAreaLeft" fmla="*/ 0 w 5747040"/>
              <a:gd name="textAreaRight" fmla="*/ 5747400 w 5747040"/>
              <a:gd name="textAreaTop" fmla="*/ 0 h 569880"/>
              <a:gd name="textAreaBottom" fmla="*/ 570240 h 569880"/>
            </a:gdLst>
            <a:ahLst/>
            <a:rect l="textAreaLeft" t="textAreaTop" r="textAreaRight" b="textAreaBottom"/>
            <a:pathLst>
              <a:path w="3620" h="359">
                <a:moveTo>
                  <a:pt x="3620" y="359"/>
                </a:moveTo>
                <a:cubicBezTo>
                  <a:pt x="3471" y="316"/>
                  <a:pt x="3026" y="162"/>
                  <a:pt x="2724" y="103"/>
                </a:cubicBezTo>
                <a:cubicBezTo>
                  <a:pt x="2422" y="44"/>
                  <a:pt x="2115" y="6"/>
                  <a:pt x="1810" y="3"/>
                </a:cubicBezTo>
                <a:cubicBezTo>
                  <a:pt x="1505" y="0"/>
                  <a:pt x="1198" y="26"/>
                  <a:pt x="896" y="85"/>
                </a:cubicBezTo>
                <a:cubicBezTo>
                  <a:pt x="594" y="144"/>
                  <a:pt x="187" y="302"/>
                  <a:pt x="0" y="359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22"/>
          <p:cNvSpPr/>
          <p:nvPr/>
        </p:nvSpPr>
        <p:spPr>
          <a:xfrm>
            <a:off x="8029800" y="299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3"/>
          <p:cNvSpPr/>
          <p:nvPr/>
        </p:nvSpPr>
        <p:spPr>
          <a:xfrm>
            <a:off x="4934160" y="2421000"/>
            <a:ext cx="56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24" descr="CRCTR013"/>
          <p:cNvPicPr/>
          <p:nvPr/>
        </p:nvPicPr>
        <p:blipFill>
          <a:blip r:embed="rId1"/>
          <a:stretch/>
        </p:blipFill>
        <p:spPr>
          <a:xfrm>
            <a:off x="6300720" y="4005360"/>
            <a:ext cx="1909800" cy="29527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25" descr="CRCTR013"/>
          <p:cNvPicPr/>
          <p:nvPr/>
        </p:nvPicPr>
        <p:blipFill>
          <a:blip r:embed="rId2"/>
          <a:stretch/>
        </p:blipFill>
        <p:spPr>
          <a:xfrm flipH="1">
            <a:off x="900000" y="3933720"/>
            <a:ext cx="1873440" cy="295272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26"/>
          <p:cNvSpPr/>
          <p:nvPr/>
        </p:nvSpPr>
        <p:spPr>
          <a:xfrm>
            <a:off x="5292720" y="1557360"/>
            <a:ext cx="50328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3003 0.00162 L 4.72222E-006 1.90751E-006 E">
                                      <p:cBhvr>
                                        <p:cTn id="258" dur="2000" fill="hold"/>
                                        <p:tgtEl>
                                          <p:spTgt spid="4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532720" cy="20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b812f"/>
                </a:solidFill>
                <a:latin typeface="Georgia"/>
              </a:rPr>
              <a:t>В  результате  сложения  чисел  с  разными  знаками  может получиться как   </a:t>
            </a: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положительное</a:t>
            </a:r>
            <a:r>
              <a:rPr b="1" i="1" lang="ru-RU" sz="3200" spc="-1" strike="noStrike">
                <a:solidFill>
                  <a:srgbClr val="3b812f"/>
                </a:solidFill>
                <a:latin typeface="Georgia"/>
              </a:rPr>
              <a:t>, так и </a:t>
            </a: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отрицательное </a:t>
            </a:r>
            <a:r>
              <a:rPr b="1" i="1" lang="ru-RU" sz="3200" spc="-1" strike="noStrike">
                <a:solidFill>
                  <a:srgbClr val="3b812f"/>
                </a:solidFill>
                <a:latin typeface="Georgia"/>
              </a:rPr>
              <a:t>число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0" name="Rectangle 4"/>
          <p:cNvSpPr/>
          <p:nvPr/>
        </p:nvSpPr>
        <p:spPr>
          <a:xfrm>
            <a:off x="395280" y="4005360"/>
            <a:ext cx="388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 + (-4)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716000" y="4005000"/>
            <a:ext cx="39099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4 + (-7) = -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6"/>
          <p:cNvSpPr/>
          <p:nvPr/>
        </p:nvSpPr>
        <p:spPr>
          <a:xfrm>
            <a:off x="4356000" y="4724280"/>
            <a:ext cx="40528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4 + 3 = 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250920" y="4869000"/>
            <a:ext cx="3671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3 + 8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8"/>
          <p:cNvSpPr/>
          <p:nvPr/>
        </p:nvSpPr>
        <p:spPr>
          <a:xfrm>
            <a:off x="1928880" y="2643120"/>
            <a:ext cx="914400" cy="914400"/>
          </a:xfrm>
          <a:prstGeom prst="ellipse">
            <a:avLst/>
          </a:prstGeom>
          <a:solidFill>
            <a:srgbClr val="fcb7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9"/>
          <p:cNvSpPr/>
          <p:nvPr/>
        </p:nvSpPr>
        <p:spPr>
          <a:xfrm>
            <a:off x="6227640" y="2637000"/>
            <a:ext cx="914400" cy="9144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10"/>
          <p:cNvSpPr/>
          <p:nvPr/>
        </p:nvSpPr>
        <p:spPr>
          <a:xfrm>
            <a:off x="1692360" y="5661000"/>
            <a:ext cx="6048360" cy="9144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узнать знак сумм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4"/>
          <p:cNvSpPr/>
          <p:nvPr/>
        </p:nvSpPr>
        <p:spPr>
          <a:xfrm>
            <a:off x="2556000" y="5734080"/>
            <a:ext cx="4032000" cy="625320"/>
          </a:xfrm>
          <a:prstGeom prst="rect">
            <a:avLst/>
          </a:prstGeom>
          <a:gradFill rotWithShape="0">
            <a:gsLst>
              <a:gs pos="0">
                <a:srgbClr val="fcb7b2"/>
              </a:gs>
              <a:gs pos="50000">
                <a:srgbClr val="ffffff"/>
              </a:gs>
              <a:gs pos="100000">
                <a:srgbClr val="fcb7b2"/>
              </a:gs>
            </a:gsLst>
            <a:lin ang="5400000"/>
          </a:gradFill>
          <a:ln w="9360">
            <a:solidFill>
              <a:srgbClr val="fcb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5 + (-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5"/>
          <p:cNvSpPr/>
          <p:nvPr/>
        </p:nvSpPr>
        <p:spPr>
          <a:xfrm>
            <a:off x="9000" y="5805360"/>
            <a:ext cx="24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1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6680520" y="5805360"/>
            <a:ext cx="24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2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1476360" y="4869000"/>
            <a:ext cx="2303640" cy="625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19 +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8"/>
          <p:cNvSpPr/>
          <p:nvPr/>
        </p:nvSpPr>
        <p:spPr>
          <a:xfrm>
            <a:off x="611280" y="3933720"/>
            <a:ext cx="2303280" cy="6256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14 +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9"/>
          <p:cNvSpPr/>
          <p:nvPr/>
        </p:nvSpPr>
        <p:spPr>
          <a:xfrm>
            <a:off x="250920" y="2997360"/>
            <a:ext cx="2303280" cy="625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3 +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0"/>
          <p:cNvSpPr/>
          <p:nvPr/>
        </p:nvSpPr>
        <p:spPr>
          <a:xfrm>
            <a:off x="611280" y="2060640"/>
            <a:ext cx="2303280" cy="625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 (-6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1"/>
          <p:cNvSpPr/>
          <p:nvPr/>
        </p:nvSpPr>
        <p:spPr>
          <a:xfrm>
            <a:off x="1116000" y="1197000"/>
            <a:ext cx="2303640" cy="625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 (-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2"/>
          <p:cNvSpPr/>
          <p:nvPr/>
        </p:nvSpPr>
        <p:spPr>
          <a:xfrm>
            <a:off x="2195640" y="189000"/>
            <a:ext cx="1728720" cy="7189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Times New Roman"/>
              </a:rPr>
              <a:t>-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3"/>
          <p:cNvSpPr/>
          <p:nvPr/>
        </p:nvSpPr>
        <p:spPr>
          <a:xfrm>
            <a:off x="5364000" y="4869000"/>
            <a:ext cx="2303640" cy="6253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 (-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4"/>
          <p:cNvSpPr/>
          <p:nvPr/>
        </p:nvSpPr>
        <p:spPr>
          <a:xfrm>
            <a:off x="6300720" y="3933720"/>
            <a:ext cx="2303640" cy="6256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 (-7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5"/>
          <p:cNvSpPr/>
          <p:nvPr/>
        </p:nvSpPr>
        <p:spPr>
          <a:xfrm>
            <a:off x="6588000" y="2997360"/>
            <a:ext cx="2303640" cy="6253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 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6"/>
          <p:cNvSpPr/>
          <p:nvPr/>
        </p:nvSpPr>
        <p:spPr>
          <a:xfrm>
            <a:off x="6227640" y="2060640"/>
            <a:ext cx="2303640" cy="6253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4 +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7"/>
          <p:cNvSpPr/>
          <p:nvPr/>
        </p:nvSpPr>
        <p:spPr>
          <a:xfrm>
            <a:off x="5651640" y="1197000"/>
            <a:ext cx="2303280" cy="6253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45 +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18"/>
          <p:cNvSpPr/>
          <p:nvPr/>
        </p:nvSpPr>
        <p:spPr>
          <a:xfrm>
            <a:off x="5219640" y="189000"/>
            <a:ext cx="1728720" cy="7189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b812f"/>
                </a:solidFill>
                <a:latin typeface="Times New Roman"/>
              </a:rPr>
              <a:t>-5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19"/>
          <p:cNvSpPr/>
          <p:nvPr/>
        </p:nvSpPr>
        <p:spPr>
          <a:xfrm flipV="1">
            <a:off x="3635280" y="530028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20"/>
          <p:cNvSpPr/>
          <p:nvPr/>
        </p:nvSpPr>
        <p:spPr>
          <a:xfrm flipV="1">
            <a:off x="5508720" y="530028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21"/>
          <p:cNvSpPr/>
          <p:nvPr/>
        </p:nvSpPr>
        <p:spPr>
          <a:xfrm flipV="1">
            <a:off x="2700360" y="4365720"/>
            <a:ext cx="0" cy="5760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22"/>
          <p:cNvSpPr/>
          <p:nvPr/>
        </p:nvSpPr>
        <p:spPr>
          <a:xfrm flipV="1">
            <a:off x="6443640" y="4365720"/>
            <a:ext cx="0" cy="5760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23"/>
          <p:cNvSpPr/>
          <p:nvPr/>
        </p:nvSpPr>
        <p:spPr>
          <a:xfrm flipV="1">
            <a:off x="2268360" y="342864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4"/>
          <p:cNvSpPr/>
          <p:nvPr/>
        </p:nvSpPr>
        <p:spPr>
          <a:xfrm flipV="1">
            <a:off x="6877080" y="342864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25"/>
          <p:cNvSpPr/>
          <p:nvPr/>
        </p:nvSpPr>
        <p:spPr>
          <a:xfrm flipV="1">
            <a:off x="755640" y="249192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26"/>
          <p:cNvSpPr/>
          <p:nvPr/>
        </p:nvSpPr>
        <p:spPr>
          <a:xfrm flipV="1">
            <a:off x="8388360" y="249192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27"/>
          <p:cNvSpPr/>
          <p:nvPr/>
        </p:nvSpPr>
        <p:spPr>
          <a:xfrm flipV="1">
            <a:off x="1332000" y="155700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28"/>
          <p:cNvSpPr/>
          <p:nvPr/>
        </p:nvSpPr>
        <p:spPr>
          <a:xfrm flipV="1">
            <a:off x="7740720" y="162828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29"/>
          <p:cNvSpPr/>
          <p:nvPr/>
        </p:nvSpPr>
        <p:spPr>
          <a:xfrm flipV="1">
            <a:off x="3132000" y="76464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30"/>
          <p:cNvSpPr/>
          <p:nvPr/>
        </p:nvSpPr>
        <p:spPr>
          <a:xfrm flipV="1">
            <a:off x="6012000" y="76464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31"/>
          <p:cNvSpPr/>
          <p:nvPr/>
        </p:nvSpPr>
        <p:spPr>
          <a:xfrm>
            <a:off x="2916360" y="2852640"/>
            <a:ext cx="3313080" cy="719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32"/>
          <p:cNvSpPr/>
          <p:nvPr/>
        </p:nvSpPr>
        <p:spPr>
          <a:xfrm flipV="1">
            <a:off x="4572000" y="692280"/>
            <a:ext cx="0" cy="2087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33"/>
          <p:cNvSpPr/>
          <p:nvPr/>
        </p:nvSpPr>
        <p:spPr>
          <a:xfrm>
            <a:off x="4067280" y="260280"/>
            <a:ext cx="1008000" cy="719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13"/>
          <p:cNvSpPr/>
          <p:nvPr/>
        </p:nvSpPr>
        <p:spPr>
          <a:xfrm>
            <a:off x="2057400" y="7621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Чтобы сложить чис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4"/>
          <p:cNvSpPr/>
          <p:nvPr/>
        </p:nvSpPr>
        <p:spPr>
          <a:xfrm>
            <a:off x="380880" y="20574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 одинаковыми зна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5"/>
          <p:cNvSpPr/>
          <p:nvPr/>
        </p:nvSpPr>
        <p:spPr>
          <a:xfrm>
            <a:off x="6019920" y="19810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азными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на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6"/>
          <p:cNvSpPr/>
          <p:nvPr/>
        </p:nvSpPr>
        <p:spPr>
          <a:xfrm>
            <a:off x="743040" y="36180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оставь  общий знак и сложи их моду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7"/>
          <p:cNvSpPr/>
          <p:nvPr/>
        </p:nvSpPr>
        <p:spPr>
          <a:xfrm>
            <a:off x="5248440" y="354960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оставь знак большего модуля и из большего модуля вычти меньший моду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8"/>
          <p:cNvSpPr/>
          <p:nvPr/>
        </p:nvSpPr>
        <p:spPr>
          <a:xfrm flipH="1">
            <a:off x="2286000" y="1219320"/>
            <a:ext cx="1828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19"/>
          <p:cNvSpPr/>
          <p:nvPr/>
        </p:nvSpPr>
        <p:spPr>
          <a:xfrm>
            <a:off x="5181480" y="1219320"/>
            <a:ext cx="1676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20"/>
          <p:cNvSpPr/>
          <p:nvPr/>
        </p:nvSpPr>
        <p:spPr>
          <a:xfrm>
            <a:off x="2209680" y="2819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21"/>
          <p:cNvSpPr/>
          <p:nvPr/>
        </p:nvSpPr>
        <p:spPr>
          <a:xfrm>
            <a:off x="7162920" y="2743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3"/>
          <p:cNvSpPr/>
          <p:nvPr/>
        </p:nvSpPr>
        <p:spPr>
          <a:xfrm>
            <a:off x="863640" y="497844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23+(-25)=-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5"/>
          <p:cNvSpPr/>
          <p:nvPr/>
        </p:nvSpPr>
        <p:spPr>
          <a:xfrm>
            <a:off x="1066680" y="561960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5+25=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6"/>
          <p:cNvSpPr/>
          <p:nvPr/>
        </p:nvSpPr>
        <p:spPr>
          <a:xfrm>
            <a:off x="6175440" y="53402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45+40=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8" descr=""/>
          <p:cNvPicPr/>
          <p:nvPr/>
        </p:nvPicPr>
        <p:blipFill>
          <a:blip r:embed="rId1"/>
          <a:srcRect l="27343" t="20052" r="6438" b="23817"/>
          <a:stretch/>
        </p:blipFill>
        <p:spPr>
          <a:xfrm>
            <a:off x="457200" y="2894040"/>
            <a:ext cx="5943600" cy="364788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2"/>
          <p:cNvSpPr/>
          <p:nvPr/>
        </p:nvSpPr>
        <p:spPr>
          <a:xfrm>
            <a:off x="380880" y="1066680"/>
            <a:ext cx="416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-5+(-32)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6391440" y="17460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-3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6324480" y="116532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-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6"/>
          <p:cNvSpPr/>
          <p:nvPr/>
        </p:nvSpPr>
        <p:spPr>
          <a:xfrm>
            <a:off x="6477120" y="22096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9" descr="3str5"/>
          <p:cNvPicPr/>
          <p:nvPr/>
        </p:nvPicPr>
        <p:blipFill>
          <a:blip r:embed="rId2"/>
          <a:stretch/>
        </p:blipFill>
        <p:spPr>
          <a:xfrm rot="10582800">
            <a:off x="5562000" y="1599840"/>
            <a:ext cx="609480" cy="30492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0" descr="3str5"/>
          <p:cNvPicPr/>
          <p:nvPr/>
        </p:nvPicPr>
        <p:blipFill>
          <a:blip r:embed="rId3"/>
          <a:stretch/>
        </p:blipFill>
        <p:spPr>
          <a:xfrm rot="12564600">
            <a:off x="5562360" y="2285280"/>
            <a:ext cx="609480" cy="30492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1" descr="3str5"/>
          <p:cNvPicPr/>
          <p:nvPr/>
        </p:nvPicPr>
        <p:blipFill>
          <a:blip r:embed="rId4"/>
          <a:stretch/>
        </p:blipFill>
        <p:spPr>
          <a:xfrm rot="9405600">
            <a:off x="5562360" y="685440"/>
            <a:ext cx="600120" cy="29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0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2"/>
          <p:cNvSpPr/>
          <p:nvPr/>
        </p:nvSpPr>
        <p:spPr>
          <a:xfrm>
            <a:off x="1752480" y="400068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думай ещё р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>
            <a:off x="3809880" y="4940280"/>
            <a:ext cx="1981440" cy="9907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4" descr="3c4"/>
          <p:cNvPicPr/>
          <p:nvPr/>
        </p:nvPicPr>
        <p:blipFill>
          <a:blip r:embed="rId1"/>
          <a:stretch/>
        </p:blipFill>
        <p:spPr>
          <a:xfrm>
            <a:off x="2666880" y="838080"/>
            <a:ext cx="4953240" cy="31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2"/>
          <p:cNvSpPr/>
          <p:nvPr/>
        </p:nvSpPr>
        <p:spPr>
          <a:xfrm>
            <a:off x="2666880" y="4635360"/>
            <a:ext cx="43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молоде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3" descr="2c6"/>
          <p:cNvPicPr/>
          <p:nvPr/>
        </p:nvPicPr>
        <p:blipFill>
          <a:blip r:embed="rId1"/>
          <a:stretch/>
        </p:blipFill>
        <p:spPr>
          <a:xfrm>
            <a:off x="2057400" y="838080"/>
            <a:ext cx="5715000" cy="36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8" descr=""/>
          <p:cNvPicPr/>
          <p:nvPr/>
        </p:nvPicPr>
        <p:blipFill>
          <a:blip r:embed="rId1"/>
          <a:srcRect l="27343" t="20052" r="6438" b="23817"/>
          <a:stretch/>
        </p:blipFill>
        <p:spPr>
          <a:xfrm>
            <a:off x="457200" y="2894040"/>
            <a:ext cx="5943600" cy="364788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2"/>
          <p:cNvSpPr/>
          <p:nvPr/>
        </p:nvSpPr>
        <p:spPr>
          <a:xfrm>
            <a:off x="533520" y="1066680"/>
            <a:ext cx="4647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85+(-25)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3"/>
          <p:cNvSpPr/>
          <p:nvPr/>
        </p:nvSpPr>
        <p:spPr>
          <a:xfrm>
            <a:off x="6572160" y="10666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4"/>
          <p:cNvSpPr/>
          <p:nvPr/>
        </p:nvSpPr>
        <p:spPr>
          <a:xfrm>
            <a:off x="6191280" y="228600"/>
            <a:ext cx="19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5"/>
          <p:cNvSpPr/>
          <p:nvPr/>
        </p:nvSpPr>
        <p:spPr>
          <a:xfrm>
            <a:off x="6249960" y="1987560"/>
            <a:ext cx="18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11" descr="3str5"/>
          <p:cNvPicPr/>
          <p:nvPr/>
        </p:nvPicPr>
        <p:blipFill>
          <a:blip r:embed="rId2"/>
          <a:stretch/>
        </p:blipFill>
        <p:spPr>
          <a:xfrm rot="9191400">
            <a:off x="5790600" y="761760"/>
            <a:ext cx="685800" cy="34272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2" descr="3str5"/>
          <p:cNvPicPr/>
          <p:nvPr/>
        </p:nvPicPr>
        <p:blipFill>
          <a:blip r:embed="rId3"/>
          <a:stretch/>
        </p:blipFill>
        <p:spPr>
          <a:xfrm rot="10639200">
            <a:off x="5755680" y="1371240"/>
            <a:ext cx="685800" cy="3430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3" descr="3str5"/>
          <p:cNvPicPr/>
          <p:nvPr/>
        </p:nvPicPr>
        <p:blipFill>
          <a:blip r:embed="rId4"/>
          <a:stretch/>
        </p:blipFill>
        <p:spPr>
          <a:xfrm rot="12663000">
            <a:off x="5847840" y="2056680"/>
            <a:ext cx="60984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 Box 2"/>
          <p:cNvSpPr/>
          <p:nvPr/>
        </p:nvSpPr>
        <p:spPr>
          <a:xfrm>
            <a:off x="1752480" y="401652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думай ещё р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4"/>
          <p:cNvSpPr/>
          <p:nvPr/>
        </p:nvSpPr>
        <p:spPr>
          <a:xfrm>
            <a:off x="3962520" y="5029200"/>
            <a:ext cx="1981080" cy="990720"/>
          </a:xfrm>
          <a:prstGeom prst="leftArrow">
            <a:avLst>
              <a:gd name="adj1" fmla="val 50000"/>
              <a:gd name="adj2" fmla="val 4999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6" descr="3c4"/>
          <p:cNvPicPr/>
          <p:nvPr/>
        </p:nvPicPr>
        <p:blipFill>
          <a:blip r:embed="rId1"/>
          <a:stretch/>
        </p:blipFill>
        <p:spPr>
          <a:xfrm>
            <a:off x="2666880" y="838080"/>
            <a:ext cx="4953240" cy="31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исать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Arial"/>
              </a:rPr>
              <a:t>-15; +10; -32;  2 ; -7 ; 0; -4; 9,36; +7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Назовите отрицательные чис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Назовите натуральные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Назовите положительные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Назовите целые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. Выделите квадратиком противоположные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6. Выделите кружочком наибольшее целое числ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.Выделите треугольником наименьшее целое числ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2"/>
          <p:cNvSpPr/>
          <p:nvPr/>
        </p:nvSpPr>
        <p:spPr>
          <a:xfrm>
            <a:off x="2762280" y="4540320"/>
            <a:ext cx="43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молоде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2c6"/>
          <p:cNvPicPr/>
          <p:nvPr/>
        </p:nvPicPr>
        <p:blipFill>
          <a:blip r:embed="rId1"/>
          <a:stretch/>
        </p:blipFill>
        <p:spPr>
          <a:xfrm>
            <a:off x="2057400" y="838080"/>
            <a:ext cx="5715000" cy="36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9" descr=""/>
          <p:cNvPicPr/>
          <p:nvPr/>
        </p:nvPicPr>
        <p:blipFill>
          <a:blip r:embed="rId1"/>
          <a:srcRect l="27343" t="20052" r="6438" b="23817"/>
          <a:stretch/>
        </p:blipFill>
        <p:spPr>
          <a:xfrm>
            <a:off x="457200" y="2894040"/>
            <a:ext cx="5943600" cy="364788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2"/>
          <p:cNvSpPr/>
          <p:nvPr/>
        </p:nvSpPr>
        <p:spPr>
          <a:xfrm>
            <a:off x="914400" y="1219320"/>
            <a:ext cx="38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-48+15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6294600" y="197820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-3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6276960" y="108576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6286680" y="22860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-6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11" descr="3str5"/>
          <p:cNvPicPr/>
          <p:nvPr/>
        </p:nvPicPr>
        <p:blipFill>
          <a:blip r:embed="rId2"/>
          <a:stretch/>
        </p:blipFill>
        <p:spPr>
          <a:xfrm rot="9506400">
            <a:off x="5562000" y="837720"/>
            <a:ext cx="685800" cy="34308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2" descr="3str5"/>
          <p:cNvPicPr/>
          <p:nvPr/>
        </p:nvPicPr>
        <p:blipFill>
          <a:blip r:embed="rId3"/>
          <a:stretch/>
        </p:blipFill>
        <p:spPr>
          <a:xfrm rot="10800000">
            <a:off x="5562360" y="1523520"/>
            <a:ext cx="685800" cy="34308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3" descr="3str5"/>
          <p:cNvPicPr/>
          <p:nvPr/>
        </p:nvPicPr>
        <p:blipFill>
          <a:blip r:embed="rId4"/>
          <a:stretch/>
        </p:blipFill>
        <p:spPr>
          <a:xfrm rot="11800200">
            <a:off x="5517360" y="2269800"/>
            <a:ext cx="68580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0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1752480" y="396864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думай ещё р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3"/>
          <p:cNvSpPr/>
          <p:nvPr/>
        </p:nvSpPr>
        <p:spPr>
          <a:xfrm>
            <a:off x="3962520" y="5016600"/>
            <a:ext cx="1981080" cy="990360"/>
          </a:xfrm>
          <a:prstGeom prst="leftArrow">
            <a:avLst>
              <a:gd name="adj1" fmla="val 50000"/>
              <a:gd name="adj2" fmla="val 50009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4" descr="3c4"/>
          <p:cNvPicPr/>
          <p:nvPr/>
        </p:nvPicPr>
        <p:blipFill>
          <a:blip r:embed="rId1"/>
          <a:stretch/>
        </p:blipFill>
        <p:spPr>
          <a:xfrm>
            <a:off x="2666880" y="838080"/>
            <a:ext cx="4953240" cy="31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2"/>
          <p:cNvSpPr/>
          <p:nvPr/>
        </p:nvSpPr>
        <p:spPr>
          <a:xfrm>
            <a:off x="2666880" y="4619520"/>
            <a:ext cx="43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молоде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3" descr="2c6"/>
          <p:cNvPicPr/>
          <p:nvPr/>
        </p:nvPicPr>
        <p:blipFill>
          <a:blip r:embed="rId1"/>
          <a:stretch/>
        </p:blipFill>
        <p:spPr>
          <a:xfrm>
            <a:off x="2057400" y="838080"/>
            <a:ext cx="5715000" cy="36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17" descr="2c5"/>
          <p:cNvPicPr/>
          <p:nvPr/>
        </p:nvPicPr>
        <p:blipFill>
          <a:blip r:embed="rId1"/>
          <a:stretch/>
        </p:blipFill>
        <p:spPr>
          <a:xfrm>
            <a:off x="4038480" y="1828800"/>
            <a:ext cx="4267440" cy="244152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2"/>
          <p:cNvSpPr/>
          <p:nvPr/>
        </p:nvSpPr>
        <p:spPr>
          <a:xfrm>
            <a:off x="291960" y="70164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26+(-6)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3"/>
          <p:cNvSpPr/>
          <p:nvPr/>
        </p:nvSpPr>
        <p:spPr>
          <a:xfrm>
            <a:off x="533520" y="158436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70+50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368280" y="2470320"/>
            <a:ext cx="260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7+(-30)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609480" y="328608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0+120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6"/>
          <p:cNvSpPr/>
          <p:nvPr/>
        </p:nvSpPr>
        <p:spPr>
          <a:xfrm>
            <a:off x="31680" y="412128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63+(-73)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9"/>
          <p:cNvSpPr/>
          <p:nvPr/>
        </p:nvSpPr>
        <p:spPr>
          <a:xfrm>
            <a:off x="8201160" y="58752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0"/>
          <p:cNvSpPr/>
          <p:nvPr/>
        </p:nvSpPr>
        <p:spPr>
          <a:xfrm>
            <a:off x="5915160" y="856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1"/>
          <p:cNvSpPr/>
          <p:nvPr/>
        </p:nvSpPr>
        <p:spPr>
          <a:xfrm>
            <a:off x="7505640" y="593424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2"/>
          <p:cNvSpPr/>
          <p:nvPr/>
        </p:nvSpPr>
        <p:spPr>
          <a:xfrm>
            <a:off x="8102520" y="4952880"/>
            <a:ext cx="104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3"/>
          <p:cNvSpPr/>
          <p:nvPr/>
        </p:nvSpPr>
        <p:spPr>
          <a:xfrm>
            <a:off x="7696080" y="16765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1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4"/>
          <p:cNvSpPr/>
          <p:nvPr/>
        </p:nvSpPr>
        <p:spPr>
          <a:xfrm>
            <a:off x="7292880" y="0"/>
            <a:ext cx="93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5"/>
          <p:cNvSpPr/>
          <p:nvPr/>
        </p:nvSpPr>
        <p:spPr>
          <a:xfrm>
            <a:off x="4419720" y="954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0"/>
          <p:cNvSpPr/>
          <p:nvPr/>
        </p:nvSpPr>
        <p:spPr>
          <a:xfrm>
            <a:off x="5880240" y="605484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0"/>
          <p:cNvSpPr/>
          <p:nvPr/>
        </p:nvSpPr>
        <p:spPr>
          <a:xfrm>
            <a:off x="4546440" y="60199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22" descr="2str1"/>
          <p:cNvPicPr/>
          <p:nvPr/>
        </p:nvPicPr>
        <p:blipFill>
          <a:blip r:embed="rId2"/>
          <a:stretch/>
        </p:blipFill>
        <p:spPr>
          <a:xfrm>
            <a:off x="8001000" y="3048120"/>
            <a:ext cx="825480" cy="99036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23"/>
          <p:cNvSpPr/>
          <p:nvPr/>
        </p:nvSpPr>
        <p:spPr>
          <a:xfrm>
            <a:off x="4254480" y="129528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Сложение отрицательных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25"/>
          <p:cNvSpPr/>
          <p:nvPr/>
        </p:nvSpPr>
        <p:spPr>
          <a:xfrm>
            <a:off x="4267080" y="289548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ложение положительных 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26"/>
          <p:cNvSpPr/>
          <p:nvPr/>
        </p:nvSpPr>
        <p:spPr>
          <a:xfrm>
            <a:off x="3997440" y="4267080"/>
            <a:ext cx="4419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С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чисел с разными зна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0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33526E-006 L -0.64844 0.01203 E">
                                      <p:cBhvr>
                                        <p:cTn id="649" dur="2000" fill="hold"/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7.51445E-007 L -0.40521 0.21827 E">
                                      <p:cBhvr>
                                        <p:cTn id="653" dur="2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6296E-006 L -0.5625 -0.51204 E">
                                      <p:cBhvr>
                                        <p:cTn id="657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48555E-006 L -0.60973 -0.24647 E">
                                      <p:cBhvr>
                                        <p:cTn id="661" dur="2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94798E-006 L -0.575 0.35283 E">
                                      <p:cBhvr>
                                        <p:cTn id="665" dur="20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7.40741E-007 L -0.53177 0.71991 E">
                                      <p:cBhvr>
                                        <p:cTn id="669" dur="20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96532E-006 L -0.21666 0.83838 E">
                                      <p:cBhvr>
                                        <p:cTn id="673" dur="2000" fill="hold"/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17236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Georgia"/>
              </a:rPr>
              <a:t>Выполните  сложение в тетра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5"/>
          <p:cNvSpPr/>
          <p:nvPr/>
        </p:nvSpPr>
        <p:spPr>
          <a:xfrm>
            <a:off x="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Object 4"/>
              <p:cNvSpPr txBox="1"/>
              <p:nvPr/>
            </p:nvSpPr>
            <p:spPr>
              <a:xfrm>
                <a:off x="719280" y="1440000"/>
                <a:ext cx="7705440" cy="420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277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;</m:t>
                        </m:r>
                      </m:e>
                      <m:e>
                        <m:r>
                          <m:t xml:space="preserve">7</m:t>
                        </m:r>
                        <m:r>
                          <m:t xml:space="preserve">)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d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9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5</m:t>
                            </m:r>
                          </m:e>
                        </m:d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den>
                            </m:f>
                          </m:e>
                        </m:d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4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0" name="AutoShape 7"/>
          <p:cNvSpPr/>
          <p:nvPr/>
        </p:nvSpPr>
        <p:spPr>
          <a:xfrm>
            <a:off x="7524720" y="189000"/>
            <a:ext cx="1440000" cy="360360"/>
          </a:xfrm>
          <a:custGeom>
            <a:avLst/>
            <a:gdLst>
              <a:gd name="textAreaLeft" fmla="*/ 23040 w 1440000"/>
              <a:gd name="textAreaRight" fmla="*/ 1416960 w 144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6249" h="21600">
                <a:moveTo>
                  <a:pt x="0" y="0"/>
                </a:moveTo>
                <a:lnTo>
                  <a:pt x="86249" y="0"/>
                </a:lnTo>
                <a:lnTo>
                  <a:pt x="86249" y="21600"/>
                </a:lnTo>
                <a:lnTo>
                  <a:pt x="0" y="21600"/>
                </a:lnTo>
                <a:close/>
              </a:path>
              <a:path fill="lightenLess" w="86249" h="21600">
                <a:moveTo>
                  <a:pt x="0" y="0"/>
                </a:moveTo>
                <a:lnTo>
                  <a:pt x="86249" y="0"/>
                </a:lnTo>
                <a:lnTo>
                  <a:pt x="84849" y="1400"/>
                </a:lnTo>
                <a:lnTo>
                  <a:pt x="1400" y="1400"/>
                </a:lnTo>
                <a:close/>
              </a:path>
              <a:path fill="darken" w="86249" h="21600">
                <a:moveTo>
                  <a:pt x="86249" y="0"/>
                </a:moveTo>
                <a:lnTo>
                  <a:pt x="86249" y="21600"/>
                </a:lnTo>
                <a:lnTo>
                  <a:pt x="84849" y="20200"/>
                </a:lnTo>
                <a:lnTo>
                  <a:pt x="84849" y="1400"/>
                </a:lnTo>
                <a:close/>
              </a:path>
              <a:path fill="darkenLess" w="86249" h="21600">
                <a:moveTo>
                  <a:pt x="862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9" y="20200"/>
                </a:lnTo>
                <a:close/>
              </a:path>
              <a:path fill="lighten" w="862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ccd9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ч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0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704880" y="536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2"/>
                </a:solidFill>
                <a:latin typeface="Arial"/>
              </a:rPr>
              <a:t>Самостоятельн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380880" y="1514520"/>
          <a:ext cx="8382240" cy="2625840"/>
        </p:xfrm>
        <a:graphic>
          <a:graphicData uri="http://schemas.openxmlformats.org/drawingml/2006/table">
            <a:tbl>
              <a:tblPr/>
              <a:tblGrid>
                <a:gridCol w="4191120"/>
                <a:gridCol w="4191120"/>
              </a:tblGrid>
              <a:tr h="560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72"/>
                          </a:solidFill>
                          <a:latin typeface="Arial"/>
                        </a:rPr>
                        <a:t>1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72"/>
                          </a:solidFill>
                          <a:latin typeface="Arial"/>
                        </a:rPr>
                        <a:t>2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4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+(-9)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+(-56)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3+75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+18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+(-24)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+(-67)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9+84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+29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914400" y="2057400"/>
            <a:ext cx="72388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72"/>
                </a:solidFill>
                <a:latin typeface="Arial"/>
              </a:rPr>
              <a:t>Что узнали нового 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72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72"/>
                </a:solidFill>
                <a:latin typeface="Arial"/>
              </a:rPr>
              <a:t>чему научились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3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6953040" cy="50472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4" descr=""/>
          <p:cNvPicPr/>
          <p:nvPr/>
        </p:nvPicPr>
        <p:blipFill>
          <a:blip r:embed="rId2"/>
          <a:stretch/>
        </p:blipFill>
        <p:spPr>
          <a:xfrm>
            <a:off x="127080" y="1125360"/>
            <a:ext cx="864216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Прямоугольник 2"/>
          <p:cNvSpPr/>
          <p:nvPr/>
        </p:nvSpPr>
        <p:spPr>
          <a:xfrm>
            <a:off x="2286000" y="260280"/>
            <a:ext cx="523872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-4;-3;-2;-1;0. (-3;-2;-1;0;-1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6 (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-15; (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5; (-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-10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&lt;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(-3 &lt; 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0 &gt; -6 (-8 &lt;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-9 &lt; -7 (-5 &gt;-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2 &gt; -20 (-30 &lt;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-9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; (-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0; (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-1; (-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40; (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а│=2; (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│=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-7 и 7; (-4 и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Решений нет; (решений не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1066680" y="22860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аос не только встречается в жизни, но и среди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1752480" y="22096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2666880" y="251460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5181480" y="24382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2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609480" y="358128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4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2209680" y="495288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6172200" y="419112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9"/>
          <p:cNvSpPr/>
          <p:nvPr/>
        </p:nvSpPr>
        <p:spPr>
          <a:xfrm>
            <a:off x="4038480" y="365760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1"/>
          <p:cNvSpPr/>
          <p:nvPr/>
        </p:nvSpPr>
        <p:spPr>
          <a:xfrm>
            <a:off x="4114800" y="51055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2"/>
          <p:cNvSpPr/>
          <p:nvPr/>
        </p:nvSpPr>
        <p:spPr>
          <a:xfrm>
            <a:off x="7362720" y="541332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2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3"/>
          <p:cNvSpPr/>
          <p:nvPr/>
        </p:nvSpPr>
        <p:spPr>
          <a:xfrm>
            <a:off x="7772400" y="32767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44 -0.24855 C -0.02101 -0.20532 -0.03125 -0.13179 -0.00365 -0.08601 C 0.02917 -0.03144 0.07778 -0.0511 0.10486 -0.06659 L 0.13924 -0.08948 C 0.16667 -0.10474 0.21597 -0.12347 0.25295 -0.06196 C 0.27708 -0.02312 0.27049 0.05734 0.23021 0.10081 C 0.18976 0.14405 0.12951 0.1348 0.1059 0.09549 C 0.06892 0.03445 0.09306 -0.02589 0.1099 -0.05826 L 0.13438 -0.09826 C 0.15156 -0.13017 0.17656 -0.18936 0.14375 -0.2437 C 0.1158 -0.28994 0.0599 -0.29179 0.01944 -0.24855 Z">
                                      <p:cBhvr>
                                        <p:cTn id="50" dur="5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22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952 0.03472 C 0.12327 0.09953 0.13941 0.17778 0.11459 0.20694 C 0.08594 0.2419 0.0356 0.1949 0.00695 0.16435 L -0.02987 0.12245 C -0.05799 0.09213 -0.10886 0.04653 -0.14167 0.08541 C -0.16251 0.11065 -0.1507 0.1919 -0.10643 0.25764 C -0.06285 0.32222 -0.00226 0.34838 0.01841 0.32291 C 0.0507 0.28356 0.02188 0.21065 0.00244 0.16967 L -0.025 0.11736 C -0.04462 0.07592 -0.07396 0.0044 -0.04514 -0.03033 C -0.02049 -0.05949 0.03577 -0.02986 0.07952 0.03472 Z">
                                      <p:cBhvr>
                                        <p:cTn id="52" dur="5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9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351 0.06435 C -0.09723 0.04213 -0.1158 0.00532 -0.10851 -0.02662 C -0.09775 -0.07385 -0.06337 -0.10162 -0.03073 -0.08843 C -0.02032 -0.08426 -0.01146 -0.07662 -0.00469 -0.06528 C -0.00434 -0.06667 0.09062 0.13495 0.09166 0.13541 C 0.09062 0.13495 -0.07257 0.23194 -0.07223 0.23055 C -0.08264 0.23472 -0.09306 0.23472 -0.10365 0.23032 C -0.13611 0.21713 -0.15313 0.16851 -0.14202 0.1199 C -0.13507 0.08935 -0.10417 0.07268 -0.08351 0.06435 Z">
                                      <p:cBhvr>
                                        <p:cTn id="54" dur="5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8449 C 3.33333E-006 0.00579 0.02708 0.08009 0.06007 0.08009 C 0.09896 0.08009 0.11302 -0.00231 0.11892 -0.05162 L 0.125 -0.11736 C 0.13107 -0.16667 0.146 -0.24884 0.18993 -0.24884 C 0.21805 -0.24884 0.25 -0.17477 0.25 -0.08449 C 0.25 0.00579 0.21805 0.08009 0.18993 0.08009 C 0.146 0.08009 0.13107 -0.00231 0.125 -0.05162 L 0.11892 -0.11736 C 0.11302 -0.16667 0.09896 -0.24884 0.06007 -0.24884 C 0.02708 -0.24884 3.33333E-006 -0.17477 3.33333E-006 -0.08449 Z">
                                      <p:cBhvr>
                                        <p:cTn id="56" dur="5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22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26 0.00671 C 0.00973 0.00671 0.03681 0.04282 0.03681 0.0868 C 0.03681 0.13865 0.00677 0.1574 -0.01128 0.16527 L -0.03524 0.17338 C -0.0533 0.18148 -0.08333 0.20139 -0.08333 0.25995 C -0.08333 0.29745 -0.05625 0.34004 -0.02326 0.34004 C 0.00973 0.34004 0.03681 0.29745 0.03681 0.25995 C 0.03681 0.20139 0.00677 0.18148 -0.01128 0.17338 L -0.03524 0.16527 C -0.0533 0.1574 -0.08333 0.13865 -0.08333 0.0868 C -0.08333 0.04282 -0.05625 0.00671 -0.02326 0.00671 Z">
                                      <p:cBhvr>
                                        <p:cTn id="58" dur="5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9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038 -0.11204 C 0.21441 -0.12963 0.26597 -0.15093 0.28211 -0.1257 C 0.30607 -0.08796 0.28611 -0.0132 0.23646 0.04305 C 0.22048 0.06134 0.20382 0.075 0.18663 0.08356 C 0.18732 0.08472 -0.08507 0.18843 -0.08664 0.19005 C -0.08507 0.18843 0.03593 -0.15324 0.03646 -0.15185 C 0.046 -0.17315 0.0585 -0.19259 0.07482 -0.21111 C 0.12448 -0.26713 0.18316 -0.28102 0.20746 -0.24213 C 0.22326 -0.21806 0.19878 -0.1537 0.18038 -0.11204 Z">
                                      <p:cBhvr>
                                        <p:cTn id="60" dur="5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89 0.18172 C -0.04236 0.22385 0.00764 0.23264 0.0507 0.20047 C 0.10139 0.1632 0.10434 0.11135 0.10261 0.08264 L 0.09775 0.04584 C 0.09601 0.01713 0.1 -0.03564 0.15747 -0.07777 C 0.19462 -0.10509 0.2507 -0.10115 0.26841 -0.05902 C 0.28542 -0.01689 0.25816 0.04885 0.22101 0.07616 C 0.16372 0.11806 0.12778 0.09422 0.11042 0.07663 L 0.08976 0.05163 C 0.07223 0.0345 0.03837 0.00926 -0.0125 0.04676 C -0.05642 0.07894 -0.07708 0.13959 -0.05989 0.18172 Z">
                                      <p:cBhvr>
                                        <p:cTn id="62" dur="5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9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833 0.00971 C -0.13681 -0.01434 -0.09896 -0.04879 -0.05399 -0.04879 C 0.0125 -0.04879 0.06667 -0.01295 0.06667 0.03237 C 0.06667 0.04694 0.06128 0.06035 0.05035 0.07237 C 0.05226 0.07237 -0.15833 0.25225 -0.15833 0.25364 C -0.15833 0.25225 -0.3691 0.07237 -0.36719 0.07237 C -0.37812 0.06035 -0.38333 0.04694 -0.38333 0.03237 C -0.38333 -0.01295 -0.32934 -0.04879 -0.26094 -0.04879 C -0.21771 -0.04879 -0.18003 -0.01434 -0.15833 0.00971 Z">
                                      <p:cBhvr>
                                        <p:cTn id="64" dur="5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22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695 -0.01736 C -0.02726 0.00162 0.00955 -0.01667 0.02448 -0.0581 C 0.04218 -0.10695 0.02152 -0.14213 0.00798 -0.15996 L -0.01077 -0.18148 C -0.02431 -0.19977 -0.04445 -0.23588 -0.02448 -0.29098 C -0.01164 -0.32639 0.02725 -0.3507 0.05694 -0.33148 C 0.08663 -0.31227 0.09652 -0.25648 0.08368 -0.22107 C 0.06371 -0.16621 0.02986 -0.16482 0.01076 -0.1676 L -0.01354 -0.17385 C -0.03247 -0.17709 -0.06598 -0.17662 -0.08368 -0.12801 C -0.09861 -0.08658 -0.08664 -0.03658 -0.05695 -0.01736 Z">
                                      <p:cBhvr>
                                        <p:cTn id="66" dur="5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9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649 -0.03769 C 0.14965 -0.04162 0.2 -0.04139 0.21875 -0.00486 C 0.24548 0.04994 0.23194 0.12647 0.18611 0.1674 C 0.1717 0.18081 0.15573 0.18774 0.13906 0.19006 C 0.13993 0.19167 -0.12795 0.18035 -0.12865 0.1815 C -0.12795 0.18035 -0.03334 -0.15376 -0.03229 -0.15237 C -0.02483 -0.17226 -0.01354 -0.18821 0.00121 -0.20116 C 0.04687 -0.24208 0.10555 -0.23052 0.13368 -0.17387 C 0.15139 -0.1385 0.13211 -0.07653 0.11649 -0.03769 Z">
                                      <p:cBhvr>
                                        <p:cTn id="68" dur="5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4"/>
          <p:cNvSpPr/>
          <p:nvPr/>
        </p:nvSpPr>
        <p:spPr>
          <a:xfrm>
            <a:off x="1828800" y="2209680"/>
            <a:ext cx="5029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72"/>
                </a:solidFill>
                <a:latin typeface="Arial"/>
              </a:rPr>
              <a:t>Спасибо за урок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1066680" y="26028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делите числа на две группы по какому-нибудь принцип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1752480" y="22096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2666880" y="251460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5181480" y="24382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2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609480" y="358128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4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7"/>
          <p:cNvSpPr/>
          <p:nvPr/>
        </p:nvSpPr>
        <p:spPr>
          <a:xfrm>
            <a:off x="2209680" y="495288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8"/>
          <p:cNvSpPr/>
          <p:nvPr/>
        </p:nvSpPr>
        <p:spPr>
          <a:xfrm>
            <a:off x="6172200" y="419112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9"/>
          <p:cNvSpPr/>
          <p:nvPr/>
        </p:nvSpPr>
        <p:spPr>
          <a:xfrm>
            <a:off x="4038480" y="365760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0"/>
          <p:cNvSpPr/>
          <p:nvPr/>
        </p:nvSpPr>
        <p:spPr>
          <a:xfrm>
            <a:off x="4114800" y="51055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1"/>
          <p:cNvSpPr/>
          <p:nvPr/>
        </p:nvSpPr>
        <p:spPr>
          <a:xfrm>
            <a:off x="7473960" y="520704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2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2"/>
          <p:cNvSpPr/>
          <p:nvPr/>
        </p:nvSpPr>
        <p:spPr>
          <a:xfrm>
            <a:off x="7772400" y="32767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3"/>
          <p:cNvSpPr/>
          <p:nvPr/>
        </p:nvSpPr>
        <p:spPr>
          <a:xfrm>
            <a:off x="704880" y="129384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ложительные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4"/>
          <p:cNvSpPr/>
          <p:nvPr/>
        </p:nvSpPr>
        <p:spPr>
          <a:xfrm>
            <a:off x="5854680" y="132084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Arial"/>
              </a:rPr>
              <a:t>Отрицательные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5"/>
          <p:cNvSpPr/>
          <p:nvPr/>
        </p:nvSpPr>
        <p:spPr>
          <a:xfrm>
            <a:off x="1990800" y="62406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00"/>
                </a:solidFill>
                <a:latin typeface="Arial"/>
              </a:rPr>
              <a:t>Порядок в числах нав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07407E-006 L -0.10834 -0.05996 E">
                                      <p:cBhvr>
                                        <p:cTn id="74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-2.96296E-006 L -0.37499 -0.16667 E">
                                      <p:cBhvr>
                                        <p:cTn id="76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3.7037E-007 L -0.40833 -0.26667 E">
                                      <p:cBhvr>
                                        <p:cTn id="78" dur="2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9.82659E-007 L -0.6 -0.02659 E">
                                      <p:cBhvr>
                                        <p:cTn id="80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7341E-007 L -0.775 0.19538 E">
                                      <p:cBhvr>
                                        <p:cTn id="82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2.96296E-006 L 0.13333 -0.06666 E">
                                      <p:cBhvr>
                                        <p:cTn id="84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-5.18519E-006 L 0.67501 -0.14445 E">
                                      <p:cBhvr>
                                        <p:cTn id="86" dur="2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83237E-006 L 0.475 0.12878 E">
                                      <p:cBhvr>
                                        <p:cTn id="88" dur="2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73472E-018 -4.07407E-006 L 0.525 -0.11111 E">
                                      <p:cBhvr>
                                        <p:cTn id="90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10405E-006 L -0.07153 -0.06359 E">
                                      <p:cBhvr>
                                        <p:cTn id="92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равнить числа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67" name="Содержимое 2" descr=""/>
          <p:cNvPicPr/>
          <p:nvPr/>
        </p:nvPicPr>
        <p:blipFill>
          <a:blip r:embed="rId1"/>
          <a:stretch/>
        </p:blipFill>
        <p:spPr>
          <a:xfrm>
            <a:off x="407880" y="1523880"/>
            <a:ext cx="82789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Слова, которые можно отнести 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к “+” и “-”.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Выигрыш, проигрыш, отдал, взял, зарплата, налоги, долг и имуществ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+3) + (+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+5) + (+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+3) + (+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-5) + (-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-4) + (+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-3) + (-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-4) + (-6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-3) + (-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-4) + (-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-3) + (+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00"/>
                </a:solidFill>
                <a:latin typeface="Georgia"/>
              </a:rPr>
              <a:t>Объясните  решение  примеров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348000" y="2997360"/>
            <a:ext cx="5580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6 + (-6) = + (26 – 6) = 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2916360" y="4005360"/>
            <a:ext cx="62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57 + 34 = -(57 – 34) = -2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WordArt 6"/>
          <p:cNvSpPr txBox="1"/>
          <p:nvPr/>
        </p:nvSpPr>
        <p:spPr>
          <a:xfrm>
            <a:off x="4356000" y="5229360"/>
            <a:ext cx="4105440" cy="11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Молодцы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b812f"/>
                </a:solidFill>
                <a:latin typeface="Georgia"/>
              </a:rPr>
              <a:t>Сложение  чисел  </a:t>
            </a:r>
            <a:br>
              <a:rPr sz="4000"/>
            </a:br>
            <a:r>
              <a:rPr b="1" i="1" lang="ru-RU" sz="4000" spc="-1" strike="noStrike">
                <a:solidFill>
                  <a:srgbClr val="3b812f"/>
                </a:solidFill>
                <a:latin typeface="Georgia"/>
              </a:rPr>
              <a:t>с  разными  знаками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4 + (- 7 )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4"/>
          <p:cNvGrpSpPr/>
          <p:nvPr/>
        </p:nvGrpSpPr>
        <p:grpSpPr>
          <a:xfrm>
            <a:off x="250920" y="3068640"/>
            <a:ext cx="8569080" cy="914400"/>
            <a:chOff x="250920" y="3068640"/>
            <a:chExt cx="8569080" cy="914400"/>
          </a:xfrm>
        </p:grpSpPr>
        <p:sp>
          <p:nvSpPr>
            <p:cNvPr id="380" name="Rectangle 5"/>
            <p:cNvSpPr/>
            <p:nvPr/>
          </p:nvSpPr>
          <p:spPr>
            <a:xfrm>
              <a:off x="250920" y="306864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6"/>
            <p:cNvSpPr/>
            <p:nvPr/>
          </p:nvSpPr>
          <p:spPr>
            <a:xfrm>
              <a:off x="684360" y="350064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7"/>
            <p:cNvSpPr/>
            <p:nvPr/>
          </p:nvSpPr>
          <p:spPr>
            <a:xfrm>
              <a:off x="97164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8"/>
            <p:cNvSpPr/>
            <p:nvPr/>
          </p:nvSpPr>
          <p:spPr>
            <a:xfrm>
              <a:off x="169236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9"/>
            <p:cNvSpPr/>
            <p:nvPr/>
          </p:nvSpPr>
          <p:spPr>
            <a:xfrm>
              <a:off x="241128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10"/>
            <p:cNvSpPr/>
            <p:nvPr/>
          </p:nvSpPr>
          <p:spPr>
            <a:xfrm>
              <a:off x="313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1"/>
            <p:cNvSpPr/>
            <p:nvPr/>
          </p:nvSpPr>
          <p:spPr>
            <a:xfrm>
              <a:off x="385128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2"/>
            <p:cNvSpPr/>
            <p:nvPr/>
          </p:nvSpPr>
          <p:spPr>
            <a:xfrm>
              <a:off x="457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13"/>
            <p:cNvSpPr/>
            <p:nvPr/>
          </p:nvSpPr>
          <p:spPr>
            <a:xfrm>
              <a:off x="529272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4"/>
            <p:cNvSpPr/>
            <p:nvPr/>
          </p:nvSpPr>
          <p:spPr>
            <a:xfrm>
              <a:off x="601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5"/>
            <p:cNvSpPr/>
            <p:nvPr/>
          </p:nvSpPr>
          <p:spPr>
            <a:xfrm>
              <a:off x="673272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16"/>
            <p:cNvSpPr/>
            <p:nvPr/>
          </p:nvSpPr>
          <p:spPr>
            <a:xfrm>
              <a:off x="745164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17"/>
            <p:cNvSpPr/>
            <p:nvPr/>
          </p:nvSpPr>
          <p:spPr>
            <a:xfrm>
              <a:off x="817236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Text Box 18"/>
          <p:cNvSpPr/>
          <p:nvPr/>
        </p:nvSpPr>
        <p:spPr>
          <a:xfrm>
            <a:off x="7237800" y="2924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20"/>
          <p:cNvSpPr/>
          <p:nvPr/>
        </p:nvSpPr>
        <p:spPr>
          <a:xfrm>
            <a:off x="7380360" y="342900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21"/>
          <p:cNvSpPr/>
          <p:nvPr/>
        </p:nvSpPr>
        <p:spPr>
          <a:xfrm>
            <a:off x="2411280" y="2924280"/>
            <a:ext cx="5007240" cy="536400"/>
          </a:xfrm>
          <a:custGeom>
            <a:avLst/>
            <a:gdLst>
              <a:gd name="textAreaLeft" fmla="*/ 0 w 5007240"/>
              <a:gd name="textAreaRight" fmla="*/ 5007600 w 5007240"/>
              <a:gd name="textAreaTop" fmla="*/ 0 h 536400"/>
              <a:gd name="textAreaBottom" fmla="*/ 536760 h 536400"/>
            </a:gdLst>
            <a:ahLst/>
            <a:rect l="textAreaLeft" t="textAreaTop" r="textAreaRight" b="textAreaBottom"/>
            <a:pathLst>
              <a:path w="3154" h="338">
                <a:moveTo>
                  <a:pt x="3154" y="338"/>
                </a:moveTo>
                <a:cubicBezTo>
                  <a:pt x="3006" y="297"/>
                  <a:pt x="2517" y="147"/>
                  <a:pt x="2258" y="91"/>
                </a:cubicBezTo>
                <a:cubicBezTo>
                  <a:pt x="1999" y="35"/>
                  <a:pt x="1827" y="0"/>
                  <a:pt x="1600" y="0"/>
                </a:cubicBezTo>
                <a:cubicBezTo>
                  <a:pt x="1373" y="0"/>
                  <a:pt x="1163" y="35"/>
                  <a:pt x="896" y="91"/>
                </a:cubicBezTo>
                <a:cubicBezTo>
                  <a:pt x="629" y="147"/>
                  <a:pt x="187" y="287"/>
                  <a:pt x="0" y="33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2"/>
          <p:cNvSpPr/>
          <p:nvPr/>
        </p:nvSpPr>
        <p:spPr>
          <a:xfrm>
            <a:off x="2197440" y="2924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3"/>
          <p:cNvSpPr/>
          <p:nvPr/>
        </p:nvSpPr>
        <p:spPr>
          <a:xfrm>
            <a:off x="4645080" y="2349360"/>
            <a:ext cx="5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24" descr="CRCTR013"/>
          <p:cNvPicPr/>
          <p:nvPr/>
        </p:nvPicPr>
        <p:blipFill>
          <a:blip r:embed="rId1"/>
          <a:stretch/>
        </p:blipFill>
        <p:spPr>
          <a:xfrm>
            <a:off x="6300720" y="4005360"/>
            <a:ext cx="1909800" cy="29527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5" descr="CRCTR013"/>
          <p:cNvPicPr/>
          <p:nvPr/>
        </p:nvPicPr>
        <p:blipFill>
          <a:blip r:embed="rId2"/>
          <a:stretch/>
        </p:blipFill>
        <p:spPr>
          <a:xfrm flipH="1">
            <a:off x="900000" y="3933720"/>
            <a:ext cx="1873440" cy="295272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26"/>
          <p:cNvSpPr/>
          <p:nvPr/>
        </p:nvSpPr>
        <p:spPr>
          <a:xfrm>
            <a:off x="5508720" y="1557360"/>
            <a:ext cx="50328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90751E-006 L -0.55121 0.00162 E">
                                      <p:cBhvr>
                                        <p:cTn id="168" dur="20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енуся</dc:creator>
  <dc:description/>
  <dc:language>en-US</dc:language>
  <cp:lastModifiedBy>Лена</cp:lastModifiedBy>
  <dcterms:modified xsi:type="dcterms:W3CDTF">2024-03-04T14:22:03Z</dcterms:modified>
  <cp:revision>10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