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6AB-0302-401D-AF94-0DA41D23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898-DE0F-47C1-A018-DC6D89C3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788-B245-4887-9ED3-E12C3B9C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2FA-3AEB-4A79-A23E-2E680D1D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1136-8783-44C0-8C5A-CC1D9620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33EB-0FA0-4899-809E-9FCF1AB3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40A8-E25D-4FD2-8862-486B81E3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D4FA-5A84-45F2-9895-51378F8B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49E1-BACD-4B0D-955D-DF7A7831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86CE-A51F-462E-A43F-28F00CAF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0DA7-E013-4267-943A-A46CCD9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B6F-B9D0-4C04-99EF-D0C9455F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7D28-C43D-40B0-8025-B152C3E5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2B4E-733E-4C7A-A66C-CC6662C7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9AD8-ECC9-45CD-9516-DC877108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73F3-7C1C-485A-92AD-7E4A8160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B025-A9BA-4F2E-A935-0A7873ED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7AF-D16A-4702-A588-8BFA8263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130-C02F-4F31-A345-63C32422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4BC-4337-431E-8CB1-D256F380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B45-0AAA-4BA2-AFD2-6EA3D00A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C62-9861-4AF8-9FCD-3DF282E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7A3-5CCD-46E3-9256-F5432962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E08-C1BE-4440-8AB8-A05B4180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FF88-2416-4D34-B605-E7304BE5703F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124F-55EF-4253-A98A-66627FEB40BB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82560" y="2133720"/>
            <a:ext cx="785196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973640" y="6811920"/>
            <a:ext cx="11523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ffffff"/>
                </a:solidFill>
                <a:latin typeface="Times New Roman"/>
              </a:rPr>
              <a:t>Й</a:t>
            </a: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УТИ РЕШ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Реорганизация собственной жизни, значительную часть которой раньше занимала забота о ребенк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Учет психологических особенностей подрос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ход  от контроля к установлению доверительных отно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УТИ РЕШ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Реорганизация собственной жизни, значительную часть которой раньше занимала забота о ребенк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Учет психологических особенностей подрос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ход  от контроля к установлению доверительных отно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8200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 Black"/>
              </a:rPr>
              <a:t>РЕКОМЕНДАЦИИ РОДИТЕЛЯМ ПОДРОСТКОВ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 Подросток не терпит сюсюканья и фальши. Если стоя к нему спиной, беседуя по телефону или вечерами занимаясь «работой, прихваченной с работы», вы спрашиваете у него», как дела?», то ответ услышите такой же — из-за плеча, пустой и ничего не значащ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 Не обижайтесь на невнимание и вечную занятость подрост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е расспрашивайте ни о чем с пристрастием, раздражительностью и осуждением, особенно когда чувствуете ответное напряжение и отпор. Подождите немного, пока эмоции успокоя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 Black"/>
              </a:rPr>
              <a:t>РЕКОМЕНДАЦИИ РОДИТЕЛЯМ ПОДРОСТКОВ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. Делитесь с подростком своими план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Хвалите подростка чаще. За мелочи, за намерения, за решения. Критиковать, конечно, нужно, но делать это стоит в меру и только находясь в эмоционально спокойном состоян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. Не удивляйтесь неожиданным интересам подрост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7. Уважайте личное пространство подростка. Не заходите к нему на страницу в социальной сети без его ведома, не просматривайте его личные вещи, дневник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69800" y="1481040"/>
            <a:ext cx="822960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682560" y="1847880"/>
            <a:ext cx="7851960" cy="2400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73640" y="6811920"/>
            <a:ext cx="11523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ffffff"/>
                </a:solidFill>
                <a:latin typeface="Times New Roman"/>
              </a:rPr>
              <a:t>Й</a:t>
            </a: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1680" y="404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ЗМЕНЕНИЯ ТЕ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едовольство внешность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частые смены настроения, раздражитель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утомляем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нижение самооцен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475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ЗМЕНЕНИЕ МЫШЛ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сширение временной перспектив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живание физической и интеллектуальной равности взрослом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ЗМЕНЕНИЕ В СИСТЕМЕ ОТНОШ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оздание собственной системы ценностей через сравнение ценностей родительской семьи и внешних ценност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едущая деятельность подросткового возраста – общение со сверстник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ЧЕГО ХОТЯТ ПОДРОСТ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но ходить куда-либ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ыбирать развлеч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ыбирать с кем быть, чему учить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споряжаться деньг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8200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 Black"/>
              </a:rPr>
              <a:t>ПРИЧИНЫ КОНФЛИКТОВ МЕЖДУ РОДИТЕЛЯМИ И ПОДРОСТКАМ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внешний вид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отношение к учеб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отсутствие интересов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выбор друзей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593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д подростком стоит задача укрепления веры в себя и ответа на вопрос «Кто я?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днако встречаясь с критикой со стороны родителей, обесцениванием того, что для него важно и значимо, подросток будет искать принятия в среде сверст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одителям, которые испытывают трудности  в отношениях с подростком важно помнить, что подобные проблемы встречаются  в жизни почти всех родите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актически каждый родитель сталкивается с переживанием озабоченности, беспомощности, чувства вины и стыда,  общаясь со своими детьми-подростк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5:08:48Z</dcterms:created>
  <dc:creator>Лена</dc:creator>
  <dc:description/>
  <dc:language>en-US</dc:language>
  <cp:lastModifiedBy>Lena</cp:lastModifiedBy>
  <dcterms:modified xsi:type="dcterms:W3CDTF">2017-11-22T08:27:52Z</dcterms:modified>
  <cp:revision>13</cp:revision>
  <dc:subject/>
  <dc:title>ПРАВИЛА.</dc:title>
</cp:coreProperties>
</file>