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A9F-4BE0-4A00-B2E4-6FFFD2DD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9D1-06CC-4538-B0F6-C9BD54D2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E36-6B67-4367-8483-310BA5FA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4F4-AD93-4827-A0FC-956D4394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5468-8264-424B-A53C-48943A4A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ACB6-77D8-4069-BB49-7F951592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F3F6-2AF7-4F60-A5ED-D205705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E8CA-43EA-42B6-BB1E-F189628E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4715-5643-4D33-AC7A-3E425642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78AC-E3FD-4A8D-8F11-F095FE94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53EE-175D-44F4-8451-CC6975B7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650-4FC5-4560-A255-87B7FD6D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BDB4-FF70-4B87-B2E1-76B5394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E5E1-650E-4A98-BA4C-C46841C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0FB-74C0-4223-A8B1-476B3995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CB37-89F6-4D61-AC20-78950DD3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69E5-F9C3-44A4-A5C0-7E48B1D9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178-FB2D-4EE5-B65B-3E468B8A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897-C71E-4DFE-862A-F474AF1B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242-9E42-468D-81C8-2FEB3CC0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46A-A3E8-4AD3-A632-2674C9E2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AC8-F8AA-4EB4-B61E-2F713DD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AF8-3739-486E-8E8E-DFEB7EFB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577-5EB7-4E54-9191-54694B8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E286-9772-4D79-94A9-B4522717ADB7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4954-0338-4943-A14B-BBD8656B3131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2133720"/>
            <a:ext cx="785196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973640" y="6811920"/>
            <a:ext cx="11523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ffffff"/>
                </a:solidFill>
                <a:latin typeface="Times New Roman"/>
              </a:rPr>
              <a:t>Й</a:t>
            </a: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УТИ РЕШ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Реорганизация собственной жизни, значительную часть которой раньше занимала забота о ребенк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Учет психологических особенностей подрос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ход  от контроля к установлению доверительных отно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УТИ РЕШ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Реорганизация собственной жизни, значительную часть которой раньше занимала забота о ребенк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Учет психологических особенностей подрос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ход  от контроля к установлению доверительных отно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820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Black"/>
              </a:rPr>
              <a:t>РЕКОМЕНДАЦИИ РОДИТЕЛЯМ ПОДРОСТКОВ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 Подросток не терпит сюсюканья и фальши. Если стоя к нему спиной, беседуя по телефону или вечерами занимаясь «работой, прихваченной с работы», вы спрашиваете у него», как дела?», то ответ услышите такой же — из-за плеча, пустой и ничего не значащ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 Не обижайтесь на невнимание и вечную занятость подрост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е расспрашивайте ни о чем с пристрастием, раздражительностью и осуждением, особенно когда чувствуете ответное напряжение и отпор. Подождите немного, пока эмоции успокоя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 Black"/>
              </a:rPr>
              <a:t>РЕКОМЕНДАЦИИ РОДИТЕЛЯМ ПОДРОСТКОВ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. Делитесь с подростком своими план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Хвалите подростка чаще. За мелочи, за намерения, за решения. Критиковать, конечно, нужно, но делать это стоит в меру и только находясь в эмоционально спокойном состоян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. Не удивляйтесь неожиданным интересам подрост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7. Уважайте личное пространство подростка. Не заходите к нему на страницу в социальной сети без его ведома, не просматривайте его личные вещи, дневник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69800" y="1481040"/>
            <a:ext cx="822960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682560" y="1847880"/>
            <a:ext cx="7851960" cy="2400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73640" y="6811920"/>
            <a:ext cx="11523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ffffff"/>
                </a:solidFill>
                <a:latin typeface="Times New Roman"/>
              </a:rPr>
              <a:t>Й</a:t>
            </a: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168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Я ТЕ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едовольство внешност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частые смены настроения, раздражитель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утомляем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нижение самооцен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475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Е МЫШЛ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сширение временной перспектив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живание физической и интеллектуальной равности взрослом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Е В СИСТЕМЕ ОТНОШ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оздание собственной системы ценностей через сравнение ценностей родительской семьи и внешних ценност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едущая деятельность подросткового возраста – общение со сверстник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ЧЕГО ХОТЯТ ПОДРОСТ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но ходить куда-либ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бирать развле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бирать с кем быть, чему учить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споряжаться деньг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820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 Black"/>
              </a:rPr>
              <a:t>ПРИЧИНЫ КОНФЛИКТОВ МЕЖДУ РОДИТЕЛЯМИ И ПОДРОСТКАМ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внешний вид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отношение к учеб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отсутствие интересов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выбор друзей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593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д подростком стоит задача укрепления веры в себя и ответа на вопрос «Кто я?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днако встречаясь с критикой со стороны родителей, обесцениванием того, что для него важно и значимо, подросток будет искать принятия в среде сверст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одителям, которые испытывают трудности  в отношениях с подростком важно помнить, что подобные проблемы встречаются  в жизни почти всех родите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актически каждый родитель сталкивается с переживанием озабоченности, беспомощности, чувства вины и стыда,  общаясь со своими детьми-подростк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5:08:48Z</dcterms:created>
  <dc:creator>Лена</dc:creator>
  <dc:description/>
  <dc:language>en-US</dc:language>
  <cp:lastModifiedBy>Lena</cp:lastModifiedBy>
  <dcterms:modified xsi:type="dcterms:W3CDTF">2017-11-22T08:27:52Z</dcterms:modified>
  <cp:revision>13</cp:revision>
  <dc:subject/>
  <dc:title>ПРАВИЛА.</dc:title>
</cp:coreProperties>
</file>