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94D-9A9D-4D1B-AD3D-79E115D7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8E2-185F-4474-979D-CEDEE06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2FF-5301-4A98-8D04-03A34921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E59-F6A3-446B-955E-7B9B4A05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3CF-DCEA-4077-899E-0315B12F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1CE1-54AD-448F-871A-8DBBF5A5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9879-125D-4CC7-B30D-CDDD1939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43E-D6B7-4E78-B9C0-8E3300C6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AAE8-CF36-4142-86EF-B23B606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5447-FB90-49A8-8D36-BC8179E0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D10B-A82C-4515-9945-6F5D597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832-030C-45AB-97EC-FFC3B9DF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EA9C-9699-47A0-A28D-7F1399B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8068-D5E0-49F4-9A3E-53BCD8C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5AF-E1ED-4029-8E8B-7FD1E048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B817-5826-48B2-B595-D8AB5FCF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2237-F7F8-4B19-8831-355EDAF5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C7A-3C70-49C3-B7EA-A271FC0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B15-9D01-4BCD-A583-C2749E9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44F-6386-4EE9-8D91-B125FD1E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12A-3F84-4149-8C67-DDBC412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2AA-C921-46F9-A841-B107284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E3A-EDC1-498A-917F-1331756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53D-0567-43ED-893F-C2AD027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DBD2-2BB4-4DCC-818D-F99BFA34B078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E99A-C18C-42E7-AF49-6A4FA061E1B7}" type="slidenum">
              <a:rPr b="0" lang="ru-RU" sz="1200" spc="-1" strike="noStrike">
                <a:solidFill>
                  <a:srgbClr val="bcbcb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2133720"/>
            <a:ext cx="785196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УТИ РЕШ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Реорганизация собственной жизни, значительную часть которой раньше занимала забота о ребенк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. Учет психологических особенностей подрос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ход  от контроля к установлению доверительных отно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Подросток не терпит сюсюканья и фальши. Если стоя к нему спиной, беседуя по телефону или вечерами занимаясь «работой, прихваченной с работы», вы спрашиваете у него», как дела?», то ответ услышите такой же — из-за плеча, пустой и ничего не значащ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 Не обижайтесь на невнимание и вечную занятость подрост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 расспрашивайте ни о чем с пристрастием, раздражительностью и осуждением, особенно когда чувствуете ответное напряжение и отпор. Подождите немного, пока эмоции успокоя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 Black"/>
              </a:rPr>
              <a:t>РЕКОМЕНДАЦИИ РОДИТЕЛЯМ ПОДРОСТКОВ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Делитесь с подростком своими план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Хвалите подростка чаще. За мелочи, за намерения, за решения. Критиковать, конечно, нужно, но делать это стоит в меру и только находясь в эмоционально спокойном состоян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. Не удивляйтесь неожиданным интересам подрост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7. Уважайте личное пространство подростка. Не заходите к нему на страницу в социальной сети без его ведома, не просматривайте его личные вещи, дневник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1481040"/>
            <a:ext cx="82296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682560" y="1847880"/>
            <a:ext cx="7851960" cy="2400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973640" y="6811920"/>
            <a:ext cx="11523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16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Я ТЕ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едовольство внеш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частые смены настроения, раздражитель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утомляем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нижение самооцен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475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МЫШЛ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ширение временной перспектив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живание физической и интеллектуальной равности взрослом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ИЗМЕНЕНИЕ В СИСТЕМЕ ОТНОШ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оздание собственной системы ценностей через сравнение ценностей родительской семьи и внешних ценност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едущая деятельность подросткового возраста – общение со сверстни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ЧЕГО ХОТЯТ ПОДРОСТ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бодно ходить куда-либ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развле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бирать с кем быть, чему учить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споряжаться деньг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820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ПРИЧИНЫ КОНФЛИКТОВ МЕЖДУ РОДИТЕЛЯМИ И ПОДРОСТКАМ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нешний вид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ношение к учеб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отсутствие интересов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выбор друзей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593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ед подростком стоит задача укрепления веры в себя и ответа на вопрос «Кто я?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днако встречаясь с критикой со стороны родителей, обесцениванием того, что для него важно и значимо, подросток будет искать принятия в среде сверст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596880" y="189000"/>
            <a:ext cx="104760" cy="360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8200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одителям, которые испытывают трудности  в отношениях с подростком важно помнить, что подобные проблемы встречаются  в жизни почти всех родител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актически каждый родитель сталкивается с переживанием озабоченности, беспомощности, чувства вины и стыда,  общаясь со своими детьми-подростк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5:08:48Z</dcterms:created>
  <dc:creator>Лена</dc:creator>
  <dc:description/>
  <dc:language>en-US</dc:language>
  <cp:lastModifiedBy>Lena</cp:lastModifiedBy>
  <dcterms:modified xsi:type="dcterms:W3CDTF">2017-11-22T08:27:52Z</dcterms:modified>
  <cp:revision>13</cp:revision>
  <dc:subject/>
  <dc:title>ПРАВИЛА.</dc:title>
</cp:coreProperties>
</file>