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724-03B3-4160-957C-2324CFC2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47B-8586-42CE-B60C-02023BE6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9CB-7DC6-4CA4-8200-8012FBF4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DF5-4BDE-4BC3-B7DA-F06A570C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1FE-598E-4CFD-8029-496B16E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679-F7FB-473D-A1FE-80CD1931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90-25FA-42EA-ABCB-F3948544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81D-AC25-4462-9D78-130E4F0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3E5-9AD6-48DB-9CD0-961A7FDA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C88-B399-4ABD-8665-9BBBF88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9A8-2CB4-450E-9D61-50F934D3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C42-67CB-4DA3-B9F7-B00A117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5BE-3BBF-4EEC-928E-1FCCEE29A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40;&#1083;&#1105;&#1096;&#1080;&#1085;&#1086;_(&#1057;&#1072;&#1089;&#1086;&#1074;&#1089;&#1082;&#1080;&#1081;_&#1088;&#1072;&#1081;&#1086;&#1085;)" TargetMode="External"/><Relationship Id="rId3" Type="http://schemas.openxmlformats.org/officeDocument/2006/relationships/hyperlink" Target="https://ru.wikipedia.org/wiki/&#1057;&#1072;&#1089;&#1086;&#1074;&#1089;&#1082;&#1080;&#1081;_&#1088;&#1072;&#1081;&#1086;&#1085;" TargetMode="External"/><Relationship Id="rId4" Type="http://schemas.openxmlformats.org/officeDocument/2006/relationships/hyperlink" Target="https://ru.wikipedia.org/wiki/&#1056;&#1103;&#1079;&#1072;&#1085;&#1089;&#1082;&#1072;&#1103;_&#1086;&#1073;&#1083;&#1072;&#1089;&#1090;&#1100;" TargetMode="External"/><Relationship Id="rId5" Type="http://schemas.openxmlformats.org/officeDocument/2006/relationships/hyperlink" Target="https://ru.wikipedia.org/wiki/1941_&#1075;&#1086;&#1076;" TargetMode="External"/><Relationship Id="rId6" Type="http://schemas.openxmlformats.org/officeDocument/2006/relationships/hyperlink" Target="https://ru.wikipedia.org/wiki/&#1052;&#1086;&#1089;&#1082;&#1086;&#1074;&#1089;&#1082;&#1072;&#1103;_&#1086;&#1073;&#1083;&#1072;&#1089;&#1090;&#1100;" TargetMode="External"/><Relationship Id="rId7" Type="http://schemas.openxmlformats.org/officeDocument/2006/relationships/hyperlink" Target="https://ru.wikipedia.org/wiki/&#1041;&#1086;&#1083;&#1096;&#1077;&#1074;&#1086;_(&#1089;&#1090;&#1072;&#1085;&#1094;&#1080;&#1103;)" TargetMode="External"/><Relationship Id="rId8" Type="http://schemas.openxmlformats.org/officeDocument/2006/relationships/hyperlink" Target="https://ru.wikipedia.org/wiki/&#1042;&#1077;&#1083;&#1080;&#1082;&#1072;&#1103;_&#1054;&#1090;&#1077;&#1095;&#1077;&#1089;&#1090;&#1074;&#1077;&#1085;&#1085;&#1072;&#1103;_&#1074;&#1086;&#1081;&#1085;&#1072;" TargetMode="External"/><Relationship Id="rId9" Type="http://schemas.openxmlformats.org/officeDocument/2006/relationships/hyperlink" Target="https://ru.wikipedia.org/wiki/&#1056;&#1050;&#1050;&#1040;" TargetMode="External"/><Relationship Id="rId10" Type="http://schemas.openxmlformats.org/officeDocument/2006/relationships/hyperlink" Target="https://ru.wikipedia.org/wiki/1941_&#1075;&#1086;&#1076;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ru.wikipedia.org/wiki/&#1050;&#1072;&#1083;&#1080;&#1085;&#1086;&#1074;&#1077;&#1094;_(&#1056;&#1103;&#1079;&#1072;&#1085;&#1089;&#1082;&#1072;&#1103;_&#1086;&#1073;&#1083;&#1072;&#1089;&#1090;&#1100;)" TargetMode="External"/><Relationship Id="rId3" Type="http://schemas.openxmlformats.org/officeDocument/2006/relationships/hyperlink" Target="https://ru.wikipedia.org/wiki/1936_&#1075;&#1086;&#107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476280"/>
            <a:ext cx="71262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ЗЕНТАЦИЯ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«Мы гордимся вами земля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готовила : Тюменева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ткин Валерий Степано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024000" cy="36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148000" y="1557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«По страницам биограф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ерий Степанович Уткин родился в сел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Алёши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ын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Сасовского рай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Рязан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1941 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он окончил Московский инструментально-сварочный техникум. Работал сварщиком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Москов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 станции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Болше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 началом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л призван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Красную Арм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ошёл обучение на курсах младших лейтенантов. С ноября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194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на фрон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виг Уткина Валерия Степанови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67164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подвиг совершил в Белоруссии в районе деревни Святое озер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противник пошёл в контрнаступление. Рота Валерия Уткина несла большие потери. Чтобы не пропустить танки противника, Валерий Уткин с гранатами бросился под гусеницы самоходного немецкого орудия. Своей смертью остановил контрнаступление против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За совершённый подвиг Валерию Уткину было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Малышев Виктор Фёдо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288144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лся в селе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Калинове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 в семье крестьянина. Семья Малышевых была большая. Учиться Виктору долго не пришлось. В 15 лет он уже вместе со взрослыми работал в колхозе: пахал и сеял, косил и молотил хлеб. В 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1936 год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был призван в Красную Армию. Служил в Западном военном округе, был наводчиком артиллерийского орудия. Участник освободительного похода советских войск в Западную Украину и Западную Белоруссию 1939 года. После окончания срочной службы решил остаться в армии. На фронте в Великую Отечественную войну с июня 194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двиг Малышева Виктора Федорович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главный подвиг молодой командир огневого взвода совершил в 1943 году. Его взводу было приказано отразить атаку немецкой танковой колонны. Все орудия взвода Малышева были выведены из строя, осталась одна пушка. Раненый, он развернул своё орудие в сторону немецких танков. Смелый воин в этом бою успел подбить семь танков противника и, тем самым дал возможность нашим частям удержать свои позиции. В этом бою он поги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За героизм и мужество Виктору Малышеву присвоили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81304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8136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ЭЛЬДОРАДО</cp:lastModifiedBy>
  <dcterms:modified xsi:type="dcterms:W3CDTF">2024-03-03T17:36:21Z</dcterms:modified>
  <cp:revision>11</cp:revision>
  <dc:subject/>
  <dc:title>Слайд 1</dc:title>
</cp:coreProperties>
</file>