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FFE-5910-4ADA-8279-4E3E822E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F71-331A-43AD-8245-6E4E65A5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AA2-C32B-4817-A90C-2EFCA85C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8C4-74DD-4CF2-9649-905BF0EF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68E-0146-4102-9C73-2D5C9A91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B94-A32B-4526-AB2E-751495CC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9D13-F8CC-4298-9A7E-88D8FF38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ED2-22A8-48CD-AE50-0D372CBA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BCB8-5397-4F37-BB71-4E02539A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639-AAFA-4C84-892B-78E2B027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27D-477A-4692-B3F5-CCED8FD6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88D-2262-4912-90E2-89D343A4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681C-D7CB-4751-A467-A69B58590D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ru.wikipedia.org/wiki/&#1040;&#1083;&#1105;&#1096;&#1080;&#1085;&#1086;_(&#1057;&#1072;&#1089;&#1086;&#1074;&#1089;&#1082;&#1080;&#1081;_&#1088;&#1072;&#1081;&#1086;&#1085;)" TargetMode="External"/><Relationship Id="rId3" Type="http://schemas.openxmlformats.org/officeDocument/2006/relationships/hyperlink" Target="https://ru.wikipedia.org/wiki/&#1057;&#1072;&#1089;&#1086;&#1074;&#1089;&#1082;&#1080;&#1081;_&#1088;&#1072;&#1081;&#1086;&#1085;" TargetMode="External"/><Relationship Id="rId4" Type="http://schemas.openxmlformats.org/officeDocument/2006/relationships/hyperlink" Target="https://ru.wikipedia.org/wiki/&#1056;&#1103;&#1079;&#1072;&#1085;&#1089;&#1082;&#1072;&#1103;_&#1086;&#1073;&#1083;&#1072;&#1089;&#1090;&#1100;" TargetMode="External"/><Relationship Id="rId5" Type="http://schemas.openxmlformats.org/officeDocument/2006/relationships/hyperlink" Target="https://ru.wikipedia.org/wiki/1941_&#1075;&#1086;&#1076;" TargetMode="External"/><Relationship Id="rId6" Type="http://schemas.openxmlformats.org/officeDocument/2006/relationships/hyperlink" Target="https://ru.wikipedia.org/wiki/&#1052;&#1086;&#1089;&#1082;&#1086;&#1074;&#1089;&#1082;&#1072;&#1103;_&#1086;&#1073;&#1083;&#1072;&#1089;&#1090;&#1100;" TargetMode="External"/><Relationship Id="rId7" Type="http://schemas.openxmlformats.org/officeDocument/2006/relationships/hyperlink" Target="https://ru.wikipedia.org/wiki/&#1041;&#1086;&#1083;&#1096;&#1077;&#1074;&#1086;_(&#1089;&#1090;&#1072;&#1085;&#1094;&#1080;&#1103;)" TargetMode="External"/><Relationship Id="rId8" Type="http://schemas.openxmlformats.org/officeDocument/2006/relationships/hyperlink" Target="https://ru.wikipedia.org/wiki/&#1042;&#1077;&#1083;&#1080;&#1082;&#1072;&#1103;_&#1054;&#1090;&#1077;&#1095;&#1077;&#1089;&#1090;&#1074;&#1077;&#1085;&#1085;&#1072;&#1103;_&#1074;&#1086;&#1081;&#1085;&#1072;" TargetMode="External"/><Relationship Id="rId9" Type="http://schemas.openxmlformats.org/officeDocument/2006/relationships/hyperlink" Target="https://ru.wikipedia.org/wiki/&#1056;&#1050;&#1050;&#1040;" TargetMode="External"/><Relationship Id="rId10" Type="http://schemas.openxmlformats.org/officeDocument/2006/relationships/hyperlink" Target="https://ru.wikipedia.org/wiki/1941_&#1075;&#1086;&#1076;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s://ru.wikipedia.org/wiki/&#1050;&#1072;&#1083;&#1080;&#1085;&#1086;&#1074;&#1077;&#1094;_(&#1056;&#1103;&#1079;&#1072;&#1085;&#1089;&#1082;&#1072;&#1103;_&#1086;&#1073;&#1083;&#1072;&#1089;&#1090;&#1100;)" TargetMode="External"/><Relationship Id="rId3" Type="http://schemas.openxmlformats.org/officeDocument/2006/relationships/hyperlink" Target="https://ru.wikipedia.org/wiki/1936_&#1075;&#1086;&#1076;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476280"/>
            <a:ext cx="7126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ЕЗЕНТАЦИЯ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«Мы гордимся вами земля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6900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одготовила : Тюменева О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2843280" y="1989000"/>
            <a:ext cx="4032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Уткин Валерий Степанови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Объект 4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3024000" cy="3671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148000" y="155736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«По страницам биографи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ерий Степанович Уткин родился в селе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Алёшин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ныне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Сасовского райо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Рязан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В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1941 год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он окончил Московский инструментально-сварочный техникум. Работал сварщиком в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Москов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на станции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7"/>
              </a:rPr>
              <a:t>Болше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С началом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8"/>
              </a:rPr>
              <a:t>Великой Отечественной вой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был призван в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9"/>
              </a:rPr>
              <a:t>Красную Арми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ошёл обучение на курсах младших лейтенантов. С ноября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0"/>
              </a:rPr>
              <a:t>1941 г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на фрон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одвиг Уткина Валерия Степанови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Объект 1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3671640" cy="4248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507672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й подвиг совершил в Белоруссии в районе деревни Святое озер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десь противник пошёл в контрнаступление. Рота Валерия Уткина несла большие потери. Чтобы не пропустить танки противника, Валерий Уткин с гранатами бросился под гусеницы самоходного немецкого орудия. Своей смертью остановил контрнаступление противни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За совершённый подвиг Валерию Уткину было присвоено звание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Малышев Виктор Фёдоров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Объект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2881440" cy="3671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дился в селе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Калиновец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 в семье крестьянина. Семья Малышевых была большая. Учиться Виктору долго не пришлось. В 15 лет он уже вместе со взрослыми работал в колхозе: пахал и сеял, косил и молотил хлеб. В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1936 год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был призван в Красную Армию. Служил в Западном военном округе, был наводчиком артиллерийского орудия. Участник освободительного похода советских войск в Западную Украину и Западную Белоруссию 1939 года. После окончания срочной службы решил остаться в армии. На фронте в Великую Отечественную войну с июня 1941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Подвиг Малышева Виктора Федорович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й главный подвиг молодой командир огневого взвода совершил в 1943 году. Его взводу было приказано отразить атаку немецкой танковой колонны. Все орудия взвода Малышева были выведены из строя, осталась одна пушка. Раненый, он развернул своё орудие в сторону немецких танков. Смелый воин в этом бою успел подбить семь танков противника и, тем самым дал возможность нашим частям удержать свои позиции. В этом бою он погиб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За героизм и мужество Виктору Малышеву присвоили звание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Объект 4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2813040" cy="2019240"/>
          </a:xfrm>
          <a:prstGeom prst="rect">
            <a:avLst/>
          </a:prstGeom>
          <a:ln w="0">
            <a:noFill/>
          </a:ln>
        </p:spPr>
      </p:pic>
      <p:pic>
        <p:nvPicPr>
          <p:cNvPr id="56" name="Объект 5" descr=""/>
          <p:cNvPicPr/>
          <p:nvPr/>
        </p:nvPicPr>
        <p:blipFill>
          <a:blip r:embed="rId2"/>
          <a:stretch/>
        </p:blipFill>
        <p:spPr>
          <a:xfrm>
            <a:off x="1332000" y="3716280"/>
            <a:ext cx="2808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81360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ЭЛЬДОРАДО</cp:lastModifiedBy>
  <dcterms:modified xsi:type="dcterms:W3CDTF">2024-03-03T17:36:21Z</dcterms:modified>
  <cp:revision>11</cp:revision>
  <dc:subject/>
  <dc:title>Слайд 1</dc:title>
</cp:coreProperties>
</file>