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wmf" ContentType="image/x-wmf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0DD-C5E6-48C4-A394-84220D13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509-4FD7-4B4C-A7BE-27E33A89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47C9-17E4-45F7-B012-CF17E94C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ECE3-F508-4977-93D7-E0B82204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5365-77A5-48F1-A079-49EB0E8C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D85A-81AA-4A69-8470-409CD788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4AA2-9EC3-4B4C-A0C0-33AE31EB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EE22-4CDB-4DD1-BF47-AB2D02DE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424B-1B10-4635-8B7C-EB0F6C28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3052-D68A-4BB9-A1DE-823B2464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CA5B-A347-44CF-863B-6C9543DC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BF91-F948-4926-A433-61A6086F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0D88-3586-4087-A04C-CE953D91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8574-1393-40AB-9A73-967C3143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D426-0A44-404D-AA30-B0EB2D8F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DCCA-38B8-4A77-9D3F-8002F71D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E47C-F450-48CE-A795-2FB47322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35BE-96BD-4246-AB76-BA6B2C1B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851F-1003-41A6-B54C-0FD5D35B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D53C-2004-4ACD-B87F-CF760D4E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7DA-0A6F-4892-89D9-E941244C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4466-F0CD-4682-8708-9B2647EC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1F0F-20C2-4B26-903A-4C2AAF21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99D2-FB6B-4B3B-9CCB-482C97A6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4A5F-6E56-4946-A340-CAE8C48FB6B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02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76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76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B610-22D8-46F0-84D1-265A935D3B0F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679320"/>
            <a:ext cx="7704000" cy="32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Организация </a:t>
            </a:r>
            <a:br>
              <a:rPr sz="4000"/>
            </a:b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театрализованной деятельности </a:t>
            </a:r>
            <a:br>
              <a:rPr sz="4000"/>
            </a:b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с  детьми старшего дошкольного возрас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987640" y="4149360"/>
            <a:ext cx="430848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Выполнил воспитатель старшей группы : Кузнецова Юлия Михайлов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аправления занятий по театрализованной деятельности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684360" y="1773360"/>
            <a:ext cx="5903640" cy="1726920"/>
          </a:xfrm>
          <a:prstGeom prst="leftArrowCallout">
            <a:avLst>
              <a:gd name="adj1" fmla="val 26660"/>
              <a:gd name="adj2" fmla="val 25000"/>
              <a:gd name="adj3" fmla="val 22252"/>
              <a:gd name="adj4" fmla="val 8893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своение основ актерского мастерства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 процессе выполнения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упражнений творческого характера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684360" y="4005360"/>
            <a:ext cx="5903640" cy="1727280"/>
          </a:xfrm>
          <a:prstGeom prst="leftArrowCallout">
            <a:avLst>
              <a:gd name="adj1" fmla="val 26660"/>
              <a:gd name="adj2" fmla="val 25000"/>
              <a:gd name="adj3" fmla="val 22248"/>
              <a:gd name="adj4" fmla="val 8893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своение детьми технических приемов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характерных для различных видов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театрального искусств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мерная схема заняти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AutoShape 3"/>
          <p:cNvSpPr/>
          <p:nvPr/>
        </p:nvSpPr>
        <p:spPr>
          <a:xfrm>
            <a:off x="468360" y="1341360"/>
            <a:ext cx="6767640" cy="4896000"/>
          </a:xfrm>
          <a:prstGeom prst="foldedCorner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1.Введение в тему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оздание эмоционального настрое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2. Театрально-игровая деятельность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в разных формах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3.Эмоциональное заключение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беспечивающее успешность деятельност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риемы активизации участия детей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ыбор детьми роли по желанию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значение на главные роли наиболее робких, застенчивых дете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спределение ролей по карточка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Picture 6" descr="C:\Users\Kuzne\Desktop\IMG_20180208_102907.jpg"/>
          <p:cNvPicPr/>
          <p:nvPr/>
        </p:nvPicPr>
        <p:blipFill>
          <a:blip r:embed="rId4"/>
          <a:stretch/>
        </p:blipFill>
        <p:spPr>
          <a:xfrm>
            <a:off x="3708360" y="1413000"/>
            <a:ext cx="44229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емы развития творчеств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ворческие задания, упражн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становка проблемы или создание проблемной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здание креативного пол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юд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равила подготовки к спектаклю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50920" y="1197000"/>
            <a:ext cx="7489800" cy="2952720"/>
          </a:xfrm>
          <a:prstGeom prst="verticalScroll">
            <a:avLst>
              <a:gd name="adj" fmla="val 674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е перегружать дете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е навязывать своего мне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едоставлять всем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етям возможност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пробовать себя в разных роля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Этапы работы над спектакле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0" y="1197000"/>
            <a:ext cx="7885080" cy="5040360"/>
          </a:xfrm>
          <a:prstGeom prst="wedgeRectCallout">
            <a:avLst>
              <a:gd name="adj1" fmla="val -45148"/>
              <a:gd name="adj2" fmla="val 5969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ыбор пьесы или инсценировки, чтение, обсуждени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еление текста на эпизоды и пересказ их деть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иск музыкально-ритмического решения отдельных этюдов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оздание костюмов и декораци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бота над эпизода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епетиция отдельных картин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епетиция всей пьесы с костюмами, реквизито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ремьера спектакл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дготовка выставки рисунков детей по спектаклю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формление стенда с фотография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7d47d"/>
                </a:solidFill>
                <a:latin typeface="Arial"/>
              </a:rPr>
              <a:t>Достигнутые  умения и навыки  детей.</a:t>
            </a:r>
            <a:endParaRPr b="0" lang="en-US" sz="35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4524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меют строить простейший  диалог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меют  выразительно  прочитать текст с нужными интонациям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меют  сочинять  этюды по сказка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меют действовать согласованно, запоминают заданные поз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заимодействие с родителями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3" name="Рисунок 3" descr="PE02288_.WMF"/>
          <p:cNvPicPr/>
          <p:nvPr/>
        </p:nvPicPr>
        <p:blipFill>
          <a:blip r:embed="rId1"/>
          <a:stretch/>
        </p:blipFill>
        <p:spPr>
          <a:xfrm>
            <a:off x="3492360" y="4141800"/>
            <a:ext cx="2448000" cy="25034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36180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* Консультации на тем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«Театрально-игровая деятельность – один из самых эффективных способов коррекционного воздействия на ребенка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«Влияние пальчикового театра на развитие мелкой моторики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Информация о репертуарах детских театров город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Мастерская по изготовлению  театрального реквизит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Рисунок 15" descr="HH00546_.WMF"/>
          <p:cNvPicPr/>
          <p:nvPr/>
        </p:nvPicPr>
        <p:blipFill>
          <a:blip r:embed="rId2"/>
          <a:stretch/>
        </p:blipFill>
        <p:spPr>
          <a:xfrm>
            <a:off x="6156360" y="5516640"/>
            <a:ext cx="14400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7812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7d47d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042920" y="6507360"/>
            <a:ext cx="56404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Рисунок 3" descr="PE00685_.WMF"/>
          <p:cNvPicPr/>
          <p:nvPr/>
        </p:nvPicPr>
        <p:blipFill>
          <a:blip r:embed="rId1"/>
          <a:stretch/>
        </p:blipFill>
        <p:spPr>
          <a:xfrm>
            <a:off x="1908000" y="3357720"/>
            <a:ext cx="352764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начение театрализованной деятельност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739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Расширяются и углубляются  знания детей об окружающем мир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азвиваются</a:t>
            </a: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 психические процессы: внимание, память, восприятие, воображение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Происходит развитие различных анализаторов: зрительного, слухового, речедвигательного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Активизируется и совершенствуется словарный запас, грамматический строй речи, звукопроизношение, интонационная сторона речи, темп, выразительность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Совершенствуется моторика, координация, целенаправленность движени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Развивается эмоционально-волевая сфера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Происходит коррекция поведен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Формируется опыт поведен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Стимулируется развитие творческой, поисковой активности, самостоятельност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Актуальность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Театрализованная деятельность вносит разнообразие в жизнь ребенка в ДОУ, дарит ему радость и является одним из самых эффективных способов коррекционного воздействия на ребенка, в котором ярко проявляется  принцип обучения : учить игра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3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7d47d"/>
                </a:solidFill>
                <a:latin typeface="Arial"/>
              </a:rPr>
              <a:t>Театр - особая среда для  развития</a:t>
            </a:r>
            <a:br>
              <a:rPr sz="3100"/>
            </a:br>
            <a:r>
              <a:rPr b="1" lang="ru-RU" sz="3100" spc="-1" strike="noStrike">
                <a:solidFill>
                  <a:srgbClr val="f7d47d"/>
                </a:solidFill>
                <a:latin typeface="Arial"/>
              </a:rPr>
              <a:t> творческих  способностей детей</a:t>
            </a:r>
            <a:r>
              <a:rPr b="0" lang="ru-RU" sz="31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67564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Это ключ к нравственному развитию ребёнка, который открывает новую грань деятельности, приобщает не только к искусству мимики и жеста, но и к культуре общения. Ценность театральной деятельности в том, что она помогает детям зрительно  увидеть содержание  литературного произведения, развивает воображение, без которого невозможно полноценное восприятие художественной литератур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6660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260280"/>
            <a:ext cx="73864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С помощью театрализованной деятельности педагог побуждает ребенка к высказыванию своих мыслей, своего отношения к увиденному, что способствует развитию речевых возможностей и способностей детей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5" descr="C:\Users\Kuzne\Desktop\IMG_20180208_120218.jpg"/>
          <p:cNvPicPr/>
          <p:nvPr/>
        </p:nvPicPr>
        <p:blipFill>
          <a:blip r:embed="rId2"/>
          <a:stretch/>
        </p:blipFill>
        <p:spPr>
          <a:xfrm>
            <a:off x="3527280" y="3633840"/>
            <a:ext cx="42483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3024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цесс развития речи предполагает освоение не только содержательной, но и образной, эмоциональной стороны реч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5" descr="C:\Users\Kuzne\Desktop\IMG_20180208_120659.jpg"/>
          <p:cNvPicPr/>
          <p:nvPr/>
        </p:nvPicPr>
        <p:blipFill>
          <a:blip r:embed="rId2"/>
          <a:stretch/>
        </p:blipFill>
        <p:spPr>
          <a:xfrm>
            <a:off x="2530440" y="3081240"/>
            <a:ext cx="4554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-576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691920"/>
            <a:ext cx="60372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ля развития выразительной стороны речи, необходимо создание таких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условий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, в которых каждый ребенок мог бы проявить свои эмоции, чувства, желания и взгляды, причем не только в обычном разговоре, но и публично, не стесняясь присутствия посторонних слушателе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5" descr="C:\Users\Kuzne\Desktop\IMG_20180208_115402.jpg"/>
          <p:cNvPicPr/>
          <p:nvPr/>
        </p:nvPicPr>
        <p:blipFill>
          <a:blip r:embed="rId2"/>
          <a:stretch/>
        </p:blipFill>
        <p:spPr>
          <a:xfrm>
            <a:off x="2664000" y="3141720"/>
            <a:ext cx="448596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Задачи работы по развитию театрализованной деятельности детей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3860280"/>
            <a:ext cx="738648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1. Совершенствование познавательных процессов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2. Развитие всех компонентов, функций и форм речевой деятельност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3. Развитие творческих способностей  и творческой самостоятельности дошкольник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4.Воспитание интереса к различным видам творческой деятельност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5.Овладение импровизационными умения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5" descr="C:\Users\Kuzne\Desktop\IMG_20180208_120520.jpg"/>
          <p:cNvPicPr/>
          <p:nvPr/>
        </p:nvPicPr>
        <p:blipFill>
          <a:blip r:embed="rId6"/>
          <a:stretch/>
        </p:blipFill>
        <p:spPr>
          <a:xfrm>
            <a:off x="179280" y="1052640"/>
            <a:ext cx="7488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Формы работы 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9640" y="981000"/>
            <a:ext cx="738684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еседа о театр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ворческие упражне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еатрализованные игр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движные игр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оведение спектакле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6" descr="C:\Users\Kuzne\Desktop\IMG_20180208_121351.jpg"/>
          <p:cNvPicPr/>
          <p:nvPr/>
        </p:nvPicPr>
        <p:blipFill>
          <a:blip r:embed="rId6"/>
          <a:stretch/>
        </p:blipFill>
        <p:spPr>
          <a:xfrm>
            <a:off x="324000" y="3213000"/>
            <a:ext cx="720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1:17:13Z</dcterms:created>
  <dc:creator>390</dc:creator>
  <dc:description/>
  <dc:language>en-US</dc:language>
  <cp:lastModifiedBy>Юлия Кузнецова</cp:lastModifiedBy>
  <dcterms:modified xsi:type="dcterms:W3CDTF">2018-02-26T17:08:21Z</dcterms:modified>
  <cp:revision>24</cp:revision>
  <dc:subject/>
  <dc:title>Организация  театрализованной деятельности  с  детьми старшего дошкольного возраста</dc:title>
</cp:coreProperties>
</file>