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wmf" ContentType="image/x-wmf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D6DD-A006-470A-9F51-300181B1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7F36-F7DE-4A82-BE8E-144F2EF8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E02E-53C6-44F2-8AAB-EBFC963A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F5D0-919D-4907-952A-39AE0E7C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98E3-F2B7-4766-ABA9-7805695A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49AE-FC78-4B4F-B411-3A7A96B3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E353-06EC-46B8-B02D-145E3374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70B8-87E6-4581-AB52-26730E16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81E7-14E6-4239-892C-FCA21BD0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D3C6-5324-460A-842A-7452195C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C292-DDB8-421B-86C4-B0FCAE46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0036-1B6B-42FF-89F3-9A667084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3AE9-11DB-4CF3-87B8-EF596B9A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CA34-977C-4BFF-841B-E0468025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83B5-154E-4772-8368-E0EA464C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A369-E122-414F-AF15-853D7837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1AFC-ACB4-4DF3-AB91-0498566A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4627-725F-4BA8-86EE-E889C878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D6C4-6D4C-446D-8B63-1DAD6506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39FF-B80E-41BF-BF64-F11EB7E7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58EC-DC8C-49E4-BF14-D6C88A63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B37B-0AF9-44A8-97BC-B5FD09FE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BEE9-2204-4FE5-9839-19D8CE17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3B22-B7E2-476B-9E2A-918DCF5E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4776-CE6B-448F-91F1-EAD63FF9E81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020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760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76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D05C-6F2E-40B0-8DAE-13F9229D09C6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679320"/>
            <a:ext cx="7704000" cy="32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Организация </a:t>
            </a:r>
            <a:br>
              <a:rPr sz="4000"/>
            </a:b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театрализованной деятельности </a:t>
            </a:r>
            <a:br>
              <a:rPr sz="4000"/>
            </a:b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с  детьми старшего дошкольного возрас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987640" y="4149360"/>
            <a:ext cx="430848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Выполнил воспитатель старшей группы : Кузнецова Юлия Михайлов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Направления занятий по театрализованной деятельности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684360" y="1773360"/>
            <a:ext cx="5903640" cy="1726920"/>
          </a:xfrm>
          <a:prstGeom prst="leftArrowCallout">
            <a:avLst>
              <a:gd name="adj1" fmla="val 26660"/>
              <a:gd name="adj2" fmla="val 25000"/>
              <a:gd name="adj3" fmla="val 22252"/>
              <a:gd name="adj4" fmla="val 8893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своение основ актерского мастерства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 процессе выполнения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упражнений творческого характера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684360" y="4005360"/>
            <a:ext cx="5903640" cy="1727280"/>
          </a:xfrm>
          <a:prstGeom prst="leftArrowCallout">
            <a:avLst>
              <a:gd name="adj1" fmla="val 26660"/>
              <a:gd name="adj2" fmla="val 25000"/>
              <a:gd name="adj3" fmla="val 22248"/>
              <a:gd name="adj4" fmla="val 8893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своение детьми технических приемов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характерных для различных видов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театрального искусств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имерная схема заняти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AutoShape 3"/>
          <p:cNvSpPr/>
          <p:nvPr/>
        </p:nvSpPr>
        <p:spPr>
          <a:xfrm>
            <a:off x="468360" y="1341360"/>
            <a:ext cx="6767640" cy="4896000"/>
          </a:xfrm>
          <a:prstGeom prst="foldedCorner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1.Введение в тему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оздание эмоционального настрое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2. Театрально-игровая деятельность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в разных формах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3.Эмоциональное заключение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беспечивающее успешность деятельност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риемы активизации участия детей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ыбор детьми роли по желанию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значение на главные роли наиболее робких, застенчивых дете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спределение ролей по карточка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Picture 6" descr="C:\Users\Kuzne\Desktop\IMG_20180208_102907.jpg"/>
          <p:cNvPicPr/>
          <p:nvPr/>
        </p:nvPicPr>
        <p:blipFill>
          <a:blip r:embed="rId4"/>
          <a:stretch/>
        </p:blipFill>
        <p:spPr>
          <a:xfrm>
            <a:off x="3708360" y="1413000"/>
            <a:ext cx="44229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иемы развития творчеств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ворческие задания, упражн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становка проблемы или создание проблемной ситу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здание креативного пол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юд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равила подготовки к спектаклю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250920" y="1197000"/>
            <a:ext cx="7489800" cy="2952720"/>
          </a:xfrm>
          <a:prstGeom prst="verticalScroll">
            <a:avLst>
              <a:gd name="adj" fmla="val 674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е перегружать дете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е навязывать своего мнен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едоставлять всем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етям возможност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пробовать себя в разных роля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Этапы работы над спектакле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0" y="1197000"/>
            <a:ext cx="7885080" cy="5040360"/>
          </a:xfrm>
          <a:prstGeom prst="wedgeRectCallout">
            <a:avLst>
              <a:gd name="adj1" fmla="val -45148"/>
              <a:gd name="adj2" fmla="val 5969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ыбор пьесы или инсценировки, чтение, обсуждени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Деление текста на эпизоды и пересказ их детьм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иск музыкально-ритмического решения отдельных этюдов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оздание костюмов и декораций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абота над эпизодам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епетиция отдельных картин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епетиция всей пьесы с костюмами, реквизитом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ремьера спектакл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дготовка выставки рисунков детей по спектаклю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формление стенда с фотографиям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7d47d"/>
                </a:solidFill>
                <a:latin typeface="Arial"/>
              </a:rPr>
              <a:t>Достигнутые  умения и навыки  детей.</a:t>
            </a:r>
            <a:endParaRPr b="0" lang="en-US" sz="35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4524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меют строить простейший  диалог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меют  выразительно  прочитать текст с нужными интонациям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меют  сочинять  этюды по сказка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меют действовать согласованно, запоминают заданные поз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заимодействие с родителями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3" name="Рисунок 3" descr="PE02288_.WMF"/>
          <p:cNvPicPr/>
          <p:nvPr/>
        </p:nvPicPr>
        <p:blipFill>
          <a:blip r:embed="rId1"/>
          <a:stretch/>
        </p:blipFill>
        <p:spPr>
          <a:xfrm>
            <a:off x="3492360" y="4141800"/>
            <a:ext cx="2448000" cy="25034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36180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* Консультации на тем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«Театрально-игровая деятельность – один из самых эффективных способов коррекционного воздействия на ребенка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«Влияние пальчикового театра на развитие мелкой моторики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Информация о репертуарах детских театров город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Мастерская по изготовлению  театрального реквизит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Рисунок 15" descr="HH00546_.WMF"/>
          <p:cNvPicPr/>
          <p:nvPr/>
        </p:nvPicPr>
        <p:blipFill>
          <a:blip r:embed="rId2"/>
          <a:stretch/>
        </p:blipFill>
        <p:spPr>
          <a:xfrm>
            <a:off x="6156360" y="5516640"/>
            <a:ext cx="144000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7812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7d47d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042920" y="6507360"/>
            <a:ext cx="56404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Рисунок 3" descr="PE00685_.WMF"/>
          <p:cNvPicPr/>
          <p:nvPr/>
        </p:nvPicPr>
        <p:blipFill>
          <a:blip r:embed="rId1"/>
          <a:stretch/>
        </p:blipFill>
        <p:spPr>
          <a:xfrm>
            <a:off x="1908000" y="3357720"/>
            <a:ext cx="352764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начение театрализованной деятельност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739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Расширяются и углубляются  знания детей об окружающем мир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Развиваются</a:t>
            </a: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 психические процессы: внимание, память, восприятие, воображение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Происходит развитие различных анализаторов: зрительного, слухового, речедвигательного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Активизируется и совершенствуется словарный запас, грамматический строй речи, звукопроизношение, интонационная сторона речи, темп, выразительность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Совершенствуется моторика, координация, целенаправленность движени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Развивается эмоционально-волевая сфера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Происходит коррекция поведен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Формируется опыт поведен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Стимулируется развитие творческой, поисковой активности, самостоятельност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Актуальность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Театрализованная деятельность вносит разнообразие в жизнь ребенка в ДОУ, дарит ему радость и является одним из самых эффективных способов коррекционного воздействия на ребенка, в котором ярко проявляется  принцип обучения : учить игра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3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7d47d"/>
                </a:solidFill>
                <a:latin typeface="Arial"/>
              </a:rPr>
              <a:t>Театр - особая среда для  развития</a:t>
            </a:r>
            <a:br>
              <a:rPr sz="3100"/>
            </a:br>
            <a:r>
              <a:rPr b="1" lang="ru-RU" sz="3100" spc="-1" strike="noStrike">
                <a:solidFill>
                  <a:srgbClr val="f7d47d"/>
                </a:solidFill>
                <a:latin typeface="Arial"/>
              </a:rPr>
              <a:t> творческих  способностей детей</a:t>
            </a:r>
            <a:r>
              <a:rPr b="0" lang="ru-RU" sz="31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675648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Это ключ к нравственному развитию ребёнка, который открывает новую грань деятельности, приобщает не только к искусству мимики и жеста, но и к культуре общения. Ценность театральной деятельности в том, что она помогает детям зрительно  увидеть содержание  литературного произведения, развивает воображение, без которого невозможно полноценное восприятие художественной литературы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6660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260280"/>
            <a:ext cx="73864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С помощью театрализованной деятельности педагог побуждает ребенка к высказыванию своих мыслей, своего отношения к увиденному, что способствует развитию речевых возможностей и способностей детей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5" descr="C:\Users\Kuzne\Desktop\IMG_20180208_120218.jpg"/>
          <p:cNvPicPr/>
          <p:nvPr/>
        </p:nvPicPr>
        <p:blipFill>
          <a:blip r:embed="rId2"/>
          <a:stretch/>
        </p:blipFill>
        <p:spPr>
          <a:xfrm>
            <a:off x="3527280" y="3633840"/>
            <a:ext cx="42483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3024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цесс развития речи предполагает освоение не только содержательной, но и образной, эмоциональной стороны реч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Picture 5" descr="C:\Users\Kuzne\Desktop\IMG_20180208_120659.jpg"/>
          <p:cNvPicPr/>
          <p:nvPr/>
        </p:nvPicPr>
        <p:blipFill>
          <a:blip r:embed="rId2"/>
          <a:stretch/>
        </p:blipFill>
        <p:spPr>
          <a:xfrm>
            <a:off x="2530440" y="3081240"/>
            <a:ext cx="4554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-576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691920"/>
            <a:ext cx="60372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Для развития выразительной стороны речи, необходимо создание таких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условий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, в которых каждый ребенок мог бы проявить свои эмоции, чувства, желания и взгляды, причем не только в обычном разговоре, но и публично, не стесняясь присутствия посторонних слушателе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Picture 5" descr="C:\Users\Kuzne\Desktop\IMG_20180208_115402.jpg"/>
          <p:cNvPicPr/>
          <p:nvPr/>
        </p:nvPicPr>
        <p:blipFill>
          <a:blip r:embed="rId2"/>
          <a:stretch/>
        </p:blipFill>
        <p:spPr>
          <a:xfrm>
            <a:off x="2664000" y="3141720"/>
            <a:ext cx="448596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Задачи работы по развитию театрализованной деятельности детей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3860280"/>
            <a:ext cx="738648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1. Совершенствование познавательных процессов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2. Развитие всех компонентов, функций и форм речевой деятельност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3. Развитие творческих способностей  и творческой самостоятельности дошкольник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4.Воспитание интереса к различным видам творческой деятельност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5.Овладение импровизационными умениям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Picture 5" descr="C:\Users\Kuzne\Desktop\IMG_20180208_120520.jpg"/>
          <p:cNvPicPr/>
          <p:nvPr/>
        </p:nvPicPr>
        <p:blipFill>
          <a:blip r:embed="rId6"/>
          <a:stretch/>
        </p:blipFill>
        <p:spPr>
          <a:xfrm>
            <a:off x="179280" y="1052640"/>
            <a:ext cx="7488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Формы работы 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99640" y="981000"/>
            <a:ext cx="738684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еседа о театр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ворческие упражне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еатрализованные игр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движные игр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оведение спектакле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6" descr="C:\Users\Kuzne\Desktop\IMG_20180208_121351.jpg"/>
          <p:cNvPicPr/>
          <p:nvPr/>
        </p:nvPicPr>
        <p:blipFill>
          <a:blip r:embed="rId6"/>
          <a:stretch/>
        </p:blipFill>
        <p:spPr>
          <a:xfrm>
            <a:off x="324000" y="3213000"/>
            <a:ext cx="7200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1:17:13Z</dcterms:created>
  <dc:creator>390</dc:creator>
  <dc:description/>
  <dc:language>en-US</dc:language>
  <cp:lastModifiedBy>Юлия Кузнецова</cp:lastModifiedBy>
  <dcterms:modified xsi:type="dcterms:W3CDTF">2018-02-26T17:08:21Z</dcterms:modified>
  <cp:revision>24</cp:revision>
  <dc:subject/>
  <dc:title>Организация  театрализованной деятельности  с  детьми старшего дошкольного возраста</dc:title>
</cp:coreProperties>
</file>