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B9C-B0C4-49A8-BA0D-50D4C427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C7D-70FB-4C96-B56F-2819209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10A-8057-457D-89F3-E1C61AEE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352-C3F0-4B9D-A068-9584F03A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CB8-EBC3-4CB0-9B9C-C7B8C212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499-9477-4EA5-BDA9-28F5A6B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C853-E020-4C42-94C9-D5966631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4E17-1BA0-4BD3-8591-A027385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EAB1-CA63-47B8-A904-70F7AB1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39E6-49FC-49DB-9D98-FBCD74B8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CFBC-E667-47CA-AAFF-2EE6277E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D79-F29B-423B-BFEB-1FFF6DE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2303-7B41-4427-AB72-106BBA3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4466-4F8B-45EE-AF3B-AFD23F1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069-D63B-4654-9040-18FF8CA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941A-67B3-4BBF-81F4-F6D1F515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1213-AA5B-43F0-AEC7-283A56EF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115-E7DA-4789-88D1-F3A09A2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49F-F0E5-4DAA-8EFD-E4510BF1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A14-E26A-4F85-B697-5BE8B038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749-456D-48E0-89B8-1AD65AD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4CB-50DA-4D91-BB4D-46AA13B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505-740A-490D-840C-2610828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18B-8D5E-458C-B320-CFE48D2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FEFA-13FC-44C2-9292-6637F2D36E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2422-A79E-48FA-88F6-0DCC448DBB3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79320"/>
            <a:ext cx="7704000" cy="32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еатрализован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  детьми старшего дошкольного возра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87640" y="4149360"/>
            <a:ext cx="430848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ыполнил воспитатель старшей группы : Кузнецова Юлия Михай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правления занятий по театрализованной деятельност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4360" y="1773360"/>
            <a:ext cx="5903640" cy="1726920"/>
          </a:xfrm>
          <a:prstGeom prst="leftArrowCallout">
            <a:avLst>
              <a:gd name="adj1" fmla="val 26660"/>
              <a:gd name="adj2" fmla="val 25000"/>
              <a:gd name="adj3" fmla="val 22252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основ актерского мастерств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процессе выполне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пражнений творческого характера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684360" y="4005360"/>
            <a:ext cx="5903640" cy="1727280"/>
          </a:xfrm>
          <a:prstGeom prst="leftArrowCallout">
            <a:avLst>
              <a:gd name="adj1" fmla="val 26660"/>
              <a:gd name="adj2" fmla="val 25000"/>
              <a:gd name="adj3" fmla="val 22248"/>
              <a:gd name="adj4" fmla="val 8893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своение детьми технических прием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арактерных для различных вид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еатрального искусст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мерная схема занят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468360" y="1341360"/>
            <a:ext cx="6767640" cy="489600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.Введение в те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здание эмоционального настро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Театрально-игровая деятельнос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в разных формах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Эмоциональное заключени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еспечивающее успешность деятель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емы активизации участия детей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бор детьми роли по желан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значение на главные роли наиболее робких, застенчивых дет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пределение ролей по карточ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6" descr="C:\Users\Kuzne\Desktop\IMG_20180208_102907.jpg"/>
          <p:cNvPicPr/>
          <p:nvPr/>
        </p:nvPicPr>
        <p:blipFill>
          <a:blip r:embed="rId4"/>
          <a:stretch/>
        </p:blipFill>
        <p:spPr>
          <a:xfrm>
            <a:off x="3708360" y="1413000"/>
            <a:ext cx="4422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емы развития творчеств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кие задания, упраж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становка проблемы или создание проблем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ние креативного по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ю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вила подготовки к спектаклю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50920" y="1197000"/>
            <a:ext cx="7489800" cy="2952720"/>
          </a:xfrm>
          <a:prstGeom prst="verticalScroll">
            <a:avLst>
              <a:gd name="adj" fmla="val 674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перегружать дет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 навязывать своего мн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доставлять все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етям возможнос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пробовать себя в разных рол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апы работы над спектакле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0" y="1197000"/>
            <a:ext cx="7885080" cy="5040360"/>
          </a:xfrm>
          <a:prstGeom prst="wedgeRectCallout">
            <a:avLst>
              <a:gd name="adj1" fmla="val -45148"/>
              <a:gd name="adj2" fmla="val 5969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бор пьесы или инсценировки, чтение, обсужде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ление текста на эпизоды и пересказ их деть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иск музыкально-ритмического решения отдельных этюд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здание костюмов и декорац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бота над эпизод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отдельных карт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петиция всей пьесы с костюмами, реквизит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емьера спектак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готовка выставки рисунков детей по спектаклю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формление стенда с фотограф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7d47d"/>
                </a:solidFill>
                <a:latin typeface="Arial"/>
              </a:rPr>
              <a:t>Достигнутые  умения и навыки  детей.</a:t>
            </a:r>
            <a:endParaRPr b="0" lang="en-US" sz="3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524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строить простейший  диалог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выразительно  прочитать текст с нужными интонаци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 сочинять  этюды по сказк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ют действовать согласованно, запоминают заданные поз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заимодействие с родителям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3" descr="PE02288_.WMF"/>
          <p:cNvPicPr/>
          <p:nvPr/>
        </p:nvPicPr>
        <p:blipFill>
          <a:blip r:embed="rId1"/>
          <a:stretch/>
        </p:blipFill>
        <p:spPr>
          <a:xfrm>
            <a:off x="3492360" y="4141800"/>
            <a:ext cx="2448000" cy="2503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618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* Консультации на те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Театрально-игровая деятельность – один из самых эффективных способов коррекционного воздействия на ребенк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Влияние пальчикового театра на развитие мелкой моторики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нформация о репертуарах детских театров город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астерская по изготовлению  театрального реквизи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Рисунок 15" descr="HH00546_.WMF"/>
          <p:cNvPicPr/>
          <p:nvPr/>
        </p:nvPicPr>
        <p:blipFill>
          <a:blip r:embed="rId2"/>
          <a:stretch/>
        </p:blipFill>
        <p:spPr>
          <a:xfrm>
            <a:off x="6156360" y="5516640"/>
            <a:ext cx="1440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78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d47d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2920" y="6507360"/>
            <a:ext cx="564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Рисунок 3" descr="PE00685_.WMF"/>
          <p:cNvPicPr/>
          <p:nvPr/>
        </p:nvPicPr>
        <p:blipFill>
          <a:blip r:embed="rId1"/>
          <a:stretch/>
        </p:blipFill>
        <p:spPr>
          <a:xfrm>
            <a:off x="1908000" y="3357720"/>
            <a:ext cx="35276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театрализованной деятель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739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сширяются и углубляются  знания детей об окружающем ми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звиваются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 психические процессы: внимание, память, восприятие, воображение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развитие различных анализаторов: зрительного, слухового, речедвигательного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Активизируется и совершенствуется словарный запас, грамматический строй речи, звукопроизношение, интонационная сторона речи, темп, выразительность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овершенствуется моторика, координация, целенаправленность движен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Развивается эмоционально-волевая сфер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Происходит коррекция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Формируется опыт поведен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Стимулируется развитие творческой, поисковой активности, самостоятельно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еатрализованная деятельность вносит разнообразие в жизнь ребенка в ДОУ, дарит ему радость и является одним из самых эффективных способов коррекционного воздействия на ребенка, в котором ярко проявляется  принцип обучения : учить игр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Театр - особая среда для  развития</a:t>
            </a:r>
            <a:br>
              <a:rPr sz="3100"/>
            </a:br>
            <a:r>
              <a:rPr b="1" lang="ru-RU" sz="3100" spc="-1" strike="noStrike">
                <a:solidFill>
                  <a:srgbClr val="f7d47d"/>
                </a:solidFill>
                <a:latin typeface="Arial"/>
              </a:rPr>
              <a:t> творческих  способностей детей</a:t>
            </a:r>
            <a:r>
              <a:rPr b="0" lang="ru-RU" sz="31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6756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то ключ к нравственному развитию ребёнка, который открывает новую грань деятельности, приобщает не только к искусству мимики и жеста, но и к культуре общения. Ценность театральной деятельности в том, что она помогает детям зрительно  увидеть содержание  литературного произведения, развивает воображение, без которого невозможно полноценное восприятие художественной литератур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6660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6028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 помощью театрализованной деятельности педагог побуждает ребенка к высказыванию своих мыслей, своего отношения к увиденному, что способствует развитию речевых возможностей и способностей дет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C:\Users\Kuzne\Desktop\IMG_20180208_120218.jpg"/>
          <p:cNvPicPr/>
          <p:nvPr/>
        </p:nvPicPr>
        <p:blipFill>
          <a:blip r:embed="rId2"/>
          <a:stretch/>
        </p:blipFill>
        <p:spPr>
          <a:xfrm>
            <a:off x="3527280" y="3633840"/>
            <a:ext cx="4248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3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цесс развития речи предполагает освоение не только содержательной, но и образной, эмоциональной стороны реч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5" descr="C:\Users\Kuzne\Desktop\IMG_20180208_120659.jpg"/>
          <p:cNvPicPr/>
          <p:nvPr/>
        </p:nvPicPr>
        <p:blipFill>
          <a:blip r:embed="rId2"/>
          <a:stretch/>
        </p:blipFill>
        <p:spPr>
          <a:xfrm>
            <a:off x="2530440" y="3081240"/>
            <a:ext cx="455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691920"/>
            <a:ext cx="60372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ля развития выразительной стороны речи, необходимо создание таких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словий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в которых каждый ребенок мог бы проявить свои эмоции, чувства, желания и взгляды, причем не только в обычном разговоре, но и публично, не стесняясь присутствия посторонних слушателе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C:\Users\Kuzne\Desktop\IMG_20180208_115402.jpg"/>
          <p:cNvPicPr/>
          <p:nvPr/>
        </p:nvPicPr>
        <p:blipFill>
          <a:blip r:embed="rId2"/>
          <a:stretch/>
        </p:blipFill>
        <p:spPr>
          <a:xfrm>
            <a:off x="2664000" y="3141720"/>
            <a:ext cx="44859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Задачи работы по развитию театрализованной деятельности детей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3860280"/>
            <a:ext cx="738648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1. Совершенствование познавательных процесс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. Развитие всех компонентов, функций и форм речев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. Развитие творческих способностей  и творческой самостоятельности дошкольник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.Воспитание интереса к различным видам творческой деятель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5.Овладение импровизационными умения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5" descr="C:\Users\Kuzne\Desktop\IMG_20180208_120520.jpg"/>
          <p:cNvPicPr/>
          <p:nvPr/>
        </p:nvPicPr>
        <p:blipFill>
          <a:blip r:embed="rId6"/>
          <a:stretch/>
        </p:blipFill>
        <p:spPr>
          <a:xfrm>
            <a:off x="179280" y="1052640"/>
            <a:ext cx="748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Формы работы 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386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о театр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ворческие упраж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атрализован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вижные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дение спектакл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6" descr="C:\Users\Kuzne\Desktop\IMG_20180208_121351.jpg"/>
          <p:cNvPicPr/>
          <p:nvPr/>
        </p:nvPicPr>
        <p:blipFill>
          <a:blip r:embed="rId6"/>
          <a:stretch/>
        </p:blipFill>
        <p:spPr>
          <a:xfrm>
            <a:off x="324000" y="3213000"/>
            <a:ext cx="72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1:17:13Z</dcterms:created>
  <dc:creator>390</dc:creator>
  <dc:description/>
  <dc:language>en-US</dc:language>
  <cp:lastModifiedBy>Юлия Кузнецова</cp:lastModifiedBy>
  <dcterms:modified xsi:type="dcterms:W3CDTF">2018-02-26T17:08:21Z</dcterms:modified>
  <cp:revision>24</cp:revision>
  <dc:subject/>
  <dc:title>Организация  театрализованной деятельности  с  детьми старшего дошкольного возраста</dc:title>
</cp:coreProperties>
</file>