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30.gif" ContentType="image/gif"/>
  <Override PartName="/ppt/media/image28.gif" ContentType="image/gif"/>
  <Override PartName="/ppt/media/image27.png" ContentType="image/png"/>
  <Override PartName="/ppt/media/image12.wmf" ContentType="image/x-wmf"/>
  <Override PartName="/ppt/media/image29.gif" ContentType="image/gif"/>
  <Override PartName="/ppt/media/image17.wmf" ContentType="image/x-wmf"/>
  <Override PartName="/ppt/media/image13.wmf" ContentType="image/x-wmf"/>
  <Override PartName="/ppt/media/image5.png" ContentType="image/png"/>
  <Override PartName="/ppt/media/image31.png" ContentType="image/png"/>
  <Override PartName="/ppt/media/image14.wmf" ContentType="image/x-wmf"/>
  <Override PartName="/ppt/media/image7.png" ContentType="image/png"/>
  <Override PartName="/ppt/media/image15.wmf" ContentType="image/x-wmf"/>
  <Override PartName="/ppt/media/image9.png" ContentType="image/png"/>
  <Override PartName="/ppt/media/image22.jpeg" ContentType="image/jpeg"/>
  <Override PartName="/ppt/media/image6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8.wmf" ContentType="image/x-wmf"/>
  <Override PartName="/ppt/media/image26.jpeg" ContentType="image/jpeg"/>
  <Override PartName="/ppt/media/image20.jpeg" ContentType="image/jpeg"/>
  <Override PartName="/ppt/media/image19.wmf" ContentType="image/x-wm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D6D-323B-4161-B9CF-E2E82471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F62-337F-4FE1-A2DB-1C13F26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4A7-B7FE-4AF6-BB1F-7B2CDB39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9D4-EA3D-4CA1-A333-437C49E8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39B-022E-4D57-A567-D88464FF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BC3-DFEA-428D-BC09-E80E1EDC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996F-77A0-43AD-A54F-7691675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A6F4-C0F0-461E-A2DA-5E9810C2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988A-05CF-4ED0-8F30-D4D80A86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2CC6-806F-446E-B972-0B2DB0D2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AFA1-6A3E-4D3F-8CBD-B2B9042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4C5-BB9D-455C-B925-96F411EC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0B80-9B67-4C4C-BC77-9282909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D6AA-E0F2-4E16-904C-02D30F5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D3FB-05E0-4747-8CC6-72C9771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2D0C-5145-4D96-AEE6-F47AB416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EB1-2895-4309-AE0A-AB0FFFF4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F7DD-BA85-4768-99D1-B1BDC232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4889-A707-407A-8D73-D76B4D48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72708-7D5A-4543-ABF1-E9F67FB8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405D-7635-4F2C-ACF9-F9696E1A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15C0-1347-4744-A889-71987E9D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A1B-C905-4575-ABBC-8BDF7DAF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C80F-4CB2-455E-BBE5-A4E34EB6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F905-2C26-49D3-A3BB-C2791227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5CC7-F31C-4F59-AED2-04C0515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F5CD-9E08-4491-8A05-0F7D8EC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9CB9-812C-48D7-A43E-65D0DE13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C5A7-1D4A-4F3E-9028-F4F43259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8A96-899C-42E5-B974-9DE49132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D939-902D-4925-B6C9-B1B118A7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5B6C-B1EB-4865-8FE4-824CD984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1CD2-779F-4806-9E57-F04CEC5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C3F-31E3-48E8-960E-D3B24BD7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3BE1-4C21-4C26-9F7B-F769EBF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E638-5064-4D77-8D59-C6B83E76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2282-6A2D-4F76-AF2A-89889606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7D16-7DFB-4A13-A8FF-79F168C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3A85-BFDC-40B1-BE33-9DC2516B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030C-964F-4708-89F1-0AB418B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9F0B-0FE1-41A2-B682-61E997EE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EF2D-218C-4F33-A9E3-D4EC0B6C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542A-1D64-42E2-8973-0E1F851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D77-4FAD-4526-9079-8F6F8BC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907-69C5-41B1-9BC9-CEDCDB55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E48-1774-4A68-B440-ECD0D67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E13-E947-42A9-A7B7-F1985E0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701-EACD-406B-8DAB-5CD517B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C447-D26F-465E-AF1A-0B6191447D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5E9-9E70-4FC6-88AD-DDA77A5E26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C14A-38B4-45D5-85F3-FD28E030E05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B358-AAF8-4ACB-AEA4-958B14D8404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nilka.com/images/lem_klou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395280" y="765000"/>
            <a:ext cx="8497800" cy="49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атематическая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иктори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755640" y="209700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C:\Documents and Settings\Юра\Local Settings\Temporary Internet Files\Content.IE5\WN7OIMJK\j0351349[1].wmf"/>
          <p:cNvPicPr/>
          <p:nvPr/>
        </p:nvPicPr>
        <p:blipFill>
          <a:blip r:embed="rId2"/>
          <a:stretch/>
        </p:blipFill>
        <p:spPr>
          <a:xfrm>
            <a:off x="4932360" y="1197000"/>
            <a:ext cx="1403280" cy="2592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184720" y="3391920"/>
            <a:ext cx="129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381400" y="137628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=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031920" y="5162400"/>
            <a:ext cx="446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Знаменат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495360" y="42876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Второ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395280" y="1700280"/>
            <a:ext cx="103032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П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1655640" y="1305000"/>
            <a:ext cx="3454560" cy="3803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995640" cy="25448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4500720" y="368280"/>
            <a:ext cx="4204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 Black"/>
              </a:rPr>
              <a:t>,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088080" y="5445000"/>
            <a:ext cx="29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лоск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90680" y="42876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рети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2960640" cy="22795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" descr="C:\Documents and Settings\Юра\Local Settings\Temporary Internet Files\Content.IE5\PD2XZKSC\MCj02462170000[1].wmf"/>
          <p:cNvPicPr/>
          <p:nvPr/>
        </p:nvPicPr>
        <p:blipFill>
          <a:blip r:embed="rId2"/>
          <a:stretch/>
        </p:blipFill>
        <p:spPr>
          <a:xfrm>
            <a:off x="3492360" y="1989000"/>
            <a:ext cx="3149640" cy="3279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C:\Documents and Settings\Юра\Local Settings\Temporary Internet Files\Content.IE5\WN7OIMJK\MCj01124840000[1].wmf"/>
          <p:cNvPicPr/>
          <p:nvPr/>
        </p:nvPicPr>
        <p:blipFill>
          <a:blip r:embed="rId3"/>
          <a:stretch/>
        </p:blipFill>
        <p:spPr>
          <a:xfrm>
            <a:off x="7020000" y="2133720"/>
            <a:ext cx="1771560" cy="3279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496080" y="5889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546880" y="6253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799760" y="119700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=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902040" y="5624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рез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98960" y="42876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Четверты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шестой раунд «Шуточные вопросы» </a:t>
            </a:r>
            <a:br>
              <a:rPr sz="23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3857760" cy="4800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балл за каждый правильный ответ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643200" y="1643040"/>
            <a:ext cx="5500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Шестой тур сейчас начнётс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ы немного посмеём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дут легкими вопрос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, конечно же, не очен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Картинка 64 из 7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500200"/>
            <a:ext cx="2262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15920" y="-384120"/>
            <a:ext cx="865008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3286080" y="2000160"/>
            <a:ext cx="542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дьмой раунд мы начн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нем мы спички уберем и рисуночек найд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http://detochki-doma.ru/wp-content/uploads/2013/07/zagadki-so-spichkami-27.jpg"/>
          <p:cNvPicPr/>
          <p:nvPr/>
        </p:nvPicPr>
        <p:blipFill>
          <a:blip r:embed="rId2"/>
          <a:stretch/>
        </p:blipFill>
        <p:spPr>
          <a:xfrm>
            <a:off x="214200" y="3981600"/>
            <a:ext cx="3581640" cy="28764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378612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обсуждение 3ми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 за  правильный от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седьмой раунд «Волшебные спички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Содержимое 4" descr="https://lh3.googleusercontent.com/81GSqqXB3M0aPtchBGjAkhoTGPOrv0jmCMN8esSrI7KWm2yjtiZlRv54_uRt7YYa2gaSgBdlz67nVCPoeOkILYLWG9feUNGQmiuifIeR5lWW_t7HfhzU_VteAoPDm8Ne1sPuFVtW"/>
          <p:cNvPicPr/>
          <p:nvPr/>
        </p:nvPicPr>
        <p:blipFill>
          <a:blip r:embed="rId1"/>
          <a:stretch/>
        </p:blipFill>
        <p:spPr>
          <a:xfrm>
            <a:off x="857160" y="2643120"/>
            <a:ext cx="3357720" cy="3805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https://lh6.googleusercontent.com/-NFaoFFK9M5j-61PnnEY_iVGFg7GP7XwTnbWtSUkAaMbxCHHEWl7SRVmHSwzHijmd6zbHuaQEvy37-Kc24hpW6QS8c_dlxAOC8ZcDqFsmU--kAoaS_fmWuJblAncUlX3F08fieSo"/>
          <p:cNvPicPr/>
          <p:nvPr/>
        </p:nvPicPr>
        <p:blipFill>
          <a:blip r:embed="rId2"/>
          <a:stretch/>
        </p:blipFill>
        <p:spPr>
          <a:xfrm>
            <a:off x="5715000" y="2857680"/>
            <a:ext cx="2928960" cy="3143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6072120" y="2214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285840" y="1214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Оставить четыре квадрата, убрав только ДВЕ спи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7"/>
          <p:cNvGrpSpPr/>
          <p:nvPr/>
        </p:nvGrpSpPr>
        <p:grpSpPr>
          <a:xfrm>
            <a:off x="4400640" y="1714680"/>
            <a:ext cx="4743360" cy="4868280"/>
            <a:chOff x="4400640" y="1714680"/>
            <a:chExt cx="4743360" cy="4868280"/>
          </a:xfrm>
        </p:grpSpPr>
        <p:sp>
          <p:nvSpPr>
            <p:cNvPr id="263" name="Freeform 18"/>
            <p:cNvSpPr/>
            <p:nvPr/>
          </p:nvSpPr>
          <p:spPr>
            <a:xfrm>
              <a:off x="4400640" y="1922040"/>
              <a:ext cx="4743360" cy="46609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0f6fc6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0f6fc6">
                    <a:alpha val="98039"/>
                  </a:srgbClr>
                </a:gs>
              </a:gsLst>
              <a:lin ang="0"/>
            </a:gradFill>
            <a:ln w="9360">
              <a:solidFill>
                <a:srgbClr val="0461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Group 19"/>
            <p:cNvGrpSpPr/>
            <p:nvPr/>
          </p:nvGrpSpPr>
          <p:grpSpPr>
            <a:xfrm>
              <a:off x="5058000" y="1714680"/>
              <a:ext cx="167040" cy="461160"/>
              <a:chOff x="5058000" y="1714680"/>
              <a:chExt cx="167040" cy="461160"/>
            </a:xfrm>
          </p:grpSpPr>
          <p:sp>
            <p:nvSpPr>
              <p:cNvPr id="265" name="Oval 20"/>
              <p:cNvSpPr/>
              <p:nvPr/>
            </p:nvSpPr>
            <p:spPr>
              <a:xfrm>
                <a:off x="5121000" y="2061000"/>
                <a:ext cx="5184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5058000" y="1714680"/>
                <a:ext cx="167040" cy="438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22"/>
            <p:cNvGrpSpPr/>
            <p:nvPr/>
          </p:nvGrpSpPr>
          <p:grpSpPr>
            <a:xfrm>
              <a:off x="5648760" y="1715760"/>
              <a:ext cx="171000" cy="461520"/>
              <a:chOff x="5648760" y="1715760"/>
              <a:chExt cx="171000" cy="461520"/>
            </a:xfrm>
          </p:grpSpPr>
          <p:sp>
            <p:nvSpPr>
              <p:cNvPr id="268" name="Oval 23"/>
              <p:cNvSpPr/>
              <p:nvPr/>
            </p:nvSpPr>
            <p:spPr>
              <a:xfrm>
                <a:off x="5713560" y="2062440"/>
                <a:ext cx="5220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4"/>
              <p:cNvSpPr/>
              <p:nvPr/>
            </p:nvSpPr>
            <p:spPr>
              <a:xfrm>
                <a:off x="5648760" y="1715760"/>
                <a:ext cx="17100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25"/>
            <p:cNvGrpSpPr/>
            <p:nvPr/>
          </p:nvGrpSpPr>
          <p:grpSpPr>
            <a:xfrm>
              <a:off x="6285240" y="1715760"/>
              <a:ext cx="168480" cy="461520"/>
              <a:chOff x="6285240" y="1715760"/>
              <a:chExt cx="168480" cy="461520"/>
            </a:xfrm>
          </p:grpSpPr>
          <p:sp>
            <p:nvSpPr>
              <p:cNvPr id="271" name="Oval 26"/>
              <p:cNvSpPr/>
              <p:nvPr/>
            </p:nvSpPr>
            <p:spPr>
              <a:xfrm>
                <a:off x="6348600" y="2062440"/>
                <a:ext cx="5220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7"/>
              <p:cNvSpPr/>
              <p:nvPr/>
            </p:nvSpPr>
            <p:spPr>
              <a:xfrm>
                <a:off x="6285240" y="1715760"/>
                <a:ext cx="16848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8"/>
            <p:cNvGrpSpPr/>
            <p:nvPr/>
          </p:nvGrpSpPr>
          <p:grpSpPr>
            <a:xfrm>
              <a:off x="6916680" y="1715760"/>
              <a:ext cx="168480" cy="461520"/>
              <a:chOff x="6916680" y="1715760"/>
              <a:chExt cx="168480" cy="461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698364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30"/>
              <p:cNvSpPr/>
              <p:nvPr/>
            </p:nvSpPr>
            <p:spPr>
              <a:xfrm>
                <a:off x="6916680" y="1715760"/>
                <a:ext cx="16848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7476480" y="1715760"/>
              <a:ext cx="177840" cy="461520"/>
              <a:chOff x="7476480" y="1715760"/>
              <a:chExt cx="177840" cy="461520"/>
            </a:xfrm>
          </p:grpSpPr>
          <p:sp>
            <p:nvSpPr>
              <p:cNvPr id="277" name="Oval 32"/>
              <p:cNvSpPr/>
              <p:nvPr/>
            </p:nvSpPr>
            <p:spPr>
              <a:xfrm>
                <a:off x="754344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33"/>
              <p:cNvSpPr/>
              <p:nvPr/>
            </p:nvSpPr>
            <p:spPr>
              <a:xfrm>
                <a:off x="7476480" y="1715760"/>
                <a:ext cx="17784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34"/>
            <p:cNvGrpSpPr/>
            <p:nvPr/>
          </p:nvGrpSpPr>
          <p:grpSpPr>
            <a:xfrm>
              <a:off x="8110440" y="1715760"/>
              <a:ext cx="177840" cy="461520"/>
              <a:chOff x="8110440" y="1715760"/>
              <a:chExt cx="177840" cy="461520"/>
            </a:xfrm>
          </p:grpSpPr>
          <p:sp>
            <p:nvSpPr>
              <p:cNvPr id="280" name="Oval 35"/>
              <p:cNvSpPr/>
              <p:nvPr/>
            </p:nvSpPr>
            <p:spPr>
              <a:xfrm>
                <a:off x="817740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36"/>
              <p:cNvSpPr/>
              <p:nvPr/>
            </p:nvSpPr>
            <p:spPr>
              <a:xfrm>
                <a:off x="8110440" y="1715760"/>
                <a:ext cx="17784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Freeform 37"/>
            <p:cNvSpPr/>
            <p:nvPr/>
          </p:nvSpPr>
          <p:spPr>
            <a:xfrm>
              <a:off x="7910280" y="3355920"/>
              <a:ext cx="271080" cy="2852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852640"/>
                <a:gd name="textAreaBottom" fmla="*/ 2853000 h 2852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6809760" y="4077360"/>
              <a:ext cx="421560" cy="22464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39"/>
            <p:cNvSpPr/>
            <p:nvPr/>
          </p:nvSpPr>
          <p:spPr>
            <a:xfrm>
              <a:off x="5648760" y="4826160"/>
              <a:ext cx="422640" cy="155520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555200"/>
                <a:gd name="textAreaBottom" fmla="*/ 1555560 h 15552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8702280" y="1714680"/>
              <a:ext cx="181800" cy="461160"/>
              <a:chOff x="8702280" y="1714680"/>
              <a:chExt cx="181800" cy="461160"/>
            </a:xfrm>
          </p:grpSpPr>
          <p:sp>
            <p:nvSpPr>
              <p:cNvPr id="286" name="Oval 41"/>
              <p:cNvSpPr/>
              <p:nvPr/>
            </p:nvSpPr>
            <p:spPr>
              <a:xfrm>
                <a:off x="8769960" y="2061000"/>
                <a:ext cx="5292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42"/>
              <p:cNvSpPr/>
              <p:nvPr/>
            </p:nvSpPr>
            <p:spPr>
              <a:xfrm>
                <a:off x="8702280" y="1714680"/>
                <a:ext cx="181800" cy="438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Freeform 16"/>
          <p:cNvSpPr/>
          <p:nvPr/>
        </p:nvSpPr>
        <p:spPr>
          <a:xfrm flipH="1">
            <a:off x="4976640" y="1857240"/>
            <a:ext cx="4167360" cy="4608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248" dur="3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седьмой раунд «Волшебные спички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Содержимое 3" descr="https://lh3.googleusercontent.com/h10j5afF8BmoDOB1ILf8Fo0a_m2C1osSmR2_5Z7Yol6k_hQMBlFu5qa2mjTrqeQUhEAnxicBYN0wFz5pidJX_lZKoOsHGCblTP1cjQxVDMofqEaUE4-M_taxmA3GCdBVaDs9Vgni"/>
          <p:cNvPicPr/>
          <p:nvPr/>
        </p:nvPicPr>
        <p:blipFill>
          <a:blip r:embed="rId1"/>
          <a:stretch/>
        </p:blipFill>
        <p:spPr>
          <a:xfrm>
            <a:off x="1071720" y="2857680"/>
            <a:ext cx="3835080" cy="3454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"/>
          <p:cNvSpPr/>
          <p:nvPr/>
        </p:nvSpPr>
        <p:spPr>
          <a:xfrm>
            <a:off x="428760" y="114804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вить два равносторонних треугольника, убрав только ДВЕ спи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Рисунок 5" descr="https://lh3.googleusercontent.com/b7KRISngBRIYRmokESGfw8cyuIMR4cdiHS3VT4KGRynNOhJpz0NCkSWbKZi6lsnzMTyR8_gE2t5GmKfCE-ZV5lCuGmRySopKanGmK7fMCJl376H8HEzhuqAE-T3C9_HmsOTutHgt"/>
          <p:cNvPicPr/>
          <p:nvPr/>
        </p:nvPicPr>
        <p:blipFill>
          <a:blip r:embed="rId2"/>
          <a:stretch/>
        </p:blipFill>
        <p:spPr>
          <a:xfrm>
            <a:off x="6000840" y="3143160"/>
            <a:ext cx="2786040" cy="27576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6"/>
          <p:cNvSpPr/>
          <p:nvPr/>
        </p:nvSpPr>
        <p:spPr>
          <a:xfrm>
            <a:off x="6648480" y="25002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7"/>
          <p:cNvGrpSpPr/>
          <p:nvPr/>
        </p:nvGrpSpPr>
        <p:grpSpPr>
          <a:xfrm>
            <a:off x="4757760" y="2071800"/>
            <a:ext cx="4386240" cy="4440240"/>
            <a:chOff x="4757760" y="2071800"/>
            <a:chExt cx="4386240" cy="4440240"/>
          </a:xfrm>
        </p:grpSpPr>
        <p:sp>
          <p:nvSpPr>
            <p:cNvPr id="295" name="Freeform 18"/>
            <p:cNvSpPr/>
            <p:nvPr/>
          </p:nvSpPr>
          <p:spPr>
            <a:xfrm>
              <a:off x="4757760" y="2261160"/>
              <a:ext cx="4386240" cy="4250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0f6fc6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0f6fc6">
                    <a:alpha val="98039"/>
                  </a:srgbClr>
                </a:gs>
              </a:gsLst>
              <a:lin ang="0"/>
            </a:gradFill>
            <a:ln w="9360">
              <a:solidFill>
                <a:srgbClr val="0461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Group 19"/>
            <p:cNvGrpSpPr/>
            <p:nvPr/>
          </p:nvGrpSpPr>
          <p:grpSpPr>
            <a:xfrm>
              <a:off x="5365800" y="2071800"/>
              <a:ext cx="154440" cy="420840"/>
              <a:chOff x="5365800" y="2071800"/>
              <a:chExt cx="154440" cy="420840"/>
            </a:xfrm>
          </p:grpSpPr>
          <p:sp>
            <p:nvSpPr>
              <p:cNvPr id="297" name="Oval 20"/>
              <p:cNvSpPr/>
              <p:nvPr/>
            </p:nvSpPr>
            <p:spPr>
              <a:xfrm>
                <a:off x="5423760" y="2387880"/>
                <a:ext cx="478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1"/>
              <p:cNvSpPr/>
              <p:nvPr/>
            </p:nvSpPr>
            <p:spPr>
              <a:xfrm>
                <a:off x="5365800" y="2071800"/>
                <a:ext cx="15444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22"/>
            <p:cNvGrpSpPr/>
            <p:nvPr/>
          </p:nvGrpSpPr>
          <p:grpSpPr>
            <a:xfrm>
              <a:off x="5911920" y="2072520"/>
              <a:ext cx="158040" cy="420840"/>
              <a:chOff x="5911920" y="2072520"/>
              <a:chExt cx="158040" cy="420840"/>
            </a:xfrm>
          </p:grpSpPr>
          <p:sp>
            <p:nvSpPr>
              <p:cNvPr id="300" name="Oval 23"/>
              <p:cNvSpPr/>
              <p:nvPr/>
            </p:nvSpPr>
            <p:spPr>
              <a:xfrm>
                <a:off x="5971680" y="238860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4"/>
              <p:cNvSpPr/>
              <p:nvPr/>
            </p:nvSpPr>
            <p:spPr>
              <a:xfrm>
                <a:off x="5911920" y="2072520"/>
                <a:ext cx="15804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5"/>
            <p:cNvGrpSpPr/>
            <p:nvPr/>
          </p:nvGrpSpPr>
          <p:grpSpPr>
            <a:xfrm>
              <a:off x="6500520" y="2072520"/>
              <a:ext cx="155880" cy="420840"/>
              <a:chOff x="6500520" y="2072520"/>
              <a:chExt cx="155880" cy="420840"/>
            </a:xfrm>
          </p:grpSpPr>
          <p:sp>
            <p:nvSpPr>
              <p:cNvPr id="303" name="Oval 26"/>
              <p:cNvSpPr/>
              <p:nvPr/>
            </p:nvSpPr>
            <p:spPr>
              <a:xfrm>
                <a:off x="6559200" y="238860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>
                <a:off x="6500520" y="2072520"/>
                <a:ext cx="15588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8"/>
            <p:cNvGrpSpPr/>
            <p:nvPr/>
          </p:nvGrpSpPr>
          <p:grpSpPr>
            <a:xfrm>
              <a:off x="7084080" y="2072520"/>
              <a:ext cx="155880" cy="420840"/>
              <a:chOff x="7084080" y="2072520"/>
              <a:chExt cx="155880" cy="420840"/>
            </a:xfrm>
          </p:grpSpPr>
          <p:sp>
            <p:nvSpPr>
              <p:cNvPr id="306" name="Oval 29"/>
              <p:cNvSpPr/>
              <p:nvPr/>
            </p:nvSpPr>
            <p:spPr>
              <a:xfrm>
                <a:off x="7144200" y="2388600"/>
                <a:ext cx="4860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30"/>
              <p:cNvSpPr/>
              <p:nvPr/>
            </p:nvSpPr>
            <p:spPr>
              <a:xfrm>
                <a:off x="7084080" y="2072520"/>
                <a:ext cx="15588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31"/>
            <p:cNvGrpSpPr/>
            <p:nvPr/>
          </p:nvGrpSpPr>
          <p:grpSpPr>
            <a:xfrm>
              <a:off x="7602120" y="2072520"/>
              <a:ext cx="164160" cy="420840"/>
              <a:chOff x="7602120" y="2072520"/>
              <a:chExt cx="164160" cy="420840"/>
            </a:xfrm>
          </p:grpSpPr>
          <p:sp>
            <p:nvSpPr>
              <p:cNvPr id="309" name="Oval 32"/>
              <p:cNvSpPr/>
              <p:nvPr/>
            </p:nvSpPr>
            <p:spPr>
              <a:xfrm>
                <a:off x="7665480" y="2388600"/>
                <a:ext cx="496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33"/>
              <p:cNvSpPr/>
              <p:nvPr/>
            </p:nvSpPr>
            <p:spPr>
              <a:xfrm>
                <a:off x="7602120" y="2072520"/>
                <a:ext cx="16416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4"/>
            <p:cNvGrpSpPr/>
            <p:nvPr/>
          </p:nvGrpSpPr>
          <p:grpSpPr>
            <a:xfrm>
              <a:off x="8188560" y="2072520"/>
              <a:ext cx="164160" cy="420840"/>
              <a:chOff x="8188560" y="2072520"/>
              <a:chExt cx="164160" cy="420840"/>
            </a:xfrm>
          </p:grpSpPr>
          <p:sp>
            <p:nvSpPr>
              <p:cNvPr id="312" name="Oval 35"/>
              <p:cNvSpPr/>
              <p:nvPr/>
            </p:nvSpPr>
            <p:spPr>
              <a:xfrm>
                <a:off x="8249400" y="2388600"/>
                <a:ext cx="478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>
                <a:off x="8188560" y="2072520"/>
                <a:ext cx="16416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Freeform 37"/>
            <p:cNvSpPr/>
            <p:nvPr/>
          </p:nvSpPr>
          <p:spPr>
            <a:xfrm>
              <a:off x="8003160" y="3568680"/>
              <a:ext cx="250920" cy="26013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601360"/>
                <a:gd name="textAreaBottom" fmla="*/ 2601720 h 260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38"/>
            <p:cNvSpPr/>
            <p:nvPr/>
          </p:nvSpPr>
          <p:spPr>
            <a:xfrm>
              <a:off x="6985440" y="4226400"/>
              <a:ext cx="389880" cy="204876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048760"/>
                <a:gd name="textAreaBottom" fmla="*/ 2049120 h 20487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39"/>
            <p:cNvSpPr/>
            <p:nvPr/>
          </p:nvSpPr>
          <p:spPr>
            <a:xfrm>
              <a:off x="5911920" y="4909680"/>
              <a:ext cx="390960" cy="1418400"/>
            </a:xfrm>
            <a:custGeom>
              <a:avLst/>
              <a:gdLst>
                <a:gd name="textAreaLeft" fmla="*/ 0 w 390960"/>
                <a:gd name="textAreaRight" fmla="*/ 391320 w 390960"/>
                <a:gd name="textAreaTop" fmla="*/ 0 h 1418400"/>
                <a:gd name="textAreaBottom" fmla="*/ 1418760 h 1418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Group 40"/>
            <p:cNvGrpSpPr/>
            <p:nvPr/>
          </p:nvGrpSpPr>
          <p:grpSpPr>
            <a:xfrm>
              <a:off x="8735760" y="2071800"/>
              <a:ext cx="168120" cy="420840"/>
              <a:chOff x="8735760" y="2071800"/>
              <a:chExt cx="168120" cy="420840"/>
            </a:xfrm>
          </p:grpSpPr>
          <p:sp>
            <p:nvSpPr>
              <p:cNvPr id="318" name="Oval 41"/>
              <p:cNvSpPr/>
              <p:nvPr/>
            </p:nvSpPr>
            <p:spPr>
              <a:xfrm>
                <a:off x="8797320" y="238788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8735760" y="2071800"/>
                <a:ext cx="16812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Freeform 16"/>
          <p:cNvSpPr/>
          <p:nvPr/>
        </p:nvSpPr>
        <p:spPr>
          <a:xfrm flipH="1">
            <a:off x="4572000" y="2214720"/>
            <a:ext cx="4572000" cy="7128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272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Восьмой раунд «Конкурс музыкальный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5072040" y="12729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есню - 1 бал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6" descr="http://cards.infan.ru/img/c/0/000003.gif"/>
          <p:cNvPicPr/>
          <p:nvPr/>
        </p:nvPicPr>
        <p:blipFill>
          <a:blip r:embed="rId2"/>
          <a:stretch/>
        </p:blipFill>
        <p:spPr>
          <a:xfrm>
            <a:off x="1214280" y="1643040"/>
            <a:ext cx="53578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24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Девятый раунд «Кто быстрее отгадает загадку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785600" y="2356920"/>
            <a:ext cx="51246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вятый раунд открыв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адку быстро отгад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Хоть загадка и труд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месте  справимся всег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5591160" y="1214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вильный ответ 5 бал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357120" y="1285920"/>
            <a:ext cx="7500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т закончилась игр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езультат узнать пор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Кто же лучше всех трудилс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 викторине отличилс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4" descr="http://forumsmile.ru/u/8/3/b/83b2dc114d1749585ad41c7e52259f5d.gif"/>
          <p:cNvPicPr/>
          <p:nvPr/>
        </p:nvPicPr>
        <p:blipFill>
          <a:blip r:embed="rId1"/>
          <a:stretch/>
        </p:blipFill>
        <p:spPr>
          <a:xfrm>
            <a:off x="6000840" y="428760"/>
            <a:ext cx="3143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ЕРВЫЙ раунд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редставление команд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71280" y="2199960"/>
            <a:ext cx="67942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ервый конкурс начинае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ве команды представля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340000" y="181368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аксимальный балл - 3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Documents and Settings\user\Рабочий стол\рисунок.gif"/>
          <p:cNvPicPr/>
          <p:nvPr/>
        </p:nvPicPr>
        <p:blipFill>
          <a:blip r:embed="rId1"/>
          <a:stretch/>
        </p:blipFill>
        <p:spPr>
          <a:xfrm>
            <a:off x="0" y="55440"/>
            <a:ext cx="5643720" cy="6802560"/>
          </a:xfrm>
          <a:prstGeom prst="rect">
            <a:avLst/>
          </a:prstGeom>
          <a:ln w="0">
            <a:noFill/>
          </a:ln>
        </p:spPr>
      </p:pic>
      <p:grpSp>
        <p:nvGrpSpPr>
          <p:cNvPr id="331" name="Прямоугольник 3"/>
          <p:cNvGrpSpPr/>
          <p:nvPr/>
        </p:nvGrpSpPr>
        <p:grpSpPr>
          <a:xfrm>
            <a:off x="6534000" y="-30240"/>
            <a:ext cx="963720" cy="7338960"/>
            <a:chOff x="6534000" y="-30240"/>
            <a:chExt cx="963720" cy="7338960"/>
          </a:xfrm>
        </p:grpSpPr>
        <p:pic>
          <p:nvPicPr>
            <p:cNvPr id="33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534000" y="-30240"/>
              <a:ext cx="963720" cy="73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715080" y="0"/>
              <a:ext cx="714600" cy="71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ТОРОЙ раунд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Кто кого» (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стный счет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00120" y="2714760"/>
            <a:ext cx="628992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Второй раунд открываем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на вопросы отвечаем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Победивших, в нём узнаем.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j0286034"/>
          <p:cNvPicPr/>
          <p:nvPr/>
        </p:nvPicPr>
        <p:blipFill>
          <a:blip r:embed="rId1"/>
          <a:stretch/>
        </p:blipFill>
        <p:spPr>
          <a:xfrm>
            <a:off x="6659640" y="4941720"/>
            <a:ext cx="1800000" cy="1735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857240" y="1629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 каждый правильный ответ команда получает одно очко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796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571680" y="230004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тая часть чис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му равна четверть ча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рица на 1ой ноге весит 1,5 кг- сколько она будет весить стоя на 2х ног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. Гаусс сказал: Математика – царица всех наук, а арифметика – цариц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ее натуральное числ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285840" y="171360"/>
            <a:ext cx="8686800" cy="13892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214200" y="158148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легче: 1 кг ваты или 1 кг желе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окружности с точкой на окружно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/24 часть сут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бор для измерения углов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бсолютная величина числа. ( моду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79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1857240" y="171468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ретий раунд открыва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 художников узна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Равнобедренный треугольник 3"/>
          <p:cNvSpPr/>
          <p:nvPr/>
        </p:nvSpPr>
        <p:spPr>
          <a:xfrm>
            <a:off x="500040" y="2286000"/>
            <a:ext cx="1143000" cy="1214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43000" y="4714920"/>
            <a:ext cx="171468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Овал 5"/>
          <p:cNvSpPr/>
          <p:nvPr/>
        </p:nvSpPr>
        <p:spPr>
          <a:xfrm>
            <a:off x="3429000" y="3500280"/>
            <a:ext cx="2643120" cy="2428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6357960" y="2928960"/>
            <a:ext cx="1357200" cy="571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Шестиугольник 7"/>
          <p:cNvSpPr/>
          <p:nvPr/>
        </p:nvSpPr>
        <p:spPr>
          <a:xfrm>
            <a:off x="7643880" y="4500720"/>
            <a:ext cx="1357200" cy="1714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3464280" y="1285920"/>
            <a:ext cx="283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Максимальный балл - 3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Четвертый раунд: Конкурс капита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6840" y="2571480"/>
            <a:ext cx="7000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етвертый раунд  начин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питанов приглаша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ут трудные вопрос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желаем им удач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2528640" y="17146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тгадать кроссворд за 5 минут, за угаданное слово 0,5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15280" cy="15368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2"/>
          <p:cNvSpPr/>
          <p:nvPr/>
        </p:nvSpPr>
        <p:spPr>
          <a:xfrm>
            <a:off x="3571920" y="1500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 правильный ответ 2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286000" y="250020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ятый раунд открыв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ебусы сейчас мы разгадае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то смекалистей, узнае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E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642960" y="4000680"/>
            <a:ext cx="1500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4360" y="1341360"/>
            <a:ext cx="134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8000"/>
                </a:solidFill>
                <a:latin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25892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Рисунок 2" descr="C:\Documents and Settings\Юра\Local Settings\Temporary Internet Files\Content.IE5\PD2XZKSC\MCj03837840000[1].wmf"/>
          <p:cNvPicPr/>
          <p:nvPr/>
        </p:nvPicPr>
        <p:blipFill>
          <a:blip r:embed="rId1"/>
          <a:stretch/>
        </p:blipFill>
        <p:spPr>
          <a:xfrm>
            <a:off x="5403960" y="36828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5287680" y="59544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70880" y="441360"/>
            <a:ext cx="264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ff00"/>
                </a:solidFill>
                <a:latin typeface="Times New Roman"/>
              </a:rPr>
              <a:t>О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377880" y="4976640"/>
            <a:ext cx="257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оре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498600" y="42876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рвы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33:13Z</dcterms:created>
  <dc:creator>Rina&amp;Alex</dc:creator>
  <dc:description/>
  <dc:language>en-US</dc:language>
  <cp:lastModifiedBy>boxik-ooo@bk.ru</cp:lastModifiedBy>
  <dcterms:modified xsi:type="dcterms:W3CDTF">2024-03-12T08:01:04Z</dcterms:modified>
  <cp:revision>85</cp:revision>
  <dc:subject/>
  <dc:title>Математическая викторина</dc:title>
</cp:coreProperties>
</file>