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30.gif" ContentType="image/gif"/>
  <Override PartName="/ppt/media/image28.gif" ContentType="image/gif"/>
  <Override PartName="/ppt/media/image27.png" ContentType="image/png"/>
  <Override PartName="/ppt/media/image12.wmf" ContentType="image/x-wmf"/>
  <Override PartName="/ppt/media/image29.gif" ContentType="image/gif"/>
  <Override PartName="/ppt/media/image17.wmf" ContentType="image/x-wmf"/>
  <Override PartName="/ppt/media/image13.wmf" ContentType="image/x-wmf"/>
  <Override PartName="/ppt/media/image5.png" ContentType="image/png"/>
  <Override PartName="/ppt/media/image31.png" ContentType="image/png"/>
  <Override PartName="/ppt/media/image14.wmf" ContentType="image/x-wmf"/>
  <Override PartName="/ppt/media/image7.png" ContentType="image/png"/>
  <Override PartName="/ppt/media/image15.wmf" ContentType="image/x-wmf"/>
  <Override PartName="/ppt/media/image9.png" ContentType="image/png"/>
  <Override PartName="/ppt/media/image22.jpeg" ContentType="image/jpeg"/>
  <Override PartName="/ppt/media/image6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8.wmf" ContentType="image/x-wmf"/>
  <Override PartName="/ppt/media/image26.jpeg" ContentType="image/jpeg"/>
  <Override PartName="/ppt/media/image20.jpeg" ContentType="image/jpeg"/>
  <Override PartName="/ppt/media/image19.wmf" ContentType="image/x-wmf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F12-9624-4E11-8EBE-5C30CD33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CCB-F9F1-4A89-88A6-CF0B33AB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61C-7D56-4F75-85CC-A8BC408F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B70-D742-4362-B4FF-9ECB69B4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AF7D-2DCE-4FFA-A20B-C76C4C02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DCC3-3C73-4F49-85AC-70254CDF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1B04-6FAE-488A-A4E9-67C95B03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2E20-792D-4FC4-BB36-4F2030E9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3A69-2C77-4176-9B0C-D8E76A3A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5D5A-8D56-405D-B2C8-5A172642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E390-61A2-4ACB-B441-8E0F5FFF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3E0-01FC-410F-A5CB-B5876E5A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9DAA-D37D-4F33-8CC0-692935DE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E7BF-BB7F-4575-87E1-C41D0BD6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6968-19D9-4AFC-B616-FEE57B05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6E88-F311-47E4-8944-662A4BF1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7966-020A-4920-8B3B-44DC318F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19DA-D618-4595-B838-CBCAD482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7C827-0DE9-4A4B-952E-CB834D9C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8A3C-C3BE-46E1-A0BD-3B1CB121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505A-0EBE-44F8-8E1D-10CD7F2A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C4A0E-D04C-471D-9EAF-F89DF8D1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CEC-9CA9-414A-934E-E35C24CF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F29A-A849-4612-8FFF-B40F2AA4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BFD1-C2B3-4CBA-8A3D-3ECA2AF7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33FC-3FEA-4D8E-BEBC-43DA7090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8A1E-F9CE-41EE-AABC-E8BBF68E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41402-1E51-43F2-9FE6-56CF606A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8BA7-6241-478F-AF96-4C585402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04220-6CC3-470B-934B-B581D58E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FD8D5-C91B-4829-BA5F-59004F90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21885-346B-4928-B05C-37B05CBF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20C9E-CEE9-4473-B28B-0C9B6B12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086-47E6-439B-A5D3-3858EA72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23067-64A4-43FB-A9EA-BF7078C7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84B1E-AAAB-439E-9D20-E5C03B2B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FEE2-1D3B-4F8B-9832-22E06F66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3460B-3B27-40C1-B8CB-A58ACB4B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76825-7190-48BC-B41C-EAB57410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B0A83-4561-4C2F-9892-CD99D48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04135-CBD8-4300-BCA4-9DC6FEE1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E8F67-0627-4994-AEBE-B3AC559C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250EE-9ABC-4F5A-BFB6-3DF0ABA0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9EC-594D-47BA-BD2D-1BAECE27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BB7-D93B-4FCF-9943-A773218B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B60-FD4C-491E-A346-FB55203E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70E-1106-4F0F-920D-FABFE716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57C-71CE-42C9-8D83-238CBDA7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FC9B-8906-4313-8152-F274664DB18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4BA0-BE82-44E3-A557-A097AA0A42E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ABEB-087F-4E75-AC2C-7BFD0223D35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9DB4-4285-49FE-83AE-E5B564D0CFE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anilka.com/images/lem_kloun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395280" y="765000"/>
            <a:ext cx="8497800" cy="496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Математическая 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виктори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755640" y="2097000"/>
            <a:ext cx="2701800" cy="27021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" descr="C:\Documents and Settings\Юра\Local Settings\Temporary Internet Files\Content.IE5\WN7OIMJK\j0351349[1].wmf"/>
          <p:cNvPicPr/>
          <p:nvPr/>
        </p:nvPicPr>
        <p:blipFill>
          <a:blip r:embed="rId2"/>
          <a:stretch/>
        </p:blipFill>
        <p:spPr>
          <a:xfrm>
            <a:off x="4932360" y="1197000"/>
            <a:ext cx="1403280" cy="25923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184720" y="3391920"/>
            <a:ext cx="129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381400" y="1376280"/>
            <a:ext cx="11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Я=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031920" y="5162400"/>
            <a:ext cx="446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Знаменател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оугольник 6"/>
          <p:cNvSpPr/>
          <p:nvPr/>
        </p:nvSpPr>
        <p:spPr>
          <a:xfrm>
            <a:off x="495360" y="42876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Второй ребу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2"/>
          <p:cNvSpPr txBox="1"/>
          <p:nvPr/>
        </p:nvSpPr>
        <p:spPr>
          <a:xfrm>
            <a:off x="395280" y="1700280"/>
            <a:ext cx="103032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П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1655640" y="1305000"/>
            <a:ext cx="3454560" cy="38034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995640" cy="2544840"/>
          </a:xfrm>
          <a:prstGeom prst="rect">
            <a:avLst/>
          </a:prstGeom>
          <a:ln w="0">
            <a:noFill/>
          </a:ln>
        </p:spPr>
      </p:pic>
      <p:sp>
        <p:nvSpPr>
          <p:cNvPr id="238" name="WordArt 5"/>
          <p:cNvSpPr txBox="1"/>
          <p:nvPr/>
        </p:nvSpPr>
        <p:spPr>
          <a:xfrm>
            <a:off x="4500720" y="368280"/>
            <a:ext cx="42048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atin typeface="Arial Black"/>
              </a:rPr>
              <a:t>,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088080" y="5445000"/>
            <a:ext cx="293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лоск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490680" y="428760"/>
            <a:ext cx="27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ретий ребу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2960640" cy="22795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2" descr="C:\Documents and Settings\Юра\Local Settings\Temporary Internet Files\Content.IE5\PD2XZKSC\MCj02462170000[1].wmf"/>
          <p:cNvPicPr/>
          <p:nvPr/>
        </p:nvPicPr>
        <p:blipFill>
          <a:blip r:embed="rId2"/>
          <a:stretch/>
        </p:blipFill>
        <p:spPr>
          <a:xfrm>
            <a:off x="3492360" y="1989000"/>
            <a:ext cx="3149640" cy="32799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C:\Documents and Settings\Юра\Local Settings\Temporary Internet Files\Content.IE5\WN7OIMJK\MCj01124840000[1].wmf"/>
          <p:cNvPicPr/>
          <p:nvPr/>
        </p:nvPicPr>
        <p:blipFill>
          <a:blip r:embed="rId3"/>
          <a:stretch/>
        </p:blipFill>
        <p:spPr>
          <a:xfrm>
            <a:off x="7020000" y="2133720"/>
            <a:ext cx="1771560" cy="32796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496080" y="58896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546880" y="6253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7799760" y="1197000"/>
            <a:ext cx="9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=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902040" y="562464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трез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498960" y="428760"/>
            <a:ext cx="34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Четвертый ребу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шестой раунд «Шуточные вопросы» </a:t>
            </a:r>
            <a:br>
              <a:rPr sz="23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3857760" cy="4800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балл за каждый правильный ответ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643200" y="1643040"/>
            <a:ext cx="55008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Шестой тур сейчас начнётся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ы немного посмеём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удут легкими вопрос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, конечно же, не очен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Картинка 64 из 7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2500200"/>
            <a:ext cx="2262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15920" y="-384120"/>
            <a:ext cx="8650080" cy="223200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2"/>
          <p:cNvSpPr/>
          <p:nvPr/>
        </p:nvSpPr>
        <p:spPr>
          <a:xfrm>
            <a:off x="3286080" y="2000160"/>
            <a:ext cx="5429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едьмой раунд мы начне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нем мы спички уберем и рисуночек найд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2" descr="http://detochki-doma.ru/wp-content/uploads/2013/07/zagadki-so-spichkami-27.jpg"/>
          <p:cNvPicPr/>
          <p:nvPr/>
        </p:nvPicPr>
        <p:blipFill>
          <a:blip r:embed="rId2"/>
          <a:stretch/>
        </p:blipFill>
        <p:spPr>
          <a:xfrm>
            <a:off x="214200" y="3981600"/>
            <a:ext cx="3581640" cy="28764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4"/>
          <p:cNvSpPr/>
          <p:nvPr/>
        </p:nvSpPr>
        <p:spPr>
          <a:xfrm>
            <a:off x="3786120" y="121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обсуждение 3ми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 за  правильный отв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седьмой раунд «Волшебные спички»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Содержимое 4" descr="https://lh3.googleusercontent.com/81GSqqXB3M0aPtchBGjAkhoTGPOrv0jmCMN8esSrI7KWm2yjtiZlRv54_uRt7YYa2gaSgBdlz67nVCPoeOkILYLWG9feUNGQmiuifIeR5lWW_t7HfhzU_VteAoPDm8Ne1sPuFVtW"/>
          <p:cNvPicPr/>
          <p:nvPr/>
        </p:nvPicPr>
        <p:blipFill>
          <a:blip r:embed="rId1"/>
          <a:stretch/>
        </p:blipFill>
        <p:spPr>
          <a:xfrm>
            <a:off x="857160" y="2643120"/>
            <a:ext cx="3357720" cy="38052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https://lh6.googleusercontent.com/-NFaoFFK9M5j-61PnnEY_iVGFg7GP7XwTnbWtSUkAaMbxCHHEWl7SRVmHSwzHijmd6zbHuaQEvy37-Kc24hpW6QS8c_dlxAOC8ZcDqFsmU--kAoaS_fmWuJblAncUlX3F08fieSo"/>
          <p:cNvPicPr/>
          <p:nvPr/>
        </p:nvPicPr>
        <p:blipFill>
          <a:blip r:embed="rId2"/>
          <a:stretch/>
        </p:blipFill>
        <p:spPr>
          <a:xfrm>
            <a:off x="5715000" y="2857680"/>
            <a:ext cx="2928960" cy="3143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7"/>
          <p:cNvSpPr/>
          <p:nvPr/>
        </p:nvSpPr>
        <p:spPr>
          <a:xfrm>
            <a:off x="6072120" y="2214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8"/>
          <p:cNvSpPr/>
          <p:nvPr/>
        </p:nvSpPr>
        <p:spPr>
          <a:xfrm>
            <a:off x="285840" y="1214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Оставить четыре квадрата, убрав только ДВЕ спич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17"/>
          <p:cNvGrpSpPr/>
          <p:nvPr/>
        </p:nvGrpSpPr>
        <p:grpSpPr>
          <a:xfrm>
            <a:off x="4400640" y="1714680"/>
            <a:ext cx="4743360" cy="4868280"/>
            <a:chOff x="4400640" y="1714680"/>
            <a:chExt cx="4743360" cy="4868280"/>
          </a:xfrm>
        </p:grpSpPr>
        <p:sp>
          <p:nvSpPr>
            <p:cNvPr id="263" name="Freeform 18"/>
            <p:cNvSpPr/>
            <p:nvPr/>
          </p:nvSpPr>
          <p:spPr>
            <a:xfrm>
              <a:off x="4400640" y="1922040"/>
              <a:ext cx="4743360" cy="46609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0f6fc6">
                    <a:alpha val="98039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0f6fc6">
                    <a:alpha val="98039"/>
                  </a:srgbClr>
                </a:gs>
              </a:gsLst>
              <a:lin ang="0"/>
            </a:gradFill>
            <a:ln w="9360">
              <a:solidFill>
                <a:srgbClr val="0461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Group 19"/>
            <p:cNvGrpSpPr/>
            <p:nvPr/>
          </p:nvGrpSpPr>
          <p:grpSpPr>
            <a:xfrm>
              <a:off x="5058000" y="1714680"/>
              <a:ext cx="167040" cy="461160"/>
              <a:chOff x="5058000" y="1714680"/>
              <a:chExt cx="167040" cy="461160"/>
            </a:xfrm>
          </p:grpSpPr>
          <p:sp>
            <p:nvSpPr>
              <p:cNvPr id="265" name="Oval 20"/>
              <p:cNvSpPr/>
              <p:nvPr/>
            </p:nvSpPr>
            <p:spPr>
              <a:xfrm>
                <a:off x="5121000" y="2061000"/>
                <a:ext cx="5184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21"/>
              <p:cNvSpPr/>
              <p:nvPr/>
            </p:nvSpPr>
            <p:spPr>
              <a:xfrm>
                <a:off x="5058000" y="1714680"/>
                <a:ext cx="167040" cy="438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22"/>
            <p:cNvGrpSpPr/>
            <p:nvPr/>
          </p:nvGrpSpPr>
          <p:grpSpPr>
            <a:xfrm>
              <a:off x="5648760" y="1715760"/>
              <a:ext cx="171000" cy="461520"/>
              <a:chOff x="5648760" y="1715760"/>
              <a:chExt cx="171000" cy="461520"/>
            </a:xfrm>
          </p:grpSpPr>
          <p:sp>
            <p:nvSpPr>
              <p:cNvPr id="268" name="Oval 23"/>
              <p:cNvSpPr/>
              <p:nvPr/>
            </p:nvSpPr>
            <p:spPr>
              <a:xfrm>
                <a:off x="5713560" y="2062440"/>
                <a:ext cx="5220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4"/>
              <p:cNvSpPr/>
              <p:nvPr/>
            </p:nvSpPr>
            <p:spPr>
              <a:xfrm>
                <a:off x="5648760" y="1715760"/>
                <a:ext cx="17100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25"/>
            <p:cNvGrpSpPr/>
            <p:nvPr/>
          </p:nvGrpSpPr>
          <p:grpSpPr>
            <a:xfrm>
              <a:off x="6285240" y="1715760"/>
              <a:ext cx="168480" cy="461520"/>
              <a:chOff x="6285240" y="1715760"/>
              <a:chExt cx="168480" cy="461520"/>
            </a:xfrm>
          </p:grpSpPr>
          <p:sp>
            <p:nvSpPr>
              <p:cNvPr id="271" name="Oval 26"/>
              <p:cNvSpPr/>
              <p:nvPr/>
            </p:nvSpPr>
            <p:spPr>
              <a:xfrm>
                <a:off x="6348600" y="2062440"/>
                <a:ext cx="5220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27"/>
              <p:cNvSpPr/>
              <p:nvPr/>
            </p:nvSpPr>
            <p:spPr>
              <a:xfrm>
                <a:off x="6285240" y="1715760"/>
                <a:ext cx="16848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8"/>
            <p:cNvGrpSpPr/>
            <p:nvPr/>
          </p:nvGrpSpPr>
          <p:grpSpPr>
            <a:xfrm>
              <a:off x="6916680" y="1715760"/>
              <a:ext cx="168480" cy="461520"/>
              <a:chOff x="6916680" y="1715760"/>
              <a:chExt cx="168480" cy="461520"/>
            </a:xfrm>
          </p:grpSpPr>
          <p:sp>
            <p:nvSpPr>
              <p:cNvPr id="274" name="Oval 29"/>
              <p:cNvSpPr/>
              <p:nvPr/>
            </p:nvSpPr>
            <p:spPr>
              <a:xfrm>
                <a:off x="6983640" y="2062440"/>
                <a:ext cx="5256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30"/>
              <p:cNvSpPr/>
              <p:nvPr/>
            </p:nvSpPr>
            <p:spPr>
              <a:xfrm>
                <a:off x="6916680" y="1715760"/>
                <a:ext cx="16848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31"/>
            <p:cNvGrpSpPr/>
            <p:nvPr/>
          </p:nvGrpSpPr>
          <p:grpSpPr>
            <a:xfrm>
              <a:off x="7476480" y="1715760"/>
              <a:ext cx="177840" cy="461520"/>
              <a:chOff x="7476480" y="1715760"/>
              <a:chExt cx="177840" cy="461520"/>
            </a:xfrm>
          </p:grpSpPr>
          <p:sp>
            <p:nvSpPr>
              <p:cNvPr id="277" name="Oval 32"/>
              <p:cNvSpPr/>
              <p:nvPr/>
            </p:nvSpPr>
            <p:spPr>
              <a:xfrm>
                <a:off x="7543440" y="2062440"/>
                <a:ext cx="5256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33"/>
              <p:cNvSpPr/>
              <p:nvPr/>
            </p:nvSpPr>
            <p:spPr>
              <a:xfrm>
                <a:off x="7476480" y="1715760"/>
                <a:ext cx="17784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34"/>
            <p:cNvGrpSpPr/>
            <p:nvPr/>
          </p:nvGrpSpPr>
          <p:grpSpPr>
            <a:xfrm>
              <a:off x="8110440" y="1715760"/>
              <a:ext cx="177840" cy="461520"/>
              <a:chOff x="8110440" y="1715760"/>
              <a:chExt cx="177840" cy="461520"/>
            </a:xfrm>
          </p:grpSpPr>
          <p:sp>
            <p:nvSpPr>
              <p:cNvPr id="280" name="Oval 35"/>
              <p:cNvSpPr/>
              <p:nvPr/>
            </p:nvSpPr>
            <p:spPr>
              <a:xfrm>
                <a:off x="8177400" y="2062440"/>
                <a:ext cx="5256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36"/>
              <p:cNvSpPr/>
              <p:nvPr/>
            </p:nvSpPr>
            <p:spPr>
              <a:xfrm>
                <a:off x="8110440" y="1715760"/>
                <a:ext cx="177840" cy="438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Freeform 37"/>
            <p:cNvSpPr/>
            <p:nvPr/>
          </p:nvSpPr>
          <p:spPr>
            <a:xfrm>
              <a:off x="7910280" y="3355920"/>
              <a:ext cx="271080" cy="285264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852640"/>
                <a:gd name="textAreaBottom" fmla="*/ 2853000 h 2852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38"/>
            <p:cNvSpPr/>
            <p:nvPr/>
          </p:nvSpPr>
          <p:spPr>
            <a:xfrm>
              <a:off x="6809760" y="4077360"/>
              <a:ext cx="421560" cy="22464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246400"/>
                <a:gd name="textAreaBottom" fmla="*/ 2246760 h 22464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39"/>
            <p:cNvSpPr/>
            <p:nvPr/>
          </p:nvSpPr>
          <p:spPr>
            <a:xfrm>
              <a:off x="5648760" y="4826160"/>
              <a:ext cx="422640" cy="155520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1555200"/>
                <a:gd name="textAreaBottom" fmla="*/ 1555560 h 15552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Group 40"/>
            <p:cNvGrpSpPr/>
            <p:nvPr/>
          </p:nvGrpSpPr>
          <p:grpSpPr>
            <a:xfrm>
              <a:off x="8702280" y="1714680"/>
              <a:ext cx="181800" cy="461160"/>
              <a:chOff x="8702280" y="1714680"/>
              <a:chExt cx="181800" cy="461160"/>
            </a:xfrm>
          </p:grpSpPr>
          <p:sp>
            <p:nvSpPr>
              <p:cNvPr id="286" name="Oval 41"/>
              <p:cNvSpPr/>
              <p:nvPr/>
            </p:nvSpPr>
            <p:spPr>
              <a:xfrm>
                <a:off x="8769960" y="2061000"/>
                <a:ext cx="52920" cy="11484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42"/>
              <p:cNvSpPr/>
              <p:nvPr/>
            </p:nvSpPr>
            <p:spPr>
              <a:xfrm>
                <a:off x="8702280" y="1714680"/>
                <a:ext cx="181800" cy="438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Freeform 16"/>
          <p:cNvSpPr/>
          <p:nvPr/>
        </p:nvSpPr>
        <p:spPr>
          <a:xfrm flipH="1">
            <a:off x="4976640" y="1857240"/>
            <a:ext cx="4167360" cy="4608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6335 -0.00278 E">
                                      <p:cBhvr>
                                        <p:cTn id="248" dur="3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седьмой раунд «Волшебные спички»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0" name="Содержимое 3" descr="https://lh3.googleusercontent.com/h10j5afF8BmoDOB1ILf8Fo0a_m2C1osSmR2_5Z7Yol6k_hQMBlFu5qa2mjTrqeQUhEAnxicBYN0wFz5pidJX_lZKoOsHGCblTP1cjQxVDMofqEaUE4-M_taxmA3GCdBVaDs9Vgni"/>
          <p:cNvPicPr/>
          <p:nvPr/>
        </p:nvPicPr>
        <p:blipFill>
          <a:blip r:embed="rId1"/>
          <a:stretch/>
        </p:blipFill>
        <p:spPr>
          <a:xfrm>
            <a:off x="1071720" y="2857680"/>
            <a:ext cx="3835080" cy="34542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"/>
          <p:cNvSpPr/>
          <p:nvPr/>
        </p:nvSpPr>
        <p:spPr>
          <a:xfrm>
            <a:off x="428760" y="1148040"/>
            <a:ext cx="54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вить два равносторонних треугольника, убрав только ДВЕ спич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Рисунок 5" descr="https://lh3.googleusercontent.com/b7KRISngBRIYRmokESGfw8cyuIMR4cdiHS3VT4KGRynNOhJpz0NCkSWbKZi6lsnzMTyR8_gE2t5GmKfCE-ZV5lCuGmRySopKanGmK7fMCJl376H8HEzhuqAE-T3C9_HmsOTutHgt"/>
          <p:cNvPicPr/>
          <p:nvPr/>
        </p:nvPicPr>
        <p:blipFill>
          <a:blip r:embed="rId2"/>
          <a:stretch/>
        </p:blipFill>
        <p:spPr>
          <a:xfrm>
            <a:off x="6000840" y="3143160"/>
            <a:ext cx="2786040" cy="275760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6"/>
          <p:cNvSpPr/>
          <p:nvPr/>
        </p:nvSpPr>
        <p:spPr>
          <a:xfrm>
            <a:off x="6648480" y="25002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7"/>
          <p:cNvGrpSpPr/>
          <p:nvPr/>
        </p:nvGrpSpPr>
        <p:grpSpPr>
          <a:xfrm>
            <a:off x="4757760" y="2071800"/>
            <a:ext cx="4386240" cy="4440240"/>
            <a:chOff x="4757760" y="2071800"/>
            <a:chExt cx="4386240" cy="4440240"/>
          </a:xfrm>
        </p:grpSpPr>
        <p:sp>
          <p:nvSpPr>
            <p:cNvPr id="295" name="Freeform 18"/>
            <p:cNvSpPr/>
            <p:nvPr/>
          </p:nvSpPr>
          <p:spPr>
            <a:xfrm>
              <a:off x="4757760" y="2261160"/>
              <a:ext cx="4386240" cy="425088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0f6fc6">
                    <a:alpha val="98039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0f6fc6">
                    <a:alpha val="98039"/>
                  </a:srgbClr>
                </a:gs>
              </a:gsLst>
              <a:lin ang="0"/>
            </a:gradFill>
            <a:ln w="9360">
              <a:solidFill>
                <a:srgbClr val="0461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Group 19"/>
            <p:cNvGrpSpPr/>
            <p:nvPr/>
          </p:nvGrpSpPr>
          <p:grpSpPr>
            <a:xfrm>
              <a:off x="5365800" y="2071800"/>
              <a:ext cx="154440" cy="420840"/>
              <a:chOff x="5365800" y="2071800"/>
              <a:chExt cx="154440" cy="420840"/>
            </a:xfrm>
          </p:grpSpPr>
          <p:sp>
            <p:nvSpPr>
              <p:cNvPr id="297" name="Oval 20"/>
              <p:cNvSpPr/>
              <p:nvPr/>
            </p:nvSpPr>
            <p:spPr>
              <a:xfrm>
                <a:off x="5423760" y="2387880"/>
                <a:ext cx="4788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21"/>
              <p:cNvSpPr/>
              <p:nvPr/>
            </p:nvSpPr>
            <p:spPr>
              <a:xfrm>
                <a:off x="5365800" y="2071800"/>
                <a:ext cx="15444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22"/>
            <p:cNvGrpSpPr/>
            <p:nvPr/>
          </p:nvGrpSpPr>
          <p:grpSpPr>
            <a:xfrm>
              <a:off x="5911920" y="2072520"/>
              <a:ext cx="158040" cy="420840"/>
              <a:chOff x="5911920" y="2072520"/>
              <a:chExt cx="158040" cy="420840"/>
            </a:xfrm>
          </p:grpSpPr>
          <p:sp>
            <p:nvSpPr>
              <p:cNvPr id="300" name="Oval 23"/>
              <p:cNvSpPr/>
              <p:nvPr/>
            </p:nvSpPr>
            <p:spPr>
              <a:xfrm>
                <a:off x="5971680" y="2388600"/>
                <a:ext cx="4824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24"/>
              <p:cNvSpPr/>
              <p:nvPr/>
            </p:nvSpPr>
            <p:spPr>
              <a:xfrm>
                <a:off x="5911920" y="2072520"/>
                <a:ext cx="15804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5"/>
            <p:cNvGrpSpPr/>
            <p:nvPr/>
          </p:nvGrpSpPr>
          <p:grpSpPr>
            <a:xfrm>
              <a:off x="6500520" y="2072520"/>
              <a:ext cx="155880" cy="420840"/>
              <a:chOff x="6500520" y="2072520"/>
              <a:chExt cx="155880" cy="420840"/>
            </a:xfrm>
          </p:grpSpPr>
          <p:sp>
            <p:nvSpPr>
              <p:cNvPr id="303" name="Oval 26"/>
              <p:cNvSpPr/>
              <p:nvPr/>
            </p:nvSpPr>
            <p:spPr>
              <a:xfrm>
                <a:off x="6559200" y="2388600"/>
                <a:ext cx="4824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27"/>
              <p:cNvSpPr/>
              <p:nvPr/>
            </p:nvSpPr>
            <p:spPr>
              <a:xfrm>
                <a:off x="6500520" y="2072520"/>
                <a:ext cx="15588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28"/>
            <p:cNvGrpSpPr/>
            <p:nvPr/>
          </p:nvGrpSpPr>
          <p:grpSpPr>
            <a:xfrm>
              <a:off x="7084080" y="2072520"/>
              <a:ext cx="155880" cy="420840"/>
              <a:chOff x="7084080" y="2072520"/>
              <a:chExt cx="155880" cy="420840"/>
            </a:xfrm>
          </p:grpSpPr>
          <p:sp>
            <p:nvSpPr>
              <p:cNvPr id="306" name="Oval 29"/>
              <p:cNvSpPr/>
              <p:nvPr/>
            </p:nvSpPr>
            <p:spPr>
              <a:xfrm>
                <a:off x="7144200" y="2388600"/>
                <a:ext cx="4860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30"/>
              <p:cNvSpPr/>
              <p:nvPr/>
            </p:nvSpPr>
            <p:spPr>
              <a:xfrm>
                <a:off x="7084080" y="2072520"/>
                <a:ext cx="15588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31"/>
            <p:cNvGrpSpPr/>
            <p:nvPr/>
          </p:nvGrpSpPr>
          <p:grpSpPr>
            <a:xfrm>
              <a:off x="7602120" y="2072520"/>
              <a:ext cx="164160" cy="420840"/>
              <a:chOff x="7602120" y="2072520"/>
              <a:chExt cx="164160" cy="420840"/>
            </a:xfrm>
          </p:grpSpPr>
          <p:sp>
            <p:nvSpPr>
              <p:cNvPr id="309" name="Oval 32"/>
              <p:cNvSpPr/>
              <p:nvPr/>
            </p:nvSpPr>
            <p:spPr>
              <a:xfrm>
                <a:off x="7665480" y="2388600"/>
                <a:ext cx="4968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33"/>
              <p:cNvSpPr/>
              <p:nvPr/>
            </p:nvSpPr>
            <p:spPr>
              <a:xfrm>
                <a:off x="7602120" y="2072520"/>
                <a:ext cx="16416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34"/>
            <p:cNvGrpSpPr/>
            <p:nvPr/>
          </p:nvGrpSpPr>
          <p:grpSpPr>
            <a:xfrm>
              <a:off x="8188560" y="2072520"/>
              <a:ext cx="164160" cy="420840"/>
              <a:chOff x="8188560" y="2072520"/>
              <a:chExt cx="164160" cy="420840"/>
            </a:xfrm>
          </p:grpSpPr>
          <p:sp>
            <p:nvSpPr>
              <p:cNvPr id="312" name="Oval 35"/>
              <p:cNvSpPr/>
              <p:nvPr/>
            </p:nvSpPr>
            <p:spPr>
              <a:xfrm>
                <a:off x="8249400" y="2388600"/>
                <a:ext cx="4788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36"/>
              <p:cNvSpPr/>
              <p:nvPr/>
            </p:nvSpPr>
            <p:spPr>
              <a:xfrm>
                <a:off x="8188560" y="2072520"/>
                <a:ext cx="16416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Freeform 37"/>
            <p:cNvSpPr/>
            <p:nvPr/>
          </p:nvSpPr>
          <p:spPr>
            <a:xfrm>
              <a:off x="8003160" y="3568680"/>
              <a:ext cx="250920" cy="26013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601360"/>
                <a:gd name="textAreaBottom" fmla="*/ 2601720 h 260136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38"/>
            <p:cNvSpPr/>
            <p:nvPr/>
          </p:nvSpPr>
          <p:spPr>
            <a:xfrm>
              <a:off x="6985440" y="4226400"/>
              <a:ext cx="389880" cy="204876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2048760"/>
                <a:gd name="textAreaBottom" fmla="*/ 2049120 h 20487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39"/>
            <p:cNvSpPr/>
            <p:nvPr/>
          </p:nvSpPr>
          <p:spPr>
            <a:xfrm>
              <a:off x="5911920" y="4909680"/>
              <a:ext cx="390960" cy="1418400"/>
            </a:xfrm>
            <a:custGeom>
              <a:avLst/>
              <a:gdLst>
                <a:gd name="textAreaLeft" fmla="*/ 0 w 390960"/>
                <a:gd name="textAreaRight" fmla="*/ 391320 w 390960"/>
                <a:gd name="textAreaTop" fmla="*/ 0 h 1418400"/>
                <a:gd name="textAreaBottom" fmla="*/ 1418760 h 14184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Group 40"/>
            <p:cNvGrpSpPr/>
            <p:nvPr/>
          </p:nvGrpSpPr>
          <p:grpSpPr>
            <a:xfrm>
              <a:off x="8735760" y="2071800"/>
              <a:ext cx="168120" cy="420840"/>
              <a:chOff x="8735760" y="2071800"/>
              <a:chExt cx="168120" cy="420840"/>
            </a:xfrm>
          </p:grpSpPr>
          <p:sp>
            <p:nvSpPr>
              <p:cNvPr id="318" name="Oval 41"/>
              <p:cNvSpPr/>
              <p:nvPr/>
            </p:nvSpPr>
            <p:spPr>
              <a:xfrm>
                <a:off x="8797320" y="2387880"/>
                <a:ext cx="48240" cy="104760"/>
              </a:xfrm>
              <a:prstGeom prst="ellipse">
                <a:avLst/>
              </a:prstGeom>
              <a:noFill/>
              <a:ln w="9360">
                <a:solidFill>
                  <a:srgbClr val="0461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8735760" y="2071800"/>
                <a:ext cx="168120" cy="4014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Freeform 16"/>
          <p:cNvSpPr/>
          <p:nvPr/>
        </p:nvSpPr>
        <p:spPr>
          <a:xfrm flipH="1">
            <a:off x="4572000" y="2214720"/>
            <a:ext cx="4572000" cy="7128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6335 -0.00278 E">
                                      <p:cBhvr>
                                        <p:cTn id="272" dur="3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Восьмой раунд «Конкурс музыкальный»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"/>
          <p:cNvSpPr/>
          <p:nvPr/>
        </p:nvSpPr>
        <p:spPr>
          <a:xfrm>
            <a:off x="5072040" y="12729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ый песню - 1 бал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6" descr="http://cards.infan.ru/img/c/0/000003.gif"/>
          <p:cNvPicPr/>
          <p:nvPr/>
        </p:nvPicPr>
        <p:blipFill>
          <a:blip r:embed="rId2"/>
          <a:stretch/>
        </p:blipFill>
        <p:spPr>
          <a:xfrm>
            <a:off x="1214280" y="1643040"/>
            <a:ext cx="535788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213840"/>
            <a:ext cx="86248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Девятый раунд «Кто быстрее отгадает загадку»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785600" y="2356920"/>
            <a:ext cx="51246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вятый раунд открывае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гадку быстро отгадае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Хоть загадка и труд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месте  справимся всег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5591160" y="12142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авильный ответ 5 балл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357120" y="1285920"/>
            <a:ext cx="75009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от закончилась игра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Результат узнать пор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Кто же лучше всех трудилс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 викторине отличилс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4" descr="http://forumsmile.ru/u/8/3/b/83b2dc114d1749585ad41c7e52259f5d.gif"/>
          <p:cNvPicPr/>
          <p:nvPr/>
        </p:nvPicPr>
        <p:blipFill>
          <a:blip r:embed="rId1"/>
          <a:stretch/>
        </p:blipFill>
        <p:spPr>
          <a:xfrm>
            <a:off x="6000840" y="428760"/>
            <a:ext cx="31431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ЕРВЫЙ раунд: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«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Представление команд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71280" y="2199960"/>
            <a:ext cx="679428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ервый конкурс начинае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ве команды представляем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340000" y="1813680"/>
            <a:ext cx="42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Максимальный балл - 3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E:\Documents and Settings\user\Рабочий стол\рисунок.gif"/>
          <p:cNvPicPr/>
          <p:nvPr/>
        </p:nvPicPr>
        <p:blipFill>
          <a:blip r:embed="rId1"/>
          <a:stretch/>
        </p:blipFill>
        <p:spPr>
          <a:xfrm>
            <a:off x="0" y="55440"/>
            <a:ext cx="5643720" cy="6802560"/>
          </a:xfrm>
          <a:prstGeom prst="rect">
            <a:avLst/>
          </a:prstGeom>
          <a:ln w="0">
            <a:noFill/>
          </a:ln>
        </p:spPr>
      </p:pic>
      <p:grpSp>
        <p:nvGrpSpPr>
          <p:cNvPr id="331" name="Прямоугольник 3"/>
          <p:cNvGrpSpPr/>
          <p:nvPr/>
        </p:nvGrpSpPr>
        <p:grpSpPr>
          <a:xfrm>
            <a:off x="6534000" y="-30240"/>
            <a:ext cx="963720" cy="7338960"/>
            <a:chOff x="6534000" y="-30240"/>
            <a:chExt cx="963720" cy="7338960"/>
          </a:xfrm>
        </p:grpSpPr>
        <p:pic>
          <p:nvPicPr>
            <p:cNvPr id="332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6534000" y="-30240"/>
              <a:ext cx="963720" cy="73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715080" y="0"/>
              <a:ext cx="714600" cy="71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4617b"/>
                  </a:solidFill>
                  <a:latin typeface="Calibri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ВТОРОЙ раунд: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«Кто кого» (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стный счет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00120" y="2714760"/>
            <a:ext cx="628992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Второй раунд открываем,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на вопросы отвечаем,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onstantia"/>
              </a:rPr>
              <a:t>Победивших, в нём узнаем.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5" descr="j0286034"/>
          <p:cNvPicPr/>
          <p:nvPr/>
        </p:nvPicPr>
        <p:blipFill>
          <a:blip r:embed="rId1"/>
          <a:stretch/>
        </p:blipFill>
        <p:spPr>
          <a:xfrm>
            <a:off x="6659640" y="4941720"/>
            <a:ext cx="1800000" cy="17352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1857240" y="16293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 каждый правильный ответ команда получает одно очко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5796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571680" y="2300040"/>
            <a:ext cx="857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тая часть чис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ему равна четверть ча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урица на 1ой ноге весит 1,5 кг- сколько она будет весить стоя на 2х ногах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. Гаусс сказал: Математика – царица всех наук, а арифметика – царица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меньшее натуральное числ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285840" y="171360"/>
            <a:ext cx="8686800" cy="13892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"/>
          <p:cNvSpPr/>
          <p:nvPr/>
        </p:nvSpPr>
        <p:spPr>
          <a:xfrm>
            <a:off x="214200" y="158148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легче: 1 кг ваты или 1 кг желез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езок, соединяющий центр окружности с точкой на окружнос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/24 часть суто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бор для измерения углов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бсолютная величина числа. ( моду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5796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1857240" y="1714680"/>
            <a:ext cx="585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ретий раунд открыва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 художников узна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Равнобедренный треугольник 3"/>
          <p:cNvSpPr/>
          <p:nvPr/>
        </p:nvSpPr>
        <p:spPr>
          <a:xfrm>
            <a:off x="500040" y="2286000"/>
            <a:ext cx="1143000" cy="12142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43000" y="4714920"/>
            <a:ext cx="171468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Овал 5"/>
          <p:cNvSpPr/>
          <p:nvPr/>
        </p:nvSpPr>
        <p:spPr>
          <a:xfrm>
            <a:off x="3429000" y="3500280"/>
            <a:ext cx="2643120" cy="2428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Овал 6"/>
          <p:cNvSpPr/>
          <p:nvPr/>
        </p:nvSpPr>
        <p:spPr>
          <a:xfrm>
            <a:off x="6357960" y="2928960"/>
            <a:ext cx="1357200" cy="5713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Шестиугольник 7"/>
          <p:cNvSpPr/>
          <p:nvPr/>
        </p:nvSpPr>
        <p:spPr>
          <a:xfrm>
            <a:off x="7643880" y="4500720"/>
            <a:ext cx="1357200" cy="1714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3464280" y="1285920"/>
            <a:ext cx="283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Максимальный балл - 3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7030a0"/>
                </a:solidFill>
                <a:latin typeface="Calibri"/>
              </a:rPr>
              <a:t>Четвертый раунд: Конкурс капита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56840" y="2571480"/>
            <a:ext cx="70009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етвертый раунд  начинаем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питанов приглаша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дут трудные вопрос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желаем им удач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2528640" y="17146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тгадать кроссворд за 5 минут, за угаданное слово 0,5 ба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15280" cy="15368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2"/>
          <p:cNvSpPr/>
          <p:nvPr/>
        </p:nvSpPr>
        <p:spPr>
          <a:xfrm>
            <a:off x="3571920" y="1500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 правильный ответ 2 бал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2286000" y="2500200"/>
            <a:ext cx="5715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ятый раунд открыва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ебусы сейчас мы разгадае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то смекалистей, узнае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E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642960" y="4000680"/>
            <a:ext cx="15001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54360" y="1341360"/>
            <a:ext cx="1344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8000"/>
                </a:solidFill>
                <a:latin typeface="Times New Roman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258920" y="227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Рисунок 2" descr="C:\Documents and Settings\Юра\Local Settings\Temporary Internet Files\Content.IE5\PD2XZKSC\MCj03837840000[1].wmf"/>
          <p:cNvPicPr/>
          <p:nvPr/>
        </p:nvPicPr>
        <p:blipFill>
          <a:blip r:embed="rId1"/>
          <a:stretch/>
        </p:blipFill>
        <p:spPr>
          <a:xfrm>
            <a:off x="5403960" y="368280"/>
            <a:ext cx="3740040" cy="3740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5287680" y="59544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270880" y="441360"/>
            <a:ext cx="26496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0" spc="-1" strike="noStrike">
                <a:solidFill>
                  <a:srgbClr val="ffff00"/>
                </a:solidFill>
                <a:latin typeface="Times New Roman"/>
              </a:rPr>
              <a:t>О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377880" y="4976640"/>
            <a:ext cx="257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Корен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498600" y="42876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ервый ребу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3:33:13Z</dcterms:created>
  <dc:creator>Rina&amp;Alex</dc:creator>
  <dc:description/>
  <dc:language>en-US</dc:language>
  <cp:lastModifiedBy>boxik-ooo@bk.ru</cp:lastModifiedBy>
  <dcterms:modified xsi:type="dcterms:W3CDTF">2024-03-12T08:01:04Z</dcterms:modified>
  <cp:revision>85</cp:revision>
  <dc:subject/>
  <dc:title>Математическая викторина</dc:title>
</cp:coreProperties>
</file>