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media/image30.gif" ContentType="image/gif"/>
  <Override PartName="/ppt/media/image28.gif" ContentType="image/gif"/>
  <Override PartName="/ppt/media/image27.png" ContentType="image/png"/>
  <Override PartName="/ppt/media/image12.wmf" ContentType="image/x-wmf"/>
  <Override PartName="/ppt/media/image29.gif" ContentType="image/gif"/>
  <Override PartName="/ppt/media/image17.wmf" ContentType="image/x-wmf"/>
  <Override PartName="/ppt/media/image13.wmf" ContentType="image/x-wmf"/>
  <Override PartName="/ppt/media/image5.png" ContentType="image/png"/>
  <Override PartName="/ppt/media/image31.png" ContentType="image/png"/>
  <Override PartName="/ppt/media/image14.wmf" ContentType="image/x-wmf"/>
  <Override PartName="/ppt/media/image7.png" ContentType="image/png"/>
  <Override PartName="/ppt/media/image15.wmf" ContentType="image/x-wmf"/>
  <Override PartName="/ppt/media/image9.png" ContentType="image/png"/>
  <Override PartName="/ppt/media/image22.jpeg" ContentType="image/jpeg"/>
  <Override PartName="/ppt/media/image6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18.wmf" ContentType="image/x-wmf"/>
  <Override PartName="/ppt/media/image26.jpeg" ContentType="image/jpeg"/>
  <Override PartName="/ppt/media/image20.jpeg" ContentType="image/jpeg"/>
  <Override PartName="/ppt/media/image19.wmf" ContentType="image/x-wmf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484B-F281-4B6F-B31B-0DAA69B3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88F7-5051-48AD-B7FD-918E8CDB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BD85-0F0D-4797-9A60-4DF1C703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098E-E1E0-4314-8373-855AF7BB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BC9E-CD53-4A96-9F91-072D5FAA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FAE5-E03B-41D8-BFC8-4DACAFBC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9BD4-6550-4EBF-9EB4-4450AC6E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0D04-C24B-4EDD-8E8B-2A0BBC9A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8DDC-36BB-4116-83BE-7E278D18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CBF7-C058-4B85-97E5-3CC8FB58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50B3-5320-42D8-AB5D-B1F50E5F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30F7-CCB2-4AA8-BB1D-88FEE29B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7E84-21AE-452E-9579-3059790D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1DE5-4614-467F-959E-16D04ACB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A0B4-99FE-4F7A-B642-0DC61C72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A8EA-FD86-449F-AD2F-3329313D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2ECE-12F2-4CE5-87E7-C3F44561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59BAD-5D20-4143-8AA3-20112B65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600BB-E6CD-4C83-9DA4-81073CA0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7E867-6D45-4DFF-B626-D5E801EC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D3DC4-C1B6-4BEB-AAA4-D5204597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C367E-09EE-4E35-954C-E5E3E313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F59F-D69D-47DB-AA91-D0736B54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76E93-3E78-4520-ACCB-61FA5D72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C9309-C784-44BB-92C0-3DC0E85F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EE5EC-BD06-40CE-B3F2-45E5CF38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A34B2-7F00-4346-83B1-BCFEDA02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5CA43-4627-43ED-ADE9-F9BEA618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AD817-0952-4DFE-853F-7F909DBC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58309-EE99-4068-AE90-2CA3D6E3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7CE68-7F39-4CFB-97D6-13E6526B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5B18D-10AE-44A7-9FC8-3C014957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FF90B-F05E-4B98-AA05-25910FA6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741F-4D8F-46FD-9063-E89F7007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26375-2B23-4C2B-9E5D-974AFE27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CF5D7-F67C-4B00-9FC7-923E031A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3889D-65BD-48CC-85DD-C3F93A8B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E9E7A-5C4C-4914-BAE1-699F5C3A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4CB4C-B949-4320-8AA1-7062D06F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2AD40-765F-45E4-A7FA-1333829E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F0009-EA5D-4975-B2A1-A37D749E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AA712-8B2B-490D-968A-37D8F7A2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882AE-17C1-4DAF-AE44-EAD7631F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3033-3138-4452-9573-F383DE66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7395-D591-4917-B731-978F2C8B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9806-0C11-4FC3-9EB3-7103BD8E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164A-78B1-4F2D-B6A5-8C380FEF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3F65-2BE9-4C05-AE1F-A0291A03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64B6-C751-4848-807A-EF75E9641CC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5A6B-61F6-40DA-8453-B96D7C35DF0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EA92-F64C-4048-AD84-37C763FFCD5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7B39-7AF3-4CCA-AFFB-C037FF49A6C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anilka.com/images/lem_kloun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4"/>
          <p:cNvSpPr txBox="1"/>
          <p:nvPr/>
        </p:nvSpPr>
        <p:spPr>
          <a:xfrm>
            <a:off x="395280" y="765000"/>
            <a:ext cx="8497800" cy="496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dd9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dd9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Математическая 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9dd9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dd9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dd9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викторин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9dd9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1" descr=""/>
          <p:cNvPicPr/>
          <p:nvPr/>
        </p:nvPicPr>
        <p:blipFill>
          <a:blip r:embed="rId1"/>
          <a:stretch/>
        </p:blipFill>
        <p:spPr>
          <a:xfrm>
            <a:off x="755640" y="2097000"/>
            <a:ext cx="2701800" cy="270216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2" descr="C:\Documents and Settings\Юра\Local Settings\Temporary Internet Files\Content.IE5\WN7OIMJK\j0351349[1].wmf"/>
          <p:cNvPicPr/>
          <p:nvPr/>
        </p:nvPicPr>
        <p:blipFill>
          <a:blip r:embed="rId2"/>
          <a:stretch/>
        </p:blipFill>
        <p:spPr>
          <a:xfrm>
            <a:off x="4932360" y="1197000"/>
            <a:ext cx="1403280" cy="259236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"/>
          <p:cNvSpPr/>
          <p:nvPr/>
        </p:nvSpPr>
        <p:spPr>
          <a:xfrm>
            <a:off x="5184720" y="3391920"/>
            <a:ext cx="1293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381400" y="1376280"/>
            <a:ext cx="117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Я=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3031920" y="5162400"/>
            <a:ext cx="446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</a:rPr>
              <a:t>Знаменател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оугольник 6"/>
          <p:cNvSpPr/>
          <p:nvPr/>
        </p:nvSpPr>
        <p:spPr>
          <a:xfrm>
            <a:off x="495360" y="42876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Второй ребу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2"/>
          <p:cNvSpPr txBox="1"/>
          <p:nvPr/>
        </p:nvSpPr>
        <p:spPr>
          <a:xfrm>
            <a:off x="395280" y="1700280"/>
            <a:ext cx="1030320" cy="30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7676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П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236" name="Рисунок 1" descr=""/>
          <p:cNvPicPr/>
          <p:nvPr/>
        </p:nvPicPr>
        <p:blipFill>
          <a:blip r:embed="rId1"/>
          <a:stretch/>
        </p:blipFill>
        <p:spPr>
          <a:xfrm>
            <a:off x="1655640" y="1305000"/>
            <a:ext cx="3454560" cy="38034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2" descr=""/>
          <p:cNvPicPr/>
          <p:nvPr/>
        </p:nvPicPr>
        <p:blipFill>
          <a:blip r:embed="rId2"/>
          <a:stretch/>
        </p:blipFill>
        <p:spPr>
          <a:xfrm>
            <a:off x="5148360" y="2349360"/>
            <a:ext cx="3995640" cy="2544840"/>
          </a:xfrm>
          <a:prstGeom prst="rect">
            <a:avLst/>
          </a:prstGeom>
          <a:ln w="0">
            <a:noFill/>
          </a:ln>
        </p:spPr>
      </p:pic>
      <p:sp>
        <p:nvSpPr>
          <p:cNvPr id="238" name="WordArt 5"/>
          <p:cNvSpPr txBox="1"/>
          <p:nvPr/>
        </p:nvSpPr>
        <p:spPr>
          <a:xfrm>
            <a:off x="4500720" y="368280"/>
            <a:ext cx="42048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atin typeface="Arial Black"/>
              </a:rPr>
              <a:t>,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3088080" y="5445000"/>
            <a:ext cx="293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лоск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оугольник 6"/>
          <p:cNvSpPr/>
          <p:nvPr/>
        </p:nvSpPr>
        <p:spPr>
          <a:xfrm>
            <a:off x="490680" y="428760"/>
            <a:ext cx="27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ретий ребу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1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2960640" cy="227952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2" descr="C:\Documents and Settings\Юра\Local Settings\Temporary Internet Files\Content.IE5\PD2XZKSC\MCj02462170000[1].wmf"/>
          <p:cNvPicPr/>
          <p:nvPr/>
        </p:nvPicPr>
        <p:blipFill>
          <a:blip r:embed="rId2"/>
          <a:stretch/>
        </p:blipFill>
        <p:spPr>
          <a:xfrm>
            <a:off x="3492360" y="1989000"/>
            <a:ext cx="3149640" cy="327996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3" descr="C:\Documents and Settings\Юра\Local Settings\Temporary Internet Files\Content.IE5\WN7OIMJK\MCj01124840000[1].wmf"/>
          <p:cNvPicPr/>
          <p:nvPr/>
        </p:nvPicPr>
        <p:blipFill>
          <a:blip r:embed="rId3"/>
          <a:stretch/>
        </p:blipFill>
        <p:spPr>
          <a:xfrm>
            <a:off x="7020000" y="2133720"/>
            <a:ext cx="1771560" cy="32796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496080" y="58896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5546880" y="6253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,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7799760" y="1197000"/>
            <a:ext cx="9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=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3902040" y="5624640"/>
            <a:ext cx="213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трез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оугольник 8"/>
          <p:cNvSpPr/>
          <p:nvPr/>
        </p:nvSpPr>
        <p:spPr>
          <a:xfrm>
            <a:off x="498960" y="428760"/>
            <a:ext cx="34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Четвертый ребу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шестой раунд «Шуточные вопросы» </a:t>
            </a:r>
            <a:br>
              <a:rPr sz="23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3857760" cy="4800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 балл за каждый правильный ответ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643200" y="1643040"/>
            <a:ext cx="5500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Шестой тур сейчас начнётся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ы немного посмеём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Будут легкими вопрос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, конечно же, не очен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5" descr="Картинка 64 из 7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2500200"/>
            <a:ext cx="22622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115920" y="-384120"/>
            <a:ext cx="8650080" cy="223200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2"/>
          <p:cNvSpPr/>
          <p:nvPr/>
        </p:nvSpPr>
        <p:spPr>
          <a:xfrm>
            <a:off x="3286080" y="2000160"/>
            <a:ext cx="5429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едьмой раунд мы начне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 нем мы спички уберем и рисуночек найд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2" descr="http://detochki-doma.ru/wp-content/uploads/2013/07/zagadki-so-spichkami-27.jpg"/>
          <p:cNvPicPr/>
          <p:nvPr/>
        </p:nvPicPr>
        <p:blipFill>
          <a:blip r:embed="rId2"/>
          <a:stretch/>
        </p:blipFill>
        <p:spPr>
          <a:xfrm>
            <a:off x="214200" y="3981600"/>
            <a:ext cx="3581640" cy="287640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4"/>
          <p:cNvSpPr/>
          <p:nvPr/>
        </p:nvSpPr>
        <p:spPr>
          <a:xfrm>
            <a:off x="3786120" y="121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обсуждение 3мин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баллов за  правильный отве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7030a0"/>
                </a:solidFill>
                <a:latin typeface="Calibri"/>
              </a:rPr>
              <a:t>седьмой раунд «Волшебные спички»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Содержимое 4" descr="https://lh3.googleusercontent.com/81GSqqXB3M0aPtchBGjAkhoTGPOrv0jmCMN8esSrI7KWm2yjtiZlRv54_uRt7YYa2gaSgBdlz67nVCPoeOkILYLWG9feUNGQmiuifIeR5lWW_t7HfhzU_VteAoPDm8Ne1sPuFVtW"/>
          <p:cNvPicPr/>
          <p:nvPr/>
        </p:nvPicPr>
        <p:blipFill>
          <a:blip r:embed="rId1"/>
          <a:stretch/>
        </p:blipFill>
        <p:spPr>
          <a:xfrm>
            <a:off x="857160" y="2643120"/>
            <a:ext cx="3357720" cy="380520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https://lh6.googleusercontent.com/-NFaoFFK9M5j-61PnnEY_iVGFg7GP7XwTnbWtSUkAaMbxCHHEWl7SRVmHSwzHijmd6zbHuaQEvy37-Kc24hpW6QS8c_dlxAOC8ZcDqFsmU--kAoaS_fmWuJblAncUlX3F08fieSo"/>
          <p:cNvPicPr/>
          <p:nvPr/>
        </p:nvPicPr>
        <p:blipFill>
          <a:blip r:embed="rId2"/>
          <a:stretch/>
        </p:blipFill>
        <p:spPr>
          <a:xfrm>
            <a:off x="5715000" y="2857680"/>
            <a:ext cx="2928960" cy="314316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7"/>
          <p:cNvSpPr/>
          <p:nvPr/>
        </p:nvSpPr>
        <p:spPr>
          <a:xfrm>
            <a:off x="6072120" y="221472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8"/>
          <p:cNvSpPr/>
          <p:nvPr/>
        </p:nvSpPr>
        <p:spPr>
          <a:xfrm>
            <a:off x="285840" y="1214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Оставить четыре квадрата, убрав только ДВЕ спич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Group 17"/>
          <p:cNvGrpSpPr/>
          <p:nvPr/>
        </p:nvGrpSpPr>
        <p:grpSpPr>
          <a:xfrm>
            <a:off x="4400640" y="1714680"/>
            <a:ext cx="4743360" cy="4868280"/>
            <a:chOff x="4400640" y="1714680"/>
            <a:chExt cx="4743360" cy="4868280"/>
          </a:xfrm>
        </p:grpSpPr>
        <p:sp>
          <p:nvSpPr>
            <p:cNvPr id="263" name="Freeform 18"/>
            <p:cNvSpPr/>
            <p:nvPr/>
          </p:nvSpPr>
          <p:spPr>
            <a:xfrm>
              <a:off x="4400640" y="1922040"/>
              <a:ext cx="4743360" cy="466092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0f6fc6">
                    <a:alpha val="98039"/>
                  </a:srgbClr>
                </a:gs>
                <a:gs pos="50000">
                  <a:srgbClr val="ffffff">
                    <a:alpha val="99215"/>
                  </a:srgbClr>
                </a:gs>
                <a:gs pos="100000">
                  <a:srgbClr val="0f6fc6">
                    <a:alpha val="98039"/>
                  </a:srgbClr>
                </a:gs>
              </a:gsLst>
              <a:lin ang="0"/>
            </a:gradFill>
            <a:ln w="9360">
              <a:solidFill>
                <a:srgbClr val="0461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Group 19"/>
            <p:cNvGrpSpPr/>
            <p:nvPr/>
          </p:nvGrpSpPr>
          <p:grpSpPr>
            <a:xfrm>
              <a:off x="5058000" y="1714680"/>
              <a:ext cx="167040" cy="461160"/>
              <a:chOff x="5058000" y="1714680"/>
              <a:chExt cx="167040" cy="461160"/>
            </a:xfrm>
          </p:grpSpPr>
          <p:sp>
            <p:nvSpPr>
              <p:cNvPr id="265" name="Oval 20"/>
              <p:cNvSpPr/>
              <p:nvPr/>
            </p:nvSpPr>
            <p:spPr>
              <a:xfrm>
                <a:off x="5121000" y="2061000"/>
                <a:ext cx="51840" cy="11484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Freeform 21"/>
              <p:cNvSpPr/>
              <p:nvPr/>
            </p:nvSpPr>
            <p:spPr>
              <a:xfrm>
                <a:off x="5058000" y="1714680"/>
                <a:ext cx="167040" cy="4384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22"/>
            <p:cNvGrpSpPr/>
            <p:nvPr/>
          </p:nvGrpSpPr>
          <p:grpSpPr>
            <a:xfrm>
              <a:off x="5648760" y="1715760"/>
              <a:ext cx="171000" cy="461520"/>
              <a:chOff x="5648760" y="1715760"/>
              <a:chExt cx="171000" cy="461520"/>
            </a:xfrm>
          </p:grpSpPr>
          <p:sp>
            <p:nvSpPr>
              <p:cNvPr id="268" name="Oval 23"/>
              <p:cNvSpPr/>
              <p:nvPr/>
            </p:nvSpPr>
            <p:spPr>
              <a:xfrm>
                <a:off x="5713560" y="2062440"/>
                <a:ext cx="52200" cy="11484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24"/>
              <p:cNvSpPr/>
              <p:nvPr/>
            </p:nvSpPr>
            <p:spPr>
              <a:xfrm>
                <a:off x="5648760" y="1715760"/>
                <a:ext cx="171000" cy="438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25"/>
            <p:cNvGrpSpPr/>
            <p:nvPr/>
          </p:nvGrpSpPr>
          <p:grpSpPr>
            <a:xfrm>
              <a:off x="6285240" y="1715760"/>
              <a:ext cx="168480" cy="461520"/>
              <a:chOff x="6285240" y="1715760"/>
              <a:chExt cx="168480" cy="461520"/>
            </a:xfrm>
          </p:grpSpPr>
          <p:sp>
            <p:nvSpPr>
              <p:cNvPr id="271" name="Oval 26"/>
              <p:cNvSpPr/>
              <p:nvPr/>
            </p:nvSpPr>
            <p:spPr>
              <a:xfrm>
                <a:off x="6348600" y="2062440"/>
                <a:ext cx="52200" cy="11484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27"/>
              <p:cNvSpPr/>
              <p:nvPr/>
            </p:nvSpPr>
            <p:spPr>
              <a:xfrm>
                <a:off x="6285240" y="1715760"/>
                <a:ext cx="168480" cy="438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28"/>
            <p:cNvGrpSpPr/>
            <p:nvPr/>
          </p:nvGrpSpPr>
          <p:grpSpPr>
            <a:xfrm>
              <a:off x="6916680" y="1715760"/>
              <a:ext cx="168480" cy="461520"/>
              <a:chOff x="6916680" y="1715760"/>
              <a:chExt cx="168480" cy="461520"/>
            </a:xfrm>
          </p:grpSpPr>
          <p:sp>
            <p:nvSpPr>
              <p:cNvPr id="274" name="Oval 29"/>
              <p:cNvSpPr/>
              <p:nvPr/>
            </p:nvSpPr>
            <p:spPr>
              <a:xfrm>
                <a:off x="6983640" y="2062440"/>
                <a:ext cx="52560" cy="11484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30"/>
              <p:cNvSpPr/>
              <p:nvPr/>
            </p:nvSpPr>
            <p:spPr>
              <a:xfrm>
                <a:off x="6916680" y="1715760"/>
                <a:ext cx="168480" cy="438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31"/>
            <p:cNvGrpSpPr/>
            <p:nvPr/>
          </p:nvGrpSpPr>
          <p:grpSpPr>
            <a:xfrm>
              <a:off x="7476480" y="1715760"/>
              <a:ext cx="177840" cy="461520"/>
              <a:chOff x="7476480" y="1715760"/>
              <a:chExt cx="177840" cy="461520"/>
            </a:xfrm>
          </p:grpSpPr>
          <p:sp>
            <p:nvSpPr>
              <p:cNvPr id="277" name="Oval 32"/>
              <p:cNvSpPr/>
              <p:nvPr/>
            </p:nvSpPr>
            <p:spPr>
              <a:xfrm>
                <a:off x="7543440" y="2062440"/>
                <a:ext cx="52560" cy="11484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33"/>
              <p:cNvSpPr/>
              <p:nvPr/>
            </p:nvSpPr>
            <p:spPr>
              <a:xfrm>
                <a:off x="7476480" y="1715760"/>
                <a:ext cx="177840" cy="438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34"/>
            <p:cNvGrpSpPr/>
            <p:nvPr/>
          </p:nvGrpSpPr>
          <p:grpSpPr>
            <a:xfrm>
              <a:off x="8110440" y="1715760"/>
              <a:ext cx="177840" cy="461520"/>
              <a:chOff x="8110440" y="1715760"/>
              <a:chExt cx="177840" cy="461520"/>
            </a:xfrm>
          </p:grpSpPr>
          <p:sp>
            <p:nvSpPr>
              <p:cNvPr id="280" name="Oval 35"/>
              <p:cNvSpPr/>
              <p:nvPr/>
            </p:nvSpPr>
            <p:spPr>
              <a:xfrm>
                <a:off x="8177400" y="2062440"/>
                <a:ext cx="52560" cy="11484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Freeform 36"/>
              <p:cNvSpPr/>
              <p:nvPr/>
            </p:nvSpPr>
            <p:spPr>
              <a:xfrm>
                <a:off x="8110440" y="1715760"/>
                <a:ext cx="177840" cy="438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Freeform 37"/>
            <p:cNvSpPr/>
            <p:nvPr/>
          </p:nvSpPr>
          <p:spPr>
            <a:xfrm>
              <a:off x="7910280" y="3355920"/>
              <a:ext cx="271080" cy="285264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2852640"/>
                <a:gd name="textAreaBottom" fmla="*/ 2853000 h 285264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38"/>
            <p:cNvSpPr/>
            <p:nvPr/>
          </p:nvSpPr>
          <p:spPr>
            <a:xfrm>
              <a:off x="6809760" y="4077360"/>
              <a:ext cx="421560" cy="224640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2246400"/>
                <a:gd name="textAreaBottom" fmla="*/ 2246760 h 224640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39"/>
            <p:cNvSpPr/>
            <p:nvPr/>
          </p:nvSpPr>
          <p:spPr>
            <a:xfrm>
              <a:off x="5648760" y="4826160"/>
              <a:ext cx="422640" cy="155520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1555200"/>
                <a:gd name="textAreaBottom" fmla="*/ 1555560 h 155520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Group 40"/>
            <p:cNvGrpSpPr/>
            <p:nvPr/>
          </p:nvGrpSpPr>
          <p:grpSpPr>
            <a:xfrm>
              <a:off x="8702280" y="1714680"/>
              <a:ext cx="181800" cy="461160"/>
              <a:chOff x="8702280" y="1714680"/>
              <a:chExt cx="181800" cy="461160"/>
            </a:xfrm>
          </p:grpSpPr>
          <p:sp>
            <p:nvSpPr>
              <p:cNvPr id="286" name="Oval 41"/>
              <p:cNvSpPr/>
              <p:nvPr/>
            </p:nvSpPr>
            <p:spPr>
              <a:xfrm>
                <a:off x="8769960" y="2061000"/>
                <a:ext cx="52920" cy="11484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Freeform 42"/>
              <p:cNvSpPr/>
              <p:nvPr/>
            </p:nvSpPr>
            <p:spPr>
              <a:xfrm>
                <a:off x="8702280" y="1714680"/>
                <a:ext cx="181800" cy="4384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8" name="Freeform 16"/>
          <p:cNvSpPr/>
          <p:nvPr/>
        </p:nvSpPr>
        <p:spPr>
          <a:xfrm flipH="1">
            <a:off x="4976640" y="1857240"/>
            <a:ext cx="4167360" cy="46080"/>
          </a:xfrm>
          <a:custGeom>
            <a:avLst/>
            <a:gdLst/>
            <a:ahLst/>
            <a:rect l="l" t="t" r="r" b="b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1111E-006 L 0.6335 -0.00278 E">
                                      <p:cBhvr>
                                        <p:cTn id="248" dur="3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7030a0"/>
                </a:solidFill>
                <a:latin typeface="Calibri"/>
              </a:rPr>
              <a:t>седьмой раунд «Волшебные спички»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0" name="Содержимое 3" descr="https://lh3.googleusercontent.com/h10j5afF8BmoDOB1ILf8Fo0a_m2C1osSmR2_5Z7Yol6k_hQMBlFu5qa2mjTrqeQUhEAnxicBYN0wFz5pidJX_lZKoOsHGCblTP1cjQxVDMofqEaUE4-M_taxmA3GCdBVaDs9Vgni"/>
          <p:cNvPicPr/>
          <p:nvPr/>
        </p:nvPicPr>
        <p:blipFill>
          <a:blip r:embed="rId1"/>
          <a:stretch/>
        </p:blipFill>
        <p:spPr>
          <a:xfrm>
            <a:off x="1071720" y="2857680"/>
            <a:ext cx="3835080" cy="34542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1"/>
          <p:cNvSpPr/>
          <p:nvPr/>
        </p:nvSpPr>
        <p:spPr>
          <a:xfrm>
            <a:off x="428760" y="1148040"/>
            <a:ext cx="542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тавить два равносторонних треугольника, убрав только ДВЕ спич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Рисунок 5" descr="https://lh3.googleusercontent.com/b7KRISngBRIYRmokESGfw8cyuIMR4cdiHS3VT4KGRynNOhJpz0NCkSWbKZi6lsnzMTyR8_gE2t5GmKfCE-ZV5lCuGmRySopKanGmK7fMCJl376H8HEzhuqAE-T3C9_HmsOTutHgt"/>
          <p:cNvPicPr/>
          <p:nvPr/>
        </p:nvPicPr>
        <p:blipFill>
          <a:blip r:embed="rId2"/>
          <a:stretch/>
        </p:blipFill>
        <p:spPr>
          <a:xfrm>
            <a:off x="6000840" y="3143160"/>
            <a:ext cx="2786040" cy="275760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6"/>
          <p:cNvSpPr/>
          <p:nvPr/>
        </p:nvSpPr>
        <p:spPr>
          <a:xfrm>
            <a:off x="6648480" y="25002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17"/>
          <p:cNvGrpSpPr/>
          <p:nvPr/>
        </p:nvGrpSpPr>
        <p:grpSpPr>
          <a:xfrm>
            <a:off x="4757760" y="2071800"/>
            <a:ext cx="4386240" cy="4440240"/>
            <a:chOff x="4757760" y="2071800"/>
            <a:chExt cx="4386240" cy="4440240"/>
          </a:xfrm>
        </p:grpSpPr>
        <p:sp>
          <p:nvSpPr>
            <p:cNvPr id="295" name="Freeform 18"/>
            <p:cNvSpPr/>
            <p:nvPr/>
          </p:nvSpPr>
          <p:spPr>
            <a:xfrm>
              <a:off x="4757760" y="2261160"/>
              <a:ext cx="4386240" cy="425088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0f6fc6">
                    <a:alpha val="98039"/>
                  </a:srgbClr>
                </a:gs>
                <a:gs pos="50000">
                  <a:srgbClr val="ffffff">
                    <a:alpha val="99215"/>
                  </a:srgbClr>
                </a:gs>
                <a:gs pos="100000">
                  <a:srgbClr val="0f6fc6">
                    <a:alpha val="98039"/>
                  </a:srgbClr>
                </a:gs>
              </a:gsLst>
              <a:lin ang="0"/>
            </a:gradFill>
            <a:ln w="9360">
              <a:solidFill>
                <a:srgbClr val="0461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Group 19"/>
            <p:cNvGrpSpPr/>
            <p:nvPr/>
          </p:nvGrpSpPr>
          <p:grpSpPr>
            <a:xfrm>
              <a:off x="5365800" y="2071800"/>
              <a:ext cx="154440" cy="420840"/>
              <a:chOff x="5365800" y="2071800"/>
              <a:chExt cx="154440" cy="420840"/>
            </a:xfrm>
          </p:grpSpPr>
          <p:sp>
            <p:nvSpPr>
              <p:cNvPr id="297" name="Oval 20"/>
              <p:cNvSpPr/>
              <p:nvPr/>
            </p:nvSpPr>
            <p:spPr>
              <a:xfrm>
                <a:off x="5423760" y="2387880"/>
                <a:ext cx="47880" cy="10476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Freeform 21"/>
              <p:cNvSpPr/>
              <p:nvPr/>
            </p:nvSpPr>
            <p:spPr>
              <a:xfrm>
                <a:off x="5365800" y="2071800"/>
                <a:ext cx="154440" cy="4014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Group 22"/>
            <p:cNvGrpSpPr/>
            <p:nvPr/>
          </p:nvGrpSpPr>
          <p:grpSpPr>
            <a:xfrm>
              <a:off x="5911920" y="2072520"/>
              <a:ext cx="158040" cy="420840"/>
              <a:chOff x="5911920" y="2072520"/>
              <a:chExt cx="158040" cy="420840"/>
            </a:xfrm>
          </p:grpSpPr>
          <p:sp>
            <p:nvSpPr>
              <p:cNvPr id="300" name="Oval 23"/>
              <p:cNvSpPr/>
              <p:nvPr/>
            </p:nvSpPr>
            <p:spPr>
              <a:xfrm>
                <a:off x="5971680" y="2388600"/>
                <a:ext cx="48240" cy="10476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Freeform 24"/>
              <p:cNvSpPr/>
              <p:nvPr/>
            </p:nvSpPr>
            <p:spPr>
              <a:xfrm>
                <a:off x="5911920" y="2072520"/>
                <a:ext cx="158040" cy="4014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25"/>
            <p:cNvGrpSpPr/>
            <p:nvPr/>
          </p:nvGrpSpPr>
          <p:grpSpPr>
            <a:xfrm>
              <a:off x="6500520" y="2072520"/>
              <a:ext cx="155880" cy="420840"/>
              <a:chOff x="6500520" y="2072520"/>
              <a:chExt cx="155880" cy="420840"/>
            </a:xfrm>
          </p:grpSpPr>
          <p:sp>
            <p:nvSpPr>
              <p:cNvPr id="303" name="Oval 26"/>
              <p:cNvSpPr/>
              <p:nvPr/>
            </p:nvSpPr>
            <p:spPr>
              <a:xfrm>
                <a:off x="6559200" y="2388600"/>
                <a:ext cx="48240" cy="10476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Freeform 27"/>
              <p:cNvSpPr/>
              <p:nvPr/>
            </p:nvSpPr>
            <p:spPr>
              <a:xfrm>
                <a:off x="6500520" y="2072520"/>
                <a:ext cx="155880" cy="4014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Group 28"/>
            <p:cNvGrpSpPr/>
            <p:nvPr/>
          </p:nvGrpSpPr>
          <p:grpSpPr>
            <a:xfrm>
              <a:off x="7084080" y="2072520"/>
              <a:ext cx="155880" cy="420840"/>
              <a:chOff x="7084080" y="2072520"/>
              <a:chExt cx="155880" cy="420840"/>
            </a:xfrm>
          </p:grpSpPr>
          <p:sp>
            <p:nvSpPr>
              <p:cNvPr id="306" name="Oval 29"/>
              <p:cNvSpPr/>
              <p:nvPr/>
            </p:nvSpPr>
            <p:spPr>
              <a:xfrm>
                <a:off x="7144200" y="2388600"/>
                <a:ext cx="48600" cy="10476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Freeform 30"/>
              <p:cNvSpPr/>
              <p:nvPr/>
            </p:nvSpPr>
            <p:spPr>
              <a:xfrm>
                <a:off x="7084080" y="2072520"/>
                <a:ext cx="155880" cy="4014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Group 31"/>
            <p:cNvGrpSpPr/>
            <p:nvPr/>
          </p:nvGrpSpPr>
          <p:grpSpPr>
            <a:xfrm>
              <a:off x="7602120" y="2072520"/>
              <a:ext cx="164160" cy="420840"/>
              <a:chOff x="7602120" y="2072520"/>
              <a:chExt cx="164160" cy="420840"/>
            </a:xfrm>
          </p:grpSpPr>
          <p:sp>
            <p:nvSpPr>
              <p:cNvPr id="309" name="Oval 32"/>
              <p:cNvSpPr/>
              <p:nvPr/>
            </p:nvSpPr>
            <p:spPr>
              <a:xfrm>
                <a:off x="7665480" y="2388600"/>
                <a:ext cx="49680" cy="10476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Freeform 33"/>
              <p:cNvSpPr/>
              <p:nvPr/>
            </p:nvSpPr>
            <p:spPr>
              <a:xfrm>
                <a:off x="7602120" y="2072520"/>
                <a:ext cx="164160" cy="4014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34"/>
            <p:cNvGrpSpPr/>
            <p:nvPr/>
          </p:nvGrpSpPr>
          <p:grpSpPr>
            <a:xfrm>
              <a:off x="8188560" y="2072520"/>
              <a:ext cx="164160" cy="420840"/>
              <a:chOff x="8188560" y="2072520"/>
              <a:chExt cx="164160" cy="420840"/>
            </a:xfrm>
          </p:grpSpPr>
          <p:sp>
            <p:nvSpPr>
              <p:cNvPr id="312" name="Oval 35"/>
              <p:cNvSpPr/>
              <p:nvPr/>
            </p:nvSpPr>
            <p:spPr>
              <a:xfrm>
                <a:off x="8249400" y="2388600"/>
                <a:ext cx="47880" cy="10476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Freeform 36"/>
              <p:cNvSpPr/>
              <p:nvPr/>
            </p:nvSpPr>
            <p:spPr>
              <a:xfrm>
                <a:off x="8188560" y="2072520"/>
                <a:ext cx="164160" cy="4014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Freeform 37"/>
            <p:cNvSpPr/>
            <p:nvPr/>
          </p:nvSpPr>
          <p:spPr>
            <a:xfrm>
              <a:off x="8003160" y="3568680"/>
              <a:ext cx="250920" cy="26013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601360"/>
                <a:gd name="textAreaBottom" fmla="*/ 2601720 h 260136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38"/>
            <p:cNvSpPr/>
            <p:nvPr/>
          </p:nvSpPr>
          <p:spPr>
            <a:xfrm>
              <a:off x="6985440" y="4226400"/>
              <a:ext cx="389880" cy="204876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2048760"/>
                <a:gd name="textAreaBottom" fmla="*/ 2049120 h 204876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39"/>
            <p:cNvSpPr/>
            <p:nvPr/>
          </p:nvSpPr>
          <p:spPr>
            <a:xfrm>
              <a:off x="5911920" y="4909680"/>
              <a:ext cx="390960" cy="1418400"/>
            </a:xfrm>
            <a:custGeom>
              <a:avLst/>
              <a:gdLst>
                <a:gd name="textAreaLeft" fmla="*/ 0 w 390960"/>
                <a:gd name="textAreaRight" fmla="*/ 391320 w 390960"/>
                <a:gd name="textAreaTop" fmla="*/ 0 h 1418400"/>
                <a:gd name="textAreaBottom" fmla="*/ 1418760 h 141840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Group 40"/>
            <p:cNvGrpSpPr/>
            <p:nvPr/>
          </p:nvGrpSpPr>
          <p:grpSpPr>
            <a:xfrm>
              <a:off x="8735760" y="2071800"/>
              <a:ext cx="168120" cy="420840"/>
              <a:chOff x="8735760" y="2071800"/>
              <a:chExt cx="168120" cy="420840"/>
            </a:xfrm>
          </p:grpSpPr>
          <p:sp>
            <p:nvSpPr>
              <p:cNvPr id="318" name="Oval 41"/>
              <p:cNvSpPr/>
              <p:nvPr/>
            </p:nvSpPr>
            <p:spPr>
              <a:xfrm>
                <a:off x="8797320" y="2387880"/>
                <a:ext cx="48240" cy="10476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Freeform 42"/>
              <p:cNvSpPr/>
              <p:nvPr/>
            </p:nvSpPr>
            <p:spPr>
              <a:xfrm>
                <a:off x="8735760" y="2071800"/>
                <a:ext cx="168120" cy="4014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0" name="Freeform 16"/>
          <p:cNvSpPr/>
          <p:nvPr/>
        </p:nvSpPr>
        <p:spPr>
          <a:xfrm flipH="1">
            <a:off x="4572000" y="2214720"/>
            <a:ext cx="4572000" cy="71280"/>
          </a:xfrm>
          <a:custGeom>
            <a:avLst/>
            <a:gdLst/>
            <a:ahLst/>
            <a:rect l="l" t="t" r="r" b="b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1111E-006 L 0.6335 -0.00278 E">
                                      <p:cBhvr>
                                        <p:cTn id="272" dur="3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7030a0"/>
                </a:solidFill>
                <a:latin typeface="Calibri"/>
              </a:rPr>
              <a:t>Восьмой раунд «Конкурс музыкальный»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"/>
          <p:cNvSpPr/>
          <p:nvPr/>
        </p:nvSpPr>
        <p:spPr>
          <a:xfrm>
            <a:off x="5072040" y="127296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аждый песню - 1 бал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6" descr="http://cards.infan.ru/img/c/0/000003.gif"/>
          <p:cNvPicPr/>
          <p:nvPr/>
        </p:nvPicPr>
        <p:blipFill>
          <a:blip r:embed="rId2"/>
          <a:stretch/>
        </p:blipFill>
        <p:spPr>
          <a:xfrm>
            <a:off x="1214280" y="1643040"/>
            <a:ext cx="535788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213840"/>
            <a:ext cx="86248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7030a0"/>
                </a:solidFill>
                <a:latin typeface="Calibri"/>
              </a:rPr>
              <a:t>Девятый раунд «Кто быстрее отгадает загадку»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785600" y="2356920"/>
            <a:ext cx="512460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вятый раунд открываем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гадку быстро отгадаем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Хоть загадка и трудн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месте  справимся всег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Прямоугольник 3"/>
          <p:cNvSpPr/>
          <p:nvPr/>
        </p:nvSpPr>
        <p:spPr>
          <a:xfrm>
            <a:off x="5591160" y="121428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равильный ответ 5 балл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1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1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1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Прямоугольник 1"/>
          <p:cNvSpPr/>
          <p:nvPr/>
        </p:nvSpPr>
        <p:spPr>
          <a:xfrm>
            <a:off x="357120" y="1285920"/>
            <a:ext cx="75009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Вот закончилась игра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Результат узнать пор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Кто же лучше всех трудилс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В викторине отличился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4" descr="http://forumsmile.ru/u/8/3/b/83b2dc114d1749585ad41c7e52259f5d.gif"/>
          <p:cNvPicPr/>
          <p:nvPr/>
        </p:nvPicPr>
        <p:blipFill>
          <a:blip r:embed="rId1"/>
          <a:stretch/>
        </p:blipFill>
        <p:spPr>
          <a:xfrm>
            <a:off x="6000840" y="428760"/>
            <a:ext cx="314316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ПЕРВЫЙ раунд: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«</a:t>
            </a: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Представление команд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71280" y="2199960"/>
            <a:ext cx="6794280" cy="32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Первый конкурс начинаем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две команды представляем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2340000" y="1813680"/>
            <a:ext cx="42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Максимальный балл - 3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E:\Documents and Settings\user\Рабочий стол\рисунок.gif"/>
          <p:cNvPicPr/>
          <p:nvPr/>
        </p:nvPicPr>
        <p:blipFill>
          <a:blip r:embed="rId1"/>
          <a:stretch/>
        </p:blipFill>
        <p:spPr>
          <a:xfrm>
            <a:off x="0" y="55440"/>
            <a:ext cx="5643720" cy="6802560"/>
          </a:xfrm>
          <a:prstGeom prst="rect">
            <a:avLst/>
          </a:prstGeom>
          <a:ln w="0">
            <a:noFill/>
          </a:ln>
        </p:spPr>
      </p:pic>
      <p:grpSp>
        <p:nvGrpSpPr>
          <p:cNvPr id="331" name="Прямоугольник 3"/>
          <p:cNvGrpSpPr/>
          <p:nvPr/>
        </p:nvGrpSpPr>
        <p:grpSpPr>
          <a:xfrm>
            <a:off x="6534000" y="-30240"/>
            <a:ext cx="963720" cy="7338960"/>
            <a:chOff x="6534000" y="-30240"/>
            <a:chExt cx="963720" cy="7338960"/>
          </a:xfrm>
        </p:grpSpPr>
        <p:pic>
          <p:nvPicPr>
            <p:cNvPr id="332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6534000" y="-30240"/>
              <a:ext cx="963720" cy="733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6715080" y="0"/>
              <a:ext cx="714600" cy="713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4617b"/>
                  </a:solidFill>
                  <a:latin typeface="Calibri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4617b"/>
                  </a:solidFill>
                  <a:latin typeface="Calibri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4617b"/>
                  </a:solidFill>
                  <a:latin typeface="Calibri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4617b"/>
                  </a:solidFill>
                  <a:latin typeface="Calibri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4617b"/>
                  </a:solidFill>
                  <a:latin typeface="Calibri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4617b"/>
                  </a:solidFill>
                  <a:latin typeface="Calibri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4617b"/>
                  </a:solidFill>
                  <a:latin typeface="Calibri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4617b"/>
                  </a:solidFill>
                  <a:latin typeface="Calibri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4617b"/>
                  </a:solidFill>
                  <a:latin typeface="Calibri"/>
                </a:rPr>
                <a:t>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4617b"/>
                  </a:solidFill>
                  <a:latin typeface="Calibri"/>
                </a:rPr>
                <a:t>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ВТОРОЙ раунд: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«Кто кого» (</a:t>
            </a: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Устный счет</a:t>
            </a: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00120" y="2714760"/>
            <a:ext cx="6289920" cy="24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nstantia"/>
              </a:rPr>
              <a:t>Второй раунд открываем,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nstantia"/>
              </a:rPr>
              <a:t>на вопросы отвечаем,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nstantia"/>
              </a:rPr>
              <a:t>Победивших, в нём узнаем.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5" descr="j0286034"/>
          <p:cNvPicPr/>
          <p:nvPr/>
        </p:nvPicPr>
        <p:blipFill>
          <a:blip r:embed="rId1"/>
          <a:stretch/>
        </p:blipFill>
        <p:spPr>
          <a:xfrm>
            <a:off x="6659640" y="4941720"/>
            <a:ext cx="1800000" cy="17352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6"/>
          <p:cNvSpPr/>
          <p:nvPr/>
        </p:nvSpPr>
        <p:spPr>
          <a:xfrm>
            <a:off x="1857240" y="162936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а каждый правильный ответ команда получает одно очко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5796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"/>
          <p:cNvSpPr/>
          <p:nvPr/>
        </p:nvSpPr>
        <p:spPr>
          <a:xfrm>
            <a:off x="571680" y="2300040"/>
            <a:ext cx="8572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тая часть числ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ему равна четверть ча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урица на 1ой ноге весит 1,5 кг- сколько она будет весить стоя на 2х ногах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. Гаусс сказал: Математика – царица всех наук, а арифметика – царица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именьшее натуральное числ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285840" y="171360"/>
            <a:ext cx="8686800" cy="13892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"/>
          <p:cNvSpPr/>
          <p:nvPr/>
        </p:nvSpPr>
        <p:spPr>
          <a:xfrm>
            <a:off x="214200" y="1581480"/>
            <a:ext cx="857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легче: 1 кг ваты или 1 кг желез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резок, соединяющий центр окружности с точкой на окружност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1/24 часть суток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бор для измерения углов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Абсолютная величина числа. ( модул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57968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2"/>
          <p:cNvSpPr/>
          <p:nvPr/>
        </p:nvSpPr>
        <p:spPr>
          <a:xfrm>
            <a:off x="1857240" y="1714680"/>
            <a:ext cx="585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Третий раунд открывае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и художников узна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Равнобедренный треугольник 3"/>
          <p:cNvSpPr/>
          <p:nvPr/>
        </p:nvSpPr>
        <p:spPr>
          <a:xfrm>
            <a:off x="500040" y="2286000"/>
            <a:ext cx="1143000" cy="12142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оугольник 4"/>
          <p:cNvSpPr/>
          <p:nvPr/>
        </p:nvSpPr>
        <p:spPr>
          <a:xfrm>
            <a:off x="1143000" y="4714920"/>
            <a:ext cx="1714680" cy="1143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Овал 5"/>
          <p:cNvSpPr/>
          <p:nvPr/>
        </p:nvSpPr>
        <p:spPr>
          <a:xfrm>
            <a:off x="3429000" y="3500280"/>
            <a:ext cx="2643120" cy="2428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Овал 6"/>
          <p:cNvSpPr/>
          <p:nvPr/>
        </p:nvSpPr>
        <p:spPr>
          <a:xfrm>
            <a:off x="6357960" y="2928960"/>
            <a:ext cx="1357200" cy="5713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Шестиугольник 7"/>
          <p:cNvSpPr/>
          <p:nvPr/>
        </p:nvSpPr>
        <p:spPr>
          <a:xfrm>
            <a:off x="7643880" y="4500720"/>
            <a:ext cx="1357200" cy="17143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оугольник 8"/>
          <p:cNvSpPr/>
          <p:nvPr/>
        </p:nvSpPr>
        <p:spPr>
          <a:xfrm>
            <a:off x="3464280" y="1285920"/>
            <a:ext cx="283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Максимальный балл - 3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7030a0"/>
                </a:solidFill>
                <a:latin typeface="Calibri"/>
              </a:rPr>
              <a:t>Четвертый раунд: Конкурс капитан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56840" y="2571480"/>
            <a:ext cx="70009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етвертый раунд  начинаем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апитанов приглаша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Будут трудные вопросы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желаем им удачи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Прямоугольник 3"/>
          <p:cNvSpPr/>
          <p:nvPr/>
        </p:nvSpPr>
        <p:spPr>
          <a:xfrm>
            <a:off x="2528640" y="1714680"/>
            <a:ext cx="62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тгадать кроссворд за 5 минут, за угаданное слово 0,5 бал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15280" cy="153684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2"/>
          <p:cNvSpPr/>
          <p:nvPr/>
        </p:nvSpPr>
        <p:spPr>
          <a:xfrm>
            <a:off x="3571920" y="1500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За правильный ответ 2 бал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оугольник 3"/>
          <p:cNvSpPr/>
          <p:nvPr/>
        </p:nvSpPr>
        <p:spPr>
          <a:xfrm>
            <a:off x="2286000" y="2500200"/>
            <a:ext cx="5715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ятый раунд открыва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ебусы сейчас мы разгадаем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кто смекалистей, узнаем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5" descr="E:\Program Files\Microsoft Office\MEDIA\CAGCAT10\j0299125.wmf"/>
          <p:cNvPicPr/>
          <p:nvPr/>
        </p:nvPicPr>
        <p:blipFill>
          <a:blip r:embed="rId2"/>
          <a:stretch/>
        </p:blipFill>
        <p:spPr>
          <a:xfrm>
            <a:off x="642960" y="4000680"/>
            <a:ext cx="150012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54360" y="1341360"/>
            <a:ext cx="1344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8000"/>
                </a:solidFill>
                <a:latin typeface="Times New Roman"/>
              </a:rPr>
              <a:t>Р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258920" y="2276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Рисунок 2" descr="C:\Documents and Settings\Юра\Local Settings\Temporary Internet Files\Content.IE5\PD2XZKSC\MCj03837840000[1].wmf"/>
          <p:cNvPicPr/>
          <p:nvPr/>
        </p:nvPicPr>
        <p:blipFill>
          <a:blip r:embed="rId1"/>
          <a:stretch/>
        </p:blipFill>
        <p:spPr>
          <a:xfrm>
            <a:off x="5403960" y="368280"/>
            <a:ext cx="3740040" cy="37400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5287680" y="59544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2270880" y="441360"/>
            <a:ext cx="26496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0" spc="-1" strike="noStrike">
                <a:solidFill>
                  <a:srgbClr val="ffff00"/>
                </a:solidFill>
                <a:latin typeface="Times New Roman"/>
              </a:rPr>
              <a:t>О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3377880" y="4976640"/>
            <a:ext cx="257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Корен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498600" y="428760"/>
            <a:ext cx="28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Первый ребу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3:33:13Z</dcterms:created>
  <dc:creator>Rina&amp;Alex</dc:creator>
  <dc:description/>
  <dc:language>en-US</dc:language>
  <cp:lastModifiedBy>boxik-ooo@bk.ru</cp:lastModifiedBy>
  <dcterms:modified xsi:type="dcterms:W3CDTF">2024-03-12T08:01:04Z</dcterms:modified>
  <cp:revision>85</cp:revision>
  <dc:subject/>
  <dc:title>Математическая викторина</dc:title>
</cp:coreProperties>
</file>