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48A-212F-413C-9535-386F96D4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422-1A1B-465E-AEA6-E9822CE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A76-5F6F-4237-B7A1-BC0DA93D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709-A6C3-48FA-8C3B-53D14BF5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923E9-70EB-4F50-A4DF-8AFBAA61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494BB-9500-4CD8-81A0-3A0A4AAB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B1414-AC69-48F0-A968-659D453C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44CAB-EEED-4572-8750-7B5F3C7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2953F-5504-4C19-BBF1-C1878E5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F3644-7FA6-4FA8-8254-0EB23E80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212E3-2132-44A9-82AD-7918DE7A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CFA-71D0-4553-AD2C-D0390A80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D2ED3-8478-4762-A7FC-54FB3D1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E30B0-AA49-4A56-8988-1F0719B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1FEAB-0574-46D5-8B07-88569EF8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AFB2-50B2-4703-9494-E791BF85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C5F57-CA59-429A-AC1F-540C5992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33C-7742-4DF5-8824-5634B941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81B-5D40-4168-AF6A-74A7DA89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4E1-65DD-4DD4-9E27-98D24B3C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A55-6511-4D0A-9757-C352C719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8FB-0886-4801-BCF5-21BE9D6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A29-2639-4C03-8713-33095D0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184-D665-48C6-B472-191370A5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1A0-E654-482F-BDEE-0375B4B5D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7E9-210F-4B56-8A21-E87D0E111E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зентация проек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ымковская игр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ники проек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старшей групп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агоги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dymka2"/>
          <p:cNvPicPr/>
          <p:nvPr/>
        </p:nvPicPr>
        <p:blipFill>
          <a:blip r:embed="rId1"/>
          <a:stretch/>
        </p:blipFill>
        <p:spPr>
          <a:xfrm>
            <a:off x="3809880" y="1981080"/>
            <a:ext cx="48006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начение дымковской игрушки в жизни дет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 с родителями: «Художественно эстетическое воспитание детей в семье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 работ, выполненных совместно с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зентация проекта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«Дымковская игруш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4229408_58477952_duym23"/>
          <p:cNvPicPr/>
          <p:nvPr/>
        </p:nvPicPr>
        <p:blipFill>
          <a:blip r:embed="rId1"/>
          <a:stretch/>
        </p:blipFill>
        <p:spPr>
          <a:xfrm>
            <a:off x="2938320" y="1905120"/>
            <a:ext cx="326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дуктивная деятель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пка «Дымковская птица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пка «Волшебные лошадк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«Распишем козлят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«Роспись Дымковской лошадк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пликация «Сказочные птиц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e39d79b30d1f1b05e688"/>
          <p:cNvPicPr/>
          <p:nvPr/>
        </p:nvPicPr>
        <p:blipFill>
          <a:blip r:embed="rId1"/>
          <a:stretch/>
        </p:blipFill>
        <p:spPr>
          <a:xfrm>
            <a:off x="5718240" y="1905120"/>
            <a:ext cx="18986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74_2d2ff1"/>
          <p:cNvPicPr/>
          <p:nvPr/>
        </p:nvPicPr>
        <p:blipFill>
          <a:blip r:embed="rId2"/>
          <a:stretch/>
        </p:blipFill>
        <p:spPr>
          <a:xfrm>
            <a:off x="5568840" y="4038480"/>
            <a:ext cx="2195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гров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ижные иг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еретяни кана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овишки с мяч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русел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к у наших у воро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4229430_dimk"/>
          <p:cNvPicPr/>
          <p:nvPr/>
        </p:nvPicPr>
        <p:blipFill>
          <a:blip r:embed="rId1"/>
          <a:stretch/>
        </p:blipFill>
        <p:spPr>
          <a:xfrm>
            <a:off x="5456160" y="1905120"/>
            <a:ext cx="242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гровая деяте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южетно-ролевые иг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История происхождения дымковской игруш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ассматривание иллюстраций- «Дымковская игруш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дактические иг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«Найди пар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«Составь узо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«Продолжи рисуно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«Подбери узо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«Обведи и раскрас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0_5ec30_766667f0_XL"/>
          <p:cNvPicPr/>
          <p:nvPr/>
        </p:nvPicPr>
        <p:blipFill>
          <a:blip r:embed="rId1"/>
          <a:stretch/>
        </p:blipFill>
        <p:spPr>
          <a:xfrm>
            <a:off x="4114800" y="2943360"/>
            <a:ext cx="45086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ормы и методы рабо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дея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вательное развитие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уктивная дея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родител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r11588_large"/>
          <p:cNvPicPr/>
          <p:nvPr/>
        </p:nvPicPr>
        <p:blipFill>
          <a:blip r:embed="rId1"/>
          <a:stretch/>
        </p:blipFill>
        <p:spPr>
          <a:xfrm>
            <a:off x="4038480" y="2286000"/>
            <a:ext cx="4496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готовительны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ть развивающую сред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обрать материалы, игрушки, дидактические игр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ганизация в группе выставки Дымковской игруш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бор: Дымковских игрушек, альбомов, художественной литерату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а: Дымковская игруш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и работ, выполненные детьми и родителя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4229431_dymkovskaya-toy09"/>
          <p:cNvPicPr/>
          <p:nvPr/>
        </p:nvPicPr>
        <p:blipFill>
          <a:blip r:embed="rId1"/>
          <a:stretch/>
        </p:blipFill>
        <p:spPr>
          <a:xfrm>
            <a:off x="5295960" y="19051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проекта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комить детей с народным промыслом «Дымковская игрушк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эстетическое воспитание младших дошкольни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художественное творчество, воспитывать уважение к художественному мастерству умельц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1e6bf8c1f746"/>
          <p:cNvPicPr/>
          <p:nvPr/>
        </p:nvPicPr>
        <p:blipFill>
          <a:blip r:embed="rId1"/>
          <a:stretch/>
        </p:blipFill>
        <p:spPr>
          <a:xfrm>
            <a:off x="4648320" y="243216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3:59:20Z</dcterms:created>
  <dc:creator>user</dc:creator>
  <dc:description/>
  <dc:language>en-US</dc:language>
  <cp:lastModifiedBy>A</cp:lastModifiedBy>
  <dcterms:modified xsi:type="dcterms:W3CDTF">2024-03-17T14:43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