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845-C551-435C-8445-4E4FB9A5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E6C-2367-4C58-80F6-9DA6A87B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EB4-2144-48DB-BA74-F0B22125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FD5-E98B-4EDC-B7D9-F1B9DCD7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CEDE8-0450-4C6A-9404-5DB98733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29A05-DF6F-4111-B320-E1E9E86A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19203-2CEC-412A-A3FA-DAE0BC05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4274E-D00A-4787-B263-14ABC706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1C0BF-B4FA-43E4-A1CF-AFDEA95E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08E81-9600-4FBD-BAA8-321FE772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C1993-1D73-418A-B664-CD77592F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513-4020-409A-B2BC-9B18239D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9776E-B39C-415F-996C-F4975F9B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0D67A-93FD-4912-9D9E-AE19F553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570F5-68C5-4653-87B0-FCB5F68D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70F2B-3C00-4758-9137-49FA134C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67D6-4C20-4E39-929C-002D2D54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EE8-34CB-4C62-B7F4-293B3787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AA8-EE1F-4C18-AE07-69FAAE96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C48-85AA-42B7-A775-9903D3B8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6D0-689C-4363-AC88-9B6D2998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589-1D2E-4C15-87C3-9FDA3DA1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B1E-00B0-404A-9089-3CB947AA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C65-23DB-42DB-B787-71DB224D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CE38-CAD3-4185-9369-5EBA74902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C24E-03A6-4C2A-ADEC-B65E8263EC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зентация проек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ымковская игруш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астники проек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старшей групп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те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агоги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dymka2"/>
          <p:cNvPicPr/>
          <p:nvPr/>
        </p:nvPicPr>
        <p:blipFill>
          <a:blip r:embed="rId1"/>
          <a:stretch/>
        </p:blipFill>
        <p:spPr>
          <a:xfrm>
            <a:off x="3809880" y="1981080"/>
            <a:ext cx="48006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а с родител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начение дымковской игрушки в жизни дет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а с родителями: «Художественно эстетическое воспитание детей в семье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авка работ, выполненных совместно с дет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зентация проекта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«Дымковская игруш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6" descr="4229408_58477952_duym23"/>
          <p:cNvPicPr/>
          <p:nvPr/>
        </p:nvPicPr>
        <p:blipFill>
          <a:blip r:embed="rId1"/>
          <a:stretch/>
        </p:blipFill>
        <p:spPr>
          <a:xfrm>
            <a:off x="2938320" y="1905120"/>
            <a:ext cx="326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дуктивная деятель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пка «Дымковская птица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пка «Волшебные лошадки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ование «Распишем козлят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ование «Роспись Дымковской лошадки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пликация «Сказочные птиц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e39d79b30d1f1b05e688"/>
          <p:cNvPicPr/>
          <p:nvPr/>
        </p:nvPicPr>
        <p:blipFill>
          <a:blip r:embed="rId1"/>
          <a:stretch/>
        </p:blipFill>
        <p:spPr>
          <a:xfrm>
            <a:off x="5718240" y="1905120"/>
            <a:ext cx="18986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74_2d2ff1"/>
          <p:cNvPicPr/>
          <p:nvPr/>
        </p:nvPicPr>
        <p:blipFill>
          <a:blip r:embed="rId2"/>
          <a:stretch/>
        </p:blipFill>
        <p:spPr>
          <a:xfrm>
            <a:off x="5568840" y="4038480"/>
            <a:ext cx="2195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гровая деяте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ижные иг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Перетяни кана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овишки с мяч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арусел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ак у наших у воро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4229430_dimk"/>
          <p:cNvPicPr/>
          <p:nvPr/>
        </p:nvPicPr>
        <p:blipFill>
          <a:blip r:embed="rId1"/>
          <a:stretch/>
        </p:blipFill>
        <p:spPr>
          <a:xfrm>
            <a:off x="5456160" y="1905120"/>
            <a:ext cx="242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гровая деяте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южетно-ролевые иг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История происхождения дымковской игруш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ассматривание иллюстраций- «Дымковская игруш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дактические иг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«Найди пар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«Составь узор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«Продолжи рисуно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«Подбери узор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«Обведи и раскрас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0_5ec30_766667f0_XL"/>
          <p:cNvPicPr/>
          <p:nvPr/>
        </p:nvPicPr>
        <p:blipFill>
          <a:blip r:embed="rId1"/>
          <a:stretch/>
        </p:blipFill>
        <p:spPr>
          <a:xfrm>
            <a:off x="4114800" y="2943360"/>
            <a:ext cx="45086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ормы и методы рабо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дея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навательное развитие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уктивная дея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с родител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r11588_large"/>
          <p:cNvPicPr/>
          <p:nvPr/>
        </p:nvPicPr>
        <p:blipFill>
          <a:blip r:embed="rId1"/>
          <a:stretch/>
        </p:blipFill>
        <p:spPr>
          <a:xfrm>
            <a:off x="4038480" y="2286000"/>
            <a:ext cx="4496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готовительный эта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ть развивающую сред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обрать материалы, игрушки, дидактические игр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рганизация в группе выставки Дымковской игруш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бор: Дымковских игрушек, альбомов, художественной литерату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тавка: Дымковская игруш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тавки работ, выполненные детьми и родителя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4229431_dymkovskaya-toy09"/>
          <p:cNvPicPr/>
          <p:nvPr/>
        </p:nvPicPr>
        <p:blipFill>
          <a:blip r:embed="rId1"/>
          <a:stretch/>
        </p:blipFill>
        <p:spPr>
          <a:xfrm>
            <a:off x="5295960" y="19051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проекта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комить детей с народным промыслом «Дымковская игрушк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эстетическое воспитание младших дошкольни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художественное творчество, воспитывать уважение к художественному мастерству умельц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1e6bf8c1f746"/>
          <p:cNvPicPr/>
          <p:nvPr/>
        </p:nvPicPr>
        <p:blipFill>
          <a:blip r:embed="rId1"/>
          <a:stretch/>
        </p:blipFill>
        <p:spPr>
          <a:xfrm>
            <a:off x="4648320" y="2432160"/>
            <a:ext cx="40384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3:59:20Z</dcterms:created>
  <dc:creator>user</dc:creator>
  <dc:description/>
  <dc:language>en-US</dc:language>
  <cp:lastModifiedBy>A</cp:lastModifiedBy>
  <dcterms:modified xsi:type="dcterms:W3CDTF">2024-03-17T14:43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