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26A1-ACA8-4EAF-AF20-9D0678BA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C85-018F-4B9B-9231-036EB8E4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FE32-8330-44AF-9E78-BF675802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678A-5E35-49B5-A32C-E6F2F0D0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A7E56-7F29-43A6-AB2B-5549BA4D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591EF-F3DC-4FA5-9277-E647C71F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AC170-AC0F-442D-B8F2-18AE1BC3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D7794-64CC-4128-B195-E1FFCAF6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026D2-75E8-40D8-AEF4-FD544FF8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AF923-A706-40EA-8477-D52ED9F0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82F9F-5758-4A7F-AB6B-FDA079FC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0CCC-62D4-4199-84C8-C1110B32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E142F-92C3-4B9C-92A0-36DCF0CE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7E0BB-3D16-48CC-A7C2-BDBF10B0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1F185-A009-4F5E-8555-3E410901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66D52-5BDB-4C58-8899-7418F041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1D03A-8924-452E-8542-D7A5F05F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15F-9E54-4EF6-8049-A78648D5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1D13-14BB-4C47-B4B2-43022852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B56B-8A45-4AD5-B425-01A60595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E51-F368-4F10-B217-98E71CB2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E9EA-6DDE-4DF3-8CFA-9A6FBA43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5659-9255-4409-B02E-65BB5999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BB6-A1C7-401E-AADE-7A5CEF38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92F7-B55D-46B3-AC8F-A745CA5753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78FC-CE75-434D-8D11-52326B8793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езентация проект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ымковская игруш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частники проект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и старшей групп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дител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дагоги групп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dymka2"/>
          <p:cNvPicPr/>
          <p:nvPr/>
        </p:nvPicPr>
        <p:blipFill>
          <a:blip r:embed="rId1"/>
          <a:stretch/>
        </p:blipFill>
        <p:spPr>
          <a:xfrm>
            <a:off x="3809880" y="1981080"/>
            <a:ext cx="48006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бота с родителя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Значение дымковской игрушки в жизни дете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седа с родителями: «Художественно эстетическое воспитание детей в семье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тавка работ, выполненных совместно с деть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езентация проекта: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«Дымковская игрушк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6" descr="4229408_58477952_duym23"/>
          <p:cNvPicPr/>
          <p:nvPr/>
        </p:nvPicPr>
        <p:blipFill>
          <a:blip r:embed="rId1"/>
          <a:stretch/>
        </p:blipFill>
        <p:spPr>
          <a:xfrm>
            <a:off x="2938320" y="1905120"/>
            <a:ext cx="3267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одуктивная деятель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пка «Дымковская птица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пка «Волшебные лошадки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сование «Распишем козлят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сование «Роспись Дымковской лошадки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пликация «Сказочные птицы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0" descr="e39d79b30d1f1b05e688"/>
          <p:cNvPicPr/>
          <p:nvPr/>
        </p:nvPicPr>
        <p:blipFill>
          <a:blip r:embed="rId1"/>
          <a:stretch/>
        </p:blipFill>
        <p:spPr>
          <a:xfrm>
            <a:off x="5718240" y="1905120"/>
            <a:ext cx="189864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74_2d2ff1"/>
          <p:cNvPicPr/>
          <p:nvPr/>
        </p:nvPicPr>
        <p:blipFill>
          <a:blip r:embed="rId2"/>
          <a:stretch/>
        </p:blipFill>
        <p:spPr>
          <a:xfrm>
            <a:off x="5568840" y="4038480"/>
            <a:ext cx="21956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гровая деятель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вижные игр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Перетяни канат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Ловишки с мячом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Карусел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Как у наших у ворот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6" descr="4229430_dimk"/>
          <p:cNvPicPr/>
          <p:nvPr/>
        </p:nvPicPr>
        <p:blipFill>
          <a:blip r:embed="rId1"/>
          <a:stretch/>
        </p:blipFill>
        <p:spPr>
          <a:xfrm>
            <a:off x="5456160" y="1905120"/>
            <a:ext cx="242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гровая деятель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572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южетно-ролевые игр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История происхождения дымковской игруш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Рассматривание иллюстраций- «Дымковская игрушк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дактические игр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«Найди пару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«Составь узор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«Продолжи рисунок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«Подбери узор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«Обведи и раскрас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7" descr="0_5ec30_766667f0_XL"/>
          <p:cNvPicPr/>
          <p:nvPr/>
        </p:nvPicPr>
        <p:blipFill>
          <a:blip r:embed="rId1"/>
          <a:stretch/>
        </p:blipFill>
        <p:spPr>
          <a:xfrm>
            <a:off x="4114800" y="2943360"/>
            <a:ext cx="450864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Формы и методы работ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овая деятель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знавательное развитие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дуктивная деятель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а с родител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r11588_large"/>
          <p:cNvPicPr/>
          <p:nvPr/>
        </p:nvPicPr>
        <p:blipFill>
          <a:blip r:embed="rId1"/>
          <a:stretch/>
        </p:blipFill>
        <p:spPr>
          <a:xfrm>
            <a:off x="4038480" y="2286000"/>
            <a:ext cx="4496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дготовительный этап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здать развивающую среду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добрать материалы, игрушки, дидактические игр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рганизация в группе выставки Дымковской игруш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дбор: Дымковских игрушек, альбомов, художественной литератур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ставка: Дымковская игруш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ставки работ, выполненные детьми и родителям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4229431_dymkovskaya-toy09"/>
          <p:cNvPicPr/>
          <p:nvPr/>
        </p:nvPicPr>
        <p:blipFill>
          <a:blip r:embed="rId1"/>
          <a:stretch/>
        </p:blipFill>
        <p:spPr>
          <a:xfrm>
            <a:off x="5295960" y="190512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проекта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знакомить детей с народным промыслом «Дымковская игрушка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вивать эстетическое воспитание младших дошкольник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вивать художественное творчество, воспитывать уважение к художественному мастерству умельце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5" descr="1e6bf8c1f746"/>
          <p:cNvPicPr/>
          <p:nvPr/>
        </p:nvPicPr>
        <p:blipFill>
          <a:blip r:embed="rId1"/>
          <a:stretch/>
        </p:blipFill>
        <p:spPr>
          <a:xfrm>
            <a:off x="4648320" y="2432160"/>
            <a:ext cx="40384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5T13:59:20Z</dcterms:created>
  <dc:creator>user</dc:creator>
  <dc:description/>
  <dc:language>en-US</dc:language>
  <cp:lastModifiedBy>A</cp:lastModifiedBy>
  <dcterms:modified xsi:type="dcterms:W3CDTF">2024-03-17T14:43:3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