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57C-B02C-4F8D-91E3-18DDF174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AF6-2DC5-475A-8848-04A28E8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47F-9759-4716-A541-1E58AFED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11A-17DE-4E89-A90D-681917F1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09B-AD07-4D8E-A245-BF49838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799-DC28-4A94-A26D-15A3615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A23-0B16-4CA0-B897-E39F31E8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D5C-D4E7-47F7-8F59-E0D687E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0F2-B42B-455C-B769-B0681E6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DAD-AECE-4EA8-8E40-AD78C85E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95E-BBD0-432C-9E38-3DCB024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CD1-D79C-4F32-8F10-A4EC871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216-A7E7-4A11-A12D-926C98F39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ъект 2"/>
          <p:cNvSpPr/>
          <p:nvPr/>
        </p:nvSpPr>
        <p:spPr>
          <a:xfrm>
            <a:off x="7731000" y="1295280"/>
            <a:ext cx="36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бъект 2"/>
          <p:cNvSpPr/>
          <p:nvPr/>
        </p:nvSpPr>
        <p:spPr>
          <a:xfrm>
            <a:off x="2576520" y="3414600"/>
            <a:ext cx="86234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879480" y="208080"/>
            <a:ext cx="6653160" cy="6414840"/>
          </a:xfrm>
          <a:prstGeom prst="rect">
            <a:avLst/>
          </a:prstGeom>
          <a:ln w="0">
            <a:noFill/>
          </a:ln>
        </p:spPr>
      </p:pic>
      <p:sp>
        <p:nvSpPr>
          <p:cNvPr id="44" name="Объект 2"/>
          <p:cNvSpPr/>
          <p:nvPr/>
        </p:nvSpPr>
        <p:spPr>
          <a:xfrm>
            <a:off x="8244000" y="4683240"/>
            <a:ext cx="32875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ыполнила 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еливанова Маргарита Валерья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68520" y="1693800"/>
          <a:ext cx="9653400" cy="2065320"/>
        </p:xfrm>
        <a:graphic>
          <a:graphicData uri="http://schemas.openxmlformats.org/drawingml/2006/table">
            <a:tbl>
              <a:tblPr/>
              <a:tblGrid>
                <a:gridCol w="4825800"/>
                <a:gridCol w="4827600"/>
              </a:tblGrid>
              <a:tr h="2065320"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на катере) - Вы на следующей пристани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Сходите или вы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 автобусе, трамвае) - Вы на следующей остановке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ыходите или с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4"/>
          <p:cNvSpPr/>
          <p:nvPr/>
        </p:nvSpPr>
        <p:spPr>
          <a:xfrm>
            <a:off x="2268360" y="982800"/>
            <a:ext cx="874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ние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Выберите нужный глагол, чтобы спросить следующе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19320" y="4064040"/>
            <a:ext cx="101026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яснение. Когда пароход, катер причаливает к пристани, то кладут сходни, и по ним пассажиры сход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 троллейбусе, автобусе, трамвае есть вход (задняя дверь) и выход (передняя дверь), поэтому пользующиеся городским транспортом входят и выходят, отсюда уместен вопрос: «Вы выходите?» Однако допустим и вопрос «Вы сходите на следующей остановке?» поскольку в данном случае приходится сходить по ступень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467000" y="744480"/>
            <a:ext cx="977724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ечь  педагога должна быть логичной и чистой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огичность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выражение  в смысловых связях компонентов речи и отношений между частями и компонентами мы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истота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отсутствие  в речи элементов, чуждых литературному языку и отвергаемых нормами нравственности слов и словосочетаний (диалектизмов, канцеляризмов, жаргонизмов, просторечия, вульгаризмов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Анимашки на тему &quot;Школа&quot;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564080" y="3940200"/>
            <a:ext cx="3425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Лента лицом вниз 1"/>
          <p:cNvSpPr/>
          <p:nvPr/>
        </p:nvSpPr>
        <p:spPr>
          <a:xfrm>
            <a:off x="1239840" y="206280"/>
            <a:ext cx="9955080" cy="1158840"/>
          </a:xfrm>
          <a:custGeom>
            <a:avLst/>
            <a:gdLst>
              <a:gd name="textAreaLeft" fmla="*/ 2488680 w 9955080"/>
              <a:gd name="textAreaRight" fmla="*/ 7466400 w 9955080"/>
              <a:gd name="textAreaTop" fmla="*/ 192960 h 1158840"/>
              <a:gd name="textAreaBottom" fmla="*/ 115920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е распространённы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и в речи 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239840" y="1533600"/>
            <a:ext cx="10231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использование просторечий и диалектизмов, устаревших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засоренность речи словами-паразитами (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у, вот, так сказать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т.д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правильное ударение в слов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оизнесение слов с акцентом или с характерными особенностями местного говора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побуквенное произнесение слов, когда слова произносятся так, как пишутся (его вместо[ево];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пирование речи малышей, «сюсюканье»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частое  неоправданное употребление слов с уменьшительно - ласкательными суффиксами; - использование в речи слов не понятных детям без уточнения    их  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ногословие, наслоение лишних фраз, дета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асыщение речи сложными грамматическими оборот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ускоренный темп речи, что очень затрудняет понимание речи дет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онотонная  речь, при которой у детей резко снижается интерес к содержанию высказывания; нечеткая артикуляция звуков в процессе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ня об этом, воспитатель должен считать профессиональным долгом непрерывное совершенствование своей речи, чтобы основательно знать родной язык детей, которых он воспитыва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Лента лицом вниз 3"/>
          <p:cNvSpPr/>
          <p:nvPr/>
        </p:nvSpPr>
        <p:spPr>
          <a:xfrm>
            <a:off x="1324080" y="358920"/>
            <a:ext cx="10226520" cy="1236600"/>
          </a:xfrm>
          <a:custGeom>
            <a:avLst/>
            <a:gdLst>
              <a:gd name="textAreaLeft" fmla="*/ 2556720 w 10226520"/>
              <a:gd name="textAreaRight" fmla="*/ 7670160 w 10226520"/>
              <a:gd name="textAreaTop" fmla="*/ 20592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b4d1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557360" y="1919160"/>
            <a:ext cx="10159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Педагог должен говорить негромко, но так, чтобы каждый мог его услышать, чтобы процесс слушания не вызывал у воспитанников значительного напря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говорить вня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 должен говорить со скоростью около 120 слов в мину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Для достижения выразительности звучания важно уметь пользоваться паузами - логическими и психологическими. Без логических пауз речь безграмотна, без психологических - бесцв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 Педагог должен говорить с интонацией, т. е. уметь ставить логические ударения, выделять отдельные слова, важные для содержания сказа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6. Мелодичность придает голосу педагога индивидуальную окраску и может существенно влиять на эмоциональное самочувствие воспитанников: воодушевлять, увлекать, успокаивать. Мелодика рождается в опоре на гласные зву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Лента лицом вниз 4"/>
          <p:cNvSpPr/>
          <p:nvPr/>
        </p:nvSpPr>
        <p:spPr>
          <a:xfrm>
            <a:off x="1339920" y="80496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мимики в передаче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1636560" y="1704960"/>
            <a:ext cx="96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ая роль в передаче информации отводится мимике - движениям мышц лица. Мимика выражает проживаемые состояния, отношения. Исследования показали, что если лицо педагога неподвижно - теряется    до 10-15%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3105000" y="27241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5"/>
          <p:cNvSpPr/>
          <p:nvPr/>
        </p:nvSpPr>
        <p:spPr>
          <a:xfrm>
            <a:off x="1636560" y="468468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зительность пластики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1" descr=""/>
          <p:cNvPicPr/>
          <p:nvPr/>
        </p:nvPicPr>
        <p:blipFill>
          <a:blip r:embed="rId2"/>
          <a:srcRect l="12077" t="4205" r="3750" b="3496"/>
          <a:stretch/>
        </p:blipFill>
        <p:spPr>
          <a:xfrm>
            <a:off x="4775040" y="2724120"/>
            <a:ext cx="2482920" cy="18558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3"/>
          <p:cNvSpPr/>
          <p:nvPr/>
        </p:nvSpPr>
        <p:spPr>
          <a:xfrm>
            <a:off x="1636560" y="5616720"/>
            <a:ext cx="97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а педагога должна быть свободной, без зажатости, психологической скованности, "окаменелости" (например, жесткая стойка со скрещенными на груди рук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754280" y="504720"/>
            <a:ext cx="995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олос – важнейший элемент техники р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педагога он является основным средством труда.                                                                                         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4390920" y="2444760"/>
            <a:ext cx="39848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568520" y="1467000"/>
            <a:ext cx="991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 голосу предъявляется ряд требован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ос не должен вызывать неприятных ощущений, а должен обладать благозву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уметь изменять характеристики своего голоса с учетом ситуации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у необходимо уметь управлять своим голосом в общении с другими людьми, говорить не для себя, а для слуш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С помощью голоса педагог должен уметь внушить детям определенные требования и добиться их выполнения.</a:t>
            </a:r>
            <a:r>
              <a:rPr b="0" lang="ru-RU" sz="2000" spc="-1" strike="noStrike">
                <a:solidFill>
                  <a:srgbClr val="1f4e79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                                                                                        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Голос педагога должен быть достаточно вынослив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ходя из этих требований, можно сказать, что голос педагога должен обладать благозвучностью, гибкостью, полетностью, вынослив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дагог обязан владеть методическим мастерством, знать приемы, необходимые для оказания соответствующего влияния на речь детей, и уметь их применять во всех случаях общения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14280" y="235080"/>
            <a:ext cx="1506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828800" y="2811600"/>
            <a:ext cx="99568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ред педагогом стоят зада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спитание у детей чистого, ясного произношения звуков в слов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го произношения слов согласно нормам орфоэпии русского язы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отчетливого произношения (хорошей дикц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выразительности детск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47760" y="266760"/>
            <a:ext cx="2532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609560" y="401760"/>
            <a:ext cx="10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общении необходимо следовать некоторым принци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с двумя скругленными противолежащими углами 2"/>
          <p:cNvSpPr/>
          <p:nvPr/>
        </p:nvSpPr>
        <p:spPr>
          <a:xfrm>
            <a:off x="1352520" y="1249200"/>
            <a:ext cx="10212480" cy="5139000"/>
          </a:xfrm>
          <a:prstGeom prst="pie">
            <a:avLst/>
          </a:prstGeom>
          <a:solidFill>
            <a:srgbClr val="66ff66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имать ребенка таким, каков он 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каждый человек самобыт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ить в способности воспитан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овать их творческую 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ать личность детей, создавать ситуацию успеха для кажд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нижать достоинства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равнивать детей друг с другом, сравнивать только результаты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любой может ошиб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вать, что каждый волен иметь свое мнение, никто не имеет права смеяться над суждениями окружа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90760" y="496800"/>
            <a:ext cx="100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менно поэтому к речи педагога ДОУ, сегодня предъявляются высокие требования, и проблема повышения культуры речи воспитателя рассматривается в контексте повышения качеств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353960" y="3646440"/>
            <a:ext cx="100584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 – важнейшее качество его профессионально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Детский мир"/>
          <p:cNvPicPr/>
          <p:nvPr/>
        </p:nvPicPr>
        <p:blipFill>
          <a:blip r:embed="rId2"/>
          <a:stretch/>
        </p:blipFill>
        <p:spPr>
          <a:xfrm>
            <a:off x="3160800" y="1944720"/>
            <a:ext cx="55767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бъект 2"/>
          <p:cNvSpPr/>
          <p:nvPr/>
        </p:nvSpPr>
        <p:spPr>
          <a:xfrm>
            <a:off x="3090960" y="135396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2706840" y="333360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03480" y="914400"/>
            <a:ext cx="905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повышение общей культуры педагогов, педагогической компетентности воспитателей в вопросах профессиональной речевой культуры.  Расширение знаний о значении соблюдения педагогами норм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луб увлечений раскраски для девочек принцессы 15. - 8 Марта 2014 - Blog - Secandsafe"/>
          <p:cNvPicPr/>
          <p:nvPr/>
        </p:nvPicPr>
        <p:blipFill>
          <a:blip r:embed="rId2"/>
          <a:stretch/>
        </p:blipFill>
        <p:spPr>
          <a:xfrm>
            <a:off x="1714680" y="2894040"/>
            <a:ext cx="3068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625760" y="1332000"/>
            <a:ext cx="94932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уб И.Б., Неклюдов В.Д. Русская риторика и культура речи. М., Логос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Карпинская Н.С. Художественное слово в воспитании детей. М., 197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Розенталь Д.Э. Говорите и пишите по - русски  правильно., М., Айрис – пресс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063880" y="858960"/>
            <a:ext cx="91310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b9bd5"/>
                </a:solidFill>
                <a:latin typeface="Calibri"/>
                <a:ea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Детки КАРТИНК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333600" y="1884240"/>
            <a:ext cx="653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78080" y="1392120"/>
            <a:ext cx="10037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ширить представление о речевой культуре педагога как основного инструмента культуры в це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светить содержание деятельности педагога, компоненты и требования к его профессиональ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крыть значение культуры речи воспитателя для формирования речи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очь совершенствовать владение нормами литературного язы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бедить в необходимости регулировать свое речевое поведение в общении с дошкольниками и друг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704960" y="231840"/>
            <a:ext cx="17161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021120" y="2668680"/>
            <a:ext cx="65134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Русский язык! Тысячелетия создавал народ это гибкое, пышное, неисчерпаемо богатое, умное, поэтическое,  трудовое орудие своей социальной жизни, своей мысли, своих чувств, своих надежд, своего гнева, своего великого будущего»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А.Н.Толст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Лад в музыке - Презентация 17981/21"/>
          <p:cNvPicPr/>
          <p:nvPr/>
        </p:nvPicPr>
        <p:blipFill>
          <a:blip r:embed="rId4"/>
          <a:stretch/>
        </p:blipFill>
        <p:spPr>
          <a:xfrm>
            <a:off x="966960" y="128520"/>
            <a:ext cx="261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023920" y="1711440"/>
            <a:ext cx="892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то такое культура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Культура речи – это владение нормами устного и письменного литературного языка (правилами произношения, ударения, грамматики, словоупотребления и т.д.), а также умение использовать выразительные языковые средства в разных условиях общения в соответствии с целями и содержанием реч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фессор Л. И.Скворц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01920" y="515880"/>
            <a:ext cx="1998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084320" y="646200"/>
            <a:ext cx="109076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ребования к речи педагога Д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грамотна, литератур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к себе этика речи, по форме и тону речь должна быть всегда культурной.          Структуру речи следует согласовывать с возрастом ребё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одержание речи должно строго соответствовать развитию, запасу представлений, интересам детей, опираясь на их опы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точность, ясность и простота речи. От точности речи зависит точность воспроизведения, отчётливость по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обходимо регулировать темп своей речи. Не понимая смысла льющихся потоком слов, ребёнок просто перестаёт слушать. Недопустима и слишком медленная, растянутая речь: она надоед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ледует регулировать силу своего голоса, говорить настолько громко или тихо, насколько этого требуют условия момента и содержания речи. Тихую речь дети не слышат, не улавливают её содержание. Громкую речь, переходящую в крик, дети перенимают как манеру речи быстро. Кричат дети, их перекрикивают взрослые. В этом гаме тонут слова и их содерж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эмоциональна, по возможности, образна, выразительна и отражать  интерес, внимание, любовь к ребёнку, заботу о нё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едагог должен владеть методическим мастерством, знанием приёмов, необходимых для оказания соответствующего влияния на речь детей и умением их применять во всех  случаях общения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е использование педагогом невербальных средств общения, его умение  не только говорить с ребенком, но и слышать 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2449440" y="2181240"/>
            <a:ext cx="8794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омпоненты красивой ре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равильность, богатство, чистота, логичность, точность, выразительность, уместность, дикция (четкое и ясное произнесение звуков речи), орфоэпия (правильное литературное произношение всех слов родного язы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 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ультура речи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едагога охватывает все компоненты речевой деятельности и их составляющ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18040" y="576360"/>
            <a:ext cx="764208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ормы общ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гнитивная (восприятие других и их поним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аффективная (отношение к другом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оведенческая (выбор поведения в конкретной ситуац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этическ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ммуникатив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320840" y="2495520"/>
            <a:ext cx="101376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и этические нормы представляют собой конкретные правила, помогающие осуществлять оптимальное общение, создавать благоприятный эмоциональный климат и раскрывать личность каждого партнера по общению. Они обеспечивают выбор средств общения и действуют на всех этапах речев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23880" y="301680"/>
            <a:ext cx="1435320" cy="1173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523880" y="2154240"/>
            <a:ext cx="932508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качества реч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это свойства, которые помогают организовать общение и сделать его эффективным: уместность, богатство, чистота, точность, логичность,  доступность, выразительность, правильность. Специфика педагогической деятельности заключается в постоянном деятельном контакте с другими людьми. Работа педагога направлена на формирование личности подрастающего человека, выработку определенных правил поведения, интеллектуальное развитие. Педагог должен обладать не только психологическими, специальными знаниями, но также и навыками профессиональ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09:32Z</dcterms:created>
  <dc:creator>123</dc:creator>
  <dc:description/>
  <dc:language>en-US</dc:language>
  <cp:lastModifiedBy>Пользователь</cp:lastModifiedBy>
  <dcterms:modified xsi:type="dcterms:W3CDTF">2024-03-19T18:38:51Z</dcterms:modified>
  <cp:revision>60</cp:revision>
  <dc:subject/>
  <dc:title>Презентация PowerPoint</dc:title>
</cp:coreProperties>
</file>