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13.png" ContentType="image/png"/>
  <Override PartName="/ppt/media/image7.gif" ContentType="image/gif"/>
  <Override PartName="/ppt/media/image8.jpeg" ContentType="image/jpeg"/>
  <Override PartName="/ppt/media/image9.gif" ContentType="image/gif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549-412D-4190-BD82-DD9ED58A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E2A-DA0A-4A53-B354-99D8C771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9C0-50D9-480B-A5E6-BFC03EB9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3B2-078A-4750-8323-11D16B00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12C-66BE-4981-8377-69395967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C55-4509-4EAB-8306-2983328A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0168-62ED-4185-8DFF-7581391A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839-22E9-4051-8AAB-80FDD377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EAC-4010-474F-8FA4-0029AABB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06D-649A-4FF6-8DE4-B57F91ED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A52-03A5-490C-8366-65BA9B5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C0A-1ADC-48D8-BA06-2F6AFE2E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F52A-B803-4215-A724-7474685D71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бъект 2"/>
          <p:cNvSpPr/>
          <p:nvPr/>
        </p:nvSpPr>
        <p:spPr>
          <a:xfrm>
            <a:off x="7731000" y="1295280"/>
            <a:ext cx="36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ультура речи педаго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Объект 2"/>
          <p:cNvSpPr/>
          <p:nvPr/>
        </p:nvSpPr>
        <p:spPr>
          <a:xfrm>
            <a:off x="2576520" y="3414600"/>
            <a:ext cx="862344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879480" y="208080"/>
            <a:ext cx="6653160" cy="6414840"/>
          </a:xfrm>
          <a:prstGeom prst="rect">
            <a:avLst/>
          </a:prstGeom>
          <a:ln w="0">
            <a:noFill/>
          </a:ln>
        </p:spPr>
      </p:pic>
      <p:sp>
        <p:nvSpPr>
          <p:cNvPr id="44" name="Объект 2"/>
          <p:cNvSpPr/>
          <p:nvPr/>
        </p:nvSpPr>
        <p:spPr>
          <a:xfrm>
            <a:off x="8244000" y="4683240"/>
            <a:ext cx="32875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ыполнила воспита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еливанова Маргарита Валерьян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68520" y="1693800"/>
          <a:ext cx="9653400" cy="2065320"/>
        </p:xfrm>
        <a:graphic>
          <a:graphicData uri="http://schemas.openxmlformats.org/drawingml/2006/table">
            <a:tbl>
              <a:tblPr/>
              <a:tblGrid>
                <a:gridCol w="4825800"/>
                <a:gridCol w="4827600"/>
              </a:tblGrid>
              <a:tr h="2065320">
                <a:tc>
                  <a:txBody>
                    <a:bodyPr lIns="152280" rIns="152280" tIns="114120" bIns="114120" anchor="ctr">
                      <a:noAutofit/>
                    </a:bodyPr>
                    <a:p>
                      <a:pPr marL="270000"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на катере) - Вы на следующей пристани ..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70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Сходите или выходите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2280" marR="15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2280" rIns="152280" tIns="114120" bIns="114120" anchor="ctr">
                      <a:noAutofit/>
                    </a:bodyPr>
                    <a:p>
                      <a:pPr marL="270000"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в автобусе, трамвае) - Вы на следующей остановке ..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70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Выходите или сходите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2280" marR="15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4"/>
          <p:cNvSpPr/>
          <p:nvPr/>
        </p:nvSpPr>
        <p:spPr>
          <a:xfrm>
            <a:off x="2268360" y="982800"/>
            <a:ext cx="87487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Задание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Выберите нужный глагол, чтобы спросить следующе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219320" y="4064040"/>
            <a:ext cx="1010268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яснение. Когда пароход, катер причаливает к пристани, то кладут сходни, и по ним пассажиры сходя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 троллейбусе, автобусе, трамвае есть вход (задняя дверь) и выход (передняя дверь), поэтому пользующиеся городским транспортом входят и выходят, отсюда уместен вопрос: «Вы выходите?» Однако допустим и вопрос «Вы сходите на следующей остановке?» поскольку в данном случае приходится сходить по ступень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467000" y="744480"/>
            <a:ext cx="977724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ечь  педагога должна быть логичной и чистой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огичность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– выражение  в смысловых связях компонентов речи и отношений между частями и компонентами мыс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Чистота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– отсутствие  в речи элементов, чуждых литературному языку и отвергаемых нормами нравственности слов и словосочетаний (диалектизмов, канцеляризмов, жаргонизмов, просторечия, вульгаризмов)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Анимашки на тему &quot;Школа&quot;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4564080" y="3940200"/>
            <a:ext cx="3425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Лента лицом вниз 1"/>
          <p:cNvSpPr/>
          <p:nvPr/>
        </p:nvSpPr>
        <p:spPr>
          <a:xfrm>
            <a:off x="1239840" y="206280"/>
            <a:ext cx="9955080" cy="1158840"/>
          </a:xfrm>
          <a:custGeom>
            <a:avLst/>
            <a:gdLst>
              <a:gd name="textAreaLeft" fmla="*/ 2488680 w 9955080"/>
              <a:gd name="textAreaRight" fmla="*/ 7466400 w 9955080"/>
              <a:gd name="textAreaTop" fmla="*/ 192960 h 1158840"/>
              <a:gd name="textAreaBottom" fmla="*/ 1159200 h 11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92d050"/>
          </a:soli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ые распространённые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и в речи  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239840" y="1533600"/>
            <a:ext cx="102315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использование просторечий и диалектизмов, устаревших сл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засоренность речи словами-паразитами (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ну, вот, так сказать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 т.д.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неправильное ударение в слова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роизнесение слов с акцентом или с характерными особенностями местного говора;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побуквенное произнесение слов, когда слова произносятся так, как пишутся (его вместо[ево];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копирование речи малышей, «сюсюканье»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частое  неоправданное употребление слов с уменьшительно - ласкательными суффиксами; - использование в речи слов не понятных детям без уточнения    их  зна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многословие, наслоение лишних фраз, дета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насыщение речи сложными грамматическими оборота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ускоренный темп речи, что очень затрудняет понимание речи деть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монотонная  речь, при которой у детей резко снижается интерес к содержанию высказывания; нечеткая артикуляция звуков в процессе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мня об этом, воспитатель должен считать профессиональным долгом непрерывное совершенствование своей речи, чтобы основательно знать родной язык детей, которых он воспитыва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Лента лицом вниз 3"/>
          <p:cNvSpPr/>
          <p:nvPr/>
        </p:nvSpPr>
        <p:spPr>
          <a:xfrm>
            <a:off x="1324080" y="358920"/>
            <a:ext cx="10226520" cy="1236600"/>
          </a:xfrm>
          <a:custGeom>
            <a:avLst/>
            <a:gdLst>
              <a:gd name="textAreaLeft" fmla="*/ 2556720 w 10226520"/>
              <a:gd name="textAreaRight" fmla="*/ 7670160 w 10226520"/>
              <a:gd name="textAreaTop" fmla="*/ 205920 h 1236600"/>
              <a:gd name="textAreaBottom" fmla="*/ 1236600 h 12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b4d1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а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557360" y="1919160"/>
            <a:ext cx="10159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1. Педагог должен говорить негромко, но так, чтобы каждый мог его услышать, чтобы процесс слушания не вызывал у воспитанников значительного напря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2. Педагог должен говорить внят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. Педагог должен говорить со скоростью около 120 слов в мину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4. Для достижения выразительности звучания важно уметь пользоваться паузами - логическими и психологическими. Без логических пауз речь безграмотна, без психологических - бесцве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5. Педагог должен говорить с интонацией, т. е. уметь ставить логические ударения, выделять отдельные слова, важные для содержания сказан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6. Мелодичность придает голосу педагога индивидуальную окраску и может существенно влиять на эмоциональное самочувствие воспитанников: воодушевлять, увлекать, успокаивать. Мелодика рождается в опоре на гласные зву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Лента лицом вниз 4"/>
          <p:cNvSpPr/>
          <p:nvPr/>
        </p:nvSpPr>
        <p:spPr>
          <a:xfrm>
            <a:off x="1339920" y="804960"/>
            <a:ext cx="10290240" cy="612720"/>
          </a:xfrm>
          <a:custGeom>
            <a:avLst/>
            <a:gdLst>
              <a:gd name="textAreaLeft" fmla="*/ 2572560 w 10290240"/>
              <a:gd name="textAreaRight" fmla="*/ 7717680 w 10290240"/>
              <a:gd name="textAreaTop" fmla="*/ 101880 h 612720"/>
              <a:gd name="textAreaBottom" fmla="*/ 61308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мимики в передаче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1636560" y="1704960"/>
            <a:ext cx="96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ая роль в передаче информации отводится мимике - движениям мышц лица. Мимика выражает проживаемые состояния, отношения. Исследования показали, что если лицо педагога неподвижно - теряется    до 10-15%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3105000" y="272412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5"/>
          <p:cNvSpPr/>
          <p:nvPr/>
        </p:nvSpPr>
        <p:spPr>
          <a:xfrm>
            <a:off x="1636560" y="4684680"/>
            <a:ext cx="10290240" cy="612720"/>
          </a:xfrm>
          <a:custGeom>
            <a:avLst/>
            <a:gdLst>
              <a:gd name="textAreaLeft" fmla="*/ 2572560 w 10290240"/>
              <a:gd name="textAreaRight" fmla="*/ 7717680 w 10290240"/>
              <a:gd name="textAreaTop" fmla="*/ 101880 h 612720"/>
              <a:gd name="textAreaBottom" fmla="*/ 61308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зительность пластики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11" descr=""/>
          <p:cNvPicPr/>
          <p:nvPr/>
        </p:nvPicPr>
        <p:blipFill>
          <a:blip r:embed="rId2"/>
          <a:srcRect l="12077" t="4205" r="3750" b="3496"/>
          <a:stretch/>
        </p:blipFill>
        <p:spPr>
          <a:xfrm>
            <a:off x="4775040" y="2724120"/>
            <a:ext cx="2482920" cy="18558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3"/>
          <p:cNvSpPr/>
          <p:nvPr/>
        </p:nvSpPr>
        <p:spPr>
          <a:xfrm>
            <a:off x="1636560" y="5616720"/>
            <a:ext cx="97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а педагога должна быть свободной, без зажатости, психологической скованности, "окаменелости" (например, жесткая стойка со скрещенными на груди рук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1754280" y="504720"/>
            <a:ext cx="995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Голос – важнейший элемент техники реч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педагога он является основным средством труда.                                                                                                                       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2"/>
          <a:stretch/>
        </p:blipFill>
        <p:spPr>
          <a:xfrm>
            <a:off x="4390920" y="2444760"/>
            <a:ext cx="39848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568520" y="1467000"/>
            <a:ext cx="9912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 голосу предъявляется ряд требован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1. Голос не должен вызывать неприятных ощущений, а должен обладать благозвучн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2. Педагог должен уметь изменять характеристики своего голоса с учетом ситуации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. Педагогу необходимо уметь управлять своим голосом в общении с другими людьми, говорить не для себя, а для слуша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4. С помощью голоса педагог должен уметь внушить детям определенные требования и добиться их выполнения.</a:t>
            </a:r>
            <a:r>
              <a:rPr b="0" lang="ru-RU" sz="2000" spc="-1" strike="noStrike">
                <a:solidFill>
                  <a:srgbClr val="1f4e79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                                                                                         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5.Голос педагога должен быть достаточно вынослив.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сходя из этих требований, можно сказать, что голос педагога должен обладать благозвучностью, гибкостью, полетностью, вынослив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едагог обязан владеть методическим мастерством, знать приемы, необходимые для оказания соответствующего влияния на речь детей, и уметь их применять во всех случаях общения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214280" y="235080"/>
            <a:ext cx="1506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828800" y="2811600"/>
            <a:ext cx="99568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еред педагогом стоят задач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воспитание у детей чистого, ясного произношения звуков в слов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равильного произношения слов согласно нормам орфоэпии русского язы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воспитание отчетливого произношения (хорошей дикци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воспитание выразительности детско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247760" y="266760"/>
            <a:ext cx="25322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609560" y="401760"/>
            <a:ext cx="10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и общении необходимо следовать некоторым принцип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с двумя скругленными противолежащими углами 2"/>
          <p:cNvSpPr/>
          <p:nvPr/>
        </p:nvSpPr>
        <p:spPr>
          <a:xfrm>
            <a:off x="1352520" y="1249200"/>
            <a:ext cx="10212480" cy="5139000"/>
          </a:xfrm>
          <a:prstGeom prst="pie">
            <a:avLst/>
          </a:prstGeom>
          <a:solidFill>
            <a:srgbClr val="66ff66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имать ребенка таким, каков он 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нить, что каждый человек самобыт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ить в способности воспитан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мулировать их творческую а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ажать личность детей, создавать ситуацию успеха для кажд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нижать достоинства ребё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сравнивать детей друг с другом, сравнивать только результаты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нить, что любой может ошиб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забывать, что каждый волен иметь свое мнение, никто не имеет права смеяться над суждениями окружаю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490760" y="496800"/>
            <a:ext cx="1000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менно поэтому к речи педагога ДОУ, сегодня предъявляются высокие требования, и проблема повышения культуры речи воспитателя рассматривается в контексте повышения качества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1353960" y="3646440"/>
            <a:ext cx="100584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ультура речи педагога – важнейшее качество его профессиональной педагог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Детский мир"/>
          <p:cNvPicPr/>
          <p:nvPr/>
        </p:nvPicPr>
        <p:blipFill>
          <a:blip r:embed="rId2"/>
          <a:stretch/>
        </p:blipFill>
        <p:spPr>
          <a:xfrm>
            <a:off x="3160800" y="1944720"/>
            <a:ext cx="55767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бъект 2"/>
          <p:cNvSpPr/>
          <p:nvPr/>
        </p:nvSpPr>
        <p:spPr>
          <a:xfrm>
            <a:off x="3090960" y="1353960"/>
            <a:ext cx="862308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2706840" y="3333600"/>
            <a:ext cx="862308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2103480" y="914400"/>
            <a:ext cx="905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повышение общей культуры педагогов, педагогической компетентности воспитателей в вопросах профессиональной речевой культуры.  Расширение знаний о значении соблюдения педагогами норм литературного язы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Клуб увлечений раскраски для девочек принцессы 15. - 8 Марта 2014 - Blog - Secandsafe"/>
          <p:cNvPicPr/>
          <p:nvPr/>
        </p:nvPicPr>
        <p:blipFill>
          <a:blip r:embed="rId2"/>
          <a:stretch/>
        </p:blipFill>
        <p:spPr>
          <a:xfrm>
            <a:off x="1714680" y="2894040"/>
            <a:ext cx="3068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1353960" y="3646440"/>
            <a:ext cx="1005840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1625760" y="1332000"/>
            <a:ext cx="94932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ts val="18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ts val="18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1. Голуб И.Б., Неклюдов В.Д. Русская риторика и культура речи. М., Логос,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2. Карпинская Н.С. Художественное слово в воспитании детей. М., 197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. Розенталь Д.Э. Говорите и пишите по - русски  правильно., М., Айрис – пресс, 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1353960" y="3646440"/>
            <a:ext cx="1005840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2063880" y="858960"/>
            <a:ext cx="91310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b9bd5"/>
                </a:solidFill>
                <a:latin typeface="Calibri"/>
                <a:ea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Детки КАРТИНКИ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3333600" y="1884240"/>
            <a:ext cx="65311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378080" y="1392120"/>
            <a:ext cx="100375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асширить представление о речевой культуре педагога как основного инструмента культуры в цел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светить содержание деятельности педагога, компоненты и требования к его профессионально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 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аскрыть значение культуры речи воспитателя для формирования речи детей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мочь совершенствовать владение нормами литературного язы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 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бедить в необходимости регулировать свое речевое поведение в общении с дошкольниками и другими люд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704960" y="231840"/>
            <a:ext cx="17161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979560" y="168120"/>
            <a:ext cx="2614680" cy="214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Выбирай себе, дружок, один какой-нибудь кружок"/>
          <p:cNvPicPr/>
          <p:nvPr/>
        </p:nvPicPr>
        <p:blipFill>
          <a:blip r:embed="rId3"/>
          <a:stretch/>
        </p:blipFill>
        <p:spPr>
          <a:xfrm>
            <a:off x="9191520" y="4151160"/>
            <a:ext cx="2632320" cy="23781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3021120" y="2668680"/>
            <a:ext cx="651348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Русский язык! Тысячелетия создавал народ это гибкое, пышное, неисчерпаемо богатое, умное, поэтическое,  трудовое орудие своей социальной жизни, своей мысли, своих чувств, своих надежд, своего гнева, своего великого будущего»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А.Н.Толст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Лад в музыке - Презентация 17981/21"/>
          <p:cNvPicPr/>
          <p:nvPr/>
        </p:nvPicPr>
        <p:blipFill>
          <a:blip r:embed="rId4"/>
          <a:stretch/>
        </p:blipFill>
        <p:spPr>
          <a:xfrm>
            <a:off x="966960" y="128520"/>
            <a:ext cx="2614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2023920" y="1711440"/>
            <a:ext cx="8923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Что такое культура ре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Культура речи – это владение нормами устного и письменного литературного языка (правилами произношения, ударения, грамматики, словоупотребления и т.д.), а также умение использовать выразительные языковые средства в разных условиях общения в соответствии с целями и содержанием реч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фессор Л. И.Скворц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501920" y="515880"/>
            <a:ext cx="1998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084320" y="646200"/>
            <a:ext cx="10907640" cy="60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ребования к речи педагога ДО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Речь педагога должна быть грамотна, литератур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Особого внимания требует к себе этика речи, по форме и тону речь должна быть всегда культурной.          Структуру речи следует согласовывать с возрастом ребё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Содержание речи должно строго соответствовать развитию, запасу представлений, интересам детей, опираясь на их опы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Особого внимания требует точность, ясность и простота речи. От точности речи зависит точность воспроизведения, отчётливость поним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Необходимо регулировать темп своей речи. Не понимая смысла льющихся потоком слов, ребёнок просто перестаёт слушать. Недопустима и слишком медленная, растянутая речь: она надоед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Следует регулировать силу своего голоса, говорить настолько громко или тихо, насколько этого требуют условия момента и содержания речи. Тихую речь дети не слышат, не улавливают её содержание. Громкую речь, переходящую в крик, дети перенимают как манеру речи быстро. Кричат дети, их перекрикивают взрослые. В этом гаме тонут слова и их содерж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Речь педагога должна быть эмоциональна, по возможности, образна, выразительна и отражать  интерес, внимание, любовь к ребёнку, заботу о нё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едагог должен владеть методическим мастерством, знанием приёмов, необходимых для оказания соответствующего влияния на речь детей и умением их применять во всех  случаях общения с деть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   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равильное использование педагогом невербальных средств общения, его умение  не только говорить с ребенком, но и слышать ег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979560" y="168120"/>
            <a:ext cx="2614680" cy="21402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2449440" y="2181240"/>
            <a:ext cx="8794800" cy="23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Компоненты красивой ре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правильность, богатство, чистота, логичность, точность, выразительность, уместность, дикция (четкое и ясное произнесение звуков речи), орфоэпия (правильное литературное произношение всех слов родного язы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     </a:t>
            </a: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Культура речи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Verdana"/>
              </a:rPr>
              <a:t>педагога охватывает все компоненты речевой деятельности и их составляющ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Выбирай себе, дружок, один какой-нибудь кружок"/>
          <p:cNvPicPr/>
          <p:nvPr/>
        </p:nvPicPr>
        <p:blipFill>
          <a:blip r:embed="rId3"/>
          <a:stretch/>
        </p:blipFill>
        <p:spPr>
          <a:xfrm>
            <a:off x="9191520" y="4151160"/>
            <a:ext cx="26323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979560" y="168120"/>
            <a:ext cx="2614680" cy="2140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218040" y="576360"/>
            <a:ext cx="764208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Нормы общен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когнитивная (восприятие других и их пониман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аффективная (отношение к другому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поведенческая (выбор поведения в конкретной ситуац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этическ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- коммуникатив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buClr>
                <a:srgbClr val="1f4e7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320840" y="2495520"/>
            <a:ext cx="1013760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ммуникативные и этические нормы представляют собой конкретные правила, помогающие осуществлять оптимальное общение, создавать благоприятный эмоциональный климат и раскрывать личность каждого партнера по общению. Они обеспечивают выбор средств общения и действуют на всех этапах речев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Лад в музыке - Презентация 17981/21"/>
          <p:cNvPicPr/>
          <p:nvPr/>
        </p:nvPicPr>
        <p:blipFill>
          <a:blip r:embed="rId2"/>
          <a:stretch/>
        </p:blipFill>
        <p:spPr>
          <a:xfrm>
            <a:off x="1523880" y="301680"/>
            <a:ext cx="1435320" cy="11732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1523880" y="2154240"/>
            <a:ext cx="932508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ммуникативные качества речи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 – это свойства, которые помогают организовать общение и сделать его эффективным: уместность, богатство, чистота, точность, логичность,  доступность, выразительность, правильность. Специфика педагогической деятельности заключается в постоянном деятельном контакте с другими людьми. Работа педагога направлена на формирование личности подрастающего человека, выработку определенных правил поведения, интеллектуальное развитие. Педагог должен обладать не только психологическими, специальными знаниями, но также и навыками профессионального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13:09:32Z</dcterms:created>
  <dc:creator>123</dc:creator>
  <dc:description/>
  <dc:language>en-US</dc:language>
  <cp:lastModifiedBy>Пользователь</cp:lastModifiedBy>
  <dcterms:modified xsi:type="dcterms:W3CDTF">2024-03-19T18:38:51Z</dcterms:modified>
  <cp:revision>60</cp:revision>
  <dc:subject/>
  <dc:title>Презентация PowerPoint</dc:title>
</cp:coreProperties>
</file>