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37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3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BEB5-5376-4706-BC84-E182F8C4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F69D-9AAE-4C9C-B048-28DF3234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49DA-A4A5-4583-B1CC-F602BC63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AE41-D88D-4D1E-A6DD-0DCC285E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26F5-9CFD-43D4-8477-AA415C03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8BAB-A619-466A-8386-95072383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9930-0284-44F0-8384-2F80D098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5D7A-5723-4D08-BEBE-02B0A13C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DD1A-490B-475D-A6C1-0F53B05A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17A2-89B0-4194-A6F6-52326298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A92C-6130-4F41-8180-B61AEADB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CE3A-E600-427C-9967-D97A4C20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39DB-D0B5-4C38-A4F9-FE328A65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30D8-001E-44FA-AF76-033ABBB6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E279-DCE2-4C3F-8966-A64869B8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1031-F14E-411E-8D5D-58A0DB96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4393-A71F-4AB8-8432-1F6A7B7D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52145-DB3D-407B-BC79-596EFEAA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2F648-182E-40DB-A31D-9914D974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C67DE-3099-4A34-B530-C6E45C7D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E4A16-3FEF-49ED-B9B1-856BE2F9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F2095-6125-4ECD-8D2A-7101B832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EBE-40EF-41BE-8165-AAF51217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B1DFD-C1AE-485E-BD32-ECAA39DF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C63D1-8933-498F-A823-5AC1BE4B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B219C-0271-461A-8ACC-FADD34CC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8AA96-7DD6-4A44-9534-3602DC1E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FBA27-B5C5-46DD-BAE9-EC24C2E8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43577-8E29-42D1-896D-925C040B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AB77F-B775-4678-9CC7-603A6DA2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8ACBA-2D0F-489E-8575-5BDBB297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D66E3-F8F5-4AE3-8BDD-A1E2E1CC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981C6-C8BC-4193-9C05-1739D667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E06-299C-46ED-9825-6CF7FE26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36972-27D2-43B1-AE1A-F16A78AE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0A34C-EBA5-4169-91EE-AF06699A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A9587-9AC1-4322-818A-EB027414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55EBA-B623-47CA-A1BB-E351605E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EF9ED-2BC1-42E9-B2D6-D41B6DAF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AC029-24C9-4DBA-80E5-EBCF3606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66F4B-570C-4A3F-876A-A2054A5E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75E1D-17DE-45A5-BDD4-C023FD65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93A18-BD20-4DCE-9400-51DCAF05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DEF-6FB0-4D21-88C2-5F2C7A08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44D-363D-44B9-93E8-0A9B3E3C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0F2D-9A93-484E-ADB3-B4899B30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677-47FA-4E4A-A3E3-13E76CCC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231-FE93-40D1-BE0C-21F41C59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0DFF-7A56-44C6-839A-C557BD42AE6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5EE0-42BE-4D9F-A8A6-AF1A2AE1B18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8BFB-BC9C-498B-8235-5206E3566D8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05A8-9BB7-4F21-AFA7-0AEF81A4490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-360"/>
            <a:ext cx="7854840" cy="321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2428"/>
                </a:solidFill>
                <a:latin typeface="Arial"/>
              </a:rPr>
              <a:t>«Соловьиный  Курский край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Picture 3" descr="C:\Users\Ракитины\Desktop\0944951.jpg"/>
          <p:cNvPicPr/>
          <p:nvPr/>
        </p:nvPicPr>
        <p:blipFill>
          <a:blip r:embed="rId1"/>
          <a:stretch/>
        </p:blipFill>
        <p:spPr>
          <a:xfrm>
            <a:off x="3708360" y="2349360"/>
            <a:ext cx="4645080" cy="3311640"/>
          </a:xfrm>
          <a:prstGeom prst="rect">
            <a:avLst/>
          </a:prstGeom>
          <a:ln w="25560">
            <a:solidFill>
              <a:srgbClr val="009dd9"/>
            </a:solidFill>
            <a:miter/>
          </a:ln>
        </p:spPr>
      </p:pic>
      <p:sp>
        <p:nvSpPr>
          <p:cNvPr id="206" name="TextBox 3"/>
          <p:cNvSpPr/>
          <p:nvPr/>
        </p:nvSpPr>
        <p:spPr>
          <a:xfrm>
            <a:off x="1619280" y="5229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Users\Ракитины\Desktop\images.jpg"/>
          <p:cNvPicPr/>
          <p:nvPr/>
        </p:nvPicPr>
        <p:blipFill>
          <a:blip r:embed="rId1"/>
          <a:stretch/>
        </p:blipFill>
        <p:spPr>
          <a:xfrm>
            <a:off x="395280" y="1125360"/>
            <a:ext cx="3960720" cy="280836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4500720" y="1305000"/>
            <a:ext cx="410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кона «Знамение» Божией Матери Курская Коренная помогала всем людям в мирное время, а в годы войны помогала курянам одерживать победы над врагом, а затем восстанавливать свой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оя родимая сторонка!  Такой до боли край родн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Звенишь во мне ты песней звонкой, живёшь со мной одной судь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акой загадочный, чудесный, с прекрасной чистою ду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 с трелью соловья, и с песней о нашей Курской Коре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214200" y="785880"/>
            <a:ext cx="8572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Город Курск – Столица соловьиного края. Сначала Курск был маленькой крепостью, городищем, в котором было 3-4 десятка хижин-полуземлянок. Крепость была защищена валом, рвом и частоколом. Своё название город получил от названия реки К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4" descr="http://kladraz.ru/images/4(2).gif"/>
          <p:cNvPicPr/>
          <p:nvPr/>
        </p:nvPicPr>
        <p:blipFill>
          <a:blip r:embed="rId1"/>
          <a:stretch/>
        </p:blipFill>
        <p:spPr>
          <a:xfrm>
            <a:off x="900000" y="2205000"/>
            <a:ext cx="3333960" cy="380988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5"/>
          <p:cNvSpPr/>
          <p:nvPr/>
        </p:nvSpPr>
        <p:spPr>
          <a:xfrm>
            <a:off x="4643280" y="2492280"/>
            <a:ext cx="39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2303e"/>
                </a:solidFill>
                <a:latin typeface="Constantia"/>
              </a:rPr>
              <a:t>Куропатки  изображены на гербе Ку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4572000" y="3213000"/>
            <a:ext cx="4103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303e"/>
                </a:solidFill>
                <a:latin typeface="Constantia"/>
              </a:rPr>
              <a:t>Давным-давно в наших лесах водилось очень много куропаток. Эта птица бесконечно предана тому месту, где родилась. И мы должны, как и наши предки, быть верными своему краю и охраня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214200" y="428760"/>
            <a:ext cx="87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Природа Курского края богата и разнообразна. Насчитывается 265 видов птиц, среди которых самой знаменитой является маленькая серая пти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571680" y="1500120"/>
            <a:ext cx="4143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Трели, песни разли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Среди листьев и ветв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Как прекрасно твоё п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Голосис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428840" y="5357880"/>
            <a:ext cx="350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3763"/>
                </a:solidFill>
                <a:latin typeface="Constantia"/>
              </a:rPr>
              <a:t>солов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5" descr="79ce1488190c.jpg"/>
          <p:cNvPicPr/>
          <p:nvPr/>
        </p:nvPicPr>
        <p:blipFill>
          <a:blip r:embed="rId1"/>
          <a:stretch/>
        </p:blipFill>
        <p:spPr>
          <a:xfrm>
            <a:off x="4929120" y="1285920"/>
            <a:ext cx="3905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Users\Ракитины\Desktop\images (1).jpg"/>
          <p:cNvPicPr/>
          <p:nvPr/>
        </p:nvPicPr>
        <p:blipFill>
          <a:blip r:embed="rId1"/>
          <a:stretch/>
        </p:blipFill>
        <p:spPr>
          <a:xfrm>
            <a:off x="1042920" y="1413000"/>
            <a:ext cx="3384720" cy="23763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4572000" y="17053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 лесах и степях Курской области обитают 59 видов животных. Отгадайте загадки и узнаете, кто живёт в л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Картинки по запросу природа курского края"/>
          <p:cNvPicPr/>
          <p:nvPr/>
        </p:nvPicPr>
        <p:blipFill>
          <a:blip r:embed="rId2"/>
          <a:stretch/>
        </p:blipFill>
        <p:spPr>
          <a:xfrm>
            <a:off x="5292720" y="371628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500040" y="35712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Кто по ёлкам ловко ска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И взлетает на дуб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Кто в дупле орехи пря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Сушит на зиму гриб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285840" y="392904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3763"/>
                </a:solidFill>
                <a:latin typeface="Constantia"/>
              </a:rPr>
              <a:t>бе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3" descr="14577844_1200174215_belka_7.jpg"/>
          <p:cNvPicPr/>
          <p:nvPr/>
        </p:nvPicPr>
        <p:blipFill>
          <a:blip r:embed="rId1"/>
          <a:stretch/>
        </p:blipFill>
        <p:spPr>
          <a:xfrm>
            <a:off x="2714760" y="2428920"/>
            <a:ext cx="629604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1" descr="wolf-031.jpg"/>
          <p:cNvPicPr/>
          <p:nvPr/>
        </p:nvPicPr>
        <p:blipFill>
          <a:blip r:embed="rId1"/>
          <a:stretch/>
        </p:blipFill>
        <p:spPr>
          <a:xfrm>
            <a:off x="2801880" y="1785960"/>
            <a:ext cx="6143760" cy="4897440"/>
          </a:xfrm>
          <a:prstGeom prst="rect">
            <a:avLst/>
          </a:prstGeom>
          <a:ln w="0">
            <a:noFill/>
          </a:ln>
        </p:spPr>
      </p:pic>
      <p:sp>
        <p:nvSpPr>
          <p:cNvPr id="245" name="TextBox 2"/>
          <p:cNvSpPr/>
          <p:nvPr/>
        </p:nvSpPr>
        <p:spPr>
          <a:xfrm>
            <a:off x="214200" y="71424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3763"/>
                </a:solidFill>
                <a:latin typeface="Constantia"/>
              </a:rPr>
              <a:t>На собаку он похож, что ни зуб, то острый но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3763"/>
                </a:solidFill>
                <a:latin typeface="Constantia"/>
              </a:rPr>
              <a:t>Он бежит, оскалив пасть, на овцу готов нап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428760" y="3357720"/>
            <a:ext cx="214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83763"/>
                </a:solidFill>
                <a:latin typeface="Constantia"/>
              </a:rPr>
              <a:t>вол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1" descr="8b62bdf422d9.jpg"/>
          <p:cNvPicPr/>
          <p:nvPr/>
        </p:nvPicPr>
        <p:blipFill>
          <a:blip r:embed="rId1"/>
          <a:stretch/>
        </p:blipFill>
        <p:spPr>
          <a:xfrm>
            <a:off x="4786200" y="500040"/>
            <a:ext cx="4214880" cy="54291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2"/>
          <p:cNvSpPr/>
          <p:nvPr/>
        </p:nvSpPr>
        <p:spPr>
          <a:xfrm>
            <a:off x="5143680" y="614376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3763"/>
                </a:solidFill>
                <a:latin typeface="Constantia"/>
              </a:rPr>
              <a:t>ё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500040" y="1143000"/>
            <a:ext cx="3429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Недотрога, весь в игол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Он живёт в лесу под ёл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Хоть открыты настежь дв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Constantia"/>
              </a:rPr>
              <a:t>Но к нему не ходят зве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1" descr="lag002.jpg"/>
          <p:cNvPicPr/>
          <p:nvPr/>
        </p:nvPicPr>
        <p:blipFill>
          <a:blip r:embed="rId1"/>
          <a:stretch/>
        </p:blipFill>
        <p:spPr>
          <a:xfrm>
            <a:off x="4714920" y="2500200"/>
            <a:ext cx="4152960" cy="40006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"/>
          <p:cNvSpPr/>
          <p:nvPr/>
        </p:nvSpPr>
        <p:spPr>
          <a:xfrm>
            <a:off x="5000760" y="1071720"/>
            <a:ext cx="371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83763"/>
                </a:solidFill>
                <a:latin typeface="Constantia"/>
              </a:rPr>
              <a:t>зая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357120" y="1000080"/>
            <a:ext cx="3571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Constantia"/>
              </a:rPr>
              <a:t>У косого нет берлог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Constantia"/>
              </a:rPr>
              <a:t>Не нужна ему н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Constantia"/>
              </a:rPr>
              <a:t>От врагов спасают ног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Constantia"/>
              </a:rPr>
              <a:t>А от голода – к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1" descr="post-19-1195929153.jpg"/>
          <p:cNvPicPr/>
          <p:nvPr/>
        </p:nvPicPr>
        <p:blipFill>
          <a:blip r:embed="rId1"/>
          <a:stretch/>
        </p:blipFill>
        <p:spPr>
          <a:xfrm>
            <a:off x="357120" y="1714680"/>
            <a:ext cx="6572160" cy="49291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7072200" y="3500280"/>
            <a:ext cx="150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3763"/>
                </a:solidFill>
                <a:latin typeface="Constantia"/>
              </a:rPr>
              <a:t>ли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214200" y="357120"/>
            <a:ext cx="878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83763"/>
                </a:solidFill>
                <a:latin typeface="Constantia"/>
              </a:rPr>
              <a:t>Посмотрите-ка какая, вся горит, как золот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83763"/>
                </a:solidFill>
                <a:latin typeface="Constantia"/>
              </a:rPr>
              <a:t>Ходит в шубке золотой, хвост пушистый и боль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357120" y="214200"/>
            <a:ext cx="850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3763"/>
                </a:solidFill>
                <a:latin typeface="Constantia"/>
              </a:rPr>
              <a:t>На территории Курской области  протекают реки Сейм, Псёл, Оскол, Тим, Кшень, Тускарь. Более 700 прудов и водохранилищ. В водоёмах водятся 32 вида рыб: окунь, плотва, карась, карп, сом, щука, песка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3" descr="кур.jpg"/>
          <p:cNvPicPr/>
          <p:nvPr/>
        </p:nvPicPr>
        <p:blipFill>
          <a:blip r:embed="rId1"/>
          <a:stretch/>
        </p:blipFill>
        <p:spPr>
          <a:xfrm>
            <a:off x="214200" y="1571760"/>
            <a:ext cx="4000680" cy="243036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сейм.jpg"/>
          <p:cNvPicPr/>
          <p:nvPr/>
        </p:nvPicPr>
        <p:blipFill>
          <a:blip r:embed="rId2"/>
          <a:stretch/>
        </p:blipFill>
        <p:spPr>
          <a:xfrm>
            <a:off x="4357800" y="1357200"/>
            <a:ext cx="4286160" cy="26560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тускарь.jpg"/>
          <p:cNvPicPr/>
          <p:nvPr/>
        </p:nvPicPr>
        <p:blipFill>
          <a:blip r:embed="rId3"/>
          <a:stretch/>
        </p:blipFill>
        <p:spPr>
          <a:xfrm>
            <a:off x="285840" y="4143240"/>
            <a:ext cx="8429400" cy="25257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8"/>
          <p:cNvSpPr/>
          <p:nvPr/>
        </p:nvSpPr>
        <p:spPr>
          <a:xfrm>
            <a:off x="7215120" y="1500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Сей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2357280" y="15717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К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500040" y="4357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Туск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500040" y="500040"/>
            <a:ext cx="392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Что мы Родиной зовё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Дом, где мы с тобой живё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И берёзки, вдоль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Рядом с мамой мы ид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"/>
          <p:cNvSpPr/>
          <p:nvPr/>
        </p:nvSpPr>
        <p:spPr>
          <a:xfrm>
            <a:off x="4643280" y="3071880"/>
            <a:ext cx="407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Что мы Родиной зовё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Поле с тонким колоск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Наши праздники и пес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Тёплый вечер за ок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285840" y="5072040"/>
            <a:ext cx="857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Что мы Родиной зовё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                        </a:t>
            </a: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Всё, что в сердце бережё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                                                 </a:t>
            </a: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И под небом синим-си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                                                                                  </a:t>
            </a: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Край, в котором мы жив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4" descr="berezki.jpg"/>
          <p:cNvPicPr/>
          <p:nvPr/>
        </p:nvPicPr>
        <p:blipFill>
          <a:blip r:embed="rId1"/>
          <a:stretch/>
        </p:blipFill>
        <p:spPr>
          <a:xfrm>
            <a:off x="4572000" y="214200"/>
            <a:ext cx="3873600" cy="258624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5" descr="pole.jpg"/>
          <p:cNvPicPr/>
          <p:nvPr/>
        </p:nvPicPr>
        <p:blipFill>
          <a:blip r:embed="rId2"/>
          <a:stretch/>
        </p:blipFill>
        <p:spPr>
          <a:xfrm>
            <a:off x="285840" y="2143080"/>
            <a:ext cx="42228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428760" y="571680"/>
            <a:ext cx="828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3763"/>
                </a:solidFill>
                <a:latin typeface="Constantia"/>
              </a:rPr>
              <a:t>Курск вместе со всей страной пережил страшные годы войны. В память о подвиге советских солдат созданы мемориальные комплексы, музеи и памятники.  Город Курск носит почётное звание «Город воинской слав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2" descr="307.jpg"/>
          <p:cNvPicPr/>
          <p:nvPr/>
        </p:nvPicPr>
        <p:blipFill>
          <a:blip r:embed="rId1"/>
          <a:stretch/>
        </p:blipFill>
        <p:spPr>
          <a:xfrm>
            <a:off x="3429000" y="2643120"/>
            <a:ext cx="5578560" cy="40006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5" descr="P7050318.jpg"/>
          <p:cNvPicPr/>
          <p:nvPr/>
        </p:nvPicPr>
        <p:blipFill>
          <a:blip r:embed="rId2"/>
          <a:stretch/>
        </p:blipFill>
        <p:spPr>
          <a:xfrm>
            <a:off x="214200" y="2643120"/>
            <a:ext cx="31435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http://download.radiodacha.ru/pub/19891.jpg"/>
          <p:cNvPicPr/>
          <p:nvPr/>
        </p:nvPicPr>
        <p:blipFill>
          <a:blip r:embed="rId1"/>
          <a:stretch/>
        </p:blipFill>
        <p:spPr>
          <a:xfrm>
            <a:off x="250920" y="1341360"/>
            <a:ext cx="4897440" cy="4286160"/>
          </a:xfrm>
          <a:prstGeom prst="rect">
            <a:avLst/>
          </a:prstGeom>
          <a:ln w="0">
            <a:noFill/>
          </a:ln>
        </p:spPr>
      </p:pic>
      <p:sp>
        <p:nvSpPr>
          <p:cNvPr id="268" name="TextBox 3"/>
          <p:cNvSpPr/>
          <p:nvPr/>
        </p:nvSpPr>
        <p:spPr>
          <a:xfrm>
            <a:off x="468360" y="5716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Constantia"/>
              </a:rPr>
              <a:t>Железногорск ,Ку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1116000" y="404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2303e"/>
                </a:solidFill>
                <a:latin typeface="Constantia"/>
              </a:rPr>
              <a:t>Города Ку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http://images.vector-images.com/46/zheleznogorsk_city_coa.gif"/>
          <p:cNvPicPr/>
          <p:nvPr/>
        </p:nvPicPr>
        <p:blipFill>
          <a:blip r:embed="rId2"/>
          <a:stretch/>
        </p:blipFill>
        <p:spPr>
          <a:xfrm>
            <a:off x="6012000" y="3429000"/>
            <a:ext cx="19047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2"/>
          <p:cNvSpPr/>
          <p:nvPr/>
        </p:nvSpPr>
        <p:spPr>
          <a:xfrm>
            <a:off x="3780000" y="836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Constantia"/>
              </a:rPr>
              <a:t>                                               </a:t>
            </a:r>
            <a:r>
              <a:rPr b="0" lang="ru-RU" sz="2000" spc="-1" strike="noStrike">
                <a:solidFill>
                  <a:srgbClr val="02303e"/>
                </a:solidFill>
                <a:latin typeface="Constantia"/>
              </a:rPr>
              <a:t>г.Рыльс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http://static.panoramio.com/photos/large/65144028.jpg"/>
          <p:cNvPicPr/>
          <p:nvPr/>
        </p:nvPicPr>
        <p:blipFill>
          <a:blip r:embed="rId1"/>
          <a:stretch/>
        </p:blipFill>
        <p:spPr>
          <a:xfrm>
            <a:off x="684360" y="333360"/>
            <a:ext cx="5111640" cy="5111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http://images.vector-images.com/46/rylsk_city_coa1893_2.gif"/>
          <p:cNvPicPr/>
          <p:nvPr/>
        </p:nvPicPr>
        <p:blipFill>
          <a:blip r:embed="rId2"/>
          <a:stretch/>
        </p:blipFill>
        <p:spPr>
          <a:xfrm>
            <a:off x="6588000" y="3645000"/>
            <a:ext cx="1857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ttp://moscowfamily.ru/images/user/medium15348746.jpg"/>
          <p:cNvPicPr/>
          <p:nvPr/>
        </p:nvPicPr>
        <p:blipFill>
          <a:blip r:embed="rId1"/>
          <a:stretch/>
        </p:blipFill>
        <p:spPr>
          <a:xfrm>
            <a:off x="250920" y="836640"/>
            <a:ext cx="4886280" cy="38307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"/>
          <p:cNvSpPr/>
          <p:nvPr/>
        </p:nvSpPr>
        <p:spPr>
          <a:xfrm>
            <a:off x="5724360" y="105264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303e"/>
                </a:solidFill>
                <a:latin typeface="Constantia"/>
              </a:rPr>
              <a:t>г. Курч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http://rkursk.ru/other/towns/images/kurchatov.png"/>
          <p:cNvPicPr/>
          <p:nvPr/>
        </p:nvPicPr>
        <p:blipFill>
          <a:blip r:embed="rId2"/>
          <a:stretch/>
        </p:blipFill>
        <p:spPr>
          <a:xfrm>
            <a:off x="6012000" y="2492280"/>
            <a:ext cx="2305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http://www.heraldicum.ru/russia/subjects/towns/images/shigry.gif"/>
          <p:cNvPicPr/>
          <p:nvPr/>
        </p:nvPicPr>
        <p:blipFill>
          <a:blip r:embed="rId1"/>
          <a:stretch/>
        </p:blipFill>
        <p:spPr>
          <a:xfrm>
            <a:off x="6804000" y="3284640"/>
            <a:ext cx="1533600" cy="19047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http://www.vidania.ru/photokurskaya/kurskaya_640x480_0017.jpg"/>
          <p:cNvPicPr/>
          <p:nvPr/>
        </p:nvPicPr>
        <p:blipFill>
          <a:blip r:embed="rId2"/>
          <a:stretch/>
        </p:blipFill>
        <p:spPr>
          <a:xfrm>
            <a:off x="324000" y="1268280"/>
            <a:ext cx="5327640" cy="45720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5867280" y="1052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Constantia"/>
              </a:rPr>
              <a:t>г. Щ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http://astrokursk.ru/rayony-kurskoy-oblasti/gerby-kurskoy-oblasti-mini/18-ponyrovskiy-rayon-gerb.gif"/>
          <p:cNvPicPr/>
          <p:nvPr/>
        </p:nvPicPr>
        <p:blipFill>
          <a:blip r:embed="rId1"/>
          <a:stretch/>
        </p:blipFill>
        <p:spPr>
          <a:xfrm>
            <a:off x="5867280" y="907920"/>
            <a:ext cx="1714680" cy="1762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http://ponyrimuseum.ucoz.ru/_ph/12/177905714.jpg"/>
          <p:cNvPicPr/>
          <p:nvPr/>
        </p:nvPicPr>
        <p:blipFill>
          <a:blip r:embed="rId2"/>
          <a:stretch/>
        </p:blipFill>
        <p:spPr>
          <a:xfrm>
            <a:off x="395280" y="907920"/>
            <a:ext cx="4105440" cy="35118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C:\Users\Ракитины\Desktop\battle_ponyri_6.jpg"/>
          <p:cNvPicPr/>
          <p:nvPr/>
        </p:nvPicPr>
        <p:blipFill>
          <a:blip r:embed="rId3"/>
          <a:stretch/>
        </p:blipFill>
        <p:spPr>
          <a:xfrm>
            <a:off x="5003640" y="3357720"/>
            <a:ext cx="3816360" cy="2592360"/>
          </a:xfrm>
          <a:prstGeom prst="rect">
            <a:avLst/>
          </a:prstGeom>
          <a:ln w="0">
            <a:noFill/>
          </a:ln>
        </p:spPr>
      </p:pic>
      <p:sp>
        <p:nvSpPr>
          <p:cNvPr id="284" name="TextBox 4"/>
          <p:cNvSpPr/>
          <p:nvPr/>
        </p:nvSpPr>
        <p:spPr>
          <a:xfrm>
            <a:off x="755640" y="4869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Constantia"/>
              </a:rPr>
              <a:t>г. Поны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1"/>
          <p:cNvSpPr/>
          <p:nvPr/>
        </p:nvSpPr>
        <p:spPr>
          <a:xfrm>
            <a:off x="971640" y="69228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словицы о Род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ереги землю родимую, как мать любим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якому мила своя стор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одная земля-матушка, а чужая сторона – мач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http://www.olimpicblog.ru/wp-content/uploads/2010/10/Gorod.jpg"/>
          <p:cNvPicPr/>
          <p:nvPr/>
        </p:nvPicPr>
        <p:blipFill>
          <a:blip r:embed="rId1"/>
          <a:stretch/>
        </p:blipFill>
        <p:spPr>
          <a:xfrm>
            <a:off x="2340000" y="3068640"/>
            <a:ext cx="4200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" descr="Kurskaya_Obl.jpg"/>
          <p:cNvPicPr/>
          <p:nvPr/>
        </p:nvPicPr>
        <p:blipFill>
          <a:blip r:embed="rId1"/>
          <a:stretch/>
        </p:blipFill>
        <p:spPr>
          <a:xfrm>
            <a:off x="1071720" y="2071800"/>
            <a:ext cx="7065720" cy="45576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2"/>
          <p:cNvSpPr/>
          <p:nvPr/>
        </p:nvSpPr>
        <p:spPr>
          <a:xfrm>
            <a:off x="1071720" y="428760"/>
            <a:ext cx="72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2303e"/>
                </a:solidFill>
                <a:latin typeface="Constantia"/>
              </a:rPr>
              <a:t>Курская область расположена в центре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2303e"/>
                </a:solidFill>
                <a:latin typeface="Constantia"/>
              </a:rPr>
              <a:t>Площадь Курской области  около 30 000 квадратных кило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285840" y="214200"/>
            <a:ext cx="857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На Курской земле люди жили с древних времё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2303e"/>
                </a:solidFill>
                <a:latin typeface="Constantia"/>
              </a:rPr>
              <a:t>Первые жители обитали в землянках, одевались в звериные шкуры, охотились на мамо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2" descr="1100-6.jpg"/>
          <p:cNvPicPr/>
          <p:nvPr/>
        </p:nvPicPr>
        <p:blipFill>
          <a:blip r:embed="rId1"/>
          <a:stretch/>
        </p:blipFill>
        <p:spPr>
          <a:xfrm>
            <a:off x="1214280" y="1285920"/>
            <a:ext cx="6500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785880" y="714240"/>
            <a:ext cx="74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3763"/>
                </a:solidFill>
                <a:latin typeface="Constantia"/>
              </a:rPr>
              <a:t>Позже стали заниматься рыболовством, скотоводством, земледел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2" descr="f06d3bd8e256.jpg"/>
          <p:cNvPicPr/>
          <p:nvPr/>
        </p:nvPicPr>
        <p:blipFill>
          <a:blip r:embed="rId1"/>
          <a:stretch/>
        </p:blipFill>
        <p:spPr>
          <a:xfrm>
            <a:off x="4643280" y="1643040"/>
            <a:ext cx="4248360" cy="49039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3" descr="64977.jpg"/>
          <p:cNvPicPr/>
          <p:nvPr/>
        </p:nvPicPr>
        <p:blipFill>
          <a:blip r:embed="rId2"/>
          <a:stretch/>
        </p:blipFill>
        <p:spPr>
          <a:xfrm>
            <a:off x="285840" y="1620720"/>
            <a:ext cx="40003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142920" y="14292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2303e"/>
                </a:solidFill>
                <a:latin typeface="Constantia"/>
              </a:rPr>
              <a:t>В далёком прошлом Курский край назывался Посемьем (от названия реки Сейм). Здесь произрастали густые леса, в которых было много дичи. Сюда приходили охотиться местные жители и приезжали из других ме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2" descr="cde6efcd6308.jpg"/>
          <p:cNvPicPr/>
          <p:nvPr/>
        </p:nvPicPr>
        <p:blipFill>
          <a:blip r:embed="rId1"/>
          <a:stretch/>
        </p:blipFill>
        <p:spPr>
          <a:xfrm>
            <a:off x="214200" y="1357200"/>
            <a:ext cx="8786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" descr="http://kladraz.ru/images/5(9).jpg"/>
          <p:cNvPicPr/>
          <p:nvPr/>
        </p:nvPicPr>
        <p:blipFill>
          <a:blip r:embed="rId1"/>
          <a:stretch/>
        </p:blipFill>
        <p:spPr>
          <a:xfrm>
            <a:off x="4500720" y="3860640"/>
            <a:ext cx="4244760" cy="25545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"/>
          <p:cNvSpPr/>
          <p:nvPr/>
        </p:nvSpPr>
        <p:spPr>
          <a:xfrm>
            <a:off x="684360" y="-37440"/>
            <a:ext cx="79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Решил поохотиться рыльский князь. Он разбил лагерь на берегу реки и дружина разошлась по лесу. Три дня охотники ходили по лесу, но им не везло. Усталые, они пробирались в кустах по-над ре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- А как речка-то называется? (спрашивает у местной старуш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- Туска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- Что за прозвище та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- Татарское, по-русски означает «разбить лагер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- Ишь ты, не зря князь здесь лагерь разб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Вот тут передохнём и пойдём в лаге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И тут один охотник замер от удивления. В могучих корнях дерева он увидел какую-то доску. Это была икона Божией Матери! Богородица! Она лежала ликом вниз</a:t>
            </a:r>
            <a:r>
              <a:rPr b="0" lang="ru-RU" sz="1800" spc="-1" strike="noStrike">
                <a:solidFill>
                  <a:srgbClr val="02303e"/>
                </a:solidFill>
                <a:latin typeface="Constantia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икона.jpg"/>
          <p:cNvPicPr/>
          <p:nvPr/>
        </p:nvPicPr>
        <p:blipFill>
          <a:blip r:embed="rId1"/>
          <a:stretch/>
        </p:blipFill>
        <p:spPr>
          <a:xfrm>
            <a:off x="324000" y="620640"/>
            <a:ext cx="4572000" cy="58579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3"/>
          <p:cNvSpPr/>
          <p:nvPr/>
        </p:nvSpPr>
        <p:spPr>
          <a:xfrm>
            <a:off x="5003640" y="1052640"/>
            <a:ext cx="37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ервое чудо произошло тут же. В том месте, где лежала икона, вдруг забил ключ. Это было 8 сентября 1 29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5037120" y="2052000"/>
            <a:ext cx="385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последствии здесь был учреждён мужской монастырь. В честь иконы в Курске был построен Знаменский со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2"/>
          <p:cNvSpPr/>
          <p:nvPr/>
        </p:nvSpPr>
        <p:spPr>
          <a:xfrm>
            <a:off x="857160" y="3571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2303e"/>
                </a:solidFill>
                <a:latin typeface="Constantia"/>
              </a:rPr>
              <a:t>Знаменский со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C:\Users\Ракитины\Desktop\0_7e545_51e74f62_XL.jpg"/>
          <p:cNvPicPr/>
          <p:nvPr/>
        </p:nvPicPr>
        <p:blipFill>
          <a:blip r:embed="rId1"/>
          <a:stretch/>
        </p:blipFill>
        <p:spPr>
          <a:xfrm>
            <a:off x="900000" y="134136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06:52:24Z</dcterms:created>
  <dc:creator>Евгения</dc:creator>
  <dc:description/>
  <dc:language>en-US</dc:language>
  <cp:lastModifiedBy>Ракитины</cp:lastModifiedBy>
  <dcterms:modified xsi:type="dcterms:W3CDTF">2016-10-31T18:25:01Z</dcterms:modified>
  <cp:revision>73</cp:revision>
  <dc:subject/>
  <dc:title>Слайд 1</dc:title>
</cp:coreProperties>
</file>