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0AE-4C9E-4075-8ED7-899413A5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CB5-96CA-48CA-9D8F-781C25BF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C2D-BCAC-44C5-9478-8A564AE9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D5B5-AE58-40F1-8CFB-CED5F733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FE34-5067-4563-8CB4-146BBB51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EF78-8892-4604-8267-A228B874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B9B6-BC73-4997-B38F-741278A4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2529-5312-49FC-B447-5DE75B8B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5DD7-21B8-4CF8-91BF-425FA000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E70C-5FDC-406E-AC7C-ADC03271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2065-C6DB-462A-8698-593CB60D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C5AE-D8D3-4673-8A46-BC0C32CD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0311-007C-47E6-8DD1-3E892C4D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5B44-BDCB-4638-8353-86D5BD1F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E7E8-79CA-4AD0-BD26-4A28BF88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B4CC-F754-49C2-B095-F68508F2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1B4B-EFA8-4FB1-8FD8-AA9A16A7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2A2-A09A-42C9-B9EE-8B967E07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8DD-462F-48A8-BF7E-A62F287B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801E-8BBE-47E7-B2BF-EE1FD223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0D38-1343-4167-9919-1D136840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2F6-7A62-418D-B42D-DAA12634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74F-6188-4332-AA58-4D1E20FD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DFF-34E2-4664-AA3E-6E0B1A4D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306D-7EE9-42D8-8A1D-8C82D51A496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D0C4-CAE0-4AC7-B272-676C8BAE7ED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7"/>
          <p:cNvSpPr/>
          <p:nvPr/>
        </p:nvSpPr>
        <p:spPr>
          <a:xfrm>
            <a:off x="3626640" y="49068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БОУ «СОШ №6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581640" y="2514600"/>
            <a:ext cx="567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стер –класс в технике «Квиллинг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здравительная открыт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9" descr="1398375619650"/>
          <p:cNvPicPr/>
          <p:nvPr/>
        </p:nvPicPr>
        <p:blipFill>
          <a:blip r:embed="rId1"/>
          <a:srcRect l="8819" t="2504" r="8819" b="0"/>
          <a:stretch/>
        </p:blipFill>
        <p:spPr>
          <a:xfrm>
            <a:off x="571680" y="2303640"/>
            <a:ext cx="3063600" cy="4267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5791320" y="396252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готовил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технолог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тышева О.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1"/>
          <p:cNvPicPr/>
          <p:nvPr/>
        </p:nvPicPr>
        <p:blipFill>
          <a:blip r:embed="rId1"/>
          <a:srcRect l="15501" t="10536" r="40103" b="80179"/>
          <a:stretch/>
        </p:blipFill>
        <p:spPr>
          <a:xfrm>
            <a:off x="228600" y="990720"/>
            <a:ext cx="4114800" cy="1211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1398340949799"/>
          <p:cNvPicPr/>
          <p:nvPr/>
        </p:nvPicPr>
        <p:blipFill>
          <a:blip r:embed="rId2">
            <a:lum bright="6000"/>
          </a:blip>
          <a:srcRect l="42506" t="0" r="0" b="16677"/>
          <a:stretch/>
        </p:blipFill>
        <p:spPr>
          <a:xfrm>
            <a:off x="5181480" y="1066680"/>
            <a:ext cx="1752840" cy="1905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139834064904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4724280" y="33526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1398371028679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304920" y="320040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2491200" y="38088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струменты и оборуд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94000" y="231768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аблон для заготов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37880" y="6095880"/>
            <a:ext cx="43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источка для клея, зубочистки, кл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7315200" y="1066680"/>
            <a:ext cx="147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врик лоскутниц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кругл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ж для нареза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о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7082280" y="380988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резать полос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13"/>
          <p:cNvPicPr/>
          <p:nvPr/>
        </p:nvPicPr>
        <p:blipFill>
          <a:blip r:embed="rId1">
            <a:lum contrast="6000"/>
          </a:blip>
          <a:srcRect l="0" t="53250" r="0" b="0"/>
          <a:stretch/>
        </p:blipFill>
        <p:spPr>
          <a:xfrm>
            <a:off x="3048120" y="2743200"/>
            <a:ext cx="5952960" cy="3962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1398371055887"/>
          <p:cNvPicPr/>
          <p:nvPr/>
        </p:nvPicPr>
        <p:blipFill>
          <a:blip r:embed="rId2"/>
          <a:srcRect l="17503" t="0" r="20007" b="0"/>
          <a:stretch/>
        </p:blipFill>
        <p:spPr>
          <a:xfrm>
            <a:off x="380880" y="152280"/>
            <a:ext cx="2413080" cy="289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3494880" y="382680"/>
            <a:ext cx="503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товые полосы фиолетового 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зового,зелёного и салатов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ве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10160" y="3276720"/>
            <a:ext cx="30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менты, применяем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данной работ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12"/>
          <p:cNvPicPr/>
          <p:nvPr/>
        </p:nvPicPr>
        <p:blipFill>
          <a:blip r:embed="rId1">
            <a:lum bright="-6000"/>
          </a:blip>
          <a:srcRect l="37407" t="21783" r="19000" b="39012"/>
          <a:stretch/>
        </p:blipFill>
        <p:spPr>
          <a:xfrm>
            <a:off x="533520" y="304920"/>
            <a:ext cx="320040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1"/>
          <p:cNvPicPr/>
          <p:nvPr/>
        </p:nvPicPr>
        <p:blipFill>
          <a:blip r:embed="rId2"/>
          <a:srcRect l="34795" t="39187" r="20818" b="20316"/>
          <a:stretch/>
        </p:blipFill>
        <p:spPr>
          <a:xfrm>
            <a:off x="4724280" y="380880"/>
            <a:ext cx="3387960" cy="44197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723960" y="4954680"/>
            <a:ext cx="33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ть эски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дущего орнамен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657680" y="5257800"/>
            <a:ext cx="42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метить элементы по диаметра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гласно шабло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398371671609"/>
          <p:cNvPicPr/>
          <p:nvPr/>
        </p:nvPicPr>
        <p:blipFill>
          <a:blip r:embed="rId1"/>
          <a:srcRect l="0" t="0" r="26314" b="0"/>
          <a:stretch/>
        </p:blipFill>
        <p:spPr>
          <a:xfrm>
            <a:off x="228600" y="2362320"/>
            <a:ext cx="187164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1398372862524"/>
          <p:cNvPicPr/>
          <p:nvPr/>
        </p:nvPicPr>
        <p:blipFill>
          <a:blip r:embed="rId2"/>
          <a:srcRect l="0" t="0" r="17397" b="0"/>
          <a:stretch/>
        </p:blipFill>
        <p:spPr>
          <a:xfrm>
            <a:off x="5410080" y="3124080"/>
            <a:ext cx="1752840" cy="1590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1398372904766"/>
          <p:cNvPicPr/>
          <p:nvPr/>
        </p:nvPicPr>
        <p:blipFill>
          <a:blip r:embed="rId3"/>
          <a:srcRect l="0" t="0" r="18519" b="0"/>
          <a:stretch/>
        </p:blipFill>
        <p:spPr>
          <a:xfrm>
            <a:off x="5486400" y="1219320"/>
            <a:ext cx="1676520" cy="1542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1398373219439"/>
          <p:cNvPicPr/>
          <p:nvPr/>
        </p:nvPicPr>
        <p:blipFill>
          <a:blip r:embed="rId4"/>
          <a:srcRect l="22499" t="0" r="10004" b="0"/>
          <a:stretch/>
        </p:blipFill>
        <p:spPr>
          <a:xfrm>
            <a:off x="228600" y="152280"/>
            <a:ext cx="1782720" cy="1981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1398374692953"/>
          <p:cNvPicPr/>
          <p:nvPr/>
        </p:nvPicPr>
        <p:blipFill>
          <a:blip r:embed="rId5"/>
          <a:srcRect l="0" t="11591" r="13039" b="0"/>
          <a:stretch/>
        </p:blipFill>
        <p:spPr>
          <a:xfrm>
            <a:off x="5334120" y="5181480"/>
            <a:ext cx="1904760" cy="1452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1398374179546"/>
          <p:cNvPicPr/>
          <p:nvPr/>
        </p:nvPicPr>
        <p:blipFill>
          <a:blip r:embed="rId6"/>
          <a:srcRect l="14999" t="0" r="22499" b="50016"/>
          <a:stretch/>
        </p:blipFill>
        <p:spPr>
          <a:xfrm>
            <a:off x="228600" y="4648320"/>
            <a:ext cx="2362320" cy="1417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2094120" y="717480"/>
            <a:ext cx="24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рутить полос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спираль пр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мощи зубочист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2217960" y="2895480"/>
            <a:ext cx="239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тавить в шабло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расправить д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ужного разме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2594880" y="518148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фиксировать кра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оски клеем П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522040" y="48888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дать форму заготовка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7739280" y="201312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ис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7805160" y="38419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пест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7819200" y="58230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у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1398373706503"/>
          <p:cNvPicPr/>
          <p:nvPr/>
        </p:nvPicPr>
        <p:blipFill>
          <a:blip r:embed="rId1"/>
          <a:srcRect l="27507" t="23339" r="29999" b="23339"/>
          <a:stretch/>
        </p:blipFill>
        <p:spPr>
          <a:xfrm>
            <a:off x="1295280" y="990720"/>
            <a:ext cx="1828800" cy="1720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398373727880"/>
          <p:cNvPicPr/>
          <p:nvPr/>
        </p:nvPicPr>
        <p:blipFill>
          <a:blip r:embed="rId2"/>
          <a:srcRect l="10004" t="13339" r="20007" b="0"/>
          <a:stretch/>
        </p:blipFill>
        <p:spPr>
          <a:xfrm>
            <a:off x="685800" y="3886200"/>
            <a:ext cx="213372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1398373744488"/>
          <p:cNvPicPr/>
          <p:nvPr/>
        </p:nvPicPr>
        <p:blipFill>
          <a:blip r:embed="rId3"/>
          <a:srcRect l="14999" t="20000" r="32503" b="10000"/>
          <a:stretch/>
        </p:blipFill>
        <p:spPr>
          <a:xfrm>
            <a:off x="5257800" y="914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1398373770420"/>
          <p:cNvPicPr/>
          <p:nvPr/>
        </p:nvPicPr>
        <p:blipFill>
          <a:blip r:embed="rId4"/>
          <a:srcRect l="14999" t="13339" r="14999" b="0"/>
          <a:stretch/>
        </p:blipFill>
        <p:spPr>
          <a:xfrm>
            <a:off x="6629400" y="3809880"/>
            <a:ext cx="2133720" cy="198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1398373790391"/>
          <p:cNvPicPr/>
          <p:nvPr/>
        </p:nvPicPr>
        <p:blipFill>
          <a:blip r:embed="rId5"/>
          <a:srcRect l="12507" t="16677" r="25003" b="0"/>
          <a:stretch/>
        </p:blipFill>
        <p:spPr>
          <a:xfrm>
            <a:off x="3886200" y="38862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3037320" y="380880"/>
            <a:ext cx="290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ложить заготовк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506520" y="281952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 больших и 1 малый листь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4633920" y="3048120"/>
            <a:ext cx="32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 больших и 1 малый кру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1107360" y="609588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 спира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674160" y="60958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 малых лепест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6317280" y="60958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 больших лепест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1398373896204"/>
          <p:cNvPicPr/>
          <p:nvPr/>
        </p:nvPicPr>
        <p:blipFill>
          <a:blip r:embed="rId1"/>
          <a:srcRect l="22499" t="0" r="0" b="0"/>
          <a:stretch/>
        </p:blipFill>
        <p:spPr>
          <a:xfrm>
            <a:off x="304920" y="990720"/>
            <a:ext cx="236196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1398373907044"/>
          <p:cNvPicPr/>
          <p:nvPr/>
        </p:nvPicPr>
        <p:blipFill>
          <a:blip r:embed="rId2"/>
          <a:srcRect l="25003" t="0" r="0" b="0"/>
          <a:stretch/>
        </p:blipFill>
        <p:spPr>
          <a:xfrm>
            <a:off x="304920" y="3809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1398373994334"/>
          <p:cNvPicPr/>
          <p:nvPr/>
        </p:nvPicPr>
        <p:blipFill>
          <a:blip r:embed="rId3"/>
          <a:srcRect l="18424" t="23339" r="10523" b="0"/>
          <a:stretch/>
        </p:blipFill>
        <p:spPr>
          <a:xfrm>
            <a:off x="3048120" y="990720"/>
            <a:ext cx="2666880" cy="2271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1398374174528"/>
          <p:cNvPicPr/>
          <p:nvPr/>
        </p:nvPicPr>
        <p:blipFill>
          <a:blip r:embed="rId4"/>
          <a:srcRect l="17503" t="0" r="0" b="0"/>
          <a:stretch/>
        </p:blipFill>
        <p:spPr>
          <a:xfrm>
            <a:off x="3048120" y="3962520"/>
            <a:ext cx="2514600" cy="2286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2381400" y="30492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клеить заготовки на эски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11" descr="1398374483447"/>
          <p:cNvPicPr/>
          <p:nvPr/>
        </p:nvPicPr>
        <p:blipFill>
          <a:blip r:embed="rId5"/>
          <a:srcRect l="0" t="0" r="22499" b="0"/>
          <a:stretch/>
        </p:blipFill>
        <p:spPr>
          <a:xfrm>
            <a:off x="6248520" y="990720"/>
            <a:ext cx="2361960" cy="228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1398375064926"/>
          <p:cNvPicPr/>
          <p:nvPr/>
        </p:nvPicPr>
        <p:blipFill>
          <a:blip r:embed="rId6"/>
          <a:srcRect l="20007" t="0" r="2504" b="0"/>
          <a:stretch/>
        </p:blipFill>
        <p:spPr>
          <a:xfrm>
            <a:off x="6248520" y="3886200"/>
            <a:ext cx="2361960" cy="228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1398375486858"/>
          <p:cNvPicPr/>
          <p:nvPr/>
        </p:nvPicPr>
        <p:blipFill>
          <a:blip r:embed="rId1"/>
          <a:stretch/>
        </p:blipFill>
        <p:spPr>
          <a:xfrm>
            <a:off x="990720" y="167652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1398375595049"/>
          <p:cNvPicPr/>
          <p:nvPr/>
        </p:nvPicPr>
        <p:blipFill>
          <a:blip r:embed="rId2"/>
          <a:stretch/>
        </p:blipFill>
        <p:spPr>
          <a:xfrm>
            <a:off x="5257800" y="1676520"/>
            <a:ext cx="3257640" cy="4343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9"/>
          <p:cNvSpPr/>
          <p:nvPr/>
        </p:nvSpPr>
        <p:spPr>
          <a:xfrm>
            <a:off x="2245320" y="412920"/>
            <a:ext cx="36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далить излишки клея ват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лочкой и сложить открытк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ья</cp:lastModifiedBy>
  <dcterms:modified xsi:type="dcterms:W3CDTF">2024-03-29T17:26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