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923-6D01-4BC5-89A7-53D0FFF7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8CC-A093-408C-ACFF-D02E658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06D-CC49-44D3-91F7-84ABCF9E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E03-8A46-4DBC-A685-63416C21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805-CCD7-4CC1-80A3-F4627302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CEAB-861B-4E91-90AA-5EC7DD3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7D08-8908-4A4F-9469-3697E6B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BC9-4DB8-4E9B-9BF3-E932A12A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0164-4CA4-45FB-B6A5-6AEA06E3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273A-018A-4586-A6F3-B29F3E3C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A836-BA51-4377-AABF-55EDC922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486-863B-4E26-B812-435B8AF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4AF-588F-4128-B905-F104A0C6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7159-3158-43A3-AE06-6BB1884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974-7CCF-4C99-BFE1-89E3D86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93B-1472-4241-983C-62452FA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8066-8387-4B97-906B-CF0433F2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63B8-C0B0-446F-9A47-76EA75FC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8E99-B751-4AB7-9B7B-D6A5351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A121-50C6-4B2C-93A9-C5DE01E8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4EBD-5425-42A6-AA49-518BA88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68BC-B1D7-4A1F-9295-719EF1AD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E5E-1D0F-4038-8082-72FA527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0417-FC08-40DF-A6F3-BF5D334F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1043-DD3C-4E77-88B0-CC4AC1E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3893-A9B8-4094-BB86-842D2F8B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BFFD-0701-4482-B2F0-5CC26C7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1DB3-18DC-42E8-9669-4D7EC822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67C4-8C79-4632-9A25-DA61744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2CC9-35D6-47F4-8811-3F5B1600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1CC1-E827-4BF5-9F24-2BE17349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E8E1-1959-4D87-BC38-2FE4893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4D1E-4266-48EC-BFBF-2240EBC8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C53-FDE8-4E47-B5F5-8AD0D6B1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7704-10DF-498E-914A-8BC637CF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F087-AC19-4C2D-AA9E-BD36C72A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3FEA-2298-4B31-AC0E-D2329521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9EC2-DDC6-4B8B-8075-7EB22F6E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C646-CB7A-4C28-8C7B-FF3437C7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5EAB-FA4F-4A08-B07A-55333E7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3858-8E8E-4FE7-9B98-C666A9A6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8476-1EB8-4182-AE6E-AD9E8C3D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C0BF-5946-4448-A1D2-B026D596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186-89E1-4F5F-99B6-6E1CBAEE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7E7-A085-43CF-8110-CA4FC7D1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E98-1D49-43A5-BADF-D3366044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331-25F5-4B08-A978-33FB6B1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25C-90BC-4070-8149-90A6CE8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0571-020D-4171-83C9-62226F1B0E5E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35B0-2184-45C2-B975-7E112D154450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B33-8372-436F-AAF8-CA45902142B2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07D5-8F14-4B60-B3D0-9BCA542CB832}" type="slidenum">
              <a:rPr b="1" lang="ru-RU" sz="12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1359000"/>
            <a:ext cx="8370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Тема: Первообразная, основное свойство первообразных. Первообразные элементарных функций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овторить понятие производной функции, изучить понятие первообразной функции, научиться определять является ли функция F(x) первообразной для функции f(x).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7960" y="4853160"/>
            <a:ext cx="6742440" cy="1206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0" y="896400"/>
            <a:ext cx="9028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им образом показать, что функция F(x) является первообразной для функции f(x)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2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271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73080" y="5857920"/>
            <a:ext cx="939492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73040" y="414360"/>
            <a:ext cx="86853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вообразну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4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5x-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   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х;        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-3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2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ответ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;           10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       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-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152360" y="378000"/>
            <a:ext cx="677880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2" descr=""/>
          <p:cNvPicPr/>
          <p:nvPr/>
        </p:nvPicPr>
        <p:blipFill>
          <a:blip r:embed="rId2"/>
          <a:stretch/>
        </p:blipFill>
        <p:spPr>
          <a:xfrm>
            <a:off x="360360" y="1536840"/>
            <a:ext cx="8783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969840" y="79200"/>
            <a:ext cx="6546960" cy="19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2592360" y="3649680"/>
                <a:ext cx="3691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190440" y="18543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Функцию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первообразной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дл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на интервале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(a; b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, если на нем производная функции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равна 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f(x)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: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90440" y="502920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перацию, обратную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дифференцированию</a:t>
            </a:r>
            <a:r>
              <a:rPr b="1" i="1" lang="en-US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зывают </a:t>
            </a:r>
            <a:r>
              <a:rPr b="1" i="1" lang="ru-RU" sz="2800" spc="-1" strike="noStrike">
                <a:solidFill>
                  <a:srgbClr val="04a85a"/>
                </a:solidFill>
                <a:latin typeface="Times New Roman"/>
                <a:ea typeface="Times New Roman"/>
              </a:rPr>
              <a:t>интегрированием</a:t>
            </a:r>
            <a:r>
              <a:rPr b="1" i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745"/>
                </a:solidFill>
                <a:latin typeface="Times New Roman"/>
                <a:ea typeface="Calibri"/>
              </a:rPr>
              <a:t>или нахождение первообразной функции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AutoShape 8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af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ocs.ogorod-s.store/uploads/posts/2023-05/1685553080_znachek-pro-p-tablitsa-pervoobraznikh-funktsii-4.jpg"/>
          <p:cNvPicPr/>
          <p:nvPr/>
        </p:nvPicPr>
        <p:blipFill>
          <a:blip r:embed="rId1"/>
          <a:stretch/>
        </p:blipFill>
        <p:spPr>
          <a:xfrm>
            <a:off x="746280" y="593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71680" y="184320"/>
            <a:ext cx="75438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a85a"/>
                </a:solidFill>
                <a:latin typeface="Century Gothic"/>
              </a:rPr>
              <a:t>Примеры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792000" y="1162080"/>
            <a:ext cx="787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(x) = 2x;                                        F(x)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 (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x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693720" y="441972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(x)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;                         F(x) = 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x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= (2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x)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 = f(x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1833480" y="260280"/>
            <a:ext cx="5362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ти первообразную функци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5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1420920"/>
            <a:ext cx="2792520" cy="68904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5" descr=""/>
          <p:cNvPicPr/>
          <p:nvPr/>
        </p:nvPicPr>
        <p:blipFill>
          <a:blip r:embed="rId2"/>
          <a:stretch/>
        </p:blipFill>
        <p:spPr>
          <a:xfrm>
            <a:off x="4595760" y="1347840"/>
            <a:ext cx="2749680" cy="689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6" descr=""/>
          <p:cNvPicPr/>
          <p:nvPr/>
        </p:nvPicPr>
        <p:blipFill>
          <a:blip r:embed="rId3"/>
          <a:stretch/>
        </p:blipFill>
        <p:spPr>
          <a:xfrm>
            <a:off x="590400" y="2462040"/>
            <a:ext cx="3036960" cy="68904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7" descr=""/>
          <p:cNvPicPr/>
          <p:nvPr/>
        </p:nvPicPr>
        <p:blipFill>
          <a:blip r:embed="rId4"/>
          <a:stretch/>
        </p:blipFill>
        <p:spPr>
          <a:xfrm>
            <a:off x="4516560" y="2462040"/>
            <a:ext cx="27194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" descr=""/>
          <p:cNvPicPr/>
          <p:nvPr/>
        </p:nvPicPr>
        <p:blipFill>
          <a:blip r:embed="rId5"/>
          <a:stretch/>
        </p:blipFill>
        <p:spPr>
          <a:xfrm>
            <a:off x="590400" y="3529080"/>
            <a:ext cx="2749680" cy="6951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9" descr=""/>
          <p:cNvPicPr/>
          <p:nvPr/>
        </p:nvPicPr>
        <p:blipFill>
          <a:blip r:embed="rId6"/>
          <a:stretch/>
        </p:blipFill>
        <p:spPr>
          <a:xfrm>
            <a:off x="4479840" y="3413160"/>
            <a:ext cx="2738520" cy="8776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10" descr=""/>
          <p:cNvPicPr/>
          <p:nvPr/>
        </p:nvPicPr>
        <p:blipFill>
          <a:blip r:embed="rId7"/>
          <a:stretch/>
        </p:blipFill>
        <p:spPr>
          <a:xfrm>
            <a:off x="420840" y="4621320"/>
            <a:ext cx="3084480" cy="11271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1" descr=""/>
          <p:cNvPicPr/>
          <p:nvPr/>
        </p:nvPicPr>
        <p:blipFill>
          <a:blip r:embed="rId8"/>
          <a:stretch/>
        </p:blipFill>
        <p:spPr>
          <a:xfrm>
            <a:off x="4462560" y="4767120"/>
            <a:ext cx="2743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41280" y="3925800"/>
            <a:ext cx="8742240" cy="151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549360"/>
            <a:ext cx="889308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0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Является ли функци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+1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ообразной для функци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=6х+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017720" y="4827600"/>
            <a:ext cx="6510240" cy="1231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36160" y="896400"/>
            <a:ext cx="8891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общий вид первообразных для функции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4x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6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6x +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6x +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(x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(x)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92440" y="4280040"/>
            <a:ext cx="6516360" cy="1236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731520"/>
            <a:ext cx="8596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7000"/>
              </a:lnSpc>
              <a:spcBef>
                <a:spcPts val="9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вообразной для функ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7000"/>
              </a:lnSpc>
              <a:spcBef>
                <a:spcPts val="9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sin x + 3x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функц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(x) = sin x 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(x) = -cos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(x) = -cos x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(x) = -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x -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7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8461440" cy="44863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8" descr=""/>
          <p:cNvPicPr/>
          <p:nvPr/>
        </p:nvPicPr>
        <p:blipFill>
          <a:blip r:embed="rId2"/>
          <a:stretch/>
        </p:blipFill>
        <p:spPr>
          <a:xfrm>
            <a:off x="3584520" y="5724360"/>
            <a:ext cx="296856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4-03-27T06:00:07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