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607-E8D1-4ACA-8A7A-CC810AF3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FD9-9676-4233-9CA0-A09D6965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548-3C15-474B-8CCD-F0618DF1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E8E-DF69-4DFB-B05C-D0AFC319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7DD2-1387-4EB1-9F86-4D9AF015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1A86-0EC4-4086-B4A5-6B3DA5B5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ADB5-05D5-496E-A2A1-733CE4DD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D394-A2E8-4C09-947D-572D18EB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0007-4D7D-4891-8812-51618D1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CD77-C4C1-4816-AAF2-2CADDF55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9F12-E2C6-43B0-AAF5-8ACDD51F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B2E-B2FE-4E93-8877-26A3DCAF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36C4-3C4D-44A1-90E5-992F442D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117C-24FE-40D5-84A5-37511773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54D8-6D26-4BE2-89D1-5813FEDD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CA13-1584-435F-A139-83D86CF9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A618-CF18-472D-8127-4E4860CC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4BD23-408E-4B53-AE6E-C0C56103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AD22-FB50-4C21-82E0-90147A64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CF1A-2375-4948-A43F-7C50100D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79FF-1101-4016-9179-C347586C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FDEA-F212-455F-9E89-45678B3E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0A8-D41C-4A4B-B6C0-0BCDC9CC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EBE7-2112-4FFD-85D9-CAF95075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EAE1-FDF7-4037-AB66-3B93F84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8F71-C68E-403B-855D-6244DB84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05A5-D4C2-4C76-96C8-83F98875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16BF-2D00-42A2-A579-5656561C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011C-18E6-4D7F-9D77-8D080E44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42FF-5661-4139-9C69-DF1CE804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9F8C3-39E1-4A43-AFCA-3A7A6596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72C92-3BF1-4901-961B-ABDD7312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7571B-18B9-4745-84DF-603F6B4F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4B4-4411-40C2-ACCA-A372C64F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36AC-201B-45AC-AA22-AEF03C52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2F5D-98E3-4E4C-B84E-579AFF5A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C0D4-0977-4904-87E9-42E674B7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5A36C-1B4C-457B-B249-BDD42718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AF51-CAF7-4C58-AA1C-39DEEB2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178B-A441-49CE-AE79-0185FE2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00E7-CB3F-4319-BC18-F8BD8178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C2BF8-0D07-4DAF-A50F-5ED8AA34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769BE-91C7-4D25-B56B-B5568FA6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066-DA77-4AEE-8D37-4E116A22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4BF-DE3A-450D-BD27-8F40819B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DFC-C912-41CC-9C73-550A9952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394-7FDE-46FA-9102-1F55AAFC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271-E36C-49E1-A6BD-38A1B78F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B32A-304F-4DA8-82E0-7B76AD9631D3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CAB2-0160-4E19-BA31-0DDCEB7D8EAD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C3CE-213C-4F9B-A91C-71D743375D87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5019-79EF-40DC-AE36-D35A54838C9C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6280" y="1359000"/>
            <a:ext cx="8370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Тема: Первообразная, основное свойство первообразных. Первообразные элементарных функций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повторить понятие производной функции, изучить понятие первообразной функции, научиться определять является ли функция F(x) первообразной для функции f(x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37960" y="4853160"/>
            <a:ext cx="6742440" cy="1206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0" y="896400"/>
            <a:ext cx="9028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аким образом показать, что функция F(x) является первообразной для функции f(x)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2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271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73080" y="5857920"/>
            <a:ext cx="9394920" cy="1189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73040" y="414360"/>
            <a:ext cx="868536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ервообразную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4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5x-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   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х;        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-3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2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х;           10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       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-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152360" y="378000"/>
            <a:ext cx="677880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Объект 2" descr=""/>
          <p:cNvPicPr/>
          <p:nvPr/>
        </p:nvPicPr>
        <p:blipFill>
          <a:blip r:embed="rId2"/>
          <a:stretch/>
        </p:blipFill>
        <p:spPr>
          <a:xfrm>
            <a:off x="360360" y="1536840"/>
            <a:ext cx="87836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969840" y="79200"/>
            <a:ext cx="6546960" cy="195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6"/>
              <p:cNvSpPr txBox="1"/>
              <p:nvPr/>
            </p:nvSpPr>
            <p:spPr>
              <a:xfrm>
                <a:off x="2592360" y="3649680"/>
                <a:ext cx="3691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190440" y="18543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Функцию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зывают </a:t>
            </a:r>
            <a:r>
              <a:rPr b="1" i="1" lang="ru-RU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первообразной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для функции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на интервале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(a; b)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, если на нем производная функции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равна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: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90440" y="502920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Операцию, обратную </a:t>
            </a:r>
            <a:r>
              <a:rPr b="1" i="1" lang="ru-RU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дифференцированию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зывают </a:t>
            </a:r>
            <a:r>
              <a:rPr b="1" i="1" lang="ru-RU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интегрированием</a:t>
            </a:r>
            <a:r>
              <a:rPr b="1" i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745"/>
                </a:solidFill>
                <a:latin typeface="Times New Roman"/>
                <a:ea typeface="Calibri"/>
              </a:rPr>
              <a:t>или нахождение первообразной функции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AutoShape 8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docs.ogorod-s.store/uploads/posts/2023-05/1685553080_znachek-pro-p-tablitsa-pervoobraznikh-funktsii-4.jpg"/>
          <p:cNvPicPr/>
          <p:nvPr/>
        </p:nvPicPr>
        <p:blipFill>
          <a:blip r:embed="rId1"/>
          <a:stretch/>
        </p:blipFill>
        <p:spPr>
          <a:xfrm>
            <a:off x="746280" y="593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71680" y="184320"/>
            <a:ext cx="75438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a85a"/>
                </a:solidFill>
                <a:latin typeface="Century Gothic"/>
              </a:rPr>
              <a:t>Примеры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792000" y="1162080"/>
            <a:ext cx="787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(x) = 2x;                                        F(x)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 (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x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693720" y="441972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(x) = 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;                         F(x) = 2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x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 (2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x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3"/>
          <p:cNvSpPr/>
          <p:nvPr/>
        </p:nvSpPr>
        <p:spPr>
          <a:xfrm>
            <a:off x="1833480" y="260280"/>
            <a:ext cx="5362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ти первообразную функци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5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1420920"/>
            <a:ext cx="2792520" cy="68904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5" descr=""/>
          <p:cNvPicPr/>
          <p:nvPr/>
        </p:nvPicPr>
        <p:blipFill>
          <a:blip r:embed="rId2"/>
          <a:stretch/>
        </p:blipFill>
        <p:spPr>
          <a:xfrm>
            <a:off x="4595760" y="1347840"/>
            <a:ext cx="2749680" cy="6890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6" descr=""/>
          <p:cNvPicPr/>
          <p:nvPr/>
        </p:nvPicPr>
        <p:blipFill>
          <a:blip r:embed="rId3"/>
          <a:stretch/>
        </p:blipFill>
        <p:spPr>
          <a:xfrm>
            <a:off x="590400" y="2462040"/>
            <a:ext cx="3036960" cy="68904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7" descr=""/>
          <p:cNvPicPr/>
          <p:nvPr/>
        </p:nvPicPr>
        <p:blipFill>
          <a:blip r:embed="rId4"/>
          <a:stretch/>
        </p:blipFill>
        <p:spPr>
          <a:xfrm>
            <a:off x="4516560" y="2462040"/>
            <a:ext cx="27194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8" descr=""/>
          <p:cNvPicPr/>
          <p:nvPr/>
        </p:nvPicPr>
        <p:blipFill>
          <a:blip r:embed="rId5"/>
          <a:stretch/>
        </p:blipFill>
        <p:spPr>
          <a:xfrm>
            <a:off x="590400" y="3529080"/>
            <a:ext cx="2749680" cy="6951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9" descr=""/>
          <p:cNvPicPr/>
          <p:nvPr/>
        </p:nvPicPr>
        <p:blipFill>
          <a:blip r:embed="rId6"/>
          <a:stretch/>
        </p:blipFill>
        <p:spPr>
          <a:xfrm>
            <a:off x="4479840" y="3413160"/>
            <a:ext cx="2738520" cy="8776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10" descr=""/>
          <p:cNvPicPr/>
          <p:nvPr/>
        </p:nvPicPr>
        <p:blipFill>
          <a:blip r:embed="rId7"/>
          <a:stretch/>
        </p:blipFill>
        <p:spPr>
          <a:xfrm>
            <a:off x="420840" y="4621320"/>
            <a:ext cx="3084480" cy="11271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11" descr=""/>
          <p:cNvPicPr/>
          <p:nvPr/>
        </p:nvPicPr>
        <p:blipFill>
          <a:blip r:embed="rId8"/>
          <a:stretch/>
        </p:blipFill>
        <p:spPr>
          <a:xfrm>
            <a:off x="4462560" y="4767120"/>
            <a:ext cx="2743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41280" y="3925800"/>
            <a:ext cx="8742240" cy="151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-360" y="549360"/>
            <a:ext cx="889308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0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Является ли функция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+1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ообразной для функци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6х+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017720" y="4827600"/>
            <a:ext cx="6510240" cy="1231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36160" y="896400"/>
            <a:ext cx="88916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те общий вид первообразных для функции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4x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6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F(x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6x +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F(x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6x +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F(x) 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F(x) 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792440" y="4280040"/>
            <a:ext cx="6516360" cy="1236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250920" y="731520"/>
            <a:ext cx="8596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7000"/>
              </a:lnSpc>
              <a:spcBef>
                <a:spcPts val="9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вообразной для функци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7000"/>
              </a:lnSpc>
              <a:spcBef>
                <a:spcPts val="9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sin x + 3x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функци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F(x) = sin x 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F(x) = -cos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F(x) = -cos x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F(x) = -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x -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7" descr=""/>
          <p:cNvPicPr/>
          <p:nvPr/>
        </p:nvPicPr>
        <p:blipFill>
          <a:blip r:embed="rId1"/>
          <a:stretch/>
        </p:blipFill>
        <p:spPr>
          <a:xfrm>
            <a:off x="384120" y="208080"/>
            <a:ext cx="8461440" cy="44863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8" descr=""/>
          <p:cNvPicPr/>
          <p:nvPr/>
        </p:nvPicPr>
        <p:blipFill>
          <a:blip r:embed="rId2"/>
          <a:stretch/>
        </p:blipFill>
        <p:spPr>
          <a:xfrm>
            <a:off x="3584520" y="5724360"/>
            <a:ext cx="296856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4-03-27T06:00:07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