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0D0-9E1F-423E-87E4-7E3CE575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076-BE82-439C-BB3E-0996DDB5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ADA-6FCC-4626-945A-F684D356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D54-71C8-4C81-B8FB-2BB1938F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3C94-42D9-44D9-9054-F19BCA00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8B28-D5DF-4AFB-97F8-E9B9EE46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A325-8902-48D9-BCE6-300A333D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7F89-73ED-4466-A732-B48911A3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B8EF-8D09-47F7-8B86-7C03C5B6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C236-CF8C-477B-9DFE-8E08A822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2344-D60C-4F0D-8F36-2196DD42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F9B-EB35-4DF6-B72A-0591B0E3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568A-7ABA-438C-9557-4E624578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4302-65C2-49D9-8E4F-A1491B23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53A1-4DC2-4AA1-B0FC-1AC13795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FD1F-108C-44DE-B67A-EBB91B67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192D-9E80-4153-84B9-3F4AE8AC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5DBD-F4AA-437F-AF89-464EC93D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08ED-EFB2-4E1C-8C57-A7800884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4C529-564B-45CB-8EA2-04BF2F98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3274-608B-4C02-97CA-14AE082B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B086-C4EC-4CD6-9544-94B262A4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B0C-7AEF-460D-BA9E-9C5EF960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D7C4A-CC78-4F3F-B204-A54C2921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8B193-4952-4A4C-896C-E915E614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44F1-F225-4DDF-B33A-5A3FB3C0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4D39-151B-4428-979F-0E412290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51F6-710A-42BF-8377-51AFE360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970B-1883-4C0A-ACC4-DBB3AA2B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30FCE-3B61-473C-9A2C-9E4363DA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81E7F-AF6B-497D-9269-CCE0764F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DE8C-5A7C-4FD0-AE66-7362DADD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FE143-6F21-4D35-8A0C-24EF324D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925-802C-43E7-B8A3-EDA9768E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45FED-C6A3-4FF8-87EC-0292885F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5E50-93D9-4FCB-B7B8-9B5D756E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DDDB-5B65-409E-8579-EC37D3F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C56B-49A5-4838-A578-A14A8308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835EB-E471-426D-B247-8C6C5A6B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4586C-2D22-4C2F-B8F5-8849CE63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5F7F4-AF74-42D8-8B3E-5342220B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0D638-292A-47BE-904B-EB879117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D8E6A-BCC8-423C-9FD4-C03C1E73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20D-E7D4-4BF6-865A-0082C1E7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EA7-A3C6-42F5-8A6B-3FD07D11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112-28E2-4E0E-8B68-65F504D2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B6F-95C9-48C5-A11E-5EC6A4B6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F2C-B95C-487C-9926-9879C7B1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ADE3-DF21-4AE8-8C90-95829F775A06}" type="slidenum">
              <a:rPr b="1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7AB4-62F2-423B-BC89-D8DDA1232A29}" type="slidenum">
              <a:rPr b="1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8C49-4AD0-443E-85C9-6C92BB2182ED}" type="slidenum">
              <a:rPr b="1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A70D-A93F-4365-9794-24B7867804A7}" type="slidenum">
              <a:rPr b="1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6280" y="1359000"/>
            <a:ext cx="8370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Тема: Первообразная, основное свойство первообразных. Первообразные элементарных функций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повторить понятие производной функции, изучить понятие первообразной функции, научиться определять является ли функция F(x) первообразной для функции f(x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37960" y="4853160"/>
            <a:ext cx="6742440" cy="1206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0" y="896400"/>
            <a:ext cx="9028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аким образом показать, что функция F(x) является первообразной для функции f(x)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2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271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73080" y="5857920"/>
            <a:ext cx="9394920" cy="1189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73040" y="414360"/>
            <a:ext cx="868536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ервообразную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4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5x-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   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х;        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-3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2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х;           10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       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-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152360" y="378000"/>
            <a:ext cx="677880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Объект 2" descr=""/>
          <p:cNvPicPr/>
          <p:nvPr/>
        </p:nvPicPr>
        <p:blipFill>
          <a:blip r:embed="rId2"/>
          <a:stretch/>
        </p:blipFill>
        <p:spPr>
          <a:xfrm>
            <a:off x="360360" y="1536840"/>
            <a:ext cx="87836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969840" y="79200"/>
            <a:ext cx="6546960" cy="195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6"/>
              <p:cNvSpPr txBox="1"/>
              <p:nvPr/>
            </p:nvSpPr>
            <p:spPr>
              <a:xfrm>
                <a:off x="2592360" y="3649680"/>
                <a:ext cx="36910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"/>
          <p:cNvSpPr/>
          <p:nvPr/>
        </p:nvSpPr>
        <p:spPr>
          <a:xfrm>
            <a:off x="190440" y="18543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Функцию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F(x)</a:t>
            </a:r>
            <a:r>
              <a:rPr b="1" i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зывают </a:t>
            </a:r>
            <a:r>
              <a:rPr b="1" i="1" lang="ru-RU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первообразной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для функции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f(x)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на интервале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(a; b)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, если на нем производная функции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F(x)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равна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f(x)</a:t>
            </a:r>
            <a:r>
              <a:rPr b="1" i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: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90440" y="5029200"/>
            <a:ext cx="8763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Операцию, обратную </a:t>
            </a:r>
            <a:r>
              <a:rPr b="1" i="1" lang="ru-RU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дифференцированию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зывают </a:t>
            </a:r>
            <a:r>
              <a:rPr b="1" i="1" lang="ru-RU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интегрированием</a:t>
            </a:r>
            <a:r>
              <a:rPr b="1" i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12745"/>
                </a:solidFill>
                <a:latin typeface="Times New Roman"/>
                <a:ea typeface="Calibri"/>
              </a:rPr>
              <a:t>или нахождение первообразной функции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AutoShape 8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s://docs.ogorod-s.store/uploads/posts/2023-05/1685553080_znachek-pro-p-tablitsa-pervoobraznikh-funktsii-4.jpg"/>
          <p:cNvPicPr/>
          <p:nvPr/>
        </p:nvPicPr>
        <p:blipFill>
          <a:blip r:embed="rId1"/>
          <a:stretch/>
        </p:blipFill>
        <p:spPr>
          <a:xfrm>
            <a:off x="746280" y="593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571680" y="184320"/>
            <a:ext cx="75438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a85a"/>
                </a:solidFill>
                <a:latin typeface="Century Gothic"/>
              </a:rPr>
              <a:t>Примеры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792000" y="1162080"/>
            <a:ext cx="787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(x) = 2x;                                        F(x)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= (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x 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693720" y="4419720"/>
            <a:ext cx="82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(x) = 6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;                         F(x) = 2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x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= (2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x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 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3"/>
          <p:cNvSpPr/>
          <p:nvPr/>
        </p:nvSpPr>
        <p:spPr>
          <a:xfrm>
            <a:off x="1833480" y="260280"/>
            <a:ext cx="5362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ти первообразную функци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5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1420920"/>
            <a:ext cx="2792520" cy="68904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5" descr=""/>
          <p:cNvPicPr/>
          <p:nvPr/>
        </p:nvPicPr>
        <p:blipFill>
          <a:blip r:embed="rId2"/>
          <a:stretch/>
        </p:blipFill>
        <p:spPr>
          <a:xfrm>
            <a:off x="4595760" y="1347840"/>
            <a:ext cx="2749680" cy="68904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6" descr=""/>
          <p:cNvPicPr/>
          <p:nvPr/>
        </p:nvPicPr>
        <p:blipFill>
          <a:blip r:embed="rId3"/>
          <a:stretch/>
        </p:blipFill>
        <p:spPr>
          <a:xfrm>
            <a:off x="590400" y="2462040"/>
            <a:ext cx="3036960" cy="68904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7" descr=""/>
          <p:cNvPicPr/>
          <p:nvPr/>
        </p:nvPicPr>
        <p:blipFill>
          <a:blip r:embed="rId4"/>
          <a:stretch/>
        </p:blipFill>
        <p:spPr>
          <a:xfrm>
            <a:off x="4516560" y="2462040"/>
            <a:ext cx="2719440" cy="6890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8" descr=""/>
          <p:cNvPicPr/>
          <p:nvPr/>
        </p:nvPicPr>
        <p:blipFill>
          <a:blip r:embed="rId5"/>
          <a:stretch/>
        </p:blipFill>
        <p:spPr>
          <a:xfrm>
            <a:off x="590400" y="3529080"/>
            <a:ext cx="2749680" cy="69516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9" descr=""/>
          <p:cNvPicPr/>
          <p:nvPr/>
        </p:nvPicPr>
        <p:blipFill>
          <a:blip r:embed="rId6"/>
          <a:stretch/>
        </p:blipFill>
        <p:spPr>
          <a:xfrm>
            <a:off x="4479840" y="3413160"/>
            <a:ext cx="2738520" cy="8776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10" descr=""/>
          <p:cNvPicPr/>
          <p:nvPr/>
        </p:nvPicPr>
        <p:blipFill>
          <a:blip r:embed="rId7"/>
          <a:stretch/>
        </p:blipFill>
        <p:spPr>
          <a:xfrm>
            <a:off x="420840" y="4621320"/>
            <a:ext cx="3084480" cy="11271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11" descr=""/>
          <p:cNvPicPr/>
          <p:nvPr/>
        </p:nvPicPr>
        <p:blipFill>
          <a:blip r:embed="rId8"/>
          <a:stretch/>
        </p:blipFill>
        <p:spPr>
          <a:xfrm>
            <a:off x="4462560" y="4767120"/>
            <a:ext cx="2743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341280" y="3925800"/>
            <a:ext cx="8742240" cy="1517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-360" y="549360"/>
            <a:ext cx="889308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0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Является ли функция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+1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ообразной для функци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6х+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017720" y="4827600"/>
            <a:ext cx="6510240" cy="1231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36160" y="896400"/>
            <a:ext cx="88916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ите общий вид первообразных для функции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4x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6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F(x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6x +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F(x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6x +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F(x) = 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F(x) = 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792440" y="4280040"/>
            <a:ext cx="6516360" cy="1236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250920" y="731520"/>
            <a:ext cx="8596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7000"/>
              </a:lnSpc>
              <a:spcBef>
                <a:spcPts val="9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вообразной для функци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7000"/>
              </a:lnSpc>
              <a:spcBef>
                <a:spcPts val="9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sin x + 3x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функци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F(x) = sin x 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F(x) = -cos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F(x) = -cos x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F(x) = -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x -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Прямоугольник 7" descr=""/>
          <p:cNvPicPr/>
          <p:nvPr/>
        </p:nvPicPr>
        <p:blipFill>
          <a:blip r:embed="rId1"/>
          <a:stretch/>
        </p:blipFill>
        <p:spPr>
          <a:xfrm>
            <a:off x="384120" y="208080"/>
            <a:ext cx="8461440" cy="448632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8" descr=""/>
          <p:cNvPicPr/>
          <p:nvPr/>
        </p:nvPicPr>
        <p:blipFill>
          <a:blip r:embed="rId2"/>
          <a:stretch/>
        </p:blipFill>
        <p:spPr>
          <a:xfrm>
            <a:off x="3584520" y="5724360"/>
            <a:ext cx="296856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dcterms:modified xsi:type="dcterms:W3CDTF">2024-03-27T06:00:07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