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9.gif" ContentType="image/gif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6D1-19D7-4B54-B834-B47C8601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7BD-273E-4665-BD43-C747B60B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B5F-4248-4391-BECB-3033E780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AF6-180A-4234-8295-5C32A5D1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F695-FAC1-4877-8941-CF8F28EC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EC69-E436-4091-8FDA-115C9A22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EFEB-A34D-4E79-A402-41E5316E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50E7-3184-4DC0-9642-DC765A97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2EAF-0883-4F9A-8D68-1745D381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3320-F4BC-49F3-9801-DF688BE7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DA58-64D6-4EE1-BBB1-792E433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E29-EC03-4BA8-A55C-B0BF7C0B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CD34-44C2-4F1C-9263-8CAF2E3E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07C8-EEBC-4E36-B271-F57BB60C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3A2F-B4A9-4C40-8A7D-F047B6C4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EE85-9252-4B4F-AB8C-EBBE5E53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9A42-146A-427F-BEF2-D422C333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6A4-CF2A-4DB4-9795-E427AF07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860-187C-4F1B-8D00-9E5A4BD5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DC4-700A-4537-B5B1-D0A07D26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B6F-38CD-4E98-AEF7-96579DCB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A9F-D382-41BD-99D3-76B9282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58A-05DA-4C06-8751-2B7974BA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CD7-5CD6-49A4-B405-FB3C1BD9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FBC5-8C3D-4787-A969-9A99F27B8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18BD-D33D-4C47-838D-049B3F1CD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74322s034.edusite.ru/junkor2.files/image003.gif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4214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се уроки, как люди, похожи и разны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Если к ним приглядеться с они, как различных сторон: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едь бывают уроки, как радостный праздник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 бывают мучительный сон.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                                     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286240" y="5437080"/>
            <a:ext cx="407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.Троиц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получили оценку «2» или «3» - еще раз повторить формулы и 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получили оценку «4» - 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получили оценку «5» - 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D:\учитель года\картинки на школьныю тему\Рисунок1.png"/>
          <p:cNvPicPr/>
          <p:nvPr/>
        </p:nvPicPr>
        <p:blipFill>
          <a:blip r:embed="rId2"/>
          <a:stretch/>
        </p:blipFill>
        <p:spPr>
          <a:xfrm>
            <a:off x="1071720" y="1785960"/>
            <a:ext cx="7132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657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те задач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357120" y="128592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три последовательных натуральных числа, если известно, что квадрат большего из них на 37 больше произведения двух друг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Рисунок16.png"/>
          <p:cNvPicPr/>
          <p:nvPr/>
        </p:nvPicPr>
        <p:blipFill>
          <a:blip r:embed="rId1"/>
          <a:stretch/>
        </p:blipFill>
        <p:spPr>
          <a:xfrm>
            <a:off x="3429000" y="3110040"/>
            <a:ext cx="300024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45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помни и допиши формулы сокращенного умн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8800" y="1928880"/>
            <a:ext cx="5643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-в)(а+в)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+в)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-в)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-в)(а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+ав +в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)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+в)(а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ав +в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)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143160" y="1928880"/>
            <a:ext cx="180036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2571840" y="2857680"/>
            <a:ext cx="2663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2ав +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286160" y="4643280"/>
            <a:ext cx="144000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214880" y="5572080"/>
            <a:ext cx="180000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500200" y="3714840"/>
            <a:ext cx="266400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2ав + 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учитель года\картинки на школьныю тему\61.png"/>
          <p:cNvPicPr/>
          <p:nvPr/>
        </p:nvPicPr>
        <p:blipFill>
          <a:blip r:embed="rId1"/>
          <a:stretch/>
        </p:blipFill>
        <p:spPr>
          <a:xfrm>
            <a:off x="6357960" y="2428920"/>
            <a:ext cx="253980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1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1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1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1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уравн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 -2х + 1= 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D:\учитель года\картинки на школьныю тему\училка.jpg"/>
          <p:cNvPicPr/>
          <p:nvPr/>
        </p:nvPicPr>
        <p:blipFill>
          <a:blip r:embed="rId1"/>
          <a:stretch/>
        </p:blipFill>
        <p:spPr>
          <a:xfrm>
            <a:off x="4508640" y="1428840"/>
            <a:ext cx="3929040" cy="4714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ject 1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6429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838080" y="2438280"/>
            <a:ext cx="79250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ложение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ногочлена на множители 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помощью формул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кращённого умножения</a:t>
            </a:r>
            <a:endParaRPr b="1" i="1" lang="en-US" sz="1800" spc="1" strike="noStrike">
              <a:ln w="12600">
                <a:solidFill>
                  <a:srgbClr val="c0504d"/>
                </a:solidFill>
                <a:miter/>
              </a:ln>
              <a:solidFill>
                <a:srgbClr val="c0504d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Дата 3"/>
          <p:cNvSpPr/>
          <p:nvPr/>
        </p:nvSpPr>
        <p:spPr>
          <a:xfrm>
            <a:off x="6019920" y="228600"/>
            <a:ext cx="2906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01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MCBD05092_0000%5b1%5d"/>
          <p:cNvPicPr/>
          <p:nvPr/>
        </p:nvPicPr>
        <p:blipFill>
          <a:blip r:embed="rId1"/>
          <a:stretch/>
        </p:blipFill>
        <p:spPr>
          <a:xfrm>
            <a:off x="0" y="152280"/>
            <a:ext cx="2587680" cy="2347920"/>
          </a:xfrm>
          <a:prstGeom prst="rect">
            <a:avLst/>
          </a:prstGeom>
          <a:ln w="0">
            <a:noFill/>
          </a:ln>
        </p:spPr>
      </p:pic>
      <p:sp>
        <p:nvSpPr>
          <p:cNvPr id="99" name="WordArt 7"/>
          <p:cNvSpPr txBox="1"/>
          <p:nvPr/>
        </p:nvSpPr>
        <p:spPr>
          <a:xfrm>
            <a:off x="285840" y="6429240"/>
            <a:ext cx="1909800" cy="2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иннурова Лилия Данировна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51800" y="151200"/>
            <a:ext cx="73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ери верное утвер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>
            <a:off x="304920" y="2971800"/>
            <a:ext cx="3200400" cy="1447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множители -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4"/>
          <p:cNvSpPr/>
          <p:nvPr/>
        </p:nvSpPr>
        <p:spPr>
          <a:xfrm>
            <a:off x="3809880" y="1295280"/>
            <a:ext cx="4876920" cy="1371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суммы двух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их мног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3886200" y="3048120"/>
            <a:ext cx="4876920" cy="1447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произведения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ескольких одн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3962520" y="4952880"/>
            <a:ext cx="4876560" cy="1676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многочлена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едения двух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их много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2819520" y="4419720"/>
            <a:ext cx="1143000" cy="1295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 flipV="1">
            <a:off x="2743200" y="1981080"/>
            <a:ext cx="1066680" cy="99072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3505320" y="3733920"/>
            <a:ext cx="380880" cy="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ерно ли равенство (устно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а) 0,016-b =(0,4-b)(0,4+b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 б) 1+х+х =(1+х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 в) 25х +40ху +16у =(5х +4у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 г) 3-а =(3-а)(3+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) 8+а =(2-а)(4+2а+а 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70" descr=""/>
          <p:cNvPicPr/>
          <p:nvPr/>
        </p:nvPicPr>
        <p:blipFill>
          <a:blip r:embed="rId1"/>
          <a:stretch/>
        </p:blipFill>
        <p:spPr>
          <a:xfrm>
            <a:off x="3929040" y="100008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72" descr=""/>
          <p:cNvPicPr/>
          <p:nvPr/>
        </p:nvPicPr>
        <p:blipFill>
          <a:blip r:embed="rId2"/>
          <a:stretch/>
        </p:blipFill>
        <p:spPr>
          <a:xfrm>
            <a:off x="4929120" y="164304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73" descr=""/>
          <p:cNvPicPr/>
          <p:nvPr/>
        </p:nvPicPr>
        <p:blipFill>
          <a:blip r:embed="rId3"/>
          <a:stretch/>
        </p:blipFill>
        <p:spPr>
          <a:xfrm>
            <a:off x="6500880" y="164304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74" descr=""/>
          <p:cNvPicPr/>
          <p:nvPr/>
        </p:nvPicPr>
        <p:blipFill>
          <a:blip r:embed="rId4"/>
          <a:stretch/>
        </p:blipFill>
        <p:spPr>
          <a:xfrm>
            <a:off x="3000240" y="2357280"/>
            <a:ext cx="314640" cy="85752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78" descr=""/>
          <p:cNvPicPr/>
          <p:nvPr/>
        </p:nvPicPr>
        <p:blipFill>
          <a:blip r:embed="rId5"/>
          <a:stretch/>
        </p:blipFill>
        <p:spPr>
          <a:xfrm>
            <a:off x="5715000" y="2357280"/>
            <a:ext cx="314280" cy="85752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79" descr=""/>
          <p:cNvPicPr/>
          <p:nvPr/>
        </p:nvPicPr>
        <p:blipFill>
          <a:blip r:embed="rId6"/>
          <a:stretch/>
        </p:blipFill>
        <p:spPr>
          <a:xfrm>
            <a:off x="7858080" y="2357280"/>
            <a:ext cx="314280" cy="85752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80" descr=""/>
          <p:cNvPicPr/>
          <p:nvPr/>
        </p:nvPicPr>
        <p:blipFill>
          <a:blip r:embed="rId7"/>
          <a:stretch/>
        </p:blipFill>
        <p:spPr>
          <a:xfrm>
            <a:off x="4000680" y="307188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81" descr=""/>
          <p:cNvPicPr/>
          <p:nvPr/>
        </p:nvPicPr>
        <p:blipFill>
          <a:blip r:embed="rId8"/>
          <a:stretch/>
        </p:blipFill>
        <p:spPr>
          <a:xfrm>
            <a:off x="3429000" y="3786120"/>
            <a:ext cx="357120" cy="113832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82" descr=""/>
          <p:cNvPicPr/>
          <p:nvPr/>
        </p:nvPicPr>
        <p:blipFill>
          <a:blip r:embed="rId9"/>
          <a:stretch/>
        </p:blipFill>
        <p:spPr>
          <a:xfrm>
            <a:off x="6643800" y="3714840"/>
            <a:ext cx="314280" cy="857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84" descr="Рисунок13.png"/>
          <p:cNvPicPr/>
          <p:nvPr/>
        </p:nvPicPr>
        <p:blipFill>
          <a:blip r:embed="rId10"/>
          <a:stretch/>
        </p:blipFill>
        <p:spPr>
          <a:xfrm>
            <a:off x="3286080" y="4714920"/>
            <a:ext cx="25718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7580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те уравнение из открытого банка заданий ОГ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Федерального института педагогических измерений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143000" y="343188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714240" y="278604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дание №0ABC2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ите урав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 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+5</a:t>
            </a: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 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−</a:t>
            </a:r>
            <a:r>
              <a:rPr b="0" i="1" lang="ru-RU" sz="6600" spc="-1" strike="noStrike">
                <a:solidFill>
                  <a:srgbClr val="000000"/>
                </a:solidFill>
                <a:latin typeface="MathJax_Math"/>
                <a:ea typeface="Arial"/>
              </a:rPr>
              <a:t>x</a:t>
            </a:r>
            <a:r>
              <a:rPr b="0" lang="ru-RU" sz="6600" spc="-1" strike="noStrike">
                <a:solidFill>
                  <a:srgbClr val="000000"/>
                </a:solidFill>
                <a:latin typeface="MathJax_Main"/>
                <a:ea typeface="Arial"/>
              </a:rPr>
              <a:t>−5=0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2714760" y="336024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Картинка 53 из 327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286160"/>
            <a:ext cx="2571840" cy="239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ОГЭ 2015 Математика"/>
          <p:cNvPicPr/>
          <p:nvPr/>
        </p:nvPicPr>
        <p:blipFill>
          <a:blip r:embed="rId3"/>
          <a:stretch/>
        </p:blipFill>
        <p:spPr>
          <a:xfrm>
            <a:off x="108000" y="4653000"/>
            <a:ext cx="18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Проверь себя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16080"/>
          <a:ext cx="8458200" cy="528480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528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81=(с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с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125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=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²-20m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(m</a:t>
                      </a:r>
                      <a:r>
                        <a:rPr b="1" lang="en-US" sz="2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+64=(t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²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x²</a:t>
                      </a:r>
                      <a:r>
                        <a:rPr b="1" lang="en-US" sz="2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6=(5x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25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64-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=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-2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+125=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(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6=(7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05:20:09Z</dcterms:created>
  <dc:creator>user</dc:creator>
  <dc:description/>
  <dc:language>en-US</dc:language>
  <cp:lastModifiedBy>user</cp:lastModifiedBy>
  <dcterms:modified xsi:type="dcterms:W3CDTF">2016-01-13T04:19:17Z</dcterms:modified>
  <cp:revision>30</cp:revision>
  <dc:subject/>
  <dc:title>Слайд 1</dc:title>
</cp:coreProperties>
</file>