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coin.wav" ContentType="audio/x-wav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1D4-92FF-4999-8DBF-B7D58FDB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6FA-5C00-4F40-9AED-3F66BCCC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3683-21DB-4973-9C3D-9FD48BD7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021-C01B-417E-950B-66459291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FA3-EAA4-4D43-9E24-FAFDB822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40B-B161-4383-9B68-65743727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DA4-E897-4BB7-8E86-C78BEE50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5C6-A246-44E6-9AEB-0FAC5633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57E2-19E8-4CDC-8CA8-D8FEF208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F73-830E-48E0-AD3B-1495628C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714-6005-436A-A5A8-429BA4A9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6437-E9D5-4A1A-9C29-2340624E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FB2E-8761-4328-B573-BA8028B26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audio" Target="../media/coin.wav"/><Relationship Id="rId12" Type="http://schemas.openxmlformats.org/officeDocument/2006/relationships/audio" Target="../media/coin.wav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10960"/>
            <a:ext cx="6854760" cy="893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9680" y="179280"/>
            <a:ext cx="6578640" cy="8748720"/>
          </a:xfrm>
          <a:custGeom>
            <a:avLst/>
            <a:gdLst>
              <a:gd name="textAreaLeft" fmla="*/ 100080 w 6578640"/>
              <a:gd name="textAreaRight" fmla="*/ 6478560 w 6578640"/>
              <a:gd name="textAreaTop" fmla="*/ 100080 h 8748720"/>
              <a:gd name="textAreaBottom" fmla="*/ 8648640 h 8748720"/>
            </a:gdLst>
            <a:ahLst/>
            <a:rect l="textAreaLeft" t="textAreaTop" r="textAreaRight" b="textAreaBottom"/>
            <a:pathLst>
              <a:path w="21600" h="28725">
                <a:moveTo>
                  <a:pt x="1125" y="0"/>
                </a:moveTo>
                <a:arcTo wR="1125" hR="1125" stAng="16200000" swAng="-5400000"/>
                <a:lnTo>
                  <a:pt x="0" y="27600"/>
                </a:lnTo>
                <a:arcTo wR="1125" hR="1125" stAng="10800000" swAng="-5400000"/>
                <a:lnTo>
                  <a:pt x="20475" y="28725"/>
                </a:lnTo>
                <a:arcTo wR="1125" hR="1125" stAng="5400000" swAng="-5400000"/>
                <a:lnTo>
                  <a:pt x="21600" y="1125"/>
                </a:lnTo>
                <a:arcTo wR="1125" hR="1125" stAng="0" swAng="-5400000"/>
                <a:close/>
              </a:path>
            </a:pathLst>
          </a:custGeom>
          <a:noFill/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3040" y="430200"/>
            <a:ext cx="5545080" cy="43668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5000" y="46836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1. Устно преобразуйте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0640" y="1116000"/>
            <a:ext cx="5688000" cy="1333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7200" y="2652840"/>
            <a:ext cx="5545080" cy="64764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2280" y="5651640"/>
            <a:ext cx="5545080" cy="59976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3. Преобразуйте выражение в соответств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с выбранной форму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6640" y="262728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2. Выберите формулу сокращенного умножения для преобразования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64000" y="3381480"/>
            <a:ext cx="2690640" cy="619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Формула квадрат разности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 - в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ав + в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73360" y="4064040"/>
            <a:ext cx="2679840" cy="681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Формула разность квадр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(а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=а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56080" y="4843440"/>
            <a:ext cx="2693880" cy="687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Формула квадрат су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 + в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ав + в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49360" y="4178160"/>
            <a:ext cx="2349360" cy="509760"/>
            <a:chOff x="549360" y="4178160"/>
            <a:chExt cx="2349360" cy="509760"/>
          </a:xfrm>
        </p:grpSpPr>
        <p:sp>
          <p:nvSpPr>
            <p:cNvPr id="53" name=""/>
            <p:cNvSpPr/>
            <p:nvPr/>
          </p:nvSpPr>
          <p:spPr>
            <a:xfrm>
              <a:off x="549360" y="4178160"/>
              <a:ext cx="2349360" cy="509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107720" y="4178160"/>
                  <a:ext cx="1127160" cy="46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5</m:t>
                                  </m:r>
                                </m:e>
                              </m:rad>
                            </m:e>
                          </m:d>
                        </m:e>
                        <m:sup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" name=""/>
          <p:cNvGrpSpPr/>
          <p:nvPr/>
        </p:nvGrpSpPr>
        <p:grpSpPr>
          <a:xfrm>
            <a:off x="536400" y="4873680"/>
            <a:ext cx="2345040" cy="541440"/>
            <a:chOff x="536400" y="4873680"/>
            <a:chExt cx="2345040" cy="541440"/>
          </a:xfrm>
        </p:grpSpPr>
        <p:sp>
          <p:nvSpPr>
            <p:cNvPr id="56" name=""/>
            <p:cNvSpPr/>
            <p:nvPr/>
          </p:nvSpPr>
          <p:spPr>
            <a:xfrm>
              <a:off x="536400" y="4873680"/>
              <a:ext cx="2345040" cy="5414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981360" y="4873680"/>
                  <a:ext cx="1350000" cy="48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+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7</m:t>
                                  </m:r>
                                </m:e>
                              </m:rad>
                            </m:e>
                          </m:d>
                        </m:e>
                        <m:sup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" name=""/>
          <p:cNvGrpSpPr/>
          <p:nvPr/>
        </p:nvGrpSpPr>
        <p:grpSpPr>
          <a:xfrm>
            <a:off x="549360" y="3432240"/>
            <a:ext cx="2340000" cy="588960"/>
            <a:chOff x="549360" y="3432240"/>
            <a:chExt cx="2340000" cy="588960"/>
          </a:xfrm>
        </p:grpSpPr>
        <p:sp>
          <p:nvSpPr>
            <p:cNvPr id="59" name=""/>
            <p:cNvSpPr/>
            <p:nvPr/>
          </p:nvSpPr>
          <p:spPr>
            <a:xfrm>
              <a:off x="549360" y="3432240"/>
              <a:ext cx="2340000" cy="588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648000" y="3544200"/>
                  <a:ext cx="2116800" cy="36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1" name="" descr=""/>
          <p:cNvPicPr/>
          <p:nvPr/>
        </p:nvPicPr>
        <p:blipFill>
          <a:blip r:embed="rId2"/>
          <a:srcRect l="26637" t="35886" r="52392" b="57458"/>
          <a:stretch/>
        </p:blipFill>
        <p:spPr>
          <a:xfrm>
            <a:off x="466560" y="6296040"/>
            <a:ext cx="2184480" cy="369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31136" t="46789" r="58012" b="46311"/>
          <a:stretch/>
        </p:blipFill>
        <p:spPr>
          <a:xfrm>
            <a:off x="511200" y="7162920"/>
            <a:ext cx="969840" cy="32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rcRect l="30019" t="56404" r="56728" b="35741"/>
          <a:stretch/>
        </p:blipFill>
        <p:spPr>
          <a:xfrm>
            <a:off x="457200" y="7974000"/>
            <a:ext cx="1009800" cy="320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rcRect l="34710" t="42603" r="61062" b="53823"/>
          <a:stretch/>
        </p:blipFill>
        <p:spPr>
          <a:xfrm>
            <a:off x="836640" y="1258920"/>
            <a:ext cx="1057320" cy="485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rcRect l="34710" t="46952" r="61062" b="49972"/>
          <a:stretch/>
        </p:blipFill>
        <p:spPr>
          <a:xfrm>
            <a:off x="836640" y="1835280"/>
            <a:ext cx="1057320" cy="419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rcRect l="34710" t="53895" r="62257" b="42520"/>
          <a:stretch/>
        </p:blipFill>
        <p:spPr>
          <a:xfrm>
            <a:off x="2492280" y="1258920"/>
            <a:ext cx="752400" cy="48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rcRect l="34885" t="60499" r="61496" b="35937"/>
          <a:stretch/>
        </p:blipFill>
        <p:spPr>
          <a:xfrm>
            <a:off x="2349360" y="1835280"/>
            <a:ext cx="914400" cy="48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rcRect l="47205" t="64330" r="41799" b="31177"/>
          <a:stretch/>
        </p:blipFill>
        <p:spPr>
          <a:xfrm>
            <a:off x="3716280" y="1258920"/>
            <a:ext cx="2305080" cy="504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rcRect l="45927" t="58424" r="47579" b="38777"/>
          <a:stretch/>
        </p:blipFill>
        <p:spPr>
          <a:xfrm>
            <a:off x="4149720" y="1979640"/>
            <a:ext cx="147492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79280"/>
            <a:ext cx="6861240" cy="8964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5000" y="5219640"/>
            <a:ext cx="5545440" cy="64764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5. Освободитесь от иррацион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в знаменат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16120" y="222120"/>
            <a:ext cx="5545080" cy="43668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4. Сократите 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5240" y="171360"/>
            <a:ext cx="6578640" cy="8748720"/>
          </a:xfrm>
          <a:custGeom>
            <a:avLst/>
            <a:gdLst>
              <a:gd name="textAreaLeft" fmla="*/ 100080 w 6578640"/>
              <a:gd name="textAreaRight" fmla="*/ 6478560 w 6578640"/>
              <a:gd name="textAreaTop" fmla="*/ 100080 h 8748720"/>
              <a:gd name="textAreaBottom" fmla="*/ 8648640 h 8748720"/>
            </a:gdLst>
            <a:ahLst/>
            <a:rect l="textAreaLeft" t="textAreaTop" r="textAreaRight" b="textAreaBottom"/>
            <a:pathLst>
              <a:path w="21600" h="28725">
                <a:moveTo>
                  <a:pt x="1125" y="0"/>
                </a:moveTo>
                <a:arcTo wR="1125" hR="1125" stAng="16200000" swAng="-5400000"/>
                <a:lnTo>
                  <a:pt x="0" y="27600"/>
                </a:lnTo>
                <a:arcTo wR="1125" hR="1125" stAng="10800000" swAng="-5400000"/>
                <a:lnTo>
                  <a:pt x="20475" y="28725"/>
                </a:lnTo>
                <a:arcTo wR="1125" hR="1125" stAng="5400000" swAng="-5400000"/>
                <a:lnTo>
                  <a:pt x="21600" y="1125"/>
                </a:lnTo>
                <a:arcTo wR="1125" hR="1125" stAng="0" swAng="-5400000"/>
                <a:close/>
              </a:path>
            </a:pathLst>
          </a:custGeom>
          <a:noFill/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30167" t="53767" r="63264" b="40271"/>
          <a:stretch/>
        </p:blipFill>
        <p:spPr>
          <a:xfrm>
            <a:off x="404640" y="814320"/>
            <a:ext cx="1479600" cy="654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rcRect l="40604" t="53017" r="51746" b="39809"/>
          <a:stretch/>
        </p:blipFill>
        <p:spPr>
          <a:xfrm>
            <a:off x="404640" y="2124000"/>
            <a:ext cx="1633680" cy="736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rcRect l="49629" t="53017" r="40676" b="40990"/>
          <a:stretch/>
        </p:blipFill>
        <p:spPr>
          <a:xfrm>
            <a:off x="333360" y="3754440"/>
            <a:ext cx="2160720" cy="64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rcRect l="30826" t="62841" r="64916" b="30730"/>
          <a:stretch/>
        </p:blipFill>
        <p:spPr>
          <a:xfrm>
            <a:off x="549360" y="6227640"/>
            <a:ext cx="103176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rcRect l="38302" t="63457" r="55478" b="30730"/>
          <a:stretch/>
        </p:blipFill>
        <p:spPr>
          <a:xfrm>
            <a:off x="404640" y="7672320"/>
            <a:ext cx="12956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79280"/>
            <a:ext cx="6861240" cy="896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49360" y="4572000"/>
            <a:ext cx="5761080" cy="64764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7. Подведение итогов урока, оценка сво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5000" y="387360"/>
            <a:ext cx="5545440" cy="43668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6. Вынесите множитель из-под знака кор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5240" y="171360"/>
            <a:ext cx="6578640" cy="8748720"/>
          </a:xfrm>
          <a:custGeom>
            <a:avLst/>
            <a:gdLst>
              <a:gd name="textAreaLeft" fmla="*/ 100080 w 6578640"/>
              <a:gd name="textAreaRight" fmla="*/ 6478560 w 6578640"/>
              <a:gd name="textAreaTop" fmla="*/ 100080 h 8748720"/>
              <a:gd name="textAreaBottom" fmla="*/ 8648640 h 8748720"/>
            </a:gdLst>
            <a:ahLst/>
            <a:rect l="textAreaLeft" t="textAreaTop" r="textAreaRight" b="textAreaBottom"/>
            <a:pathLst>
              <a:path w="21600" h="28725">
                <a:moveTo>
                  <a:pt x="1125" y="0"/>
                </a:moveTo>
                <a:arcTo wR="1125" hR="1125" stAng="16200000" swAng="-5400000"/>
                <a:lnTo>
                  <a:pt x="0" y="27600"/>
                </a:lnTo>
                <a:arcTo wR="1125" hR="1125" stAng="10800000" swAng="-5400000"/>
                <a:lnTo>
                  <a:pt x="20475" y="28725"/>
                </a:lnTo>
                <a:arcTo wR="1125" hR="1125" stAng="5400000" swAng="-5400000"/>
                <a:lnTo>
                  <a:pt x="21600" y="1125"/>
                </a:lnTo>
                <a:arcTo wR="1125" hR="1125" stAng="0" swAng="-5400000"/>
                <a:close/>
              </a:path>
            </a:pathLst>
          </a:custGeom>
          <a:noFill/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30732" t="71576" r="63710" b="25086"/>
          <a:stretch/>
        </p:blipFill>
        <p:spPr>
          <a:xfrm>
            <a:off x="404640" y="971640"/>
            <a:ext cx="1079640" cy="446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46489" t="71648" r="48221" b="25168"/>
          <a:stretch/>
        </p:blipFill>
        <p:spPr>
          <a:xfrm>
            <a:off x="371520" y="2792520"/>
            <a:ext cx="1152360" cy="480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30585" t="75689" r="62700" b="21152"/>
          <a:stretch/>
        </p:blipFill>
        <p:spPr>
          <a:xfrm>
            <a:off x="422280" y="1928880"/>
            <a:ext cx="1224000" cy="484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rcRect l="46489" t="75648" r="46760" b="21096"/>
          <a:stretch/>
        </p:blipFill>
        <p:spPr>
          <a:xfrm>
            <a:off x="333360" y="3610080"/>
            <a:ext cx="1546200" cy="458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rcRect l="36824" t="72572" r="56903" b="25440"/>
          <a:stretch/>
        </p:blipFill>
        <p:spPr>
          <a:xfrm>
            <a:off x="549360" y="1403280"/>
            <a:ext cx="839880" cy="212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rcRect l="53669" t="76444" r="40075" b="20916"/>
          <a:stretch/>
        </p:blipFill>
        <p:spPr>
          <a:xfrm>
            <a:off x="650880" y="4054320"/>
            <a:ext cx="1008000" cy="28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0280" y="5364000"/>
            <a:ext cx="6408720" cy="345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92280" y="5651640"/>
          <a:ext cx="5616360" cy="3003480"/>
        </p:xfrm>
        <a:graphic>
          <a:graphicData uri="http://schemas.openxmlformats.org/drawingml/2006/table">
            <a:tbl>
              <a:tblPr/>
              <a:tblGrid>
                <a:gridCol w="2346120"/>
                <a:gridCol w="1622520"/>
                <a:gridCol w="164772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Виды 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Моя 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Оценка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1 задание (устный отв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3-4 задание</a:t>
                      </a: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 (самостоятельное реш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5-6 зад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(ответ у доски, самостоятельное реш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Общая оценка за урок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79280"/>
            <a:ext cx="6861240" cy="896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65000" y="395280"/>
            <a:ext cx="5545440" cy="43668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8. Продолжите высказывания об ур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5240" y="171360"/>
            <a:ext cx="6578640" cy="8748720"/>
          </a:xfrm>
          <a:custGeom>
            <a:avLst/>
            <a:gdLst>
              <a:gd name="textAreaLeft" fmla="*/ 100080 w 6578640"/>
              <a:gd name="textAreaRight" fmla="*/ 6478560 w 6578640"/>
              <a:gd name="textAreaTop" fmla="*/ 100080 h 8748720"/>
              <a:gd name="textAreaBottom" fmla="*/ 8648640 h 8748720"/>
            </a:gdLst>
            <a:ahLst/>
            <a:rect l="textAreaLeft" t="textAreaTop" r="textAreaRight" b="textAreaBottom"/>
            <a:pathLst>
              <a:path w="21600" h="28725">
                <a:moveTo>
                  <a:pt x="1125" y="0"/>
                </a:moveTo>
                <a:arcTo wR="1125" hR="1125" stAng="16200000" swAng="-5400000"/>
                <a:lnTo>
                  <a:pt x="0" y="27600"/>
                </a:lnTo>
                <a:arcTo wR="1125" hR="1125" stAng="10800000" swAng="-5400000"/>
                <a:lnTo>
                  <a:pt x="20475" y="28725"/>
                </a:lnTo>
                <a:arcTo wR="1125" hR="1125" stAng="5400000" swAng="-5400000"/>
                <a:lnTo>
                  <a:pt x="21600" y="1125"/>
                </a:lnTo>
                <a:arcTo wR="1125" hR="1125" stAng="0" swAng="-5400000"/>
                <a:close/>
              </a:path>
            </a:pathLst>
          </a:custGeom>
          <a:noFill/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92280" y="1115640"/>
            <a:ext cx="5689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 Я сегодня на уро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а) всё поня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б) не понял некоторые момен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) совсем ничего не поня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 Я думаю, домашнее задание для меня буд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а)   лёгким  /  труд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б)   интересным  /   неинтерес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4500720"/>
            <a:ext cx="2708280" cy="64764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9. Домашнее зад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0640" y="5508720"/>
            <a:ext cx="2808360" cy="2663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66100" t="53207" r="22796" b="25974"/>
          <a:stretch/>
        </p:blipFill>
        <p:spPr>
          <a:xfrm>
            <a:off x="2349360" y="5724360"/>
            <a:ext cx="22608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79280"/>
            <a:ext cx="6861240" cy="8964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5240" y="171360"/>
            <a:ext cx="6578640" cy="8748720"/>
          </a:xfrm>
          <a:custGeom>
            <a:avLst/>
            <a:gdLst>
              <a:gd name="textAreaLeft" fmla="*/ 100080 w 6578640"/>
              <a:gd name="textAreaRight" fmla="*/ 6478560 w 6578640"/>
              <a:gd name="textAreaTop" fmla="*/ 100080 h 8748720"/>
              <a:gd name="textAreaBottom" fmla="*/ 8648640 h 8748720"/>
            </a:gdLst>
            <a:ahLst/>
            <a:rect l="textAreaLeft" t="textAreaTop" r="textAreaRight" b="textAreaBottom"/>
            <a:pathLst>
              <a:path w="21600" h="28725">
                <a:moveTo>
                  <a:pt x="1125" y="0"/>
                </a:moveTo>
                <a:arcTo wR="1125" hR="1125" stAng="16200000" swAng="-5400000"/>
                <a:lnTo>
                  <a:pt x="0" y="27600"/>
                </a:lnTo>
                <a:arcTo wR="1125" hR="1125" stAng="10800000" swAng="-5400000"/>
                <a:lnTo>
                  <a:pt x="20475" y="28725"/>
                </a:lnTo>
                <a:arcTo wR="1125" hR="1125" stAng="5400000" swAng="-5400000"/>
                <a:lnTo>
                  <a:pt x="21600" y="1125"/>
                </a:lnTo>
                <a:arcTo wR="1125" hR="1125" stAng="0" swAng="-5400000"/>
                <a:close/>
              </a:path>
            </a:pathLst>
          </a:custGeom>
          <a:noFill/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52640" y="395280"/>
            <a:ext cx="5256000" cy="64764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Самоанализ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14568" t="39028" r="40515" b="11857"/>
          <a:stretch/>
        </p:blipFill>
        <p:spPr>
          <a:xfrm>
            <a:off x="360360" y="1763640"/>
            <a:ext cx="61786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30T14:06:38Z</dcterms:created>
  <dc:creator>Макс</dc:creator>
  <dc:description/>
  <dc:language>en-US</dc:language>
  <cp:lastModifiedBy>Макс</cp:lastModifiedBy>
  <dcterms:modified xsi:type="dcterms:W3CDTF">2024-02-01T08:16:46Z</dcterms:modified>
  <cp:revision>11</cp:revision>
  <dc:subject/>
  <dc:title>Слайд 1</dc:title>
</cp:coreProperties>
</file>