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29C-DA06-4E8D-A74D-65A85C27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C9F-564B-4F40-8B83-8F973431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15AAC-693D-4619-A099-FAC4A15A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D0283-7C8A-4311-8A2F-D44A3D0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ADED-8C45-4F9A-B309-4A8FE11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3B8D-4B1E-4A6F-9B48-4EF109A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9C2C7-6F52-43ED-80F8-1E76F7E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F5AC6-71BF-4F35-BC4C-84D08EA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659C0-48F8-49C8-A326-FB127AD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416A8-AEB7-4387-BA74-5C2ECB8D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3AE47-C162-416C-ABDD-5A9BF537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4B74D-4684-452F-8E0E-9EB8BD8F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88E-4AF0-4B55-A663-79B61AD2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51681-8F53-4611-9768-46D42DE7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3999-0DA2-435D-9FE2-C29D33F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E543A-9C58-48DB-A879-6A1EC851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2C0C-3749-4006-B7A9-2867F71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CD316-13F8-4C65-8096-E2103360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D80C2-3590-4B0E-B119-EF34E91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0B8DF-28EC-4854-80B0-3F57E0F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34351-EF12-496F-86FE-7C7366A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D844A-D9FC-4E42-9EDC-7B438CA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92AA-9759-47F1-931E-6E25D820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66F-C842-49C0-902A-EE0F4F47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77141-940D-409E-9056-F4C2DEC2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08297-66B2-427E-96E2-2554298A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A76E3-E47E-473D-B595-392DA49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AF6D-1F95-4243-A42D-C47CFC0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79EE-B54A-4AE2-8284-14A2020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307A9-F749-44E4-B49D-3E0D0F4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28619-1DAE-4436-A8C6-E0D9917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7F2D-6454-4364-81BD-F457DAB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D5C3-03F1-4BC0-B6CA-658DE62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683C2-0DC7-493A-A27E-DD53F86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A4A-96EE-4E8C-B242-33F6CFE3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1D8AA-0B7D-4D66-929E-D82BE78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4BEB2-CDF8-4AA2-A741-8CB0CA8C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1C39E-5190-4AAB-A0A5-64728C65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91F95-2491-42F8-972C-0FF2AB2C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780B9-AD67-463F-9003-3F348744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0FD7A-EE32-4E15-9A88-194EFA4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C5902-9131-4B2E-AC72-E08BEB4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83B62-00A8-4AA9-92B0-2E2BFA7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F32EF-CFD3-4C66-A18E-FC3E6BF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C35A0-0313-40A6-8B5D-4C67B62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2A61-AA4F-49A2-987D-8C91AD25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3373B-CA9C-4E93-92E4-D56051F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D680-7BFB-46D0-BF4E-F90627B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D0C14-61F7-4447-ACE6-A0C9754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E73B-9CBF-4BE9-B031-84956D12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717D-44DD-41D7-A758-0B7ADD65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8198F-F372-451A-9944-86D104C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543C0-8AB0-4404-AB46-B6E561D9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8A2B4-E507-412F-AF56-371C968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D2C5C-CF7E-43A3-A8A8-091CAD6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4F81A-D6B0-424B-9EA8-6565AA9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8992-B9AC-48B3-BF7B-0DD7B19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2184F-4BB0-4C86-A434-227C00B0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7074F-E2A0-4A34-BE98-F6CF4D36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D0D66-68FE-4BF1-ABEC-36571A9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1C305-B237-4989-86A9-FB0722C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11BFA-BE87-4C19-819A-E5B15911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5F5A4-39F9-479B-8318-91B3902E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773FC-2A6D-452E-B1C7-DF267D9B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CEC15-B420-4EE5-A0E5-652DA294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9A2A7-2819-453D-B239-7F65337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E461E-CFA6-46B9-A790-B549E73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F31-5AA3-40D0-BB2A-FCD4B58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2E25C-A7FD-4F00-B82A-AC87D5D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D9BE0-2ACA-41D5-9098-94DDC432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BF9BC-B599-453C-9ED7-3C5A72D6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31847-DBE5-49E5-B6FA-C8DD846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E9F94-A9C0-4E1E-9525-340BEB3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6B1C1-61E0-4EA1-95A7-7DBF07E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B40F5-552E-455E-889E-D11ED620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93A58-838A-4857-885B-EC6C9480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BE757-2274-4537-A332-218A8783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EF990-609F-4050-8CF9-B5C9B272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C314-70F7-4B19-A631-0687F5F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A7E4D-5ADD-41BC-AA97-4192154F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8AE5B-2F2B-4A16-B19F-97247CF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41984-CE2B-453F-88CA-3D3F30C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E6138-60EE-4D7B-AF84-AA77B09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1C906-CA83-4216-8DC2-444C5DB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1F997-607E-4F85-A858-E0A0478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69A03-66BF-4C1A-9DEA-4C32A435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0FB4-8C0E-4200-9213-55B4672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5C293-BE45-44CD-B73A-9F8A523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D1823-102A-4F4B-8E19-6ABF3459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595-2BE8-4487-A576-5D48152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1642A-0114-4AE6-9911-4246F9F9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C85E6-3AC1-46FF-B1C7-8F4FAA68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F9413-2E49-4973-B62C-9DD90A9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A6575-5A60-4E93-98FF-253EFA42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D67F0-367F-41FA-8EEE-A88EB321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F537B-76A3-4F18-BD02-8C49CD56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63C73-FA60-421D-B3DD-45E08FE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067EF-D052-45DE-BDE4-66FA660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4D31D-D37A-4BC4-8A8B-96E4727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47E92-3C61-4113-9EC8-BB815F2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A06-B0E8-4572-A277-64F3FA1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F0983-5938-4EDE-BED1-0A7178D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4F81B-99DE-484F-B279-4F65A269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08A51-CDBF-40B6-9214-297522CD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00B56-665D-45A9-ACC7-61CD6994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E74F1-9731-48C1-A2FF-1327A8C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B0983-9CB6-4FD8-93F7-3BCDA878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47BA4-B339-4936-AAB8-39BD10B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59359-66A2-4B4A-8FD4-DC4CF247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3E319-F895-4CFD-A1E5-6F2F3B6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13087-5B07-4601-9251-D7FBBD2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82F-A481-4792-BC22-4BAE32D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AC41-DA9E-4CD4-A5F0-D43ED53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43229-696B-4220-934D-9363CA6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BEB45-F68E-4739-87A0-D1DB141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3FCA6-28B1-41C0-914F-204C7345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D804E-36B3-4317-8713-E894E47D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C60BE1-E173-4A52-9FB6-9574E047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A5A-AB7A-4298-85DB-B14F28C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5DAD-8AEF-4841-924B-F5DBF07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51DA-AD94-403C-8E4B-18B13146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291-4392-48D2-B4DB-5C525D02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F574-4803-4998-871F-52E26F3F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59A3-BFEC-43F8-A420-BC13E9B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20CA-F63D-430A-AC02-4A9ED7E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9156-712A-4FBE-986E-75D22CA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5DB5-2AC6-4C94-A5AC-B35AEBC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C65-2160-4F74-B3D8-1C33B80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8E74-30A7-4CFC-89C8-47337D0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1294-A21F-4970-BE98-06737A4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7850-5E5E-468C-B460-9FE5FE7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69D3-A765-4C26-9693-2AB56D7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EBA1-1A39-459A-98EC-7B6A070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DE64-6B04-4756-A8E2-D5FF147B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6BB8-6054-4316-88AC-0EFA02BE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C9A2-1A8F-4B7D-A128-5F840FD9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F899-F3F2-413E-82EB-7A0DAD2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1636-6D6A-4015-BC7C-CFE38F36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6C7-6602-4EE6-858E-C06372B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A3B4-CCBB-4A03-A06B-9FD1E00A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5301-A73C-4210-89E2-C332CAA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B156-0A25-4BBC-B941-E4189E1B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BD68-1709-487F-8503-292780D8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106A-98B3-4BB1-ABD0-6DBBE11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F7A0-B8B0-44C3-B956-5D0DDE7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2B24-D93F-42EB-B0D7-9D77D517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B822-19B2-43F6-A792-5FEC2D25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4B20-49AA-4AA2-A32D-8E30333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C8FA9-2E0F-4F1E-98BD-4F2F0743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52B-29AF-4D5D-8211-F89610A5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5647-8109-4531-8C1C-03B54347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C0E89-9CA9-44BA-8E59-76C988AD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042A-1256-4BA9-8F4C-BAE53C4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FAA0-E13E-4F72-8D9F-63B4B130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D5FE-DA5A-447F-8468-312C5EE9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5233-6DF9-483C-B59B-F4363B4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A65C5-9049-4CC7-B0B0-146BE04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95F9-2EA6-4926-8DBE-7745C1E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E43D-15E4-409E-8F95-68B2EAC9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E57C-B684-4496-AAC4-58295CD0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512-9543-4216-9869-46A88417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D1DA-544E-401B-A1DF-CB8198BE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0C07-10CD-4756-944B-9F0BF7F4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C024-E4C0-4631-B352-6FAFC0B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8E5F-1414-4ABF-9F6C-9004AE1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8AD4-4EA0-40F6-86A6-2085ECB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A266-DC6F-447C-8428-0A755D0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5A8A-8258-4655-A15A-69E01D7A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54010-0236-41DD-B01B-BFC6430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AB03-25FA-457E-8B5D-D1550F9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D872-1798-42DB-98F0-2776405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187-ABB1-4E37-AD98-A3F2165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DB705-C6CD-47F5-8611-31A5C238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6320-54CB-4ED8-A73D-393EC22B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2843-A334-4ACF-9DD3-91838357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E86C-D7B7-464A-90AD-FA3D98EA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1F64-38FA-4195-BDEF-1CB1692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28B3-BC20-4367-8B57-3C876C7E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A630F-ADF3-43DC-9553-6305F97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D8E5-0F9F-47B5-BDBB-EE642E5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4921E-82E8-45C8-9B20-F7E4E590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C5AD0-C23E-4208-9C20-2EF2C67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F17-241A-4037-97A0-E1BBBFD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5AEC-4190-4194-A596-DE541EE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5369-832A-405D-B23A-4C0C2E7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F310-4E2C-4570-B088-5E60797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6B9F-DDE5-4150-9728-BED23889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293E-90F4-4571-8A2F-5553212F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08E3-09E4-49BF-902F-546FC687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8C22-83FD-442F-9772-903C1C6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61D2F-B9E7-4A0F-95C2-33498A0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DCB3-4C46-4C8E-8A3C-A9EFD12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5E59-A53E-42E4-BAA5-D7BA876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2DD-6237-4479-A7EB-52777F8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0B97-7B75-42CB-8E73-EC6ACB4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EF91-C962-4EFF-963A-95058A6F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713B-A27C-4EB2-800E-044EADA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4586-4200-4288-8287-218494D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B716-4818-422B-BC52-DC8C1812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05A34-6555-4219-A22A-B5374680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C622F-E0D1-4968-90B3-64478431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AF745-FA97-4D04-9E99-A8A998AE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F8CB1-975B-4213-9696-260434B8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681A-DAF1-42D0-8DDE-1F4383D6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36B61-9451-4F9B-82C7-BEC4F1C4B5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387BD-B443-4D15-891C-763C9F4AF4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E13DE-9C7E-4241-83B4-D8160CC7C4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7DAE2-F47A-4683-AA55-9C4B14FEE5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1122F-4350-4F8A-972B-D8AFB43EB8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1636A-F1E1-43D4-A5BD-EEF209E2C5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03E63-4191-43C3-B704-A9AE323462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D9F1E-721C-4DDB-9E55-7E59F3AB75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51B73-335E-4BF1-8AE0-B66A0BB15D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FFC37-C6E4-4D18-9F63-AE4B62E73A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36151-F188-4F3E-A5E1-697BBD7099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86CAA-6A80-4253-B085-39328D0F63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1F107-5529-4C9A-AC6F-4DC7ACDF6E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6B51B-E9D9-4C6B-9733-02AE35BE95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B16C5-90C5-4E68-9355-20C804312A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EE4B-5AAA-4BD8-AFC4-F3DF608F0E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2F7FE-A6E5-4458-B85D-3BDA3B61F8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6840" y="347760"/>
            <a:ext cx="88124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Синус, косинус и тангенс углов</a:t>
            </a:r>
            <a:br>
              <a:rPr sz="4600"/>
            </a:b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 от 0</a:t>
            </a:r>
            <a:r>
              <a:rPr b="0" lang="ru-RU" sz="4600" spc="-1" strike="noStrike">
                <a:solidFill>
                  <a:srgbClr val="262626"/>
                </a:solidFill>
                <a:latin typeface="Calibri"/>
              </a:rPr>
              <a:t>⁰ до 180 ⁰</a:t>
            </a:r>
            <a:endParaRPr b="0" lang="en-US" sz="4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-108360" y="2923920"/>
            <a:ext cx="8991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Геометрия 9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Rectangle 3"/>
          <p:cNvSpPr/>
          <p:nvPr/>
        </p:nvSpPr>
        <p:spPr>
          <a:xfrm>
            <a:off x="423720" y="5013360"/>
            <a:ext cx="872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ирнов В.С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БОУ СОШ №  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Приозерск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4636800" y="1557000"/>
            <a:ext cx="4475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ведём прямоугольную систему координат Ох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построим полуокружность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радиуса 1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с центром в начале координат, расположенную в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четверт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акую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окружность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назовём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единичной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Oval 7"/>
          <p:cNvSpPr/>
          <p:nvPr/>
        </p:nvSpPr>
        <p:spPr>
          <a:xfrm>
            <a:off x="981000" y="2523960"/>
            <a:ext cx="2592360" cy="259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Line 6"/>
          <p:cNvSpPr/>
          <p:nvPr/>
        </p:nvSpPr>
        <p:spPr>
          <a:xfrm>
            <a:off x="684360" y="3860640"/>
            <a:ext cx="33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Line 5"/>
          <p:cNvSpPr/>
          <p:nvPr/>
        </p:nvSpPr>
        <p:spPr>
          <a:xfrm flipV="1">
            <a:off x="2268360" y="1989000"/>
            <a:ext cx="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689640" y="395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1765080" y="17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1836360" y="39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WordArt 15"/>
          <p:cNvSpPr txBox="1"/>
          <p:nvPr/>
        </p:nvSpPr>
        <p:spPr>
          <a:xfrm>
            <a:off x="550800" y="-9360"/>
            <a:ext cx="813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de7e18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ичная полуокружность</a:t>
            </a:r>
            <a:endParaRPr b="0" lang="en-US" sz="1800" spc="1" strike="noStrike">
              <a:ln w="9360">
                <a:solidFill>
                  <a:srgbClr val="de7e18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Line 17"/>
          <p:cNvSpPr/>
          <p:nvPr/>
        </p:nvSpPr>
        <p:spPr>
          <a:xfrm flipV="1">
            <a:off x="2268360" y="2278080"/>
            <a:ext cx="1582920" cy="158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421080" y="198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2773440" y="3357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5210280" y="1055520"/>
            <a:ext cx="376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буквой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гол между лучом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ожительной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уосью абсци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Line 22"/>
          <p:cNvSpPr/>
          <p:nvPr/>
        </p:nvSpPr>
        <p:spPr>
          <a:xfrm>
            <a:off x="3203640" y="292428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3379680" y="2708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2989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Object 25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160360" cy="1081080"/>
          </a:xfrm>
          <a:prstGeom prst="rect">
            <a:avLst/>
          </a:prstGeom>
          <a:ln w="0">
            <a:noFill/>
          </a:ln>
        </p:spPr>
      </p:pic>
      <p:pic>
        <p:nvPicPr>
          <p:cNvPr id="1200" name="Object 26" descr=""/>
          <p:cNvPicPr/>
          <p:nvPr/>
        </p:nvPicPr>
        <p:blipFill>
          <a:blip r:embed="rId2"/>
          <a:stretch/>
        </p:blipFill>
        <p:spPr>
          <a:xfrm>
            <a:off x="2916360" y="4437000"/>
            <a:ext cx="2160360" cy="108108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27"/>
          <p:cNvSpPr/>
          <p:nvPr/>
        </p:nvSpPr>
        <p:spPr>
          <a:xfrm>
            <a:off x="901800" y="53737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 = 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901440" y="580536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 = 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828360" y="63388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 = 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Line 30"/>
          <p:cNvSpPr/>
          <p:nvPr/>
        </p:nvSpPr>
        <p:spPr>
          <a:xfrm>
            <a:off x="2340000" y="5516640"/>
            <a:ext cx="0" cy="1341360"/>
          </a:xfrm>
          <a:prstGeom prst="line">
            <a:avLst/>
          </a:prstGeom>
          <a:ln w="3816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AutoShape 31"/>
          <p:cNvSpPr/>
          <p:nvPr/>
        </p:nvSpPr>
        <p:spPr>
          <a:xfrm>
            <a:off x="2411280" y="5877000"/>
            <a:ext cx="505080" cy="485640"/>
          </a:xfrm>
          <a:prstGeom prst="rightArrow">
            <a:avLst>
              <a:gd name="adj1" fmla="val 50000"/>
              <a:gd name="adj2" fmla="val 2600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6" name="Object 32" descr=""/>
          <p:cNvPicPr/>
          <p:nvPr/>
        </p:nvPicPr>
        <p:blipFill>
          <a:blip r:embed="rId3"/>
          <a:stretch/>
        </p:blipFill>
        <p:spPr>
          <a:xfrm>
            <a:off x="3284640" y="5778360"/>
            <a:ext cx="1708200" cy="557280"/>
          </a:xfrm>
          <a:prstGeom prst="rect">
            <a:avLst/>
          </a:prstGeom>
          <a:ln w="0">
            <a:noFill/>
          </a:ln>
        </p:spPr>
      </p:pic>
      <p:pic>
        <p:nvPicPr>
          <p:cNvPr id="1207" name="Object 33" descr=""/>
          <p:cNvPicPr/>
          <p:nvPr/>
        </p:nvPicPr>
        <p:blipFill>
          <a:blip r:embed="rId4"/>
          <a:stretch/>
        </p:blipFill>
        <p:spPr>
          <a:xfrm>
            <a:off x="5302080" y="5864400"/>
            <a:ext cx="1708200" cy="38412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34"/>
          <p:cNvSpPr/>
          <p:nvPr/>
        </p:nvSpPr>
        <p:spPr>
          <a:xfrm>
            <a:off x="313416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Text Box 35"/>
          <p:cNvSpPr/>
          <p:nvPr/>
        </p:nvSpPr>
        <p:spPr>
          <a:xfrm>
            <a:off x="248652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0" name="Object 36" descr=""/>
          <p:cNvPicPr/>
          <p:nvPr/>
        </p:nvPicPr>
        <p:blipFill>
          <a:blip r:embed="rId5"/>
          <a:stretch/>
        </p:blipFill>
        <p:spPr>
          <a:xfrm>
            <a:off x="3087720" y="6300720"/>
            <a:ext cx="2230560" cy="557280"/>
          </a:xfrm>
          <a:prstGeom prst="rect">
            <a:avLst/>
          </a:prstGeom>
          <a:ln w="0">
            <a:noFill/>
          </a:ln>
        </p:spPr>
      </p:pic>
      <p:pic>
        <p:nvPicPr>
          <p:cNvPr id="1211" name="Object 38" descr=""/>
          <p:cNvPicPr/>
          <p:nvPr/>
        </p:nvPicPr>
        <p:blipFill>
          <a:blip r:embed="rId6"/>
          <a:stretch/>
        </p:blipFill>
        <p:spPr>
          <a:xfrm>
            <a:off x="5224320" y="6300720"/>
            <a:ext cx="250992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любого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из промежут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≤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≤ 180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называется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ордината 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ко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абсцисса х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5" descr="preobrCDRcurves7"/>
          <p:cNvPicPr/>
          <p:nvPr/>
        </p:nvPicPr>
        <p:blipFill>
          <a:blip r:embed="rId1"/>
          <a:srcRect l="0" t="0" r="-33" b="-207"/>
          <a:stretch/>
        </p:blipFill>
        <p:spPr>
          <a:xfrm>
            <a:off x="415800" y="3789360"/>
            <a:ext cx="8728200" cy="2427120"/>
          </a:xfrm>
          <a:prstGeom prst="rect">
            <a:avLst/>
          </a:prstGeom>
          <a:ln w="0">
            <a:noFill/>
          </a:ln>
        </p:spPr>
      </p:pic>
      <p:sp>
        <p:nvSpPr>
          <p:cNvPr id="1214" name="WordArt 6"/>
          <p:cNvSpPr txBox="1"/>
          <p:nvPr/>
        </p:nvSpPr>
        <p:spPr>
          <a:xfrm>
            <a:off x="395280" y="260280"/>
            <a:ext cx="8229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WordArt 4"/>
          <p:cNvSpPr txBox="1"/>
          <p:nvPr/>
        </p:nvSpPr>
        <p:spPr>
          <a:xfrm>
            <a:off x="457200" y="289080"/>
            <a:ext cx="8229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чения синуса и косинуса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углов 0 , 90 и 180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6" name="WordArt 5"/>
          <p:cNvSpPr txBox="1"/>
          <p:nvPr/>
        </p:nvSpPr>
        <p:spPr>
          <a:xfrm>
            <a:off x="478800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7" name="WordArt 7"/>
          <p:cNvSpPr txBox="1"/>
          <p:nvPr/>
        </p:nvSpPr>
        <p:spPr>
          <a:xfrm>
            <a:off x="5867280" y="765000"/>
            <a:ext cx="2685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WordArt 8"/>
          <p:cNvSpPr txBox="1"/>
          <p:nvPr/>
        </p:nvSpPr>
        <p:spPr>
          <a:xfrm>
            <a:off x="738036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Rectangle 19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7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8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Text Box 20"/>
          <p:cNvSpPr/>
          <p:nvPr/>
        </p:nvSpPr>
        <p:spPr>
          <a:xfrm>
            <a:off x="3278160" y="39337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(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21"/>
          <p:cNvSpPr/>
          <p:nvPr/>
        </p:nvSpPr>
        <p:spPr>
          <a:xfrm>
            <a:off x="1044000" y="2060640"/>
            <a:ext cx="12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396000" y="393372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2" name="Object 2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1873440" cy="587520"/>
          </a:xfrm>
          <a:prstGeom prst="rect">
            <a:avLst/>
          </a:prstGeom>
          <a:ln w="0">
            <a:noFill/>
          </a:ln>
        </p:spPr>
      </p:pic>
      <p:pic>
        <p:nvPicPr>
          <p:cNvPr id="1233" name="Object 25" descr=""/>
          <p:cNvPicPr/>
          <p:nvPr/>
        </p:nvPicPr>
        <p:blipFill>
          <a:blip r:embed="rId2"/>
          <a:stretch/>
        </p:blipFill>
        <p:spPr>
          <a:xfrm>
            <a:off x="6748560" y="1557360"/>
            <a:ext cx="1984320" cy="587520"/>
          </a:xfrm>
          <a:prstGeom prst="rect">
            <a:avLst/>
          </a:prstGeom>
          <a:ln w="0">
            <a:noFill/>
          </a:ln>
        </p:spPr>
      </p:pic>
      <p:pic>
        <p:nvPicPr>
          <p:cNvPr id="1234" name="Object 26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2241720" cy="587520"/>
          </a:xfrm>
          <a:prstGeom prst="rect">
            <a:avLst/>
          </a:prstGeom>
          <a:ln w="0">
            <a:noFill/>
          </a:ln>
        </p:spPr>
      </p:pic>
      <p:pic>
        <p:nvPicPr>
          <p:cNvPr id="1235" name="Object 27" descr=""/>
          <p:cNvPicPr/>
          <p:nvPr/>
        </p:nvPicPr>
        <p:blipFill>
          <a:blip r:embed="rId4"/>
          <a:stretch/>
        </p:blipFill>
        <p:spPr>
          <a:xfrm>
            <a:off x="4932360" y="2492280"/>
            <a:ext cx="1836720" cy="587520"/>
          </a:xfrm>
          <a:prstGeom prst="rect">
            <a:avLst/>
          </a:prstGeom>
          <a:ln w="0">
            <a:noFill/>
          </a:ln>
        </p:spPr>
      </p:pic>
      <p:pic>
        <p:nvPicPr>
          <p:cNvPr id="1236" name="Object 28" descr=""/>
          <p:cNvPicPr/>
          <p:nvPr/>
        </p:nvPicPr>
        <p:blipFill>
          <a:blip r:embed="rId5"/>
          <a:stretch/>
        </p:blipFill>
        <p:spPr>
          <a:xfrm>
            <a:off x="6748560" y="2492280"/>
            <a:ext cx="2130480" cy="587520"/>
          </a:xfrm>
          <a:prstGeom prst="rect">
            <a:avLst/>
          </a:prstGeom>
          <a:ln w="0">
            <a:noFill/>
          </a:ln>
        </p:spPr>
      </p:pic>
      <p:pic>
        <p:nvPicPr>
          <p:cNvPr id="1237" name="Object 29" descr=""/>
          <p:cNvPicPr/>
          <p:nvPr/>
        </p:nvPicPr>
        <p:blipFill>
          <a:blip r:embed="rId6"/>
          <a:stretch/>
        </p:blipFill>
        <p:spPr>
          <a:xfrm>
            <a:off x="5148360" y="3068640"/>
            <a:ext cx="2533680" cy="587520"/>
          </a:xfrm>
          <a:prstGeom prst="rect">
            <a:avLst/>
          </a:prstGeom>
          <a:ln w="0">
            <a:noFill/>
          </a:ln>
        </p:spPr>
      </p:pic>
      <p:pic>
        <p:nvPicPr>
          <p:cNvPr id="1238" name="Object 30" descr=""/>
          <p:cNvPicPr/>
          <p:nvPr/>
        </p:nvPicPr>
        <p:blipFill>
          <a:blip r:embed="rId7"/>
          <a:stretch/>
        </p:blipFill>
        <p:spPr>
          <a:xfrm>
            <a:off x="5003640" y="5157720"/>
            <a:ext cx="2387880" cy="1138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39" name="Object 31" descr=""/>
          <p:cNvPicPr/>
          <p:nvPr/>
        </p:nvPicPr>
        <p:blipFill>
          <a:blip r:embed="rId8"/>
          <a:stretch/>
        </p:blipFill>
        <p:spPr>
          <a:xfrm>
            <a:off x="2627280" y="4941720"/>
            <a:ext cx="1285920" cy="113832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0" y="4436640"/>
            <a:ext cx="873288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Тангенсом угла </a:t>
            </a:r>
            <a:r>
              <a:rPr b="0" lang="el-GR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(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9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) называет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отношение             т.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 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WordArt 4"/>
          <p:cNvSpPr txBox="1"/>
          <p:nvPr/>
        </p:nvSpPr>
        <p:spPr>
          <a:xfrm>
            <a:off x="457200" y="11592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ое тригонометрическое тождество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улы приведения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2" name="Picture 5" descr="preobrCDRcurves7"/>
          <p:cNvPicPr/>
          <p:nvPr/>
        </p:nvPicPr>
        <p:blipFill>
          <a:blip r:embed="rId1"/>
          <a:srcRect l="49134" t="29739" r="0" b="41635"/>
          <a:stretch/>
        </p:blipFill>
        <p:spPr>
          <a:xfrm>
            <a:off x="1258920" y="3054240"/>
            <a:ext cx="4825800" cy="3803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43" name="Text Box 7"/>
          <p:cNvSpPr/>
          <p:nvPr/>
        </p:nvSpPr>
        <p:spPr>
          <a:xfrm>
            <a:off x="254160" y="1484280"/>
            <a:ext cx="82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окружности с центром в точке(0; 0) 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ом 1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2484360" y="1916280"/>
            <a:ext cx="21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у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5" name="Object 10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2880000" cy="51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Rectangle 19"/>
          <p:cNvSpPr/>
          <p:nvPr/>
        </p:nvSpPr>
        <p:spPr>
          <a:xfrm>
            <a:off x="971640" y="3814920"/>
            <a:ext cx="2592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6" name="WordArt 6"/>
          <p:cNvSpPr txBox="1"/>
          <p:nvPr/>
        </p:nvSpPr>
        <p:spPr>
          <a:xfrm>
            <a:off x="457200" y="25560"/>
            <a:ext cx="82296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257" name="Прямая со стрелкой 3"/>
          <p:cNvCxnSpPr/>
          <p:nvPr/>
        </p:nvCxnSpPr>
        <p:spPr>
          <a:xfrm flipV="1">
            <a:off x="2328840" y="1798560"/>
            <a:ext cx="2099520" cy="2062440"/>
          </a:xfrm>
          <a:prstGeom prst="straightConnector1">
            <a:avLst/>
          </a:prstGeom>
          <a:ln cap="rnd" w="57240">
            <a:solidFill>
              <a:srgbClr val="191919"/>
            </a:solidFill>
            <a:miter/>
            <a:tailEnd len="med" type="arrow" w="med"/>
          </a:ln>
        </p:spPr>
      </p:cxnSp>
      <p:sp>
        <p:nvSpPr>
          <p:cNvPr id="1258" name="Text Box 23"/>
          <p:cNvSpPr/>
          <p:nvPr/>
        </p:nvSpPr>
        <p:spPr>
          <a:xfrm>
            <a:off x="4119480" y="1341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Овал 6"/>
          <p:cNvSpPr/>
          <p:nvPr/>
        </p:nvSpPr>
        <p:spPr>
          <a:xfrm>
            <a:off x="4356000" y="1700280"/>
            <a:ext cx="144720" cy="14436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Овал 35"/>
          <p:cNvSpPr/>
          <p:nvPr/>
        </p:nvSpPr>
        <p:spPr>
          <a:xfrm>
            <a:off x="3203640" y="2852640"/>
            <a:ext cx="144360" cy="14472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261" name="Прямая со стрелкой 8"/>
          <p:cNvCxnSpPr>
            <a:endCxn id="1260" idx="3"/>
          </p:cNvCxnSpPr>
          <p:nvPr/>
        </p:nvCxnSpPr>
        <p:spPr>
          <a:xfrm flipV="1">
            <a:off x="2268360" y="2976120"/>
            <a:ext cx="958320" cy="884880"/>
          </a:xfrm>
          <a:prstGeom prst="straightConnector1">
            <a:avLst/>
          </a:prstGeom>
          <a:ln cap="rnd" w="38160">
            <a:solidFill>
              <a:srgbClr val="191919"/>
            </a:solidFill>
            <a:miter/>
            <a:tailEnd len="med" type="triangle" w="med"/>
          </a:ln>
        </p:spPr>
      </p:cxnSp>
      <p:sp>
        <p:nvSpPr>
          <p:cNvPr id="1262" name="Text Box 23"/>
          <p:cNvSpPr/>
          <p:nvPr/>
        </p:nvSpPr>
        <p:spPr>
          <a:xfrm>
            <a:off x="3367800" y="2637000"/>
            <a:ext cx="25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TextBox 11"/>
          <p:cNvSpPr/>
          <p:nvPr/>
        </p:nvSpPr>
        <p:spPr>
          <a:xfrm>
            <a:off x="2789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4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5" name="Объект 14" descr=""/>
          <p:cNvPicPr/>
          <p:nvPr/>
        </p:nvPicPr>
        <p:blipFill>
          <a:blip r:embed="rId1"/>
          <a:stretch/>
        </p:blipFill>
        <p:spPr>
          <a:xfrm>
            <a:off x="5724360" y="1886040"/>
            <a:ext cx="3192480" cy="750960"/>
          </a:xfrm>
          <a:prstGeom prst="rect">
            <a:avLst/>
          </a:prstGeom>
          <a:ln w="0">
            <a:noFill/>
          </a:ln>
        </p:spPr>
      </p:pic>
      <p:pic>
        <p:nvPicPr>
          <p:cNvPr id="1266" name="Объект 15" descr=""/>
          <p:cNvPicPr/>
          <p:nvPr/>
        </p:nvPicPr>
        <p:blipFill>
          <a:blip r:embed="rId2"/>
          <a:stretch/>
        </p:blipFill>
        <p:spPr>
          <a:xfrm>
            <a:off x="5645160" y="3260880"/>
            <a:ext cx="1833480" cy="834840"/>
          </a:xfrm>
          <a:prstGeom prst="rect">
            <a:avLst/>
          </a:prstGeom>
          <a:ln w="0">
            <a:noFill/>
          </a:ln>
        </p:spPr>
      </p:pic>
      <p:sp>
        <p:nvSpPr>
          <p:cNvPr id="1267" name="Text Box 23"/>
          <p:cNvSpPr/>
          <p:nvPr/>
        </p:nvSpPr>
        <p:spPr>
          <a:xfrm>
            <a:off x="6049800" y="2763720"/>
            <a:ext cx="15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А(х ;у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8" name="Объект 16" descr=""/>
          <p:cNvPicPr/>
          <p:nvPr/>
        </p:nvPicPr>
        <p:blipFill>
          <a:blip r:embed="rId3"/>
          <a:stretch/>
        </p:blipFill>
        <p:spPr>
          <a:xfrm>
            <a:off x="5694480" y="4149720"/>
            <a:ext cx="2693880" cy="663480"/>
          </a:xfrm>
          <a:prstGeom prst="rect">
            <a:avLst/>
          </a:prstGeom>
          <a:ln w="0">
            <a:noFill/>
          </a:ln>
        </p:spPr>
      </p:pic>
      <p:pic>
        <p:nvPicPr>
          <p:cNvPr id="1269" name="Объект 17" descr=""/>
          <p:cNvPicPr/>
          <p:nvPr/>
        </p:nvPicPr>
        <p:blipFill>
          <a:blip r:embed="rId4"/>
          <a:stretch/>
        </p:blipFill>
        <p:spPr>
          <a:xfrm>
            <a:off x="1190520" y="4869000"/>
            <a:ext cx="3111480" cy="153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5" descr="preobrCDRcurves7"/>
          <p:cNvPicPr/>
          <p:nvPr/>
        </p:nvPicPr>
        <p:blipFill>
          <a:blip r:embed="rId2"/>
          <a:srcRect l="3779" t="34067" r="51410" b="42717"/>
          <a:stretch/>
        </p:blipFill>
        <p:spPr>
          <a:xfrm>
            <a:off x="1258920" y="1557360"/>
            <a:ext cx="6121440" cy="4432320"/>
          </a:xfrm>
          <a:prstGeom prst="rect">
            <a:avLst/>
          </a:prstGeom>
          <a:ln w="0">
            <a:noFill/>
          </a:ln>
        </p:spPr>
      </p:pic>
      <p:sp>
        <p:nvSpPr>
          <p:cNvPr id="1272" name="WordArt 6"/>
          <p:cNvSpPr txBox="1"/>
          <p:nvPr/>
        </p:nvSpPr>
        <p:spPr>
          <a:xfrm>
            <a:off x="457200" y="7920"/>
            <a:ext cx="82296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5" descr="preobrCDRcurves7"/>
          <p:cNvPicPr/>
          <p:nvPr/>
        </p:nvPicPr>
        <p:blipFill>
          <a:blip r:embed="rId2"/>
          <a:srcRect l="0" t="61105" r="0" b="3785"/>
          <a:stretch/>
        </p:blipFill>
        <p:spPr>
          <a:xfrm>
            <a:off x="395280" y="1766880"/>
            <a:ext cx="8497800" cy="416880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6"/>
          <p:cNvSpPr txBox="1"/>
          <p:nvPr/>
        </p:nvSpPr>
        <p:spPr>
          <a:xfrm>
            <a:off x="528480" y="30240"/>
            <a:ext cx="8229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усы и косинусы 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х углов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09:06Z</dcterms:created>
  <dc:creator>Anna</dc:creator>
  <dc:description/>
  <dc:language>en-US</dc:language>
  <cp:lastModifiedBy>Vladimir Smirnov</cp:lastModifiedBy>
  <dcterms:modified xsi:type="dcterms:W3CDTF">2024-04-11T08:30:54Z</dcterms:modified>
  <cp:revision>8</cp:revision>
  <dc:subject/>
  <dc:title>Синус, косинус и тангенс углов  от 0⁰ до 180 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20000000000010243100207f6000400038000</vt:lpwstr>
  </property>
</Properties>
</file>