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390-1733-4272-9F18-DD1D1874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7F2-97F9-4CA0-9060-7FD7606C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39DB3-3BEA-408A-A006-7E689CC7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CAE0C-3F86-4439-A940-E9A57029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7003C-61EA-4DFA-8728-D44067FD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02D34-2137-4687-852F-4ED61E9C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F832E-F39B-4A31-8B92-FE7DA77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31A8E-4B5C-40A8-8111-6B7B5B7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2DA46-C689-4DF2-815E-7093BBCB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7C35A-7386-4C70-B362-41CDBFA6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FDD40-3732-4AE5-B841-A347C850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B429F-0527-4DD8-8E53-85BFABD0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020-CEE9-4AEB-BEA8-D8F7E71D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99C19-1C9A-4B69-AC8B-1BBA5FD1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01BAE-B9C8-4B67-BE1E-604CCE32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35EFF-0B14-4761-8ED3-1803B128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1D674-67E8-4679-9EEB-3C45E89E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5CA4B-5B7F-484C-A1D1-CE9B7E53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05686-E19F-4C71-9608-F65F328C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1FF39-01EE-4A62-B174-0F075BF9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B3368-6928-4F78-B596-8612FA6A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43DF4-8D20-48F6-90A4-AA004043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630CE-C695-4E08-A8ED-8FAC36FD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23C-DB96-4120-9E21-03FF5C5B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4F652-822D-4382-ACDF-0E1DE433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F4B95-782C-4B61-979C-27DCB9DD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10B92-94C7-4451-B41A-AE93B208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3555F-8410-457D-9AC5-457A3B60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47406-5298-4ADB-9A39-283BB3E6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C34F5-BBD0-4F35-A51F-5341FCB8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18067-7D3F-4F4E-B53E-1AEA0CD9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AAB68-8587-41DB-B6AD-FA7EF2BD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8F92D-9F2C-4F86-BD29-F9C25ECB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C7A91-400A-4BE5-AF04-DD77F131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FE14-404C-4B66-BAC7-62B8D19A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E077E-4BA4-4249-B658-04846F5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1E590-4C4B-4A69-AAE7-DFF5B9B6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89307-39EC-40CC-8396-C39B52F7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B7091-FD50-4C13-95D8-F5C4CB2D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39A88-CB98-42EA-920C-DD556F5E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D74CE-A6AB-45D3-90AC-19240753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81637-37B4-431F-930B-6473C5A0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DCA94-33EB-447E-9DBD-E301856B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5028D-58CE-42F3-B48D-FDA75150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AEC65-8DF6-40CB-8839-C809CC2A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A52D-4AC9-4DDF-8482-99EC5BDA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05DE1-5220-4C21-8BE1-3B7BEA4F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48884-B91F-493D-A6E6-9B1ADC57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92967-F5B8-44E2-B8C1-BEA41952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C6E15-1BDE-46D1-8CEB-77D17982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76013-5072-4B02-B061-857A3B69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8F570-76F0-4819-8B04-4CD22F28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30334-F25A-452D-AEE4-4316A7DD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FFDDF-15BF-4F89-B237-38EE9E89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F53AA-27EA-492B-AB46-EB4C425A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B371D-CE8E-4A4F-BDF6-72A4352D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AA68-0BF9-46A0-9331-359F5AE2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43FD8-2355-445B-8FFC-79F3BF9B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FCD2B-8E61-4AA4-8D50-7A2DFEAF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ED472-C836-42BE-8FA2-BC06A826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31434-A9AD-4D42-8CE2-AD26810B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8FB80-E237-4713-BBD2-D8265AF0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518AE-1C1B-4105-A716-4514A0A0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EAF7A-7DFF-4AEC-B24F-2BB18A37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C7148-1122-4EEC-8491-8F85CDAC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1FF57-3138-42E5-9B6A-36DDC138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FAA1A-BFA1-4C32-B2FE-D67B4979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B57E-97E6-4EBF-AC1D-8982EAA5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F3C3E-65BB-449E-A645-8B7665F6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CB6C9-36AA-46FE-9965-7223B711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5C8D3-E2DA-45FD-A14B-2C8A4ACC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D2767-B60C-42F0-BA8E-24AA9A8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F3F79-0245-44BD-B46F-15FCA1D9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4E333-1B79-4CE1-8B1C-8623BDC1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16E69-598A-4725-9379-BB23F58D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DF61E-0034-44D0-A5C3-2B738E89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0DA8B-A334-4628-B523-ACBDDA0E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CF73D-3573-458E-9B77-2E24C6D0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F524-0830-4E48-A5D3-5AA79E23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689E04-DA7E-45B9-8132-97656438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A68D1-25EA-49D6-BFB2-694832B3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ADA1E-4E96-4EAB-AD9F-B84BC294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AC7D4-66F6-4C61-AA51-FA5EC9A7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DBF53-4248-44F3-9389-24A99867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0A667-2F48-4454-8A08-DDFDF19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6DBB4-3101-413C-A720-DBFD94CF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BB667C-5760-4803-A2C1-0466B6BC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E1315-B823-4B83-9187-BBA40949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5A540-E91E-446C-A567-06E8C5E0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E42C-6760-4C88-BAA0-E6093748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B5E7D-EFCA-455E-BD62-3EB4FBC3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5D3423-982F-4D49-97A2-20E15E6B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89665-FE71-478D-9720-4FCEF1D2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6D0797-83B5-4F84-8F85-9E38F235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9DE60-DC4D-4AD1-AABF-187FB4BE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35AB35-4BCC-40AC-BE9C-42D34715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1FC0B-3BA1-445B-B31D-44C93788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98DC8-3B49-40FA-AB5D-4D2BF0E0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BDC81-6A19-43BD-BF9F-E6A338B4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7CB69-0B90-45B4-A218-27B014A6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12A0-25BD-4BF8-A4F2-7ACC39DD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EB5A5-5C73-460B-9463-703901EB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E62C4-BC6B-4377-B166-8BE57647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05AEC-1270-4931-ADE7-A0397B57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B733A-520C-48D4-82E5-8D813E62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995C7C-BB1C-4DF1-93FA-202AE01C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33213-E0A7-4ED5-9060-3B36CBED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157B3-C19E-4D93-84C0-1377114B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3F507A-58BD-4F59-A11A-63DDF5D5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77928-5ECE-4E67-AEF3-8A97EDA3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47729-D917-4986-B3E4-7D1916DA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1FE-E03A-4BAF-BC50-820B5C5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B76E-17C9-4B76-BD72-52687AAE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C82CC-695E-4A94-BC14-3705253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D51024-6D0B-40FD-B4DF-D6B5E3CA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D66E7-7D43-4D68-AB4A-7C0E23B3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60343-503E-46B0-B796-154598E5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F91BF-C734-4120-AA09-59BF1170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2F35-0C7D-4FD9-BA54-D104CA6F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CECB-0509-4AC3-8189-3F5F7D15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5C1B-555F-4E2D-A00C-1C105BE6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4186-AD40-4A01-9E09-3B82E7BF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7B63C-36B7-4AED-8E03-9CC3FA4A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127D-298C-492F-8123-93142870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7ADD-7926-4242-8F4E-76C61931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93F9-3AC0-4948-83C8-7C7BB045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922B9-CD41-4153-91D6-901A336B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E54-4D49-4C94-9FF5-D9BA3C97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D3CF2-DC3F-41B8-86D8-E9D56A38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DEF8A-F36B-4A18-8D1A-BAD2553F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0C77-B942-433A-8CCF-60E8AD8A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F2CF6-4308-4A8C-ABCA-B6E4E962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90215-D81C-4600-8C23-326B9ED1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8F61-23D4-47B5-A123-663E9859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A01B-E82F-48EC-B5DB-EEB9BAF9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3CF83-C678-410C-9938-AADA1F43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D5397-0212-4CD5-BFDD-B54BB37D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9DCA2-A84A-43E4-A329-23F897B0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7C9-EB0E-469F-93AB-7445F2A1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01071-C67A-44CD-8019-DAD194B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BD6C-8AF4-4671-B469-6E810DE8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1227E-3472-4F47-AAF3-E6CCB18F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C9A4-AEFD-44D6-8672-6C4D6131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D7A48-FA50-4B5E-9F3C-664B4F98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71471-808C-43CB-B2AE-228A841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95610-D6F8-4615-AB8E-6FF5FAD1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DA8E-5C58-4D76-B665-40164F99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6CD1C-725D-4FE7-A3DA-DC38D68B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6B9A4-4AA6-4480-BFC8-8F8986FD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AA3-6194-496A-B15F-988AE4BA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CCB3B-6C07-49D4-9585-8E2E84EB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8A00-3C4D-4A6A-8059-92FFBB6A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29B05-D9CC-446F-8AD8-D51C6D68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E693-743B-416D-AA15-8728D27C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E8601-2791-4D1D-8A1E-A5E7DEC4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86E80-778C-418C-BF6E-34648DBF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3CC8-B829-471B-9924-D984AD05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C3659-924D-4E09-BB79-2A9DF2F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D827E-9554-452C-96EB-ECEBEEB7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009BA-A507-4C40-B834-D0F28B4C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D6F-AF4A-4ACC-9B3E-2D3BAA4C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BA67C-8EAB-4BBF-B435-04A208B3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7CE2E-B9C8-4662-AFC5-B3EDAC37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E51FD-1DDD-42B1-AE78-7FAA394A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6197A-40FE-4236-AFFA-3F0A9F74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1A718-6CF8-4660-B5BC-8BFE2649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D7AEC-0B86-4585-954D-C0EC850A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394A9-FCBC-41FE-9CD7-F8AF10F9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5623B-2C53-4725-A074-F3E6B7E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AEB5F-EF5B-4B63-8E30-BEE36AA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4F2C4-33A9-472B-8CFA-F91FBC7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F25-E770-4CCD-9244-B20E2112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3DDDF-820B-45F4-AF89-2A4786EB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C4E94-A76D-4230-A080-FD6911E0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D0C53-4964-4B58-9F8E-C5609966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D1F7B-6FD6-4387-B6CD-A238152E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5DD25-E2F3-4EDA-9971-AD37A82A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43494-4E82-4CB2-8847-340DD1FD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8886E-A9C4-4EED-94B1-3224EFFE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87898-07AC-4EA3-9285-8CA1EA07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229FA-5F76-463E-925D-797E0737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2E01A-074A-461F-99B2-BFE474EB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3B5-FEC2-4687-A21F-0BB26E47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275CA-CF13-4D22-A509-AD98F980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E8F74-D58C-4A6D-954E-C9C10480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2B0C7-6DA7-45D7-A103-ED3EB00C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95D6F-E095-4694-9FCB-529A1301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60387-C556-44F1-ADD8-1BD50CEA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EFE96-E239-4F88-9E1D-E2398638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BDDB9-8ACC-4117-9BA7-4709D122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4591C-28EC-4729-9DA6-2AD3EE7A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C6AD0-B092-453B-B7F4-A9363D51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9F50D-66D7-4C26-A0FF-05A28391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4AD-E626-4490-9BD9-9942689F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BF22A-F10F-49BC-8A2B-ACB4E8AF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ED70D-5B34-450B-BACB-DDEA37B8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E3727-01C7-4A80-903D-A714CD7E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D98C0-8568-4CEA-AFC5-279051A1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06E3E-6DC8-4BFA-977D-8633941C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A3D96-A6B9-4AFF-BC40-374C8B6E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59764-B214-4A29-810E-D098DB73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72E28-2912-4EFE-9FDA-8D550898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324EF-7D6C-40A9-B084-0B466C19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005E5-1AFE-4803-9B1E-99AEB485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3AA48-8243-46DA-BDD8-D61961F3509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4E4E7-73B7-4850-A8CB-5C013E0B0A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D444F-E380-4FBC-B706-9830BE64E1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AAF8E-AAA5-49F7-A974-0CC6D0F4F6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D717E-4336-41FA-AC5C-9A7CDAB1517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F6BE6-3E1E-419E-9BA6-300D956750A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8FA96-6413-48D4-B873-05FF1B760EE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9F6DC-1CF7-40E6-A93E-D50AD2A8274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FE7D5-0637-4B98-8912-E33A165E138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09137-71F3-46FC-B03B-22C6F6C232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90409-6D17-4A3C-8178-D0571095CE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488F7-CCD2-45BC-BA28-F0DFC39649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75DC3-74A2-42C9-8681-552A081BBE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0FD74-9AAA-4B00-AD3E-2ABF9C15E68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321AB-01DF-4EF4-A912-EC8856ED27A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9D48E-202A-4127-9371-D32EBEFE22E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43D2C-37D2-4FE8-A11B-656BB2F3E7D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86840" y="347760"/>
            <a:ext cx="881244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600" spc="-1" strike="noStrike">
                <a:solidFill>
                  <a:srgbClr val="262626"/>
                </a:solidFill>
                <a:latin typeface="Century Gothic"/>
              </a:rPr>
              <a:t>Синус, косинус и тангенс углов</a:t>
            </a:r>
            <a:br>
              <a:rPr sz="4600"/>
            </a:br>
            <a:r>
              <a:rPr b="0" lang="ru-RU" sz="4600" spc="-1" strike="noStrike">
                <a:solidFill>
                  <a:srgbClr val="262626"/>
                </a:solidFill>
                <a:latin typeface="Century Gothic"/>
              </a:rPr>
              <a:t> от 0</a:t>
            </a:r>
            <a:r>
              <a:rPr b="0" lang="ru-RU" sz="4600" spc="-1" strike="noStrike">
                <a:solidFill>
                  <a:srgbClr val="262626"/>
                </a:solidFill>
                <a:latin typeface="Calibri"/>
              </a:rPr>
              <a:t>⁰ до 180 ⁰</a:t>
            </a:r>
            <a:endParaRPr b="0" lang="en-US" sz="4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-108360" y="2923920"/>
            <a:ext cx="8991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Геометрия 9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Rectangle 3"/>
          <p:cNvSpPr/>
          <p:nvPr/>
        </p:nvSpPr>
        <p:spPr>
          <a:xfrm>
            <a:off x="423720" y="5013360"/>
            <a:ext cx="872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ирнов В.С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БОУ СОШ №  4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. Приозерск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4636800" y="1557000"/>
            <a:ext cx="4475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Введём прямоугольную систему координат Оху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 построим полуокружность </a:t>
            </a:r>
            <a:r>
              <a:rPr b="0" lang="ru-RU" sz="2600" spc="-1" strike="noStrike">
                <a:solidFill>
                  <a:srgbClr val="ff0000"/>
                </a:solidFill>
                <a:latin typeface="Century Gothic"/>
              </a:rPr>
              <a:t>радиуса 1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с центром в начале координат, расположенную в 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I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 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II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четверти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Такую </a:t>
            </a:r>
            <a:r>
              <a:rPr b="0" lang="ru-RU" sz="2600" spc="-1" strike="noStrike">
                <a:solidFill>
                  <a:srgbClr val="ff0000"/>
                </a:solidFill>
                <a:latin typeface="Century Gothic"/>
              </a:rPr>
              <a:t>окружность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назовём </a:t>
            </a:r>
            <a:r>
              <a:rPr b="0" lang="ru-RU" sz="2600" spc="-1" strike="noStrike">
                <a:solidFill>
                  <a:srgbClr val="ff0000"/>
                </a:solidFill>
                <a:latin typeface="Century Gothic"/>
              </a:rPr>
              <a:t>единичной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Oval 7"/>
          <p:cNvSpPr/>
          <p:nvPr/>
        </p:nvSpPr>
        <p:spPr>
          <a:xfrm>
            <a:off x="981000" y="2523960"/>
            <a:ext cx="2592360" cy="2592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Rectangle 8"/>
          <p:cNvSpPr/>
          <p:nvPr/>
        </p:nvSpPr>
        <p:spPr>
          <a:xfrm>
            <a:off x="971640" y="3860640"/>
            <a:ext cx="259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2" name="Line 6"/>
          <p:cNvSpPr/>
          <p:nvPr/>
        </p:nvSpPr>
        <p:spPr>
          <a:xfrm>
            <a:off x="684360" y="3860640"/>
            <a:ext cx="33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3" name="Line 5"/>
          <p:cNvSpPr/>
          <p:nvPr/>
        </p:nvSpPr>
        <p:spPr>
          <a:xfrm flipV="1">
            <a:off x="2268360" y="1989000"/>
            <a:ext cx="0" cy="215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689640" y="395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1765080" y="1773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1836360" y="393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6580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2341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54144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0" name="WordArt 15"/>
          <p:cNvSpPr txBox="1"/>
          <p:nvPr/>
        </p:nvSpPr>
        <p:spPr>
          <a:xfrm>
            <a:off x="550800" y="-9360"/>
            <a:ext cx="813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de7e18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диничная полуокружность</a:t>
            </a:r>
            <a:endParaRPr b="0" lang="en-US" sz="1800" spc="1" strike="noStrike">
              <a:ln w="9360">
                <a:solidFill>
                  <a:srgbClr val="de7e18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1" name="Line 17"/>
          <p:cNvSpPr/>
          <p:nvPr/>
        </p:nvSpPr>
        <p:spPr>
          <a:xfrm flipV="1">
            <a:off x="2268360" y="2278080"/>
            <a:ext cx="1582920" cy="158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421080" y="198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3" name="Arc 19"/>
          <p:cNvSpPr/>
          <p:nvPr/>
        </p:nvSpPr>
        <p:spPr>
          <a:xfrm>
            <a:off x="2627280" y="3500280"/>
            <a:ext cx="144360" cy="362160"/>
          </a:xfrm>
          <a:custGeom>
            <a:avLst/>
            <a:gdLst/>
            <a:ahLst/>
            <a:rect l="l" t="t" r="r" b="b"/>
            <a:pathLst>
              <a:path fill="none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</a:path>
              <a:path stroke="0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2773440" y="3357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5210280" y="1055520"/>
            <a:ext cx="376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им буквой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гол между лучом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ложительной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луосью абсци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Line 22"/>
          <p:cNvSpPr/>
          <p:nvPr/>
        </p:nvSpPr>
        <p:spPr>
          <a:xfrm>
            <a:off x="3203640" y="292428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3379680" y="2708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(х ;у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298980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9" name="Object 25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2160360" cy="1081080"/>
          </a:xfrm>
          <a:prstGeom prst="rect">
            <a:avLst/>
          </a:prstGeom>
          <a:ln w="0">
            <a:noFill/>
          </a:ln>
        </p:spPr>
      </p:pic>
      <p:pic>
        <p:nvPicPr>
          <p:cNvPr id="1200" name="Object 26" descr=""/>
          <p:cNvPicPr/>
          <p:nvPr/>
        </p:nvPicPr>
        <p:blipFill>
          <a:blip r:embed="rId2"/>
          <a:stretch/>
        </p:blipFill>
        <p:spPr>
          <a:xfrm>
            <a:off x="2916360" y="4437000"/>
            <a:ext cx="2160360" cy="1081080"/>
          </a:xfrm>
          <a:prstGeom prst="rect">
            <a:avLst/>
          </a:prstGeom>
          <a:ln w="0">
            <a:noFill/>
          </a:ln>
        </p:spPr>
      </p:pic>
      <p:sp>
        <p:nvSpPr>
          <p:cNvPr id="1201" name="Text Box 27"/>
          <p:cNvSpPr/>
          <p:nvPr/>
        </p:nvSpPr>
        <p:spPr>
          <a:xfrm>
            <a:off x="901800" y="537372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 = 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901440" y="580536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 = 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828360" y="633888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 = 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Line 30"/>
          <p:cNvSpPr/>
          <p:nvPr/>
        </p:nvSpPr>
        <p:spPr>
          <a:xfrm>
            <a:off x="2340000" y="5516640"/>
            <a:ext cx="0" cy="1341360"/>
          </a:xfrm>
          <a:prstGeom prst="line">
            <a:avLst/>
          </a:prstGeom>
          <a:ln w="38160">
            <a:solidFill>
              <a:srgbClr val="de7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AutoShape 31"/>
          <p:cNvSpPr/>
          <p:nvPr/>
        </p:nvSpPr>
        <p:spPr>
          <a:xfrm>
            <a:off x="2411280" y="5877000"/>
            <a:ext cx="505080" cy="485640"/>
          </a:xfrm>
          <a:prstGeom prst="rightArrow">
            <a:avLst>
              <a:gd name="adj1" fmla="val 50000"/>
              <a:gd name="adj2" fmla="val 26001"/>
            </a:avLst>
          </a:pr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6" name="Object 32" descr=""/>
          <p:cNvPicPr/>
          <p:nvPr/>
        </p:nvPicPr>
        <p:blipFill>
          <a:blip r:embed="rId3"/>
          <a:stretch/>
        </p:blipFill>
        <p:spPr>
          <a:xfrm>
            <a:off x="3284640" y="5778360"/>
            <a:ext cx="1708200" cy="557280"/>
          </a:xfrm>
          <a:prstGeom prst="rect">
            <a:avLst/>
          </a:prstGeom>
          <a:ln w="0">
            <a:noFill/>
          </a:ln>
        </p:spPr>
      </p:pic>
      <p:pic>
        <p:nvPicPr>
          <p:cNvPr id="1207" name="Object 33" descr=""/>
          <p:cNvPicPr/>
          <p:nvPr/>
        </p:nvPicPr>
        <p:blipFill>
          <a:blip r:embed="rId4"/>
          <a:stretch/>
        </p:blipFill>
        <p:spPr>
          <a:xfrm>
            <a:off x="5302080" y="5864400"/>
            <a:ext cx="1708200" cy="384120"/>
          </a:xfrm>
          <a:prstGeom prst="rect">
            <a:avLst/>
          </a:prstGeom>
          <a:ln w="0">
            <a:noFill/>
          </a:ln>
        </p:spPr>
      </p:pic>
      <p:sp>
        <p:nvSpPr>
          <p:cNvPr id="1208" name="Text Box 34"/>
          <p:cNvSpPr/>
          <p:nvPr/>
        </p:nvSpPr>
        <p:spPr>
          <a:xfrm>
            <a:off x="3134160" y="314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9" name="Text Box 35"/>
          <p:cNvSpPr/>
          <p:nvPr/>
        </p:nvSpPr>
        <p:spPr>
          <a:xfrm>
            <a:off x="248652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0" name="Object 36" descr=""/>
          <p:cNvPicPr/>
          <p:nvPr/>
        </p:nvPicPr>
        <p:blipFill>
          <a:blip r:embed="rId5"/>
          <a:stretch/>
        </p:blipFill>
        <p:spPr>
          <a:xfrm>
            <a:off x="3087720" y="6300720"/>
            <a:ext cx="2230560" cy="557280"/>
          </a:xfrm>
          <a:prstGeom prst="rect">
            <a:avLst/>
          </a:prstGeom>
          <a:ln w="0">
            <a:noFill/>
          </a:ln>
        </p:spPr>
      </p:pic>
      <p:pic>
        <p:nvPicPr>
          <p:cNvPr id="1211" name="Object 38" descr=""/>
          <p:cNvPicPr/>
          <p:nvPr/>
        </p:nvPicPr>
        <p:blipFill>
          <a:blip r:embed="rId6"/>
          <a:stretch/>
        </p:blipFill>
        <p:spPr>
          <a:xfrm>
            <a:off x="5224320" y="6300720"/>
            <a:ext cx="250992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любого угла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из промежутк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0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≤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≤ 180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синусо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угла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называется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ордината 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точки А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а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косинусо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угла 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абсцисса х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точки 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3" name="Picture 5" descr="preobrCDRcurves7"/>
          <p:cNvPicPr/>
          <p:nvPr/>
        </p:nvPicPr>
        <p:blipFill>
          <a:blip r:embed="rId1"/>
          <a:srcRect l="0" t="0" r="-33" b="-207"/>
          <a:stretch/>
        </p:blipFill>
        <p:spPr>
          <a:xfrm>
            <a:off x="415800" y="3789360"/>
            <a:ext cx="8728200" cy="2427120"/>
          </a:xfrm>
          <a:prstGeom prst="rect">
            <a:avLst/>
          </a:prstGeom>
          <a:ln w="0">
            <a:noFill/>
          </a:ln>
        </p:spPr>
      </p:pic>
      <p:sp>
        <p:nvSpPr>
          <p:cNvPr id="1214" name="WordArt 6"/>
          <p:cNvSpPr txBox="1"/>
          <p:nvPr/>
        </p:nvSpPr>
        <p:spPr>
          <a:xfrm>
            <a:off x="395280" y="260280"/>
            <a:ext cx="8229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е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WordArt 4"/>
          <p:cNvSpPr txBox="1"/>
          <p:nvPr/>
        </p:nvSpPr>
        <p:spPr>
          <a:xfrm>
            <a:off x="457200" y="289080"/>
            <a:ext cx="8229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чения синуса и косинуса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углов 0 , 90 и 180.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6" name="WordArt 5"/>
          <p:cNvSpPr txBox="1"/>
          <p:nvPr/>
        </p:nvSpPr>
        <p:spPr>
          <a:xfrm>
            <a:off x="4788000" y="765000"/>
            <a:ext cx="2682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7" name="WordArt 7"/>
          <p:cNvSpPr txBox="1"/>
          <p:nvPr/>
        </p:nvSpPr>
        <p:spPr>
          <a:xfrm>
            <a:off x="5867280" y="765000"/>
            <a:ext cx="26856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8" name="WordArt 8"/>
          <p:cNvSpPr txBox="1"/>
          <p:nvPr/>
        </p:nvSpPr>
        <p:spPr>
          <a:xfrm>
            <a:off x="7380360" y="765000"/>
            <a:ext cx="2682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9" name="Oval 10"/>
          <p:cNvSpPr/>
          <p:nvPr/>
        </p:nvSpPr>
        <p:spPr>
          <a:xfrm>
            <a:off x="971640" y="2492280"/>
            <a:ext cx="2592360" cy="259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0" name="Text Box 11"/>
          <p:cNvSpPr/>
          <p:nvPr/>
        </p:nvSpPr>
        <p:spPr>
          <a:xfrm>
            <a:off x="356580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1" name="Text Box 12"/>
          <p:cNvSpPr/>
          <p:nvPr/>
        </p:nvSpPr>
        <p:spPr>
          <a:xfrm>
            <a:off x="4213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2" name="Text Box 13"/>
          <p:cNvSpPr/>
          <p:nvPr/>
        </p:nvSpPr>
        <p:spPr>
          <a:xfrm>
            <a:off x="54144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2341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4" name="Text Box 16"/>
          <p:cNvSpPr/>
          <p:nvPr/>
        </p:nvSpPr>
        <p:spPr>
          <a:xfrm>
            <a:off x="1765080" y="1341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5" name="Rectangle 19"/>
          <p:cNvSpPr/>
          <p:nvPr/>
        </p:nvSpPr>
        <p:spPr>
          <a:xfrm>
            <a:off x="971640" y="3860640"/>
            <a:ext cx="259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6" name="Line 14"/>
          <p:cNvSpPr/>
          <p:nvPr/>
        </p:nvSpPr>
        <p:spPr>
          <a:xfrm>
            <a:off x="684360" y="386064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7" name="Text Box 17"/>
          <p:cNvSpPr/>
          <p:nvPr/>
        </p:nvSpPr>
        <p:spPr>
          <a:xfrm>
            <a:off x="1909080" y="378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8" name="Line 9"/>
          <p:cNvSpPr/>
          <p:nvPr/>
        </p:nvSpPr>
        <p:spPr>
          <a:xfrm flipV="1">
            <a:off x="2268360" y="1341000"/>
            <a:ext cx="0" cy="280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9" name="Text Box 20"/>
          <p:cNvSpPr/>
          <p:nvPr/>
        </p:nvSpPr>
        <p:spPr>
          <a:xfrm>
            <a:off x="3278160" y="39337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(1; 0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0" name="Text Box 21"/>
          <p:cNvSpPr/>
          <p:nvPr/>
        </p:nvSpPr>
        <p:spPr>
          <a:xfrm>
            <a:off x="1044000" y="2060640"/>
            <a:ext cx="12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1" name="Text Box 23"/>
          <p:cNvSpPr/>
          <p:nvPr/>
        </p:nvSpPr>
        <p:spPr>
          <a:xfrm>
            <a:off x="396000" y="3933720"/>
            <a:ext cx="12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; 0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2" name="Object 24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1873440" cy="587520"/>
          </a:xfrm>
          <a:prstGeom prst="rect">
            <a:avLst/>
          </a:prstGeom>
          <a:ln w="0">
            <a:noFill/>
          </a:ln>
        </p:spPr>
      </p:pic>
      <p:pic>
        <p:nvPicPr>
          <p:cNvPr id="1233" name="Object 25" descr=""/>
          <p:cNvPicPr/>
          <p:nvPr/>
        </p:nvPicPr>
        <p:blipFill>
          <a:blip r:embed="rId2"/>
          <a:stretch/>
        </p:blipFill>
        <p:spPr>
          <a:xfrm>
            <a:off x="6748560" y="1557360"/>
            <a:ext cx="1984320" cy="587520"/>
          </a:xfrm>
          <a:prstGeom prst="rect">
            <a:avLst/>
          </a:prstGeom>
          <a:ln w="0">
            <a:noFill/>
          </a:ln>
        </p:spPr>
      </p:pic>
      <p:pic>
        <p:nvPicPr>
          <p:cNvPr id="1234" name="Object 26" descr=""/>
          <p:cNvPicPr/>
          <p:nvPr/>
        </p:nvPicPr>
        <p:blipFill>
          <a:blip r:embed="rId3"/>
          <a:stretch/>
        </p:blipFill>
        <p:spPr>
          <a:xfrm>
            <a:off x="5292720" y="1989000"/>
            <a:ext cx="2241720" cy="587520"/>
          </a:xfrm>
          <a:prstGeom prst="rect">
            <a:avLst/>
          </a:prstGeom>
          <a:ln w="0">
            <a:noFill/>
          </a:ln>
        </p:spPr>
      </p:pic>
      <p:pic>
        <p:nvPicPr>
          <p:cNvPr id="1235" name="Object 27" descr=""/>
          <p:cNvPicPr/>
          <p:nvPr/>
        </p:nvPicPr>
        <p:blipFill>
          <a:blip r:embed="rId4"/>
          <a:stretch/>
        </p:blipFill>
        <p:spPr>
          <a:xfrm>
            <a:off x="4932360" y="2492280"/>
            <a:ext cx="1836720" cy="587520"/>
          </a:xfrm>
          <a:prstGeom prst="rect">
            <a:avLst/>
          </a:prstGeom>
          <a:ln w="0">
            <a:noFill/>
          </a:ln>
        </p:spPr>
      </p:pic>
      <p:pic>
        <p:nvPicPr>
          <p:cNvPr id="1236" name="Object 28" descr=""/>
          <p:cNvPicPr/>
          <p:nvPr/>
        </p:nvPicPr>
        <p:blipFill>
          <a:blip r:embed="rId5"/>
          <a:stretch/>
        </p:blipFill>
        <p:spPr>
          <a:xfrm>
            <a:off x="6748560" y="2492280"/>
            <a:ext cx="2130480" cy="587520"/>
          </a:xfrm>
          <a:prstGeom prst="rect">
            <a:avLst/>
          </a:prstGeom>
          <a:ln w="0">
            <a:noFill/>
          </a:ln>
        </p:spPr>
      </p:pic>
      <p:pic>
        <p:nvPicPr>
          <p:cNvPr id="1237" name="Object 29" descr=""/>
          <p:cNvPicPr/>
          <p:nvPr/>
        </p:nvPicPr>
        <p:blipFill>
          <a:blip r:embed="rId6"/>
          <a:stretch/>
        </p:blipFill>
        <p:spPr>
          <a:xfrm>
            <a:off x="5148360" y="3068640"/>
            <a:ext cx="2533680" cy="587520"/>
          </a:xfrm>
          <a:prstGeom prst="rect">
            <a:avLst/>
          </a:prstGeom>
          <a:ln w="0">
            <a:noFill/>
          </a:ln>
        </p:spPr>
      </p:pic>
      <p:pic>
        <p:nvPicPr>
          <p:cNvPr id="1238" name="Object 30" descr=""/>
          <p:cNvPicPr/>
          <p:nvPr/>
        </p:nvPicPr>
        <p:blipFill>
          <a:blip r:embed="rId7"/>
          <a:stretch/>
        </p:blipFill>
        <p:spPr>
          <a:xfrm>
            <a:off x="5003640" y="5157720"/>
            <a:ext cx="2387880" cy="1138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39" name="Object 31" descr=""/>
          <p:cNvPicPr/>
          <p:nvPr/>
        </p:nvPicPr>
        <p:blipFill>
          <a:blip r:embed="rId8"/>
          <a:stretch/>
        </p:blipFill>
        <p:spPr>
          <a:xfrm>
            <a:off x="2627280" y="4941720"/>
            <a:ext cx="1285920" cy="1138320"/>
          </a:xfrm>
          <a:prstGeom prst="rect">
            <a:avLst/>
          </a:prstGeom>
          <a:ln w="0">
            <a:noFill/>
          </a:ln>
        </p:spPr>
      </p:pic>
      <p:sp>
        <p:nvSpPr>
          <p:cNvPr id="1240" name=""/>
          <p:cNvSpPr txBox="1"/>
          <p:nvPr/>
        </p:nvSpPr>
        <p:spPr>
          <a:xfrm>
            <a:off x="0" y="4436640"/>
            <a:ext cx="873288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Тангенсом угла </a:t>
            </a:r>
            <a:r>
              <a:rPr b="0" lang="el-GR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α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(</a:t>
            </a:r>
            <a:r>
              <a:rPr b="0" lang="el-GR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α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90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) называетс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отношение             т.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                    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WordArt 4"/>
          <p:cNvSpPr txBox="1"/>
          <p:nvPr/>
        </p:nvSpPr>
        <p:spPr>
          <a:xfrm>
            <a:off x="457200" y="115920"/>
            <a:ext cx="8229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ое тригонометрическое тождество.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улы приведения.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2" name="Picture 5" descr="preobrCDRcurves7"/>
          <p:cNvPicPr/>
          <p:nvPr/>
        </p:nvPicPr>
        <p:blipFill>
          <a:blip r:embed="rId1"/>
          <a:srcRect l="49134" t="29739" r="0" b="41635"/>
          <a:stretch/>
        </p:blipFill>
        <p:spPr>
          <a:xfrm>
            <a:off x="1258920" y="3054240"/>
            <a:ext cx="4825800" cy="3803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43" name="Text Box 7"/>
          <p:cNvSpPr/>
          <p:nvPr/>
        </p:nvSpPr>
        <p:spPr>
          <a:xfrm>
            <a:off x="254160" y="1484280"/>
            <a:ext cx="82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 окружности с центром в точке(0; 0) и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усом 1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4" name="Text Box 8"/>
          <p:cNvSpPr/>
          <p:nvPr/>
        </p:nvSpPr>
        <p:spPr>
          <a:xfrm>
            <a:off x="2484360" y="1916280"/>
            <a:ext cx="21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у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5" name="Object 10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2880000" cy="51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Oval 10"/>
          <p:cNvSpPr/>
          <p:nvPr/>
        </p:nvSpPr>
        <p:spPr>
          <a:xfrm>
            <a:off x="971640" y="2492280"/>
            <a:ext cx="2592360" cy="259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7" name="Text Box 11"/>
          <p:cNvSpPr/>
          <p:nvPr/>
        </p:nvSpPr>
        <p:spPr>
          <a:xfrm>
            <a:off x="356580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4213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541440" y="33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0" name="Text Box 15"/>
          <p:cNvSpPr/>
          <p:nvPr/>
        </p:nvSpPr>
        <p:spPr>
          <a:xfrm>
            <a:off x="2341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1" name="Text Box 16"/>
          <p:cNvSpPr/>
          <p:nvPr/>
        </p:nvSpPr>
        <p:spPr>
          <a:xfrm>
            <a:off x="1765080" y="1341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2" name="Rectangle 19"/>
          <p:cNvSpPr/>
          <p:nvPr/>
        </p:nvSpPr>
        <p:spPr>
          <a:xfrm>
            <a:off x="971640" y="3814920"/>
            <a:ext cx="259236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Line 14"/>
          <p:cNvSpPr/>
          <p:nvPr/>
        </p:nvSpPr>
        <p:spPr>
          <a:xfrm>
            <a:off x="684360" y="386064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4" name="Text Box 17"/>
          <p:cNvSpPr/>
          <p:nvPr/>
        </p:nvSpPr>
        <p:spPr>
          <a:xfrm>
            <a:off x="1909080" y="378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5" name="Line 9"/>
          <p:cNvSpPr/>
          <p:nvPr/>
        </p:nvSpPr>
        <p:spPr>
          <a:xfrm flipV="1">
            <a:off x="2268360" y="1341000"/>
            <a:ext cx="0" cy="280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6" name="WordArt 6"/>
          <p:cNvSpPr txBox="1"/>
          <p:nvPr/>
        </p:nvSpPr>
        <p:spPr>
          <a:xfrm>
            <a:off x="457200" y="25560"/>
            <a:ext cx="82296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ординаты точки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257" name="Прямая со стрелкой 3"/>
          <p:cNvCxnSpPr/>
          <p:nvPr/>
        </p:nvCxnSpPr>
        <p:spPr>
          <a:xfrm flipV="1">
            <a:off x="2328840" y="1798560"/>
            <a:ext cx="2099520" cy="2062440"/>
          </a:xfrm>
          <a:prstGeom prst="straightConnector1">
            <a:avLst/>
          </a:prstGeom>
          <a:ln cap="rnd" w="57240">
            <a:solidFill>
              <a:srgbClr val="191919"/>
            </a:solidFill>
            <a:miter/>
            <a:tailEnd len="med" type="arrow" w="med"/>
          </a:ln>
        </p:spPr>
      </p:cxnSp>
      <p:sp>
        <p:nvSpPr>
          <p:cNvPr id="1258" name="Text Box 23"/>
          <p:cNvSpPr/>
          <p:nvPr/>
        </p:nvSpPr>
        <p:spPr>
          <a:xfrm>
            <a:off x="4119480" y="1341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(х ;у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9" name="Овал 6"/>
          <p:cNvSpPr/>
          <p:nvPr/>
        </p:nvSpPr>
        <p:spPr>
          <a:xfrm>
            <a:off x="4356000" y="1700280"/>
            <a:ext cx="144720" cy="144360"/>
          </a:xfrm>
          <a:prstGeom prst="ellipse">
            <a:avLst/>
          </a:prstGeom>
          <a:solidFill>
            <a:srgbClr val="191919"/>
          </a:solidFill>
          <a:ln cap="rnd" w="158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0" name="Овал 35"/>
          <p:cNvSpPr/>
          <p:nvPr/>
        </p:nvSpPr>
        <p:spPr>
          <a:xfrm>
            <a:off x="3203640" y="2852640"/>
            <a:ext cx="144360" cy="144720"/>
          </a:xfrm>
          <a:prstGeom prst="ellipse">
            <a:avLst/>
          </a:prstGeom>
          <a:solidFill>
            <a:srgbClr val="191919"/>
          </a:solidFill>
          <a:ln cap="rnd" w="1584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261" name="Прямая со стрелкой 8"/>
          <p:cNvCxnSpPr>
            <a:endCxn id="1260" idx="3"/>
          </p:cNvCxnSpPr>
          <p:nvPr/>
        </p:nvCxnSpPr>
        <p:spPr>
          <a:xfrm flipV="1">
            <a:off x="2268360" y="2976120"/>
            <a:ext cx="958320" cy="884880"/>
          </a:xfrm>
          <a:prstGeom prst="straightConnector1">
            <a:avLst/>
          </a:prstGeom>
          <a:ln cap="rnd" w="38160">
            <a:solidFill>
              <a:srgbClr val="191919"/>
            </a:solidFill>
            <a:miter/>
            <a:tailEnd len="med" type="triangle" w="med"/>
          </a:ln>
        </p:spPr>
      </p:cxnSp>
      <p:sp>
        <p:nvSpPr>
          <p:cNvPr id="1262" name="Text Box 23"/>
          <p:cNvSpPr/>
          <p:nvPr/>
        </p:nvSpPr>
        <p:spPr>
          <a:xfrm>
            <a:off x="3367800" y="2637000"/>
            <a:ext cx="25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3" name="TextBox 11"/>
          <p:cNvSpPr/>
          <p:nvPr/>
        </p:nvSpPr>
        <p:spPr>
          <a:xfrm>
            <a:off x="2789280" y="32767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4" name="Arc 19"/>
          <p:cNvSpPr/>
          <p:nvPr/>
        </p:nvSpPr>
        <p:spPr>
          <a:xfrm>
            <a:off x="2627280" y="3500280"/>
            <a:ext cx="144360" cy="362160"/>
          </a:xfrm>
          <a:custGeom>
            <a:avLst/>
            <a:gdLst/>
            <a:ahLst/>
            <a:rect l="l" t="t" r="r" b="b"/>
            <a:pathLst>
              <a:path fill="none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</a:path>
              <a:path stroke="0" w="21581" h="21600">
                <a:moveTo>
                  <a:pt x="0" y="0"/>
                </a:moveTo>
                <a:cubicBezTo>
                  <a:pt x="11578" y="0"/>
                  <a:pt x="21098" y="9130"/>
                  <a:pt x="21581" y="2069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5" name="Объект 14" descr=""/>
          <p:cNvPicPr/>
          <p:nvPr/>
        </p:nvPicPr>
        <p:blipFill>
          <a:blip r:embed="rId1"/>
          <a:stretch/>
        </p:blipFill>
        <p:spPr>
          <a:xfrm>
            <a:off x="5724360" y="1886040"/>
            <a:ext cx="3192480" cy="750960"/>
          </a:xfrm>
          <a:prstGeom prst="rect">
            <a:avLst/>
          </a:prstGeom>
          <a:ln w="0">
            <a:noFill/>
          </a:ln>
        </p:spPr>
      </p:pic>
      <p:pic>
        <p:nvPicPr>
          <p:cNvPr id="1266" name="Объект 15" descr=""/>
          <p:cNvPicPr/>
          <p:nvPr/>
        </p:nvPicPr>
        <p:blipFill>
          <a:blip r:embed="rId2"/>
          <a:stretch/>
        </p:blipFill>
        <p:spPr>
          <a:xfrm>
            <a:off x="5645160" y="3260880"/>
            <a:ext cx="1833480" cy="834840"/>
          </a:xfrm>
          <a:prstGeom prst="rect">
            <a:avLst/>
          </a:prstGeom>
          <a:ln w="0">
            <a:noFill/>
          </a:ln>
        </p:spPr>
      </p:pic>
      <p:sp>
        <p:nvSpPr>
          <p:cNvPr id="1267" name="Text Box 23"/>
          <p:cNvSpPr/>
          <p:nvPr/>
        </p:nvSpPr>
        <p:spPr>
          <a:xfrm>
            <a:off x="6049800" y="2763720"/>
            <a:ext cx="15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А(х ;у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8" name="Объект 16" descr=""/>
          <p:cNvPicPr/>
          <p:nvPr/>
        </p:nvPicPr>
        <p:blipFill>
          <a:blip r:embed="rId3"/>
          <a:stretch/>
        </p:blipFill>
        <p:spPr>
          <a:xfrm>
            <a:off x="5694480" y="4149720"/>
            <a:ext cx="2693880" cy="663480"/>
          </a:xfrm>
          <a:prstGeom prst="rect">
            <a:avLst/>
          </a:prstGeom>
          <a:ln w="0">
            <a:noFill/>
          </a:ln>
        </p:spPr>
      </p:pic>
      <p:pic>
        <p:nvPicPr>
          <p:cNvPr id="1269" name="Объект 17" descr=""/>
          <p:cNvPicPr/>
          <p:nvPr/>
        </p:nvPicPr>
        <p:blipFill>
          <a:blip r:embed="rId4"/>
          <a:stretch/>
        </p:blipFill>
        <p:spPr>
          <a:xfrm>
            <a:off x="1190520" y="4869000"/>
            <a:ext cx="3111480" cy="153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5" descr="preobrCDRcurves7"/>
          <p:cNvPicPr/>
          <p:nvPr/>
        </p:nvPicPr>
        <p:blipFill>
          <a:blip r:embed="rId2"/>
          <a:srcRect l="3779" t="34067" r="51410" b="42717"/>
          <a:stretch/>
        </p:blipFill>
        <p:spPr>
          <a:xfrm>
            <a:off x="1258920" y="1557360"/>
            <a:ext cx="6121440" cy="4432320"/>
          </a:xfrm>
          <a:prstGeom prst="rect">
            <a:avLst/>
          </a:prstGeom>
          <a:ln w="0">
            <a:noFill/>
          </a:ln>
        </p:spPr>
      </p:pic>
      <p:sp>
        <p:nvSpPr>
          <p:cNvPr id="1272" name="WordArt 6"/>
          <p:cNvSpPr txBox="1"/>
          <p:nvPr/>
        </p:nvSpPr>
        <p:spPr>
          <a:xfrm>
            <a:off x="457200" y="7920"/>
            <a:ext cx="82296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ординаты точки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5" descr="preobrCDRcurves7"/>
          <p:cNvPicPr/>
          <p:nvPr/>
        </p:nvPicPr>
        <p:blipFill>
          <a:blip r:embed="rId2"/>
          <a:srcRect l="0" t="61105" r="0" b="3785"/>
          <a:stretch/>
        </p:blipFill>
        <p:spPr>
          <a:xfrm>
            <a:off x="395280" y="1766880"/>
            <a:ext cx="8497800" cy="4168800"/>
          </a:xfrm>
          <a:prstGeom prst="rect">
            <a:avLst/>
          </a:prstGeom>
          <a:ln w="0">
            <a:noFill/>
          </a:ln>
        </p:spPr>
      </p:pic>
      <p:sp>
        <p:nvSpPr>
          <p:cNvPr id="1275" name="WordArt 6"/>
          <p:cNvSpPr txBox="1"/>
          <p:nvPr/>
        </p:nvSpPr>
        <p:spPr>
          <a:xfrm>
            <a:off x="528480" y="30240"/>
            <a:ext cx="82296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усы и косинусы 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х углов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09:06Z</dcterms:created>
  <dc:creator>Anna</dc:creator>
  <dc:description/>
  <dc:language>en-US</dc:language>
  <cp:lastModifiedBy>Vladimir Smirnov</cp:lastModifiedBy>
  <dcterms:modified xsi:type="dcterms:W3CDTF">2024-04-11T08:30:54Z</dcterms:modified>
  <cp:revision>8</cp:revision>
  <dc:subject/>
  <dc:title>Синус, косинус и тангенс углов  от 0⁰ до 180 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20000000000010243100207f6000400038000</vt:lpwstr>
  </property>
</Properties>
</file>