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01F-264C-47E8-8AA5-94B4A50B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2BC-B895-4E13-A73F-E28ACE48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534CC-6D89-42AD-8E0A-864C62E4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03671-E418-4F7A-AF2B-45D7D1BE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EFEC7-75D5-4EE1-BD02-2494ACC7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90C31-2C16-44A6-8D4B-2EC104BF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222E3-726B-42DE-B6CC-97F2CE57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C7163-ED8E-4728-BABD-7798D090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CD028-E498-4517-8C8A-7A06FD5D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DA306-5493-427C-90A6-EE5FD74E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1CD47-FCF8-40CB-8419-2DFCDBD7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BC11C-4ACF-4522-AA2D-1AB7CB09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9EC-C097-4521-91B9-56CA8ED2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EB299-2099-4DA4-BFF4-BBBF7CD2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31D95-D564-4A53-BE98-4BAD33EC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A31D2-33D1-460B-B864-4184D0A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9A385-A33F-4DC4-980A-CA82FA94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4B478-6EC7-49FC-AAB9-EB41BB55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CA9A0-EACD-46AC-BCC1-FDFC552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49D0A-828A-402F-A019-5893EE96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7CE02-1A00-4D84-84A9-40B099AF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97C1D-F029-4288-B472-158ACB46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605D1-6D99-4CDC-94AE-B392D2C1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1FA-BDB8-4BA1-9304-6EBAF33F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9C476-6870-4878-8ADC-083E4D9A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5CE8-FDFE-4713-8315-1EFA0E1A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9A74F-0220-44E6-AA05-E448F711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B8C21-8190-439C-8A30-6087D9B0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9A2FB-6B0C-4590-9E04-3F102C0B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D5477-C1A5-4A35-A11E-1A4837C7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D1420-B2DB-4F9F-AC90-CC1206DA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914A-311F-44F2-A72A-4C2D0392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D04B4-2F15-448D-8CF5-5E6CB763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10EB1-7B4C-4E8E-BE4F-B822B68B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D970-01C0-428D-9919-1832E57F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ADCDA-FFD4-4867-9BF2-297ED3CF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58779-D229-4AD7-9939-AD357412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46292-370C-4EF5-9103-7831B7C2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0D058-84FA-44D3-AF4E-783FF64A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C7FAD-43EB-430A-8178-D51F65B9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EFDBD-90EA-4321-B1FA-6239C86F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DFE13-5114-4EB8-898A-4EC6F3EA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6E1C5-4DFE-465F-954B-9CC8EAF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C40E7-80B0-41FA-A9C9-3F74AE1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DC4FE-5DAE-4230-9513-865B981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B857-34D6-44CA-80E7-1B0E3F51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2C6FB-2CB4-4282-9BFA-44344B02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9E8B5-9D7B-4CB8-A719-882CEBA3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3EFD9-8E3B-4015-AD85-CD60149C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6BDE0-5209-4F49-8B86-1D72E58E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8EDC5-76E4-4F7C-983D-0984D15C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68C4-DE63-49CE-967A-45BCD897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7620-AF3C-4E8D-B9AF-697C95B3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B153-6681-4347-A721-41EC8BA8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51B8-F205-4077-BBEF-89FC133F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89DF-9D7F-4E76-85BF-AB71E19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C4E-977A-4481-A919-D3DD681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7F43-770D-4429-8B46-DD1454F3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D11C-1BEC-4A12-925B-AE36B474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81FA-A189-47C9-AEC6-51E06A9A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40A7-D727-4565-BD59-147047B7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3A5B-C14E-4B16-954D-F6799066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B1DF-8D8A-4091-9242-EE34685F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B9B3F-99C2-4233-A007-B732E50A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F87C-CB67-4E83-939C-0410005E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4670-06A0-4CFE-916C-6A8F015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B510-15BB-47E9-8AC5-5118D7E6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771-C20C-441A-A22B-6076BCC0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0C8FE-BA18-4BDD-88C8-5099BE9B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61E8-5147-49F6-B38A-18AB8B75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37D7-A95F-47E2-98D3-220D16A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42F4-1FAC-4905-BEEF-9869478B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4E4B-0DF5-49A5-94C1-A023CA15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03AA-2E2A-4CEF-B0C4-055A7112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114D-5E0A-4A42-865F-CFAF8265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FED62-0198-42D1-A704-9EC3EF0D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953A0-051E-41A4-8C65-12CFC806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2C6F3-517E-46CF-8022-F4C9C45B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F08-481C-4B0C-9EA4-646E9480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B958-5A7E-4905-8007-8C7D8A71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CA7E3-E825-4B00-86ED-DBA43723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8AA8-8DFC-4F38-865F-D458E23B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F618-8D55-41A0-A90E-0A4C86D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FCD8-764E-46AD-8E25-FBFF164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3CEB-B85B-404C-B297-CEDA0A2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01D8F-176E-47B8-B68E-54B6AD8B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22EE-E1C7-4F9E-A95F-61F61633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EBE5D-29C5-4B12-B8DD-77E998D4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1E4F-3AAE-4F46-9A98-CD618430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8AC-6466-4730-BFD8-10F905E2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32A92-C8B0-48A2-B02A-0AB05103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1C82C-4C02-4E0A-8D75-C04216B7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C6ABC-7B46-497D-A21B-DBBC66DB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79EF1-F083-406B-85EE-4C037B74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4C016-E77A-4159-BF42-6BE1E05E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95501-62F7-4041-80DD-0081E072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3F9D5-D2F1-4F11-9A92-E70773B6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CA4E6-ADBA-41CD-A422-4DA1E22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2C76D-2507-40C5-9A7B-4FCFCA40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6E2B-72F6-4206-94D3-6E608ACA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F81-5A05-4266-B48E-699CEA73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3910-7AE8-4B7A-B4C2-83343CAC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AB14-5EDF-4E12-9C1C-30E39FCB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67D1-C811-49CE-987C-DD49EAAB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DA1C6-9DEC-47A1-B7D4-70C18455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A41FA-CDBC-42EC-863B-E97B491E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922E-A630-49BE-BFEF-9B0A8A26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AA419-175D-40EE-BF84-0E9D2DA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2A491-82B5-40D9-9C1A-B317DAC0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7CD1-9664-4E6D-813B-F0A5305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93482-0900-46FF-AA0C-B69353BD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365-9DE8-4E27-A2D1-9B45CB99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1FBC7-97EE-434F-8BAB-5464B501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D8DA-407F-4E92-A5C3-2070C555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8BE6-E0E9-4355-89F3-90F9C178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663F9-25B6-4175-8E2F-0888F4B1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D878-F249-466B-A691-6C9FA890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F8C40-299A-456F-BC1F-FA2C62BC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6A7E4-C765-403F-9AB9-E34C5F1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9234-D12A-4D6B-B444-086F7EE2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D71B0-F340-4D32-AF36-50722030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2F36B-0721-4777-B1D5-BBB1FE8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64C-357D-4ACB-A0B5-E18A5F8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5ADD4-B77F-445C-9426-33317A21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A4659-92F1-4CC7-8418-13DE43EF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9DE0A-411A-4B98-9EFD-F130454D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4105-35F6-449C-807D-C9E6EBB1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D9947-4A1D-46B1-A6CE-C308D5B9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CAD26-6875-452D-8433-8F6356ED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3ACF6-53A8-469F-9D9D-6356CBFE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DBD3F-9C3F-46E0-BF9A-3FBAF990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0F511-C935-466B-8AF1-02778883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EC480-D574-44F4-A6E6-C6F53F9C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9D8-9447-4C93-9907-669B7A38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E7A64-65E3-4340-8CD1-BEDDF7E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9D04A-D946-43CF-A19E-38FB4D80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16413-705F-44D0-A198-A382E3D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4F503-5541-41AF-913C-83E592C5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CC975-1CAC-439D-9332-9E37BA83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45A15-E776-4AAD-A7EF-E83F29FD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5E33-5DBC-46DF-BCAC-B1E13986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3DA59-72CC-4303-8D90-CC12755D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313E8-73B5-4013-AC5E-F83FF834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17947-5A7B-45B9-9F54-CDA5F28D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F738-B9C6-4DB0-977E-DAFDEF6526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D380-B588-49FF-82FA-D895249006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CAE2-8BA7-48FB-B5CA-B4C345B7BF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9F5D-3A30-4C6E-9019-CE9D195588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B4B2-67C2-4FF6-93EC-76E712BA58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B18-F4F9-4D4F-86F4-30165F1283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F7C2-0790-4CCE-B72B-2C35E0D2F6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625D-D525-49B9-9307-B92F101DDA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78AB-083C-4368-9B21-A2DE158563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10B-BB04-4610-9477-7DC4EA75A0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8808-0463-4A41-9157-50EBE941CA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1986-4AC9-42EE-B116-79C35BC1F0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89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604a7b"/>
                </a:solidFill>
                <a:latin typeface="Arial"/>
                <a:ea typeface="Arial"/>
              </a:rPr>
              <a:t>Муниципальное бюджетное дошкольное образовательное учреждения детский сад № 27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оугольник 4"/>
          <p:cNvSpPr/>
          <p:nvPr/>
        </p:nvSpPr>
        <p:spPr>
          <a:xfrm>
            <a:off x="412920" y="1868400"/>
            <a:ext cx="7742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Тема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«Дидактическая игра как необходимое условие развития познавательной активности детей раннего возрас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5"/>
          <p:cNvSpPr/>
          <p:nvPr/>
        </p:nvSpPr>
        <p:spPr>
          <a:xfrm>
            <a:off x="5106960" y="4581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33c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Выполнила: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I квалификационн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Барабанщи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2771640" y="587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г. Ангарск 202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6084720" y="907920"/>
            <a:ext cx="27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Игра — это искра, зажигающая огон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ытливости и любознатель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. 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89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560" y="1125360"/>
            <a:ext cx="849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 детей раннего возраста существует прямая связь между эмоциональным состоянием ребенка и интенсивностью протекания его психических процессов: мышления, речи, внимания, памяти.             Поэтому особенно полезны игры, в которых дети действуют: разбирают, собирают, сортируют, соединяют, разъединяют детали и т. 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 помощью таких игр у детей активируется речь, знакомятся со свойствами предметов, формируется представления об окружающем мир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дним из видов игровой деятельности является дидактическая иг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5"/>
          <p:cNvSpPr/>
          <p:nvPr/>
        </p:nvSpPr>
        <p:spPr>
          <a:xfrm>
            <a:off x="611280" y="41292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ие игры с липучками  на формирование знаний о  геометрических фигурах и ц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8"/>
          <p:cNvSpPr/>
          <p:nvPr/>
        </p:nvSpPr>
        <p:spPr>
          <a:xfrm>
            <a:off x="1258920" y="17589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«Укрась матрёшке сарафа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Рисунок 3" descr=""/>
          <p:cNvPicPr/>
          <p:nvPr/>
        </p:nvPicPr>
        <p:blipFill>
          <a:blip r:embed="rId1"/>
          <a:stretch/>
        </p:blipFill>
        <p:spPr>
          <a:xfrm>
            <a:off x="2340000" y="2274840"/>
            <a:ext cx="420696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73080" y="-171720"/>
            <a:ext cx="9290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ие игры с пособием «Ковер  с листочками»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Рисунок 2" descr=""/>
          <p:cNvPicPr/>
          <p:nvPr/>
        </p:nvPicPr>
        <p:blipFill>
          <a:blip r:embed="rId1"/>
          <a:stretch/>
        </p:blipFill>
        <p:spPr>
          <a:xfrm>
            <a:off x="2565360" y="1744560"/>
            <a:ext cx="3432240" cy="46767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4"/>
          <p:cNvSpPr/>
          <p:nvPr/>
        </p:nvSpPr>
        <p:spPr>
          <a:xfrm>
            <a:off x="2195640" y="12715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«Накорми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33360" y="0"/>
            <a:ext cx="856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ое пособие с использованием коктейльных трубочек альбом «Трубоч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231840" y="1197000"/>
            <a:ext cx="88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Цель: формировать представления об окружающем мире, совершенствовать ловкость рук;  развивать  мелкую моторику и координацию движени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Рисунок 4" descr=""/>
          <p:cNvPicPr/>
          <p:nvPr/>
        </p:nvPicPr>
        <p:blipFill>
          <a:blip r:embed="rId1"/>
          <a:stretch/>
        </p:blipFill>
        <p:spPr>
          <a:xfrm>
            <a:off x="1835280" y="2401920"/>
            <a:ext cx="429408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33360" y="0"/>
            <a:ext cx="856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ое пособие с использованием коктейльных трубочек альбом «Трубоч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231840" y="1197000"/>
            <a:ext cx="88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Цель: формировать представления об окружающем мире, совершенствовать ловкость рук;  развивать  мелкую моторику и координацию движени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Рисунок 2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3994200" cy="43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User</cp:lastModifiedBy>
  <dcterms:modified xsi:type="dcterms:W3CDTF">2024-04-13T14:32:23Z</dcterms:modified>
  <cp:revision>446</cp:revision>
  <dc:subject/>
  <dc:title>Diapositiva 1</dc:title>
</cp:coreProperties>
</file>