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7DCD-9421-49CD-8C8E-02C884A0A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91C9-FB43-4344-A24C-764DCBBCC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53EB4D-8224-4C42-B634-75531958C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9F3616-1A56-4386-9897-C6E494F0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9278A9-B4E3-47D2-83C3-24620D543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89B55B-E336-45FA-A7C8-4F6F6357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6EF2EB-1EAA-46A2-9149-8CD942A5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09C67B-1EB5-415E-BD25-5C2A6016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58DB4D-1EBF-4241-A70E-80911E922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8AED69-CD65-4118-ADF2-4273C26A3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43EAD8-DAD5-4AE2-ABDB-1084684C3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165B86-C729-4971-85A1-900F88DA2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2166-1C06-4456-9069-305471D08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CF33FC-DB74-4BBC-AD3B-3F1811C52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A36A54-1469-40D8-B815-13B2DE5F9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4D8923-4AE7-4FB7-96BC-8A2CF8915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59B608-D998-426F-93A9-03A46768C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D2E0EC-6BBF-4A26-821D-0D2145E4A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12D2E5-B7CD-4C14-8BF8-6EF362F0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0F63FD-6342-46E0-AC3F-D7491BE3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F62457-2733-46BE-898B-0475DBBE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8F7971-A0C4-4A35-9039-72A6FEE06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A549D9-1A32-4F90-9561-52ADB98AC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6B5D-DEE0-432F-A6C1-27820A60E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DB6050-7E4F-46A2-A3A0-D8805C254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16C136-1B33-4959-8E06-7355F00E9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E7C816-691A-4293-97DF-66115AED4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E29BF4-945A-4021-9622-C2E69C0A8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FE8A48-1D7B-4CF8-A6B0-E8ACC9086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303973-85C4-4A1E-B960-A16CD0852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C6B299-CFEE-4FB8-8AD9-FECCFCD3F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20154C-9033-4030-AE26-B1E10C62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69B578-7D16-46E0-9D6E-8AAEA83F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B53F43-CDDD-4A75-A690-FF1F641B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6044E-EB21-40F2-857C-0A475188F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C520A5-8411-49F3-83C4-3E80F3747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AADBB4-2D2D-4AF7-94F5-9AD7DB00F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563F5F-8929-4B4D-B360-082DEA6EF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0B5C23-A86C-491E-813D-CB18F6884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93C857-1262-4FCD-8D9B-EEB12FEEE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259525-9964-4353-B1E8-7E7BD4465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7F9B98-5008-4D40-8B50-B31732511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B11CBE-2BF8-4FA7-9FE1-32E50F2A4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EA0070-3D85-417B-9AE2-A796A10CD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8DFB07-5FFE-4C2A-8C2A-E5C54FFE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BF9A3-F335-43D5-9C62-B0B903EB9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0C9F91-B030-4984-A3EA-1ABE0EA3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4DC9C9-4176-415D-A57C-05FB9554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24CABF-7572-49A7-BB96-99F44F417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52E985-DBA6-45FA-AF06-FACE31F6B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79DD1E-2BCB-436F-8821-8313B7347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79ED7-3537-4322-88D3-039339E07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6957C-A6EA-48B6-9413-5859726BB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B9572-2FA4-4256-9D0F-986C6082D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EDE9C-C1F9-401C-879D-3061EB1D9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DFC20-0E1D-46B0-978E-A51589D0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DF33-03EC-4DC6-9427-6952CDDCB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DD98F-89FD-4666-995B-BA470AD7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96730-8220-4F73-B14C-48182AED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29436-9E91-44CE-AB34-5ACBEEE86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8AA8A-1A9A-4994-9041-05EDA916D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2D6DF-90A5-4C5E-BA45-E9EAEBD74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468F3-A239-4085-9FAA-FDBDD84DA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FAFBA-F773-4C70-A0EA-CC32F4249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79AE5-7A08-4E3F-8573-9D25C0C7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EB356-2DCF-474F-8011-196957154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E0E8F-D6D8-4106-B574-0B706E231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303D-3D5E-4736-9D17-0A3AF34A7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5185F-9DA3-44B4-BAC1-BCD8D723D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1C70A-86DF-4745-BFA8-9324EAAE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3B5C4-9664-40DF-8ACD-A9CE5B54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9BF32-F153-4E5E-891F-787C20D3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0F38D-75DF-4FE6-AB97-87B012E9C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76CF3-6CF5-4703-9C26-EB5BFB54A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63DFB-B0E0-4D6B-9372-C6F2E8A1A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32F15-90DA-4F3B-A473-89C4AAE0A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F6BA3-0AFD-43AC-A225-7E6A01AF9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AFED3-0AC6-4072-AF9F-0C92087AE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BF37-2EC4-481C-8031-E5EF463FD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C7C30-CE3D-44CF-B8AB-C215B3DA7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500ED-75DB-4721-9760-1CCE330B6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A3232-AE4A-481A-8675-057C65801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B2FD1-E994-435B-9CE7-CBA53C87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C6AFC-6935-4968-B1BA-91C5C7CD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B2E17-A56C-4CDD-8977-007AE572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9A0D2-1093-4B04-9C2C-A6E04B2BE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EADDA-D525-4714-B1A7-523ADCEFA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1B849-5A5E-4B48-A9F8-F113BC8F0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677F1-A7C5-48CA-92D5-366D185C7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4A67-7015-42C3-BF3D-4514F6D0C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67501-6E84-4139-A533-EA3757F10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2C9E7-50E9-4DA5-8EBC-C08613EBB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B3C67-9904-4A0E-9CF5-E4179F3A2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DD47F-9579-4F23-A7CB-3D4E6D9DF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E46B6-DB96-49D9-915C-F88535EE9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BBFFE-4B31-44D3-BD74-E11B8E0C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8E4DB-C013-4177-AAEC-714502D0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42A53-485F-4E8C-9636-8E3043C5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EF82F-E9CB-483C-8A7D-899114470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9EC4D-6D11-46C8-A90C-1C439D859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D0DA-DF7D-4B4E-862B-74B1D4737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B96EF-D97D-4E05-9F76-0103DC048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8AD73-5344-423A-A8C9-A13371D87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0E240-81B5-4A9E-A53E-935E26129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3D407-BC52-4339-89EB-919181D89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CF747-FF93-4FED-9A13-C4600CA1B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FEFE4-E05D-4EC5-B25F-29197F3C0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0DF00-66AE-40B4-9B97-8E5CA86FF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94FEA-E67A-443C-823E-D8F9C756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D0560-2D0A-429A-9C46-7F8850F4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632E8-26D5-4C14-8386-E4C16187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2D79-FBCD-4A24-B822-41449F36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23E17-666C-4009-9D05-5ECF688F1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05967-416D-4D9C-8D66-576269CB3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89C66-F44B-40C4-9109-69552D72E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7E7E5-6015-4F82-B59A-2A24E6A25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46FB1-5D68-4058-A78A-74D189BF1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7686C-7D51-45B3-919E-7A0B8B31F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12EDC-DBD1-4032-B6CC-A67134AFC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BB00B-31A6-410C-A18A-D86BF1972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93D72E-C096-4C7C-8F51-35819A9C5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B2EAE6-04F0-48FD-A40D-EA4F8608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37E3-F49A-467C-A536-259F6E3F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3A912-37DC-4CFF-BA2B-9239AC7A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0CFB1-E018-4A4B-AF0F-A7BD8B7C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3D7E7-8D74-419F-9792-405C1AF07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6B6D3-6A24-4B99-9EFC-76C0EC46E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01E68-1B65-4A27-8F6D-852F404FC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A4B788-33A9-430F-9234-E728E3F24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31806B-E027-4546-9DE5-370FB8420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108DA5-B5B2-49AD-95DB-C6344A995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E8179A-C7AC-4782-A2AD-73A32929C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A0DCA8-1391-418D-A9DD-17D25CCE0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E275-DD8B-4A2B-AED9-392F0998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2D4302-81DF-4B9F-8C5E-A04F452E3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BD8BEB-FC90-493D-A265-BC9EF19E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74FA1D-5A5C-4CFE-9297-DC7528E7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9EA3F7-9DE6-479A-B959-895B1AA0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73BA39-6134-4B8E-9DEA-B28FA3787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0B309E-BCE1-4B76-83B8-FC008ACBF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6DBE01-9173-43DD-A363-E10A6A009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B6AC83-C3BF-46B6-85C2-82F13CB71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0C41FC-089C-4E3C-9A81-65FD6D578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D69FCF-446A-47AE-8ACB-5BEA9546D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6A477-6EDF-4259-8352-838637CE67D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DCCB7-546A-4F4E-80C1-4B7690F7DDF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C4852-8158-4ED0-AB28-B18CC25B47B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5617D-3D19-4B59-9903-69BA9D08E35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228A0-5D69-44E6-96DB-79FD9E26BB6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D2D4C-0A79-44B1-921D-CFA00B2FE56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A330A-1CDA-4892-9538-CD990E20748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40373-3B5F-46DF-A319-96B25F5C3B1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1356C-4D80-40D7-96C5-6E1ED3A9128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BBB33-9494-4539-AEE3-CE62A256E5A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13CC-356A-480A-B9BA-D6B8F681571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CA0AE-A86B-4C7C-B20C-DF82999DB7E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858996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2000" spc="-1" strike="noStrike">
                <a:solidFill>
                  <a:srgbClr val="604a7b"/>
                </a:solidFill>
                <a:latin typeface="Arial"/>
                <a:ea typeface="Arial"/>
              </a:rPr>
              <a:t>Муниципальное бюджетное дошкольное образовательное учреждения детский сад № 27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Прямоугольник 4"/>
          <p:cNvSpPr/>
          <p:nvPr/>
        </p:nvSpPr>
        <p:spPr>
          <a:xfrm>
            <a:off x="412920" y="1868400"/>
            <a:ext cx="77421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  <a:ea typeface="Arial"/>
              </a:rPr>
              <a:t>Тема: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«Дидактическая игра как необходимое условие развития познавательной активности детей раннего возраст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Прямоугольник 5"/>
          <p:cNvSpPr/>
          <p:nvPr/>
        </p:nvSpPr>
        <p:spPr>
          <a:xfrm>
            <a:off x="5106960" y="458136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33c0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04a7b"/>
                </a:solidFill>
                <a:latin typeface="Arial"/>
              </a:rPr>
              <a:t>Выполнила: 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4a7b"/>
                </a:solidFill>
                <a:latin typeface="Arial"/>
              </a:rPr>
              <a:t>I квалификационной категор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4a7b"/>
                </a:solidFill>
                <a:latin typeface="Arial"/>
              </a:rPr>
              <a:t>Барабанщико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4a7b"/>
                </a:solidFill>
                <a:latin typeface="Arial"/>
              </a:rPr>
              <a:t>Светлана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7"/>
          <p:cNvSpPr/>
          <p:nvPr/>
        </p:nvSpPr>
        <p:spPr>
          <a:xfrm>
            <a:off x="2771640" y="587700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4a7b"/>
                </a:solidFill>
                <a:latin typeface="Arial"/>
              </a:rPr>
              <a:t>г. Ангарск 2024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2"/>
          <p:cNvSpPr/>
          <p:nvPr/>
        </p:nvSpPr>
        <p:spPr>
          <a:xfrm>
            <a:off x="6084720" y="907920"/>
            <a:ext cx="2735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«Игра — это искра, зажигающая огон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пытливости и любознательност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В. А. Сухомлин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858996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Актуальност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250560" y="1125360"/>
            <a:ext cx="849636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       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У детей раннего возраста существует прямая связь между эмоциональным состоянием ребенка и интенсивностью протекания его психических процессов: мышления, речи, внимания, памяти.             Поэтому особенно полезны игры, в которых дети действуют: разбирают, собирают, сортируют, соединяют, разъединяют детали и т. п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  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С помощью таких игр у детей активируется речь, знакомятся со свойствами предметов, формируется представления об окружающем мире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Одним из видов игровой деятельности является дидактическая иг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Box 5"/>
          <p:cNvSpPr/>
          <p:nvPr/>
        </p:nvSpPr>
        <p:spPr>
          <a:xfrm>
            <a:off x="611280" y="412920"/>
            <a:ext cx="79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Дидактические игры с липучками  на формирование знаний о  геометрических фигурах и цве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Box 8"/>
          <p:cNvSpPr/>
          <p:nvPr/>
        </p:nvSpPr>
        <p:spPr>
          <a:xfrm>
            <a:off x="1258920" y="175896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Arial"/>
              </a:rPr>
              <a:t>«Укрась матрёшке сарафанч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Рисунок 3" descr=""/>
          <p:cNvPicPr/>
          <p:nvPr/>
        </p:nvPicPr>
        <p:blipFill>
          <a:blip r:embed="rId1"/>
          <a:stretch/>
        </p:blipFill>
        <p:spPr>
          <a:xfrm>
            <a:off x="2340000" y="2274840"/>
            <a:ext cx="4206960" cy="3649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-73080" y="-171720"/>
            <a:ext cx="929016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Дидактические игры с пособием «Ковер  с листочками»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3" name="Рисунок 2" descr=""/>
          <p:cNvPicPr/>
          <p:nvPr/>
        </p:nvPicPr>
        <p:blipFill>
          <a:blip r:embed="rId1"/>
          <a:stretch/>
        </p:blipFill>
        <p:spPr>
          <a:xfrm>
            <a:off x="2565360" y="1744560"/>
            <a:ext cx="3432240" cy="4676760"/>
          </a:xfrm>
          <a:prstGeom prst="rect">
            <a:avLst/>
          </a:prstGeom>
          <a:ln w="0">
            <a:noFill/>
          </a:ln>
        </p:spPr>
      </p:pic>
      <p:sp>
        <p:nvSpPr>
          <p:cNvPr id="504" name="TextBox 4"/>
          <p:cNvSpPr/>
          <p:nvPr/>
        </p:nvSpPr>
        <p:spPr>
          <a:xfrm>
            <a:off x="2195640" y="127152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  <a:ea typeface="Arial"/>
              </a:rPr>
              <a:t>«Накорми животны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33360" y="0"/>
            <a:ext cx="85694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Дидактическое пособие с использованием коктейльных трубочек альбом «Трубочки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Box 2"/>
          <p:cNvSpPr/>
          <p:nvPr/>
        </p:nvSpPr>
        <p:spPr>
          <a:xfrm>
            <a:off x="231840" y="1197000"/>
            <a:ext cx="880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  <a:ea typeface="Arial"/>
              </a:rPr>
              <a:t>Цель: формировать представления об окружающем мире, совершенствовать ловкость рук;  развивать  мелкую моторику и координацию движений ру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Рисунок 4" descr=""/>
          <p:cNvPicPr/>
          <p:nvPr/>
        </p:nvPicPr>
        <p:blipFill>
          <a:blip r:embed="rId1"/>
          <a:stretch/>
        </p:blipFill>
        <p:spPr>
          <a:xfrm>
            <a:off x="1835280" y="2401920"/>
            <a:ext cx="4294080" cy="4102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33360" y="0"/>
            <a:ext cx="85694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Дидактическое пособие с использованием коктейльных трубочек альбом «Трубочки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Box 2"/>
          <p:cNvSpPr/>
          <p:nvPr/>
        </p:nvSpPr>
        <p:spPr>
          <a:xfrm>
            <a:off x="231840" y="1197000"/>
            <a:ext cx="880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  <a:ea typeface="Arial"/>
              </a:rPr>
              <a:t>Цель: формировать представления об окружающем мире, совершенствовать ловкость рук;  развивать  мелкую моторику и координацию движений ру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Рисунок 2" descr=""/>
          <p:cNvPicPr/>
          <p:nvPr/>
        </p:nvPicPr>
        <p:blipFill>
          <a:blip r:embed="rId1"/>
          <a:stretch/>
        </p:blipFill>
        <p:spPr>
          <a:xfrm>
            <a:off x="2268360" y="2349360"/>
            <a:ext cx="3994200" cy="4384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8:41:59Z</dcterms:created>
  <dc:creator>Mariajose</dc:creator>
  <dc:description/>
  <dc:language>en-US</dc:language>
  <cp:lastModifiedBy>User</cp:lastModifiedBy>
  <dcterms:modified xsi:type="dcterms:W3CDTF">2024-04-13T14:32:23Z</dcterms:modified>
  <cp:revision>446</cp:revision>
  <dc:subject/>
  <dc:title>Diapositiva 1</dc:title>
</cp:coreProperties>
</file>