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B0A5-75DE-493B-9AA2-6E8B0B72F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9981-1160-4552-8DC9-C3FB62FE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B6EA2-C03A-42B8-B3C9-393F0800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47C31-663E-42E6-96D6-230C15BB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A1DDE-4F2B-4923-963D-54AE5D1C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3651F-B09E-4F55-BD45-3ACB5590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07CCB-966E-4A64-8448-77026F58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98658-4067-4093-8F2F-9E6F3398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0343C-4B51-4984-9D8F-813C4685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E542A0-CBA5-4416-A7EB-BBCBB0245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B842E-2AB4-40A7-A961-BF6B5360F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C75D66-0B7A-45D0-83AD-46A58FC43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2D94-989D-495B-B02C-FDEF011C8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CF215D-7994-482E-B8BD-FCB3B9D2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DB3FC2-1F68-4498-9AD5-558E08FB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AC329-DCBF-4823-A503-8057379F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4C6C2-6903-496D-B52A-B766A813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DC605-B08D-4243-A2AC-2FCB9F0C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75BFDE-B1DE-4CA9-A32B-AD5239FF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C6520C-A598-4D65-A02D-D50FD2D1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C8BBCB-D6A5-4581-A88C-CEB79962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9FD66D-12C1-4CC0-B98B-9F0DDD0E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65AD5B-27F5-4395-975E-5308913E6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F677-9823-4B9A-B090-6C9DD11EA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FF8FAF-910E-462F-A66B-E640FBFC0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B8ED0-2E4A-468E-8E1E-9AF042E9B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FDA88-D252-493D-9C3C-B42804EC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C980B-4E69-4B8C-A05E-CAF34295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65E76-82AD-4C53-A920-D9BFB49B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A00B2-AF38-40ED-9AC2-49726C01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5EABF-6BFE-4D88-89C4-727A387D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8A57D-24BB-4B04-ADA8-127D4430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E71D9-6A10-472F-A254-B8C8340C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80C9B-403A-4E66-91C7-04F7489A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E006-F4C7-4295-884E-16552C67A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B588E-5DC9-475B-8396-AAEA5902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65AEC-1036-4BBD-BB5B-03D35ACAE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A162D-F745-4A27-A8A1-A7DBBFC0F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C60A7B-B795-4F49-B83A-8ABCF8607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2532E8-84E6-4E35-9444-53D4C92E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402410-CA82-400E-8E73-479E98F6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BDE347-C64D-4789-B061-504DEE35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514221-2749-484E-B405-247144FA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D8E720-4ED9-4E09-8D31-5C77B26D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2CE1BE-C9C9-4143-A751-18F1D063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F4D4-45CD-4F03-B528-FFBE6952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E7E1EC-1953-49D9-B84D-226783BB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6C2BDF-91DC-46E9-9209-7D3A5AB1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F0AD63-7A2B-453F-A5D4-CEE70EFA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12DDF0-2CEC-45AE-9A9D-FF1B3F7A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62E0C7-EAF4-4CD5-9538-FB671D28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14EB-B112-40EC-9889-89731F44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3D84-793B-4552-82F4-7D15DEC2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A4DD-5FC2-4C4C-BA95-AF716AB1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E10B-36CD-4ED7-803D-0AEF807B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0D1F-B733-4954-8585-84174301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C2FF-F014-4FFE-880B-8C1E9C81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4A4F-5A04-4068-9071-BFD40346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31BC-5B08-4AB2-B8DD-F33692C5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99C5-F911-4D64-A7D5-274E3F1F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030D-50CA-4A3E-AA51-FAF614FDC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1C6F-BA8D-4D8F-AE45-4F03DFB99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C356F-9A56-4F02-B731-0E4688290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E5878-18D7-4458-979F-00AE1AAA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A0698-6F19-4D89-B8AC-4FA56059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26832-22FC-445B-9C45-25A74B2C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8A488-6102-4CE2-8AF8-3A1A6C84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6891-E7B8-458C-9913-E37A9790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11D15-D4BA-4D2E-88D1-5F6F2246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7B3C7-2100-4706-B707-E6C7CD6F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B1A22-768E-4560-A2A9-1F9F897F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0D8F7-A75C-4AAF-850F-41A6693B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8FE83-21F1-4763-ACD9-07572E73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AA629-FAB8-48EE-B876-7DC4C1D83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3965F-74AD-4663-8B7D-FB218CE45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8445F-CA50-4D3A-A144-312AB52A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5B4F1-2457-4C14-81C1-22CF0E6E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5FE4E-C996-425D-8901-54BD6227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A0D8-B6B9-4FDD-93CD-F8E7109B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C5397-7BF7-4019-B141-B106927D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7FEF7-F1EA-4AC0-A764-F2D7B3AB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0251D-9A59-4F1F-A6C0-E31A38E9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DD67E-5915-4FE6-9787-59507F01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DEE76-C870-45F2-8815-C29BD2F4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14087-1A12-4960-B057-56818F93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C56BC-9045-4766-A959-31E176CC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0C410-41C7-49B4-A568-4192CACC5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0E064-9C13-4A07-A372-135CAA9F2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1293A-7124-4F8B-A393-C90D35E21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DF8A-E389-4950-B31C-3B078B74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9CD86-5115-4482-AC11-5844479A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B9B1C-A95F-4F33-8E53-D5C8A551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7DD91-E58B-455A-94A1-668AD9A3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0F38E-5771-4D6F-A107-0214E0D9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7AE22-8A37-4E6C-8BD6-10E3F5CE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24C9D-DA37-4E16-8C31-4DF8C333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E67B2-8014-4365-93BB-E60C8FE2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B7541-0A55-418B-B75C-059076FB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1E9B5-DFF7-4724-A5BB-5241B49B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6E07E-BE77-4A54-8634-A5C29033C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3676-3B0A-4C30-90C0-123C6123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54382-C7E1-44DF-9F62-5FEAF2783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3EE65-96C1-4C31-B826-A79F726B7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0C4FA-A7F6-4CC8-82CB-83082487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14A68-7444-4520-B5B9-132CE4D8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CDBB2-DC28-4BD0-AB19-9D635817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26D1A-5FE0-497E-B80F-2B908EF9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C9FD2-F210-41A6-8313-67B1B4C4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8092C-D123-45CA-B607-A1343EC2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4B10D-BF76-41EB-8591-92D1C4F6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6A900-BDA6-478E-B058-D9E6A50A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CA09-6658-4C48-AA66-7DFDAB42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C1F8C-8A2F-48C4-9FCE-B3F94555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A24B1-F29D-4A43-A3B9-4F1F30474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F156F-76DF-4744-ADF6-9DB80FD85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7A3DF-B83B-411E-908B-048C62172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AF3AF-3907-4E3B-B786-B4A44B11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6D7C8-8B4D-457A-B723-490DCF8A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35A29-6788-4774-A1A0-DE1871A2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627FB-E4A2-4186-83A4-795F08C7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6BACA-2A0F-4B79-8559-9B105EA8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2FAEB-D0BB-4501-A6EC-544A21F1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BB3B-6F36-4CCA-91A3-97A4C26E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E1741-6ECE-46D9-8C9E-BD9ED5A0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37CB3-5A29-4011-AD63-00586935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D22A8-D6D5-44EA-A516-1A92B931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5803E-C731-4D10-956B-2A5BF5563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599A5-3871-45D6-BECB-832E45C9F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C09CD-942C-4857-B28C-218388FD6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9F577-7C2F-4564-A0D8-582B4443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2D39C-32DF-473F-86C6-6FF15E12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701AE-ED77-446B-A0BA-BA151869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BBB9F-EE75-499D-979F-D398E674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C9A0-0A5A-4A1F-BA86-EE5B221A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F075A-374D-4ADD-BA65-1BF9CEEF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439BE-30B6-457A-99D2-F3C7525C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78FB8-E2C5-44E4-8DD4-23A21925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01FA3-5638-41EE-BE1D-37945F4B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EB6AF-578B-440B-99E7-3CBCACDD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83382-6423-4A83-8B87-111527FD4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B66BD-0C1F-4CA3-8EA9-FB553CB48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F2731-1411-49F9-A9B4-B357BCAC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91BB3-4EA1-4618-903B-9B6112C1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94B7A-BFCD-43AC-8EC4-536E189E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29DC-6447-4395-A418-A2F2A5C2FB1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C6C2-4CE7-4A89-9FD6-473EF4D8BBF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ACD5-4ECA-4CEC-B7E9-8BC16AF5848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47E1-700C-4F90-A719-163F76E0A07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6288-F345-4D96-9211-085F22DB442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FE11-C79B-4357-B2F6-698A4F6E41E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F4B7-5952-406B-8831-4E49490D7F3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9282-BC96-4E5B-8EF8-D4EB64F2848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446C-3CA4-4DE4-B3C5-DDA8B269E90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B1D2-BECB-4F2F-A41F-8135ACA3CC8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C954-8072-4724-B15B-12946F3FC5F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8978-9180-49BC-AC75-43B6EA2CD92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5899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2000" spc="-1" strike="noStrike">
                <a:solidFill>
                  <a:srgbClr val="604a7b"/>
                </a:solidFill>
                <a:latin typeface="Arial"/>
                <a:ea typeface="Arial"/>
              </a:rPr>
              <a:t>Муниципальное бюджетное дошкольное образовательное учреждения детский сад № 27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Прямоугольник 4"/>
          <p:cNvSpPr/>
          <p:nvPr/>
        </p:nvSpPr>
        <p:spPr>
          <a:xfrm>
            <a:off x="412920" y="1868400"/>
            <a:ext cx="77421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Тема: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«Дидактическая игра как необходимое условие развития познавательной активности детей раннего возраст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оугольник 5"/>
          <p:cNvSpPr/>
          <p:nvPr/>
        </p:nvSpPr>
        <p:spPr>
          <a:xfrm>
            <a:off x="5106960" y="458136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33c0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04a7b"/>
                </a:solidFill>
                <a:latin typeface="Arial"/>
              </a:rPr>
              <a:t>Выполнила: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Arial"/>
              </a:rPr>
              <a:t>I квалификационной катег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Arial"/>
              </a:rPr>
              <a:t>Барабанщик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Arial"/>
              </a:rPr>
              <a:t>Светла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7"/>
          <p:cNvSpPr/>
          <p:nvPr/>
        </p:nvSpPr>
        <p:spPr>
          <a:xfrm>
            <a:off x="2771640" y="58770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Arial"/>
              </a:rPr>
              <a:t>г. Ангарск 202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2"/>
          <p:cNvSpPr/>
          <p:nvPr/>
        </p:nvSpPr>
        <p:spPr>
          <a:xfrm>
            <a:off x="6084720" y="907920"/>
            <a:ext cx="273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«Игра — это искра, зажигающая огон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пытливости и любознательност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В. А. Сухомли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5899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Актуально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50560" y="1125360"/>
            <a:ext cx="849636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У детей раннего возраста существует прямая связь между эмоциональным состоянием ребенка и интенсивностью протекания его психических процессов: мышления, речи, внимания, памяти.             Поэтому особенно полезны игры, в которых дети действуют: разбирают, собирают, сортируют, соединяют, разъединяют детали и т. п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С помощью таких игр у детей активируется речь, знакомятся со свойствами предметов, формируется представления об окружающем мир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Одним из видов игровой деятельности является дидактическая иг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Box 5"/>
          <p:cNvSpPr/>
          <p:nvPr/>
        </p:nvSpPr>
        <p:spPr>
          <a:xfrm>
            <a:off x="611280" y="41292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Дидактические игры с липучками  на формирование знаний о  геометрических фигурах и цв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8"/>
          <p:cNvSpPr/>
          <p:nvPr/>
        </p:nvSpPr>
        <p:spPr>
          <a:xfrm>
            <a:off x="1258920" y="175896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«Укрась матрёшке сарафанч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Рисунок 3" descr=""/>
          <p:cNvPicPr/>
          <p:nvPr/>
        </p:nvPicPr>
        <p:blipFill>
          <a:blip r:embed="rId1"/>
          <a:stretch/>
        </p:blipFill>
        <p:spPr>
          <a:xfrm>
            <a:off x="2340000" y="2274840"/>
            <a:ext cx="4206960" cy="3649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73080" y="-171720"/>
            <a:ext cx="92901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Дидактические игры с пособием «Ковер  с листочками»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Рисунок 2" descr=""/>
          <p:cNvPicPr/>
          <p:nvPr/>
        </p:nvPicPr>
        <p:blipFill>
          <a:blip r:embed="rId1"/>
          <a:stretch/>
        </p:blipFill>
        <p:spPr>
          <a:xfrm>
            <a:off x="2565360" y="1744560"/>
            <a:ext cx="3432240" cy="4676760"/>
          </a:xfrm>
          <a:prstGeom prst="rect">
            <a:avLst/>
          </a:prstGeom>
          <a:ln w="0">
            <a:noFill/>
          </a:ln>
        </p:spPr>
      </p:pic>
      <p:sp>
        <p:nvSpPr>
          <p:cNvPr id="504" name="TextBox 4"/>
          <p:cNvSpPr/>
          <p:nvPr/>
        </p:nvSpPr>
        <p:spPr>
          <a:xfrm>
            <a:off x="2195640" y="12715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«Накорми животны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33360" y="0"/>
            <a:ext cx="8569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Дидактическое пособие с использованием коктейльных трубочек альбом «Трубочки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Box 2"/>
          <p:cNvSpPr/>
          <p:nvPr/>
        </p:nvSpPr>
        <p:spPr>
          <a:xfrm>
            <a:off x="231840" y="1197000"/>
            <a:ext cx="880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Цель: формировать представления об окружающем мире, совершенствовать ловкость рук;  развивать  мелкую моторику и координацию движений р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Рисунок 4" descr=""/>
          <p:cNvPicPr/>
          <p:nvPr/>
        </p:nvPicPr>
        <p:blipFill>
          <a:blip r:embed="rId1"/>
          <a:stretch/>
        </p:blipFill>
        <p:spPr>
          <a:xfrm>
            <a:off x="1835280" y="2401920"/>
            <a:ext cx="4294080" cy="4102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33360" y="0"/>
            <a:ext cx="8569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Дидактическое пособие с использованием коктейльных трубочек альбом «Трубочки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Box 2"/>
          <p:cNvSpPr/>
          <p:nvPr/>
        </p:nvSpPr>
        <p:spPr>
          <a:xfrm>
            <a:off x="231840" y="1197000"/>
            <a:ext cx="880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Цель: формировать представления об окружающем мире, совершенствовать ловкость рук;  развивать  мелкую моторику и координацию движений р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Рисунок 2" descr=""/>
          <p:cNvPicPr/>
          <p:nvPr/>
        </p:nvPicPr>
        <p:blipFill>
          <a:blip r:embed="rId1"/>
          <a:stretch/>
        </p:blipFill>
        <p:spPr>
          <a:xfrm>
            <a:off x="2268360" y="2349360"/>
            <a:ext cx="3994200" cy="4384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8:41:59Z</dcterms:created>
  <dc:creator>Mariajose</dc:creator>
  <dc:description/>
  <dc:language>en-US</dc:language>
  <cp:lastModifiedBy>User</cp:lastModifiedBy>
  <dcterms:modified xsi:type="dcterms:W3CDTF">2024-04-13T14:32:23Z</dcterms:modified>
  <cp:revision>446</cp:revision>
  <dc:subject/>
  <dc:title>Diapositiva 1</dc:title>
</cp:coreProperties>
</file>