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D42-792B-40CC-BCBF-E0776CC5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BBB-301E-41C7-915B-00D8955F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107-5C41-4CA6-8CD0-5F311345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0F4-0AA1-44C7-97E1-C79FC691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A314-9E03-41BE-9B03-3382F947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878D-37F3-45F1-84E9-075C995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8248-3C09-41C2-825E-ACD4CE7D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F85F-5101-4E9B-BF6E-C23868D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B889-BBAC-402D-A836-63C2BBCE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1F46-B687-4E8D-BD38-1E557D2F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47E6-2259-4405-B7C6-9292DF1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385-A2D0-4443-8F0B-A3F4FAEB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C6E6-F5BB-4D3C-858D-A7C23BD9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AE3A-AF89-455D-B0A6-37DC36B9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60A2-288A-4E0B-8E11-C811F36F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62B9-84AF-4D67-A0C9-66D79CD9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FC3-9F27-4AE0-A011-F97D7D35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8B3-2E75-46FF-8558-4B4091D4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2B7-32D5-4CD8-8B94-A5E05CA8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E71-D65B-4647-8B83-17A24C28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AE8-35FB-4683-98FF-4702377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0F9-B781-428A-B299-D012DD6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42D-93F0-4E83-ABDD-31EE144C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F6A-F54B-46EB-87F6-36DC8DB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D57B-5F60-42A3-89AA-7C7A47D743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FC9E-7ACE-4107-9D66-67749642C2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179280" y="620640"/>
            <a:ext cx="8639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ТАТАРСТАН ШӘҺӘРЛӘРЕНӘ СӘЯХӘТ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2" descr="karta"/>
          <p:cNvPicPr/>
          <p:nvPr/>
        </p:nvPicPr>
        <p:blipFill>
          <a:blip r:embed="rId1"/>
          <a:stretch/>
        </p:blipFill>
        <p:spPr>
          <a:xfrm>
            <a:off x="1042920" y="1557360"/>
            <a:ext cx="70772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АРЧ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ӨЙ ЭШ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уган як турында мәкальләр язарг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КАЗАН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Picture 4" descr="2650634"/>
          <p:cNvPicPr/>
          <p:nvPr/>
        </p:nvPicPr>
        <p:blipFill>
          <a:blip r:embed="rId1"/>
          <a:stretch/>
        </p:blipFill>
        <p:spPr>
          <a:xfrm>
            <a:off x="900000" y="981000"/>
            <a:ext cx="7417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17 нче мар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атарстан шәһәрләренә  сәяхә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атарстан шәһәрләренә  рәхим итеге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Бирелгән сүзләрдән җөмләләр төзеп язарга кирәк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,дәүләт,бай,һәм,зур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Беренче,Татарстанның президенты,М.Ш.Шәймиев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ның ,Казан,башкаласы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Казанда,бар,цирк,Кремль,Сөембикә манарасы,Кол Шәриф мәчет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дагы ,елга ,иң,зур,Идел елгасы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ЧИСТАЙ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539640" y="1200240"/>
            <a:ext cx="80647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ӘЛМӘТ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rcRect l="0" t="0" r="2835" b="0"/>
          <a:stretch/>
        </p:blipFill>
        <p:spPr>
          <a:xfrm>
            <a:off x="539640" y="1297080"/>
            <a:ext cx="7921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ЯР ЧАЛЛЫ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39640" y="1324080"/>
            <a:ext cx="8209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ШАЯН БАЛАЛАР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162864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игрәк шаян инде бе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Тик тормыйбыз бер дә бе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Кулларны күтәрәбе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Аннары төшерәбе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ашны уңга борабы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Аннан сулга карыйбы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Һәм сикерә башлыйбы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Шул арада иелеп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асарга өлгерәбе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Тирән итеп сулыйбы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Ял итәргә туктыйбы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АЛАБУГ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39640" y="1278000"/>
            <a:ext cx="8064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ТҮБӘН КАМ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02476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7:40:30Z</dcterms:created>
  <dc:creator>Миляуша</dc:creator>
  <dc:description/>
  <dc:language>en-US</dc:language>
  <cp:lastModifiedBy>Nayla</cp:lastModifiedBy>
  <dcterms:modified xsi:type="dcterms:W3CDTF">2023-03-24T07:09:20Z</dcterms:modified>
  <cp:revision>17</cp:revision>
  <dc:subject/>
  <dc:title>Слайд 1</dc:title>
</cp:coreProperties>
</file>