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979-9931-45AE-95B0-445D112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614-1E1B-4D86-8133-F30EFD4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6B3-A569-4CA7-AEE9-CA36AF1F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DFC-7FA0-460B-9342-9963FDCE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45FB-B64F-44DB-98B5-402B692C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209-F474-4033-AD69-65241149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6631-AB57-43E5-8F13-515A0E8B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C44-1D2A-4A75-88BB-A086BFD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D5E-FDDE-4182-9640-7223233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128-F1C3-4A31-9E7A-04A2EC6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876-5414-4C92-BA7A-5C2BEA7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28B-012C-4115-B703-43715C9E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906-E3C2-4D79-9443-C9B3EE4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AAA4-8B2E-4CBD-AE42-521D08B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427-F4FA-4B3D-A5FE-6F748F2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BEA5-5043-4B7F-8505-ABEEAFD1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7B94-8DC5-43B9-A658-A2461B4E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B4A-CC59-438B-90B7-0EF44F18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B56-0E0D-4FD3-B5E3-4402A29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F8E-0C64-44AE-B0DD-FF502B97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2CE-C4FA-4549-BC6B-925186DB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F08-D1D5-4F52-999B-2D3FEC3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E7C-C03C-402B-B27E-CE4387F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255-3522-4116-A7C6-D6D75812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E9EE-88D2-4913-9036-46E40F4A40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C36C-0580-4A41-9B40-436810B14D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79280" y="620640"/>
            <a:ext cx="8639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ТАТАРСТАН ШӘҺӘРЛӘРЕНӘ СӘЯХӘТ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2" descr="karta"/>
          <p:cNvPicPr/>
          <p:nvPr/>
        </p:nvPicPr>
        <p:blipFill>
          <a:blip r:embed="rId1"/>
          <a:stretch/>
        </p:blipFill>
        <p:spPr>
          <a:xfrm>
            <a:off x="1042920" y="1557360"/>
            <a:ext cx="707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РЧ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уган як турында мәкальләр язарг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КАЗАН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4" descr="2650634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17 нче мар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сәяхә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рәхим итеге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ирелгән сүзләрдән җөмләләр төзеп язарга кирә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,дәүләт,бай,һәм,зур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еренче,Татарстанның президенты,М.Ш.Шәймие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ның ,Казан,башкал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Казанда,бар,цирк,Кремль,Сөембикә манарасы,Кол Шәриф мәчет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дагы ,елга ,иң,зур,Идел елг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ЧИСТАЙ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39640" y="1200240"/>
            <a:ext cx="80647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ӘЛМӘТ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0" r="2835" b="0"/>
          <a:stretch/>
        </p:blipFill>
        <p:spPr>
          <a:xfrm>
            <a:off x="539640" y="1297080"/>
            <a:ext cx="7921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ЯР ЧАЛЛЫ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209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ШАЯН БАЛАЛАР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1628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игрәк шаян инде 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к тормыйбыз бер дә 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Кулларны күтәрә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ры төш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шны уңга бора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н сулга карыйбы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Һәм сикерә башл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Шул арада иелеп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сарга өлг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рән итеп сулый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Ял итәргә тукт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ЛАБУГ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9640" y="127800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ТҮБӘН КАМ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247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40:30Z</dcterms:created>
  <dc:creator>Миляуша</dc:creator>
  <dc:description/>
  <dc:language>en-US</dc:language>
  <cp:lastModifiedBy>Nayla</cp:lastModifiedBy>
  <dcterms:modified xsi:type="dcterms:W3CDTF">2023-03-24T07:09:20Z</dcterms:modified>
  <cp:revision>17</cp:revision>
  <dc:subject/>
  <dc:title>Слайд 1</dc:title>
</cp:coreProperties>
</file>