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D97-B6B1-4C8A-A09B-5757199FFE6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79CE-A932-4529-9A20-EFD560D0D1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DC9E-CC20-46C8-BEEA-6DA68351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D41D-5D16-4CA0-9D31-88BCB5C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E115-9E82-4F02-AAA7-654EEE7F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3941-A1E8-4008-9AAB-5928ECFE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20EA-7E1A-43BE-B6DA-78486597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BC2E-661E-42F9-851C-5D35C84C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887A-36E5-4EDE-B3C9-33BC482A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3681-904A-4A28-889F-CDD165D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393C-BD12-4AC1-9810-232CD76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7B22-B04C-43FD-A931-9C32D93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8D85-7284-45C9-8023-B5AA522B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1E60-0A64-4E2D-B384-5297D2C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964B-F1E1-49E3-8A0E-DB0BF6B89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122480"/>
            <a:ext cx="91440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Познавательно-творческий проект «Волшебница Осень» в средней группе компенсирующей направленности.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ение знаний детей об осени, её признаках и дарах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связной реч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уется активность и заинтересованность в образовательном процессе детей у родител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сновные методы и формы реализации проект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темы, постановка цели и задач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методов и приемов работ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етодической и художественной литературы, дидактического материал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атериалов, игрушек, атрибутов для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атериала для творческого труд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ление дидактических игр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перспективного план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дукт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ские рисунки на тему «Разноцветная осень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а детских работ на тему «Осенние фантаз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графии занят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а книг по теме «Осень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. Что нам осень подарил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кл занятий на тему «Осень»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готовительный этап: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ение плана совместной работы с детьми, педагогами и родителями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бор материала и оборудования для занятий, бесед, игр с детьми. Проведение наблюдений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борка фотографий, литературы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бор листьев для работ, семян растений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учивание стихотворений об осени, овощах, фруктах, грибах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исование на тему «Осенние листья», «Яблоки на яблонях», лепка овощей и фруктов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88000" y="396720"/>
            <a:ext cx="5864400" cy="490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3600" y="1438200"/>
            <a:ext cx="585180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09760" y="698400"/>
            <a:ext cx="93726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/>
          <p:cNvSpPr/>
          <p:nvPr/>
        </p:nvSpPr>
        <p:spPr>
          <a:xfrm>
            <a:off x="1409760" y="1825560"/>
            <a:ext cx="46101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Ю. Тувим «Овощ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Приходько «Вот и 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Семерин «Дождь по улице идёт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. Ерикеев «Наступила 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. Благинина «Листья золотые падают, летят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Степанов «В лесу осиновом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825560"/>
            <a:ext cx="46101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. Сеф «Дождик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Сладков «Осень на пороге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Авдиенко «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Бианки «Сентябр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Сладков «Осенние радост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. Шим «Тяжкий труд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. Пришвин «Берестяная трубоч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каз настольного театра «Реп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41520" y="1058760"/>
            <a:ext cx="89215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атривание сюжетных картинок на осеннюю тематику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бор урожая взрослых вместе с детьм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обираем урожай с грядок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обираем урожай в саду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9160" y="195120"/>
            <a:ext cx="5896080" cy="5072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73640" y="1689120"/>
            <a:ext cx="57657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54120" y="888840"/>
            <a:ext cx="89218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южетно-ролевые игры: «Оденем куклу на прогулку», «Сварим суп из овощей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: «Собери овощи в корзину», «Сварим компот», «Положи фрукты в вазу», «Сложи картинку» (разрезанные овощи , фрукты)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ые игры: «Солнышко и дождик», «У медведя во бору», «Листопад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83240" y="1852560"/>
            <a:ext cx="5565600" cy="4578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1760" y="231840"/>
            <a:ext cx="57546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2880" y="698400"/>
            <a:ext cx="9371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1441440" y="1868400"/>
            <a:ext cx="9372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группы «Радуга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и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одубцева Е.Г., Шаповалова О.С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-логопед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ушпанова Е.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ый руководитель: Егорова Р.Н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ельность проекта: краткосрочный (07.10.2019-25.10.2019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54120" y="966960"/>
            <a:ext cx="9091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развитие мелкой моторики: «Собери фасоль», «Посоли щ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развитие крупной моторики: «Овощи», «Яблоня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льчиковая гимнастика: «Мы капусту рубим, рубим», «Апельсин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ыхательная гимнастика «Подуй на листок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сочная терапия «Собери картошку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92840" y="1133640"/>
            <a:ext cx="6175080" cy="536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53920" y="487440"/>
            <a:ext cx="537552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41520" y="874800"/>
            <a:ext cx="9261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льчиковое рисование: «Груша», «Яблоки висят на дереве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пка: «Яблоки для ежика», «Огурец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: «Огурцы и помидоры лежат на тарелке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лушивание аудиозаписей : «Шорох листьев», «Звуки дождя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ление папки-передвижки: «Осень, осень, в гости просим!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курсия в природу. Наблюдение за березой. Наблюдение в огороде. Бесед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18080" y="920880"/>
            <a:ext cx="462096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9760" y="809640"/>
            <a:ext cx="93931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Д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ши овощи, фрукты. Назови их общим словом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гадывание загадок по теме «Осень», «Овощи и фрукты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 природного материал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ни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 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90960" y="944640"/>
            <a:ext cx="656568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09760" y="809640"/>
            <a:ext cx="93931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роприятия по работе с родителями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ие в выставке работ на тему «Дары осени», подборка иллюстраций, литератур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учивание стихотворений об осен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выставок детских работ: рисунков, аппликаций, поделок из пластилина, природного материала. Акция: Собери природный материа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еды с родителями о серьезном отношении к воспитательно-образовательному процессу в ДОУ, привлечение к совместной деятельн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1440" y="1047600"/>
            <a:ext cx="75456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выставки работ детей и родителей «Осенние фантаз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оговое мероприятие: музыкальное развлечение «Праздник Осен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68960" y="828720"/>
            <a:ext cx="4681440" cy="570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85760" y="334800"/>
            <a:ext cx="498636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98600" y="666720"/>
            <a:ext cx="94154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1398600" y="1836720"/>
            <a:ext cx="941544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ние ребенком окружающего мира обязательно включает и познание природы. Сухомлинский В.А. писал : «Мир, окружающий ребенка - это, прежде всего, мир природы с безграничным богатством явлений, с неисчерпаемой красотой. Очень важно с ранних лет развивать в детях умение созерцать, наслаждаться ею, вглядываться в нее и вслушиваться.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06560" y="212760"/>
            <a:ext cx="5222880" cy="6091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7440" y="480960"/>
            <a:ext cx="5218200" cy="62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3040" y="2638440"/>
            <a:ext cx="9442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00040" y="698400"/>
            <a:ext cx="9425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1398600" y="1814400"/>
            <a:ext cx="94266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ам осень подарил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ям в нашей группе(ОВЗ) трудно пополнять свои впечатления об окружающем мире, они их только закрепляют, застревая на одном объекте или действии, что мешает получению нового опыта. Видят в том направлении, в котором смотрят и только те предметы, на которых задерживают взгляд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9760" y="666720"/>
            <a:ext cx="94042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"/>
          <p:cNvSpPr/>
          <p:nvPr/>
        </p:nvSpPr>
        <p:spPr>
          <a:xfrm>
            <a:off x="1409760" y="1974960"/>
            <a:ext cx="940428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ять представления детей об осени как времени года, развивать умение находить первые признаки осени, помочь детям увидеть всю красоту осенней природы и богатство осенних даров, создать условия для художественно-эстетического воспитания дет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9760" y="676440"/>
            <a:ext cx="941688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/>
          <p:cNvSpPr/>
          <p:nvPr/>
        </p:nvSpPr>
        <p:spPr>
          <a:xfrm>
            <a:off x="1409760" y="1825560"/>
            <a:ext cx="941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детей с понятием «время года - осень», с сезонными изменениями в природе, происходящими осенью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овощами и фруктам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обогащению активного словаря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мение вести наблюдения за объектами живой и неживой природ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77800" y="1368360"/>
            <a:ext cx="92599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связную, грамматически правильную диалогическую и монологическую реч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крупную и мелкую моторику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любознательно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физические качеств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817560"/>
            <a:ext cx="49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Коррекционно-развивающи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8920" y="861840"/>
            <a:ext cx="901224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 детей эмоциональное, положительное отношение к природе, умение видеть и замечать красоту осеннего пейзаж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мение слушать и понимать слова воспитателя; воспитывать бережн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30280" y="633240"/>
            <a:ext cx="93693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сновные мероприятия реализации проект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>
            <a:off x="1430280" y="1805040"/>
            <a:ext cx="936936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ведение с детьми бесед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сматривание сюжетных картинок на осеннюю тематику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пражнения на развитие мелкой и крупной моторики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южетно-ролевые, дидактические и подвижные иг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льчиковая гимнастика, дыхательная гимнастика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сочная терапия, экспериментальная деятельность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слушивание аудиозаписей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кскурсия в природу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аматизация сказки «Реп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тоговое мероприятие: «Праздник Осен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4T18:13:18Z</dcterms:created>
  <dc:creator>Пользователь</dc:creator>
  <dc:description/>
  <dc:language>en-US</dc:language>
  <cp:lastModifiedBy>user</cp:lastModifiedBy>
  <dcterms:modified xsi:type="dcterms:W3CDTF">2019-11-21T12:56:47Z</dcterms:modified>
  <cp:revision>23</cp:revision>
  <dc:subject/>
  <dc:title>Познавательно-творческий проект «Волшебница Осень» в средней группе компенсирующей направленност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8342</vt:lpwstr>
  </property>
</Properties>
</file>