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3E51-6989-4B0D-B753-DEE6D7A9CAD2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21E8-7F7D-4A24-9E9D-81A66855E7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DA59F-6A44-4CAE-A4E9-61E781ABC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40C9A-B3AB-48E9-B50C-FEAFC80B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C6737-D66A-4920-B391-76EEFE597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2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872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5D734-3867-4893-A7F1-71302E02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050F8-E970-4BC9-A22A-6415592D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2D386-0E22-452E-835D-8410DD4E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D3E91-4BBD-4887-8BF3-FD7A3C82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4273A-97C2-406E-A4B7-9C9F6FF2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2520"/>
            <a:ext cx="1097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C575D-C5A8-4052-BC33-083B163B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315D4-0812-4F66-93D1-A9D46276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188A0-8B25-42D8-AFC1-B7A3F2B7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17EDF-EDCD-42E4-A912-748404B1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038480" y="6356160"/>
            <a:ext cx="41133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813E-9C30-481E-920D-4670E3A284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3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3880" y="1122480"/>
            <a:ext cx="9144000" cy="41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Познавательно-творческий проект «Волшебница Осень» в средней группе компенсирующей направленности.</a:t>
            </a:r>
            <a:endParaRPr b="0" lang="en-US" sz="5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409760" y="689040"/>
            <a:ext cx="939312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едполагаемый результат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"/>
          <p:cNvSpPr/>
          <p:nvPr/>
        </p:nvSpPr>
        <p:spPr>
          <a:xfrm>
            <a:off x="1409760" y="1825560"/>
            <a:ext cx="939312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ширение знаний детей об осени, её признаках и дарах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связной речи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формируется активность и заинтересованность в образовательном процессе детей у родителей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409760" y="689040"/>
            <a:ext cx="939312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Основные методы и формы реализации проекта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"/>
          <p:cNvSpPr/>
          <p:nvPr/>
        </p:nvSpPr>
        <p:spPr>
          <a:xfrm>
            <a:off x="1409760" y="1825560"/>
            <a:ext cx="939312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ение темы, постановка цели и задач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ение методов и приемов работы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бор методической и художественной литературы, дидактического материала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бор материалов, игрушек, атрибутов для игровой деятельности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бор материала для творческого труда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готовление дидактических игр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ление перспективного плана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409760" y="689040"/>
            <a:ext cx="939312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одукт проектной деятельности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9" name=""/>
          <p:cNvSpPr/>
          <p:nvPr/>
        </p:nvSpPr>
        <p:spPr>
          <a:xfrm>
            <a:off x="1409760" y="1825560"/>
            <a:ext cx="939312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тские рисунки на тему «Разноцветная осень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ставка детских работ на тему «Осенние фантазии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тографии заняти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ставка книг по теме «Осень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дактические игры. Что нам осень подарила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икл занятий на тему «Осень»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09760" y="689040"/>
            <a:ext cx="939312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Этапы работы над проектом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1" name=""/>
          <p:cNvSpPr/>
          <p:nvPr/>
        </p:nvSpPr>
        <p:spPr>
          <a:xfrm>
            <a:off x="1409760" y="1825560"/>
            <a:ext cx="939312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дготовительный этап: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2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ставление плана совместной работы с детьми, педагогами и родителями.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2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дбор материала и оборудования для занятий, бесед, игр с детьми. Проведение наблюдений.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2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дборка фотографий, литературы.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2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бор листьев для работ, семян растений.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2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зучивание стихотворений об осени, овощах, фруктах, грибах.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2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исование на тему «Осенние листья», «Яблоки на яблонях», лепка овощей и фруктов.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688000" y="396720"/>
            <a:ext cx="5864400" cy="4900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993600" y="1438200"/>
            <a:ext cx="5851800" cy="50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09760" y="698400"/>
            <a:ext cx="937260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сновной этап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" name=""/>
          <p:cNvSpPr/>
          <p:nvPr/>
        </p:nvSpPr>
        <p:spPr>
          <a:xfrm>
            <a:off x="1409760" y="1825560"/>
            <a:ext cx="461016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Чтение художественной литературы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Ю. Тувим «Овощи»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. Приходько «Вот и осень»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. Семерин «Дождь по улице идёт»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. Ерикеев «Наступила осень»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Е. Благинина «Листья золотые падают, летят»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. Степанов «В лесу осиновом»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" name=""/>
          <p:cNvSpPr/>
          <p:nvPr/>
        </p:nvSpPr>
        <p:spPr>
          <a:xfrm>
            <a:off x="6172200" y="1825560"/>
            <a:ext cx="461016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. Сеф «Дождик»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. Сладков «Осень на пороге»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. Авдиенко «Осень»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. Бианки «Сентябрь»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. Сладков «Осенние радости»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Э. Шим «Тяжкий труд»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. Пришвин «Берестяная трубочка»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каз настольного театра «Репка»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41520" y="1058760"/>
            <a:ext cx="892152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матривание сюжетных картинок на осеннюю тематику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Сбор урожая взрослых вместе с детьми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Собираем урожай с грядок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Собираем урожай в саду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49160" y="195120"/>
            <a:ext cx="5896080" cy="5072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273640" y="1689120"/>
            <a:ext cx="5765760" cy="498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54120" y="888840"/>
            <a:ext cx="892188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южетно-ролевые игры: «Оденем куклу на прогулку», «Сварим суп из овощей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дактические игры: «Собери овощи в корзину», «Сварим компот», «Положи фрукты в вазу», «Сложи картинку» (разрезанные овощи , фрукты)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вижные игры: «Солнышко и дождик», «У медведя во бору», «Листопад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583240" y="1852560"/>
            <a:ext cx="5565600" cy="4578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01760" y="231840"/>
            <a:ext cx="575460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42880" y="698400"/>
            <a:ext cx="937116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Участники проекта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" name=""/>
          <p:cNvSpPr/>
          <p:nvPr/>
        </p:nvSpPr>
        <p:spPr>
          <a:xfrm>
            <a:off x="1441440" y="1868400"/>
            <a:ext cx="937260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ти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группы «Радуга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ители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итатели: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тародубцева Е.Г., Шаповалова О.С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ель-логопед: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Шушпанова Е.И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узыкальный руководитель: Егорова Р.Н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олжительность проекта: краткосрочный (07.10.2019-25.10.2019)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54120" y="966960"/>
            <a:ext cx="90918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пражнения на развитие мелкой моторики: «Собери фасоль», «Посоли щи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пражнения на развитие крупной моторики: «Овощи», «Яблоня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льчиковая гимнастика: «Мы капусту рубим, рубим», «Апельсин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ыхательная гимнастика «Подуй на листок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сочная терапия «Собери картошку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992840" y="1133640"/>
            <a:ext cx="6175080" cy="5364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853920" y="487440"/>
            <a:ext cx="5375520" cy="462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41520" y="874800"/>
            <a:ext cx="9261360" cy="53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льчиковое рисование: «Груша», «Яблоки висят на дереве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епка: «Яблоки для ежика», «Огурец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ппликация: «Огурцы и помидоры лежат на тарелке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слушивание аудиозаписей : «Шорох листьев», «Звуки дождя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готовление папки-передвижки: «Осень, осень, в гости просим!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скурсия в природу. Наблюдение за березой. Наблюдение в огороде. Беседы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718080" y="920880"/>
            <a:ext cx="4620960" cy="499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09760" y="809640"/>
            <a:ext cx="939312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Д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иши овощи, фрукты. Назови их общим словом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гадывание загадок по теме «Осень», «Овощи и фрукты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блюдение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бор природного материала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исование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ппликация 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090960" y="944640"/>
            <a:ext cx="6565680" cy="49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09760" y="809640"/>
            <a:ext cx="939312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роприятия по работе с родителями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астие в выставке работ на тему «Дары осени», подборка иллюстраций, литературы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учивание стихотворений об осени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я выставок детских работ: рисунков, аппликаций, поделок из пластилина, природного материала. Акция: Собери природный материа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седы с родителями о серьезном отношении к воспитательно-образовательному процессу в ДОУ, привлечение к совместной деятельности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341440" y="1047600"/>
            <a:ext cx="7545600" cy="48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09760" y="689040"/>
            <a:ext cx="939312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Заключительный этап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3" name=""/>
          <p:cNvSpPr/>
          <p:nvPr/>
        </p:nvSpPr>
        <p:spPr>
          <a:xfrm>
            <a:off x="1409760" y="1825560"/>
            <a:ext cx="939312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формление выставки работ детей и родителей «Осенние фантазии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тоговое мероприятие: музыкальное развлечение «Праздник Осени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68960" y="828720"/>
            <a:ext cx="4681440" cy="5705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085760" y="334800"/>
            <a:ext cx="4986360" cy="587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98600" y="666720"/>
            <a:ext cx="941544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"/>
          <p:cNvSpPr/>
          <p:nvPr/>
        </p:nvSpPr>
        <p:spPr>
          <a:xfrm>
            <a:off x="1398600" y="1836720"/>
            <a:ext cx="9415440" cy="43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нание ребенком окружающего мира обязательно включает и познание природы. Сухомлинский В.А. писал : «Мир, окружающий ребенка - это, прежде всего, мир природы с безграничным богатством явлений, с неисчерпаемой красотой. Очень важно с ранних лет развивать в детях умение созерцать, наслаждаться ею, вглядываться в нее и вслушиваться.»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006560" y="212760"/>
            <a:ext cx="5222880" cy="6091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797440" y="480960"/>
            <a:ext cx="5218200" cy="620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3040" y="2638440"/>
            <a:ext cx="944244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00040" y="698400"/>
            <a:ext cx="942516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облема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4" name=""/>
          <p:cNvSpPr/>
          <p:nvPr/>
        </p:nvSpPr>
        <p:spPr>
          <a:xfrm>
            <a:off x="1398600" y="1814400"/>
            <a:ext cx="942660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нам осень подарила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тям в нашей группе(ОВЗ) трудно пополнять свои впечатления об окружающем мире, они их только закрепляют, застревая на одном объекте или действии, что мешает получению нового опыта. Видят в том направлении, в котором смотрят и только те предметы, на которых задерживают взгляд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409760" y="666720"/>
            <a:ext cx="940428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Цель проекта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6" name=""/>
          <p:cNvSpPr/>
          <p:nvPr/>
        </p:nvSpPr>
        <p:spPr>
          <a:xfrm>
            <a:off x="1409760" y="1974960"/>
            <a:ext cx="9404280" cy="42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ширять представления детей об осени как времени года, развивать умение находить первые признаки осени, помочь детям увидеть всю красоту осенней природы и богатство осенних даров, создать условия для художественно-эстетического воспитания детей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409760" y="676440"/>
            <a:ext cx="941688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Задачи проекта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" name=""/>
          <p:cNvSpPr/>
          <p:nvPr/>
        </p:nvSpPr>
        <p:spPr>
          <a:xfrm>
            <a:off x="1409760" y="1825560"/>
            <a:ext cx="941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овательные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накомить детей с понятием «время года - осень», с сезонными изменениями в природе, происходящими осенью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накомить с овощами и фруктами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собствовать обогащению активного словаря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ировать умение вести наблюдения за объектами живой и неживой природы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477800" y="1368360"/>
            <a:ext cx="925992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вать связную, грамматически правильную диалогическую и монологическую речь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вать крупную и мелкую моторику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вать любознательность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вать физические качества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"/>
          <p:cNvSpPr/>
          <p:nvPr/>
        </p:nvSpPr>
        <p:spPr>
          <a:xfrm>
            <a:off x="1449360" y="817560"/>
            <a:ext cx="495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Коррекционно-развивающие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28920" y="861840"/>
            <a:ext cx="9012240" cy="53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итательные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итывать у детей эмоциональное, положительное отношение к природе, умение видеть и замечать красоту осеннего пейзажа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SzPct val="102805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итывать умение слушать и понимать слова воспитателя; воспитывать бережное отношение к природе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430280" y="633240"/>
            <a:ext cx="936936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Основные мероприятия реализации проекта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3" name=""/>
          <p:cNvSpPr/>
          <p:nvPr/>
        </p:nvSpPr>
        <p:spPr>
          <a:xfrm>
            <a:off x="1430280" y="1805040"/>
            <a:ext cx="9369360" cy="43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marL="228600" indent="-228600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оведение с детьми бесед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Чтение художественной литературы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ссматривание сюжетных картинок на осеннюю тематику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пражнения на развитие мелкой и крупной моторики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южетно-ролевые, дидактические и подвижные игры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альчиковая гимнастика, дыхательная гимнастика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есочная терапия, экспериментальная деятельность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ослушивание аудиозаписей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Экскурсия в природу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раматизация сказки «Репка»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228600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SzPct val="10285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тоговое мероприятие: «Праздник Осени».</a:t>
            </a:r>
            <a:endParaRPr b="0" lang="en-US" sz="25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04T18:13:18Z</dcterms:created>
  <dc:creator>Пользователь</dc:creator>
  <dc:description/>
  <dc:language>en-US</dc:language>
  <cp:lastModifiedBy>user</cp:lastModifiedBy>
  <dcterms:modified xsi:type="dcterms:W3CDTF">2019-11-21T12:56:47Z</dcterms:modified>
  <cp:revision>23</cp:revision>
  <dc:subject/>
  <dc:title>Познавательно-творческий проект «Волшебница Осень» в средней группе компенсирующей направленности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8342</vt:lpwstr>
  </property>
</Properties>
</file>