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5DF-D07E-4587-B055-79C85321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FFB-4533-4611-B8F7-868F3AE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9F9-B713-4E62-B30D-C9B1FBA0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9FD-591A-48CA-9A2D-5071E1C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DE39-3B73-4242-B90F-DAE6FE02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725-C1D0-4D60-93D6-DE50DBF9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C14-D0DC-4FB9-B1CA-987B5EC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CE2-2CC6-48D9-AF00-3AA2538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15A-04B8-4CE1-81D4-BAB5723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FC24-4C28-425A-8BD4-1E457634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0D3-CF50-4860-95D1-D9DD206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29A-0D22-4A48-A061-09379487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E21-A487-49B6-93E2-9CB8162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459-364E-4100-B803-769E094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8A5-A7D4-4026-A973-3781124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8AE-F26E-4BA1-85FF-30779754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9E39-9A93-4619-A68D-E532B6F3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7B5-F558-463D-A9C4-11C0F4F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829-FCBD-40B4-9EFB-074ED0E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BE2-BC33-4810-A35E-54F5E60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9B6-0E04-488C-9527-81148B7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968-AFF9-4EE8-AA09-E326570F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85C-5793-4827-8857-02D8E6A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6FC-6876-4A57-9D57-1DE4E383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86F-9A03-4156-A4A4-8A4B86A11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B534-1F15-4DD5-8F86-11BE5800B6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91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Гигиена сердечн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сосудистой системы. Первая помощь при кровотечениях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276720" y="508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крытый урок в 8 клас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ларетова Н.В. учитель химии и би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еноз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На рану необходимо наложить давящую повязку или жгут ниж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Отправить пострадавшего в медицинское учре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капилляр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Обработать края раны йодной настой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Наложить марлевую повяз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внутренне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Обеспечить полный по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ридать пострадавшему полусидячее 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 предполагаемому месту кровотечения приложить лёд или холодную вод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роч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оставить пострадавшего к врач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ai0068p"/>
          <p:cNvPicPr/>
          <p:nvPr/>
        </p:nvPicPr>
        <p:blipFill>
          <a:blip r:embed="rId1"/>
          <a:stretch/>
        </p:blipFill>
        <p:spPr>
          <a:xfrm>
            <a:off x="1332000" y="1052640"/>
            <a:ext cx="568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id_03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fai0068p"/>
          <p:cNvPicPr/>
          <p:nvPr/>
        </p:nvPicPr>
        <p:blipFill>
          <a:blip r:embed="rId2"/>
          <a:stretch/>
        </p:blipFill>
        <p:spPr>
          <a:xfrm>
            <a:off x="250920" y="98100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id_02"/>
          <p:cNvPicPr/>
          <p:nvPr/>
        </p:nvPicPr>
        <p:blipFill>
          <a:blip r:embed="rId1"/>
          <a:stretch/>
        </p:blipFill>
        <p:spPr>
          <a:xfrm>
            <a:off x="0" y="260280"/>
            <a:ext cx="4427640" cy="640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id_01"/>
          <p:cNvPicPr/>
          <p:nvPr/>
        </p:nvPicPr>
        <p:blipFill>
          <a:blip r:embed="rId2"/>
          <a:stretch/>
        </p:blipFill>
        <p:spPr>
          <a:xfrm>
            <a:off x="4427640" y="260280"/>
            <a:ext cx="47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рвая помощь при кровотечениях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Цель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Научиться определять тип кровот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Научиться оказывать доврачебную помощ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овотечение – истечение крови из кровеносных сосудов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.И.Ожегов.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                              Толковый словар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ипы кровотечен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Капилляр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Артериаль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Венозно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.Внутренне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77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ериальное кровотечени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18800"/>
            <a:ext cx="40384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Ярко-красная кр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ульсирующая струя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9" descr="артерии"/>
          <p:cNvPicPr/>
          <p:nvPr/>
        </p:nvPicPr>
        <p:blipFill>
          <a:blip r:embed="rId1"/>
          <a:stretch/>
        </p:blipFill>
        <p:spPr>
          <a:xfrm>
            <a:off x="5364000" y="1413000"/>
            <a:ext cx="33116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ноз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Тёмно-красный цвет кро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Вытекает равномерной струёй с большой скорост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Могут образовываться сгус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19640" y="1599840"/>
            <a:ext cx="30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0" descr="вены"/>
          <p:cNvPicPr/>
          <p:nvPr/>
        </p:nvPicPr>
        <p:blipFill>
          <a:blip r:embed="rId1"/>
          <a:stretch/>
        </p:blipFill>
        <p:spPr>
          <a:xfrm>
            <a:off x="5148360" y="1413000"/>
            <a:ext cx="3527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пиллярное кровоте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354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овреждаются мелкие кровеносные сосуды - капилля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Кровоточит вся поверхность ра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ровь легко останавлива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нутреннее кровотечение - это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кровотечение в полость организма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Липкий холодный п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Блед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Дыхание поверхност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Пульс частый слаб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ая помощь при артериальном кровотеч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ережать сосуд выше места поврежд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Наложить жгут на коне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Прикрепить записку с указанием времени наложения жгу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Отправить пострадавшего в медицинское учрежд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1:08:27Z</dcterms:created>
  <dc:creator>User</dc:creator>
  <dc:description/>
  <dc:language>en-US</dc:language>
  <cp:lastModifiedBy>информатика</cp:lastModifiedBy>
  <dcterms:modified xsi:type="dcterms:W3CDTF">2016-04-02T06:49:59Z</dcterms:modified>
  <cp:revision>13</cp:revision>
  <dc:subject/>
  <dc:title>Слайд 1</dc:title>
</cp:coreProperties>
</file>