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2286-AB00-41DB-A403-25E24B854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B0D3-EB8F-4523-9AD0-C2D11CC8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E10D-8FFC-4984-B075-C3FA73960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0996-7623-492E-B911-F15B0451C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BB7D-FA85-4BF8-A57E-50E6007C2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9061F-E01D-4DCA-BE8A-56E31B00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83E8-5DEA-4CB8-BC27-49D96DA8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BC0E-C65A-4F4A-844A-8555AEE5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2D2A0-71BB-43AD-95B5-D79AFE71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7694-4F68-467E-9193-0D914702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99F6-E206-4A6F-9AA0-EC94D04D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FA3B-71D8-4ED9-A22F-CAF9653F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55FB-2F07-4996-BA45-68EFA27F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CEF2C-8DBB-48E4-92A2-721AC03E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75F5E-83C4-4394-AF1C-BDF9BEDF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970C-91B6-46FE-B065-DE5B4B96C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729FB-02A6-4927-A89F-4C24959BC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700D-1FFC-40C0-8FF2-4C2DDB35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8585-3225-456E-88F5-B75EE8A5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38AE-F37B-471E-80D1-92982F87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7D42-D6D3-44BA-A489-74C5E839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004C-C490-47A6-9506-BF631632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1D2F-C4B6-4F45-9F87-22C4703A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D514-1B02-4CE2-B528-4AB22526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D081-164D-4B76-B14C-9566595C96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68DB-DC7F-4162-B7A1-AF8B627D395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1600200"/>
            <a:ext cx="829152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«Гигиена сердечно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- сосудистой системы. Первая помощь при кровотечениях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3276720" y="5084640"/>
            <a:ext cx="51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ткрытый урок в 8 клас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иларетова Н.В. учитель химии и биолог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ервая помощь при венозном кровотечени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На рану необходимо наложить давящую повязку или жгут ниже места поврежд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Прикрепить записку с указанием времени наложения жгу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Отправить пострадавшего в медицинское учрежд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ервая помощь при капиллярном кровотечени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0920" y="263664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1.Обработать края раны йодной настойко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2. Наложить марлевую повязк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ервая помощь при внутреннем кровотечени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Обеспечить полный поко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Придать пострадавшему полусидячее полож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К предполагаемому месту кровотечения приложить лёд или холодную вод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Срочно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доставить пострадавшего к врач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fai0068p"/>
          <p:cNvPicPr/>
          <p:nvPr/>
        </p:nvPicPr>
        <p:blipFill>
          <a:blip r:embed="rId1"/>
          <a:stretch/>
        </p:blipFill>
        <p:spPr>
          <a:xfrm>
            <a:off x="1332000" y="1052640"/>
            <a:ext cx="5688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aid_03"/>
          <p:cNvPicPr/>
          <p:nvPr/>
        </p:nvPicPr>
        <p:blipFill>
          <a:blip r:embed="rId1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fai0068p"/>
          <p:cNvPicPr/>
          <p:nvPr/>
        </p:nvPicPr>
        <p:blipFill>
          <a:blip r:embed="rId2"/>
          <a:stretch/>
        </p:blipFill>
        <p:spPr>
          <a:xfrm>
            <a:off x="250920" y="981000"/>
            <a:ext cx="4105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aid_02"/>
          <p:cNvPicPr/>
          <p:nvPr/>
        </p:nvPicPr>
        <p:blipFill>
          <a:blip r:embed="rId1"/>
          <a:stretch/>
        </p:blipFill>
        <p:spPr>
          <a:xfrm>
            <a:off x="0" y="260280"/>
            <a:ext cx="4427640" cy="6408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aid_01"/>
          <p:cNvPicPr/>
          <p:nvPr/>
        </p:nvPicPr>
        <p:blipFill>
          <a:blip r:embed="rId2"/>
          <a:stretch/>
        </p:blipFill>
        <p:spPr>
          <a:xfrm>
            <a:off x="4427640" y="260280"/>
            <a:ext cx="47163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7772400" cy="33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Типы кровотечений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Первая помощь при кровотечениях</a:t>
            </a:r>
            <a:br>
              <a:rPr sz="4800"/>
            </a:b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26920" y="3860280"/>
            <a:ext cx="7632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eec94"/>
                </a:solidFill>
                <a:uFillTx/>
                <a:latin typeface="Times New Roman"/>
              </a:rPr>
              <a:t>Цель уро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1.Научиться определять тип кровотеч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2.Научиться оказывать доврачебную помощ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18440" cy="55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Кровотечение – истечение крови из кровеносных сосудов. 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                               </a:t>
            </a: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С.И.Ожегов. </a:t>
            </a:r>
            <a:br>
              <a:rPr sz="3600"/>
            </a:b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                               Толковый словарь.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         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Типы кровотечений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1.Капиллярно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2.Артериально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3.Венозно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4.Внутренне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301320"/>
            <a:ext cx="80773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Артериальное кровотечение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18800"/>
            <a:ext cx="4038480" cy="42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знак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Ярко-красная кров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Вытекает с большой скорость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Пульсирующая струя кров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9" descr="артерии"/>
          <p:cNvPicPr/>
          <p:nvPr/>
        </p:nvPicPr>
        <p:blipFill>
          <a:blip r:embed="rId1"/>
          <a:stretch/>
        </p:blipFill>
        <p:spPr>
          <a:xfrm>
            <a:off x="5364000" y="1413000"/>
            <a:ext cx="3311640" cy="54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енозное кровотече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знак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Тёмно-красный цвет кров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Вытекает равномерной струёй с большой скорость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Могут образовываться сгуст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19640" y="1599840"/>
            <a:ext cx="3097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10" descr="вены"/>
          <p:cNvPicPr/>
          <p:nvPr/>
        </p:nvPicPr>
        <p:blipFill>
          <a:blip r:embed="rId1"/>
          <a:stretch/>
        </p:blipFill>
        <p:spPr>
          <a:xfrm>
            <a:off x="5148360" y="1413000"/>
            <a:ext cx="352728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Капиллярное кровотече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73548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знаки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Повреждаются мелкие кровеносные сосуды - капилляр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Кровоточит вся поверхность ран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Кровь легко останавливаетс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23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нутреннее кровотечение - это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кровотечение в полость организма 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2924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знаки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Липкий холодный по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Бледно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Дыхание поверхностно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.Пульс частый слабы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ервая помощь при артериальном кровотечени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Пережать сосуд выше места поврежд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Наложить жгут на конечно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Прикрепить записку с указанием времени наложения жгу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.Отправить пострадавшего в медицинское учрежден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11:08:27Z</dcterms:created>
  <dc:creator>User</dc:creator>
  <dc:description/>
  <dc:language>en-US</dc:language>
  <cp:lastModifiedBy>информатика</cp:lastModifiedBy>
  <dcterms:modified xsi:type="dcterms:W3CDTF">2016-04-02T06:49:59Z</dcterms:modified>
  <cp:revision>13</cp:revision>
  <dc:subject/>
  <dc:title>Слайд 1</dc:title>
</cp:coreProperties>
</file>