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991-9CD6-4158-AB8C-7271F20D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97B-A2D0-4BFD-B0FF-09827355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2CA-065E-468E-9FF8-0DC5BB11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6CE-8216-4F0F-8890-DA58B9DC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6B0E-C4AB-4C24-BE72-72CAEA95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7837-8379-4C36-A893-D34C748A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DAC3-C882-4B1B-AFDA-C52B7D2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8C3-EF08-4F5E-A44A-A5024770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9373-59A4-4D7B-8ED1-67126302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5AB-B8D8-4C6A-94B4-8F02662A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29E-2B06-46D1-A0B8-50EDC60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169-2407-4596-A49F-AC85AAD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8594-21D6-4AE3-B142-318DC5E1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D4D-995D-4BA0-B2E6-1C6535A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62F0-BD5A-4D32-BC57-C55E3925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E5B-53E0-41BD-827D-3AAC9949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3D5A-37E7-45D8-842A-4D80AAA2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17C-93BD-407F-94FA-387AC82B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E9F-8B82-4073-9E14-585351B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ED9-8BE2-4860-B2E8-0C527B0C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5AE-44CB-4F63-B9E8-C69DDC00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56B-B1CB-42DC-87CC-0F40B58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36A-51B2-488A-A0E6-00BA954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1DE-69B8-4935-98F5-C3D4B9A3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1676-11B3-4A20-8169-D402329ED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8796-818A-4619-886E-7D092172BE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91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Гигиена сердечн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сосудистой системы. Первая помощь при кровотечениях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276720" y="508464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крытый урок в 8 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ларетова Н.В. учитель химии и би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веноз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На рану необходимо наложить давящую повязку или жгут ниже места поврежд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рикрепить записку с указанием времени наложения жгу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Отправить пострадавшего в медицинское учре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капилляр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Обработать края раны йодной настой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Наложить марлевую повязк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внутренне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Обеспечить полный по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ридать пострадавшему полусидячее 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 предполагаемому месту кровотечения приложить лёд или холодную вод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рочн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оставить пострадавшего к врач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fai0068p"/>
          <p:cNvPicPr/>
          <p:nvPr/>
        </p:nvPicPr>
        <p:blipFill>
          <a:blip r:embed="rId1"/>
          <a:stretch/>
        </p:blipFill>
        <p:spPr>
          <a:xfrm>
            <a:off x="1332000" y="1052640"/>
            <a:ext cx="568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id_03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fai0068p"/>
          <p:cNvPicPr/>
          <p:nvPr/>
        </p:nvPicPr>
        <p:blipFill>
          <a:blip r:embed="rId2"/>
          <a:stretch/>
        </p:blipFill>
        <p:spPr>
          <a:xfrm>
            <a:off x="250920" y="981000"/>
            <a:ext cx="410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id_02"/>
          <p:cNvPicPr/>
          <p:nvPr/>
        </p:nvPicPr>
        <p:blipFill>
          <a:blip r:embed="rId1"/>
          <a:stretch/>
        </p:blipFill>
        <p:spPr>
          <a:xfrm>
            <a:off x="0" y="260280"/>
            <a:ext cx="4427640" cy="640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id_01"/>
          <p:cNvPicPr/>
          <p:nvPr/>
        </p:nvPicPr>
        <p:blipFill>
          <a:blip r:embed="rId2"/>
          <a:stretch/>
        </p:blipFill>
        <p:spPr>
          <a:xfrm>
            <a:off x="4427640" y="260280"/>
            <a:ext cx="47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ипы кровотечени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ервая помощь при кровотечениях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38602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Цель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Научиться определять тип кровоте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Научиться оказывать доврачебную помощ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овотечение – истечение крови из кровеносных сосудов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.И.Ожегов.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                              Толковый словарь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ипы кровотечений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Капилляр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Артериаль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Веноз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.Внутренне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77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териальное кровотечени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8800"/>
            <a:ext cx="40384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Ярко-красная кров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Вытекает с большой скор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ульсирующая струя кро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9" descr="артерии"/>
          <p:cNvPicPr/>
          <p:nvPr/>
        </p:nvPicPr>
        <p:blipFill>
          <a:blip r:embed="rId1"/>
          <a:stretch/>
        </p:blipFill>
        <p:spPr>
          <a:xfrm>
            <a:off x="5364000" y="1413000"/>
            <a:ext cx="33116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нозное кровоте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Тёмно-красный цвет кро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Вытекает равномерной струёй с большой скор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Могут образовываться сгус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19640" y="1599840"/>
            <a:ext cx="30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0" descr="вены"/>
          <p:cNvPicPr/>
          <p:nvPr/>
        </p:nvPicPr>
        <p:blipFill>
          <a:blip r:embed="rId1"/>
          <a:stretch/>
        </p:blipFill>
        <p:spPr>
          <a:xfrm>
            <a:off x="5148360" y="1413000"/>
            <a:ext cx="3527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пиллярное кровоте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7354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Повреждаются мелкие кровеносные сосуды - капилля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Кровоточит вся поверхность ра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ровь легко останавлива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нутреннее кровотечение - это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кровотечение в полость организма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Липкий холодный п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Блед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Дыхание поверхност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Пульс частый слаб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артериаль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Пережать сосуд выше места поврежд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Наложить жгут на конеч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Прикрепить записку с указанием времени наложения жгу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Отправить пострадавшего в медицинское учрежд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1:08:27Z</dcterms:created>
  <dc:creator>User</dc:creator>
  <dc:description/>
  <dc:language>en-US</dc:language>
  <cp:lastModifiedBy>информатика</cp:lastModifiedBy>
  <dcterms:modified xsi:type="dcterms:W3CDTF">2016-04-02T06:49:59Z</dcterms:modified>
  <cp:revision>13</cp:revision>
  <dc:subject/>
  <dc:title>Слайд 1</dc:title>
</cp:coreProperties>
</file>