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B68-AF83-4AA7-8BF6-8C8CD433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E67-A714-45DA-92E2-04DA671D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3A9-F4BE-462E-B6A2-31E3019D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D4D-BFD7-473F-8360-D15B7793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16F-A1C4-48AD-BDA8-8BD88663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A4D-95CD-4EBE-8416-83C7CEBA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6AA-7AC9-4979-9AFA-F02768A6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E57-469A-4435-B84E-76D7DCCE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C92-8AA3-43BD-8A59-89F93F4C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350-743F-4F0B-8373-B82E0A99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557-ECFD-4135-B164-2021E38E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ADB-D576-4BD2-9344-ACB3B08D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A9D3-5943-4827-96B2-5AE511B33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79581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роект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«Русская матрешка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» 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о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торой младшей группе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Мотыльки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4880" y="3714480"/>
            <a:ext cx="428616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готовила воспитатель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.Н.Травник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Picture 13" descr="C:\Users\7\Desktop\png-transparent-matryoshka-doll-russia-revista-escaner-cultural-culture-doll-miscellaneous-photography-russian.png"/>
          <p:cNvPicPr/>
          <p:nvPr/>
        </p:nvPicPr>
        <p:blipFill>
          <a:blip r:embed="rId1"/>
          <a:stretch/>
        </p:blipFill>
        <p:spPr>
          <a:xfrm>
            <a:off x="0" y="2571840"/>
            <a:ext cx="46432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99680" y="857160"/>
            <a:ext cx="771516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омство с народной игрушкой «Матрешк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71320" y="1428480"/>
            <a:ext cx="79009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щить детей к народному декоративно-прикладному искусств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ить  с народной игрушкой Матреш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интерес и любовь к народному творчеств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групп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и воспитанни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13" descr="C:\Users\7\Desktop\png-transparent-matryoshka-doll-russia-revista-escaner-cultural-culture-doll-miscellaneous-photography-russian.png"/>
          <p:cNvPicPr/>
          <p:nvPr/>
        </p:nvPicPr>
        <p:blipFill>
          <a:blip r:embed="rId1"/>
          <a:stretch/>
        </p:blipFill>
        <p:spPr>
          <a:xfrm>
            <a:off x="5286240" y="3214800"/>
            <a:ext cx="385776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8760" y="571680"/>
            <a:ext cx="82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Тема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усская Матрешка 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ид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познавательно-творче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должительност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краткосрочны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мет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Матреш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Участники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дети 3-4 лет, воспитатель, родит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иды деятель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художественная, речевая, исследовательская, познавательная, физическая, продуктивна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Актуальность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ременные родители очень мало внимания уделяют теме народного творчества, фольклора, считая этот аспект русской культуры необязательным для ребенка. Данный проект доказывает, что тема «народной игрушки», как составная часть знаний о быте русского народа, очень интересна современным дошкольникам, они с удовольствием играют в Матрешку, выполняют различные виды заданий, с ее использованием, обогащают свой словарный запас, приобщаясь тем самым к русской культур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8400" y="785520"/>
            <a:ext cx="82580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Ожидаемый результа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явление познавательной активности детей к  Матрёшке, как  национальной игрушк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ожительная динамика в развитии речи детей дошкольного возраст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уровня удовлетворенности родителей процессом развития ребенка в детском са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Этапы реализаци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 этап – подготовительный (сбор материала по данной теме, оформление групп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этап –реализация проекта (беседы, стенгазета, консультации, работа с родителями, музыкальное развлечение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этап –заключительный (выставка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400" y="4429080"/>
            <a:ext cx="83293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Взаимодействие с родителя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онсультация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сская народная матрешк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Задание на дом:  Совместная деятельность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мамой дома не скучали                                                          Мы матрешек рисовали!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cb5"/>
                </a:solidFill>
                <a:latin typeface="Tahoma"/>
              </a:rPr>
              <a:t>Образовательные области проекта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400" y="1214280"/>
            <a:ext cx="8329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И – Накорми матрешк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моги матрешке дорогу перей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ЭМП «Матрешк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труирование «Строим домик для матрешки»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 . «Наряди матрешку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ОД. « Считаем матрешек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дожественно-эстетическ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пляска «Мы-матрешки крошк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ец с платочками «Матрешк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«Прячем матрешку», «Бегите к матрешке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гости к нам пришла матрешк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трешка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чевая игра «Матрешка, где ты?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ение стихотворений: Н.Колмаковой «Как у нашей матрешки», В.Берестов «Матрешкины потешк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атривание иллюстраций «Матрешки расписные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Посещение выставки народно-прикладного искусства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53" name="Picture 4" descr="C:\Users\Admin\Desktop\IMG_1109.JPG"/>
          <p:cNvPicPr/>
          <p:nvPr/>
        </p:nvPicPr>
        <p:blipFill>
          <a:blip r:embed="rId1"/>
          <a:srcRect l="0" t="6118" r="9806" b="3674"/>
          <a:stretch/>
        </p:blipFill>
        <p:spPr>
          <a:xfrm>
            <a:off x="4643280" y="1928880"/>
            <a:ext cx="3286440" cy="421488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657360" y="2857680"/>
            <a:ext cx="782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13" descr="C:\Users\7\Desktop\png-transparent-matryoshka-doll-russia-revista-escaner-cultural-culture-doll-miscellaneous-photography-russian.png"/>
          <p:cNvPicPr/>
          <p:nvPr/>
        </p:nvPicPr>
        <p:blipFill>
          <a:blip r:embed="rId2"/>
          <a:stretch/>
        </p:blipFill>
        <p:spPr>
          <a:xfrm>
            <a:off x="0" y="2357280"/>
            <a:ext cx="46432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Фэмп </a:t>
            </a:r>
            <a:br>
              <a:rPr sz="3600"/>
            </a:b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Игра: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От большой матрешки до маленькой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”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Цель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упражнять в умение сравнивать предметы по величине</a:t>
            </a:r>
            <a:endParaRPr b="0" lang="en-US" sz="2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57" name="Picture 2" descr="C:\Users\Admin\Desktop\20170405_095529.jpg"/>
          <p:cNvPicPr/>
          <p:nvPr/>
        </p:nvPicPr>
        <p:blipFill>
          <a:blip r:embed="rId1"/>
          <a:stretch/>
        </p:blipFill>
        <p:spPr>
          <a:xfrm>
            <a:off x="4572000" y="2857680"/>
            <a:ext cx="3857760" cy="30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\Desktop\20170405_095120.jpg"/>
          <p:cNvPicPr/>
          <p:nvPr/>
        </p:nvPicPr>
        <p:blipFill>
          <a:blip r:embed="rId2"/>
          <a:stretch/>
        </p:blipFill>
        <p:spPr>
          <a:xfrm>
            <a:off x="571680" y="2857680"/>
            <a:ext cx="3895560" cy="302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C:\Users\7\Desktop\png-transparent-matryoshka-doll-tsvet-natsii-russia-souvenir-doll-miscellaneous-child-culture.png"/>
          <p:cNvPicPr/>
          <p:nvPr/>
        </p:nvPicPr>
        <p:blipFill>
          <a:blip r:embed="rId3"/>
          <a:stretch/>
        </p:blipFill>
        <p:spPr>
          <a:xfrm>
            <a:off x="7143840" y="5286240"/>
            <a:ext cx="17064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9:31:02Z</dcterms:created>
  <dc:creator>max</dc:creator>
  <dc:description/>
  <dc:language>en-US</dc:language>
  <cp:lastModifiedBy>7</cp:lastModifiedBy>
  <dcterms:modified xsi:type="dcterms:W3CDTF">2024-04-25T10:32:29Z</dcterms:modified>
  <cp:revision>84</cp:revision>
  <dc:subject/>
  <dc:title>Хлеб всему гол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90000000000010243100207f6000400038000</vt:lpwstr>
  </property>
</Properties>
</file>