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778-4C01-46AD-93C5-D76F9848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B6A-A90C-4CF3-B910-F271987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D7F-F9A9-4F55-8DF3-5150B94A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4B2-27D2-42E6-B9EF-FCC95F43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6FB-D585-4CF6-8910-4DF0785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6F4-6FB9-48B8-8448-1A65C5A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01B-1212-4C7E-AD2E-128640C4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532-D4E2-4F6C-874E-72FB899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23C-B31B-4032-910C-8A1CB688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DB0-09E2-4CF1-BFBF-BB0C464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14A-772E-4D9E-AE7E-8F611B6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6F0-4F51-48A6-99FD-66EEECF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479-B4AA-48F6-8851-CCA4C8E56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79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роек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«Русская матрешка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»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о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торой младшей группе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отыльки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714480"/>
            <a:ext cx="42861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а воспитатель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.Н.Травник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0" y="257184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99680" y="857160"/>
            <a:ext cx="7715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народной игрушкой «Матрешк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1320" y="1428480"/>
            <a:ext cx="7900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ить детей к народному декоративно-прикладному искус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 с народной игрушкой Матреш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интерес и любовь к народному творче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групп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воспитанни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1"/>
          <a:stretch/>
        </p:blipFill>
        <p:spPr>
          <a:xfrm>
            <a:off x="5286240" y="3214800"/>
            <a:ext cx="38577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571680"/>
            <a:ext cx="82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ма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ая Матреш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ознавательно-творче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олжительност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краткосрочны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едмет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 Матреш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астники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ти 3-4 лет, воспитатель, родит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иды 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удожественная, речевая, исследовательская, познавательная, физическая, продуктивна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ктуальность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ые родители очень мало внимания уделяют теме народного творчества, фольклора, считая этот аспект русской культуры необязательным для ребенка. Данный проект доказывает, что тема «народной игрушки», как составная часть знаний о быте русского народа, очень интересна современным дошкольникам, они с удовольствием играют в Матрешку, выполняют различные виды заданий, с ее использованием, обогащают свой словарный запас, приобщаясь тем самым к русской культур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8400" y="785520"/>
            <a:ext cx="82580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жидаемый результа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ение познавательной активности детей к  Матрёшке, как  национальной игрушк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ительная динамика в развитии речи детей дошкольного возрас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уровня удовлетворенности родителей процессом развития ребенка в детском са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еализ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 – подготовительный (сбор материала по данной теме, оформление групп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этап –реализация проекта (беседы, стенгазета, консультации, работа с родителями, музыкальное развлече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 этап –заключительный (выстав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00" y="4429080"/>
            <a:ext cx="83293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заимодействие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нсультация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ая народная матреш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дание на дом:  Совместная 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мамой дома не скучали                                                          Мы матрешек рисовали!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cb5"/>
                </a:solidFill>
                <a:latin typeface="Tahoma"/>
              </a:rPr>
              <a:t>Образовательные области проекта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1214280"/>
            <a:ext cx="8329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И – Накорми матреш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моги матрешке дорогу перей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ЭМП «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руирование «Строим домик для матрешки»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 . «Наряди матрешку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ОД. « Считаем матреше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пляска «Мы-матрешки кро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ец с платочками «Матр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«Прячем матрешку», «Бегите к матрешке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гости к нам пришла матрешк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решк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евая игра «Матрешка, где ты?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ение стихотворений: Н.Колмаковой «Как у нашей матрешки», В.Берестов «Матрешкины потешк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атривание иллюстраций «Матрешки расписны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Посещение выставки народно-прикладного искусства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3" name="Picture 4" descr="C:\Users\Admin\Desktop\IMG_1109.JPG"/>
          <p:cNvPicPr/>
          <p:nvPr/>
        </p:nvPicPr>
        <p:blipFill>
          <a:blip r:embed="rId1"/>
          <a:srcRect l="0" t="6118" r="9806" b="3674"/>
          <a:stretch/>
        </p:blipFill>
        <p:spPr>
          <a:xfrm>
            <a:off x="4643280" y="1928880"/>
            <a:ext cx="3286440" cy="421488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657360" y="2857680"/>
            <a:ext cx="78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13" descr="C:\Users\7\Desktop\png-transparent-matryoshka-doll-russia-revista-escaner-cultural-culture-doll-miscellaneous-photography-russian.png"/>
          <p:cNvPicPr/>
          <p:nvPr/>
        </p:nvPicPr>
        <p:blipFill>
          <a:blip r:embed="rId2"/>
          <a:stretch/>
        </p:blipFill>
        <p:spPr>
          <a:xfrm>
            <a:off x="0" y="2357280"/>
            <a:ext cx="4643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Фэмп </a:t>
            </a:r>
            <a:br>
              <a:rPr sz="3600"/>
            </a:b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Игра: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От большой матрешки до маленькой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”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упражнять в умение сравнивать предметы по величине</a:t>
            </a:r>
            <a:endParaRPr b="0" lang="en-US" sz="2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57" name="Picture 2" descr="C:\Users\Admin\Desktop\20170405_095529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57760" cy="30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\Desktop\20170405_095120.jpg"/>
          <p:cNvPicPr/>
          <p:nvPr/>
        </p:nvPicPr>
        <p:blipFill>
          <a:blip r:embed="rId2"/>
          <a:stretch/>
        </p:blipFill>
        <p:spPr>
          <a:xfrm>
            <a:off x="571680" y="2857680"/>
            <a:ext cx="3895560" cy="30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7\Desktop\png-transparent-matryoshka-doll-tsvet-natsii-russia-souvenir-doll-miscellaneous-child-culture.png"/>
          <p:cNvPicPr/>
          <p:nvPr/>
        </p:nvPicPr>
        <p:blipFill>
          <a:blip r:embed="rId3"/>
          <a:stretch/>
        </p:blipFill>
        <p:spPr>
          <a:xfrm>
            <a:off x="7143840" y="5286240"/>
            <a:ext cx="1706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9:31:02Z</dcterms:created>
  <dc:creator>max</dc:creator>
  <dc:description/>
  <dc:language>en-US</dc:language>
  <cp:lastModifiedBy>7</cp:lastModifiedBy>
  <dcterms:modified xsi:type="dcterms:W3CDTF">2024-04-25T10:32:29Z</dcterms:modified>
  <cp:revision>84</cp:revision>
  <dc:subject/>
  <dc:title>Хлеб всему го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90000000000010243100207f6000400038000</vt:lpwstr>
  </property>
</Properties>
</file>