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EC1-4022-43DF-8EF7-61AF09B1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C3E-BA6D-4541-A61C-0FBB31AA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9E2-FBDD-4944-9A64-AB66CBAA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234-C636-4724-A86D-0142B03F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38A-7B63-4321-A18A-F7567CC8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287-E565-4710-8E09-55FE7D28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3C55-22F0-4D57-B4D5-57353435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6C5-2F55-4F27-9B97-2F6B646F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965-10E5-46CB-B65B-7800225E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A56-197A-43BF-AD8F-EF3FF4F8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E3F-2B5F-47D0-8EEF-84C7F95E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4A1-5413-4273-B0A8-2D61A3BA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CD37-464C-4F86-9489-E5E2190C82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135000"/>
            <a:ext cx="87138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Мои документы\44.jpg"/>
          <p:cNvPicPr/>
          <p:nvPr/>
        </p:nvPicPr>
        <p:blipFill>
          <a:blip r:embed="rId1"/>
          <a:stretch/>
        </p:blipFill>
        <p:spPr>
          <a:xfrm>
            <a:off x="857160" y="428760"/>
            <a:ext cx="7358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Мои документы\15.jpg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Мои документы\24.jpg"/>
          <p:cNvPicPr/>
          <p:nvPr/>
        </p:nvPicPr>
        <p:blipFill>
          <a:blip r:embed="rId1"/>
          <a:stretch/>
        </p:blipFill>
        <p:spPr>
          <a:xfrm>
            <a:off x="142920" y="214200"/>
            <a:ext cx="88581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https://www.coloring-book.biz/_ph/83/2/112777301.jpg"/>
          <p:cNvPicPr/>
          <p:nvPr/>
        </p:nvPicPr>
        <p:blipFill>
          <a:blip r:embed="rId1"/>
          <a:stretch/>
        </p:blipFill>
        <p:spPr>
          <a:xfrm>
            <a:off x="4680" y="4680"/>
            <a:ext cx="4164120" cy="32180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https://psihologion.ru/upload/userfiles/images/462d52a77d178b61f3008ca505c1fc96.jpg"/>
          <p:cNvPicPr/>
          <p:nvPr/>
        </p:nvPicPr>
        <p:blipFill>
          <a:blip r:embed="rId2"/>
          <a:stretch/>
        </p:blipFill>
        <p:spPr>
          <a:xfrm>
            <a:off x="147600" y="3573360"/>
            <a:ext cx="3876840" cy="29624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https://docviewer.yandex.ru/view/0/htmlimage?id=1hlq2-bljup8d0ew6zka3zmpzw316xumjb3isbtv4g0qy83t3khj5wq9tnfkr2rrai6qx18ohzo847jal5bh6yc09hus7pr27n9rthli3&amp;name=image-TVdyVjTjdMqcYlRjcC.jpg"/>
          <p:cNvPicPr/>
          <p:nvPr/>
        </p:nvPicPr>
        <p:blipFill>
          <a:blip r:embed="rId3"/>
          <a:stretch/>
        </p:blipFill>
        <p:spPr>
          <a:xfrm>
            <a:off x="4665600" y="127080"/>
            <a:ext cx="3448080" cy="3273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https://docviewer.yandex.ru/view/0/htmlimage?id=1hlq2-bljup8d0ew6zka3zmpzw316xumjb3isbtv4g0qy83t3khj5wq9tnfkr2rrai6qx18ohzo847jal5bh6yc09hus7pr27n9rthli3&amp;name=image-wOVdxDj0VOJ7SsBLml.jpg"/>
          <p:cNvPicPr/>
          <p:nvPr/>
        </p:nvPicPr>
        <p:blipFill>
          <a:blip r:embed="rId4"/>
          <a:stretch/>
        </p:blipFill>
        <p:spPr>
          <a:xfrm>
            <a:off x="4923000" y="3573360"/>
            <a:ext cx="31906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Мои документы\45.jpg"/>
          <p:cNvPicPr/>
          <p:nvPr/>
        </p:nvPicPr>
        <p:blipFill>
          <a:blip r:embed="rId1"/>
          <a:stretch/>
        </p:blipFill>
        <p:spPr>
          <a:xfrm>
            <a:off x="285840" y="357120"/>
            <a:ext cx="87152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Мои документы\46.jpg"/>
          <p:cNvPicPr/>
          <p:nvPr/>
        </p:nvPicPr>
        <p:blipFill>
          <a:blip r:embed="rId1"/>
          <a:stretch/>
        </p:blipFill>
        <p:spPr>
          <a:xfrm>
            <a:off x="142920" y="428760"/>
            <a:ext cx="87868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-11160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9680" y="2071440"/>
            <a:ext cx="8286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3" descr="D:\Мои документы\47.jpg"/>
          <p:cNvPicPr/>
          <p:nvPr/>
        </p:nvPicPr>
        <p:blipFill>
          <a:blip r:embed="rId1"/>
          <a:stretch/>
        </p:blipFill>
        <p:spPr>
          <a:xfrm>
            <a:off x="214200" y="714240"/>
            <a:ext cx="4071960" cy="578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D:\Мои документы\1.jpg"/>
          <p:cNvPicPr/>
          <p:nvPr/>
        </p:nvPicPr>
        <p:blipFill>
          <a:blip r:embed="rId2"/>
          <a:stretch/>
        </p:blipFill>
        <p:spPr>
          <a:xfrm>
            <a:off x="4429080" y="78588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борники документо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D:\Мои документы\5.jpg"/>
          <p:cNvPicPr/>
          <p:nvPr/>
        </p:nvPicPr>
        <p:blipFill>
          <a:blip r:embed="rId1"/>
          <a:stretch/>
        </p:blipFill>
        <p:spPr>
          <a:xfrm>
            <a:off x="357120" y="1643040"/>
            <a:ext cx="3714840" cy="478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D:\Мои документы\9.jpg"/>
          <p:cNvPicPr/>
          <p:nvPr/>
        </p:nvPicPr>
        <p:blipFill>
          <a:blip r:embed="rId2"/>
          <a:stretch/>
        </p:blipFill>
        <p:spPr>
          <a:xfrm>
            <a:off x="5072040" y="1643040"/>
            <a:ext cx="3571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Мои документы\14.jpg"/>
          <p:cNvPicPr/>
          <p:nvPr/>
        </p:nvPicPr>
        <p:blipFill>
          <a:blip r:embed="rId1"/>
          <a:stretch/>
        </p:blipFill>
        <p:spPr>
          <a:xfrm>
            <a:off x="1357200" y="214200"/>
            <a:ext cx="67150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Мои документы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Мои документы\2.jpg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Мои документы\36.jpg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Мои документы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Мои документы\7.jpg"/>
          <p:cNvPicPr/>
          <p:nvPr/>
        </p:nvPicPr>
        <p:blipFill>
          <a:blip r:embed="rId1"/>
          <a:stretch/>
        </p:blipFill>
        <p:spPr>
          <a:xfrm>
            <a:off x="380880" y="357120"/>
            <a:ext cx="83822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06:53:47Z</dcterms:created>
  <dc:creator>Дом</dc:creator>
  <dc:description/>
  <dc:language>en-US</dc:language>
  <cp:lastModifiedBy>ААА</cp:lastModifiedBy>
  <dcterms:modified xsi:type="dcterms:W3CDTF">2023-09-10T13:57:27Z</dcterms:modified>
  <cp:revision>13</cp:revision>
  <dc:subject/>
  <dc:title>Конвенция о правах ребёнка</dc:title>
</cp:coreProperties>
</file>