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3C0-0D53-431D-B4D5-01BF4BB4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175-3DD9-4A7C-B678-BBF5D9EF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C36-403D-4E8E-BB47-F3EE910D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661-90D9-4A02-823B-088365CA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7D8-8323-48E4-8409-FC466946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B2C-0814-4143-B5AA-798DAF46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9D6-5DCF-453F-A1C9-5DB989ED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F0A-5C22-477E-A247-7527B074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8C4-F535-4EE8-8706-2227381B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7FF-F0DB-4A3D-9114-3E02AFDF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D46-4774-4473-999F-0408F902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B7C-644D-4F1B-951F-F120F394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EDCB-498F-47AF-84AF-ADA6B4E9A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Мои документы\44.jpg"/>
          <p:cNvPicPr/>
          <p:nvPr/>
        </p:nvPicPr>
        <p:blipFill>
          <a:blip r:embed="rId1"/>
          <a:stretch/>
        </p:blipFill>
        <p:spPr>
          <a:xfrm>
            <a:off x="857160" y="428760"/>
            <a:ext cx="7358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Мои документы\15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Мои документы\24.jpg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s://www.coloring-book.biz/_ph/83/2/112777301.jpg"/>
          <p:cNvPicPr/>
          <p:nvPr/>
        </p:nvPicPr>
        <p:blipFill>
          <a:blip r:embed="rId1"/>
          <a:stretch/>
        </p:blipFill>
        <p:spPr>
          <a:xfrm>
            <a:off x="4680" y="4680"/>
            <a:ext cx="4164120" cy="3218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https://psihologion.ru/upload/userfiles/images/462d52a77d178b61f3008ca505c1fc96.jpg"/>
          <p:cNvPicPr/>
          <p:nvPr/>
        </p:nvPicPr>
        <p:blipFill>
          <a:blip r:embed="rId2"/>
          <a:stretch/>
        </p:blipFill>
        <p:spPr>
          <a:xfrm>
            <a:off x="147600" y="3573360"/>
            <a:ext cx="3876840" cy="2962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s://docviewer.yandex.ru/view/0/htmlimage?id=1hlq2-bljup8d0ew6zka3zmpzw316xumjb3isbtv4g0qy83t3khj5wq9tnfkr2rrai6qx18ohzo847jal5bh6yc09hus7pr27n9rthli3&amp;name=image-TVdyVjTjdMqcYlRjcC.jpg"/>
          <p:cNvPicPr/>
          <p:nvPr/>
        </p:nvPicPr>
        <p:blipFill>
          <a:blip r:embed="rId3"/>
          <a:stretch/>
        </p:blipFill>
        <p:spPr>
          <a:xfrm>
            <a:off x="4665600" y="127080"/>
            <a:ext cx="3448080" cy="3273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s://docviewer.yandex.ru/view/0/htmlimage?id=1hlq2-bljup8d0ew6zka3zmpzw316xumjb3isbtv4g0qy83t3khj5wq9tnfkr2rrai6qx18ohzo847jal5bh6yc09hus7pr27n9rthli3&amp;name=image-wOVdxDj0VOJ7SsBLml.jpg"/>
          <p:cNvPicPr/>
          <p:nvPr/>
        </p:nvPicPr>
        <p:blipFill>
          <a:blip r:embed="rId4"/>
          <a:stretch/>
        </p:blipFill>
        <p:spPr>
          <a:xfrm>
            <a:off x="4923000" y="3573360"/>
            <a:ext cx="31906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Мои документы\45.jpg"/>
          <p:cNvPicPr/>
          <p:nvPr/>
        </p:nvPicPr>
        <p:blipFill>
          <a:blip r:embed="rId1"/>
          <a:stretch/>
        </p:blipFill>
        <p:spPr>
          <a:xfrm>
            <a:off x="285840" y="357120"/>
            <a:ext cx="87152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Мои документы\46.jpg"/>
          <p:cNvPicPr/>
          <p:nvPr/>
        </p:nvPicPr>
        <p:blipFill>
          <a:blip r:embed="rId1"/>
          <a:stretch/>
        </p:blipFill>
        <p:spPr>
          <a:xfrm>
            <a:off x="142920" y="428760"/>
            <a:ext cx="8786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-1116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9680" y="2071440"/>
            <a:ext cx="8286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3" descr="D:\Мои документы\47.jpg"/>
          <p:cNvPicPr/>
          <p:nvPr/>
        </p:nvPicPr>
        <p:blipFill>
          <a:blip r:embed="rId1"/>
          <a:stretch/>
        </p:blipFill>
        <p:spPr>
          <a:xfrm>
            <a:off x="214200" y="714240"/>
            <a:ext cx="4071960" cy="578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Мои документы\1.jpg"/>
          <p:cNvPicPr/>
          <p:nvPr/>
        </p:nvPicPr>
        <p:blipFill>
          <a:blip r:embed="rId2"/>
          <a:stretch/>
        </p:blipFill>
        <p:spPr>
          <a:xfrm>
            <a:off x="4429080" y="7858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борники документ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Мои документы\5.jpg"/>
          <p:cNvPicPr/>
          <p:nvPr/>
        </p:nvPicPr>
        <p:blipFill>
          <a:blip r:embed="rId1"/>
          <a:stretch/>
        </p:blipFill>
        <p:spPr>
          <a:xfrm>
            <a:off x="357120" y="1643040"/>
            <a:ext cx="3714840" cy="47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Мои документы\9.jpg"/>
          <p:cNvPicPr/>
          <p:nvPr/>
        </p:nvPicPr>
        <p:blipFill>
          <a:blip r:embed="rId2"/>
          <a:stretch/>
        </p:blipFill>
        <p:spPr>
          <a:xfrm>
            <a:off x="5072040" y="1643040"/>
            <a:ext cx="3571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Мои документы\14.jpg"/>
          <p:cNvPicPr/>
          <p:nvPr/>
        </p:nvPicPr>
        <p:blipFill>
          <a:blip r:embed="rId1"/>
          <a:stretch/>
        </p:blipFill>
        <p:spPr>
          <a:xfrm>
            <a:off x="1357200" y="214200"/>
            <a:ext cx="6715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Мои документы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Мои документы\2.jpg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Мои документы\36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Мои документы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Мои документы\7.jpg"/>
          <p:cNvPicPr/>
          <p:nvPr/>
        </p:nvPicPr>
        <p:blipFill>
          <a:blip r:embed="rId1"/>
          <a:stretch/>
        </p:blipFill>
        <p:spPr>
          <a:xfrm>
            <a:off x="380880" y="357120"/>
            <a:ext cx="8382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06:53:47Z</dcterms:created>
  <dc:creator>Дом</dc:creator>
  <dc:description/>
  <dc:language>en-US</dc:language>
  <cp:lastModifiedBy>ААА</cp:lastModifiedBy>
  <dcterms:modified xsi:type="dcterms:W3CDTF">2023-09-10T13:57:27Z</dcterms:modified>
  <cp:revision>13</cp:revision>
  <dc:subject/>
  <dc:title>Конвенция о правах ребёнка</dc:title>
</cp:coreProperties>
</file>