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2DEF-F184-40ED-8C92-7809A44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4C886-104E-4556-9EB5-377D3F56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5AF7F-A115-4F5B-9B04-15C5796A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C285D-85B6-469C-9BEA-E6CB9B5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54A2-0E90-41C7-9CE0-11ADD644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11EAC-803B-430D-BB4E-2247767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185D7-4772-43A6-943B-A99567C7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D015E-551B-4FBD-8EB2-B50D5B23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F0EDE-8372-4672-BCE8-37804B26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8E1E8-12E2-4EDC-98DC-D5181CEB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53D06-C82D-4DE9-91EF-1833279C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CF77-4B7E-4B29-8808-4BA5596F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9253B-8ED7-4DAE-B547-D7DBBBF3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B1297-2350-4220-85B0-4B2B2F68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51BB3-621F-420E-ADD4-FB0486FB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F10D7-B54D-4B30-A741-66F1E55A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F0136-444C-416F-9897-2547977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A7924-A6E1-4E6C-967A-E8760B89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31BBD-ADD1-440F-BE00-5CC5151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C6B33-ADF5-41FB-9EF7-E0490FCC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1AB5C-BD1C-4A29-8E49-505E6F0B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65746-BCB2-427F-9588-50A7CA7D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0750E-A095-4995-9667-58F10365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7A66E-C2AE-4ACD-ABA8-7BC9146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F5764-B229-4746-9DA1-0A56BD00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A4E88-3E2D-48E5-A8AE-8C7E49BC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4591A-5146-4EE3-8C30-6834C03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DADF-EF03-4C21-BEBA-BCB72039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91836-70C0-43E4-B5F0-F42FC96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7EE42-B683-4A85-BFB0-F89D15F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034-EB68-461E-AB9B-307B268C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6C707-FCD1-45E6-9580-1F4B1552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DE2BC-2016-43B3-B844-996359FD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37311-FA8D-4579-A8A6-2105F56F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2EF8-84DA-4551-9B54-93C745EA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2448B-5B37-4B31-B6B7-2BDC8E2B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B76D8-9D50-4CEB-8C64-DD21E8DB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566A9-FAF4-414A-95A6-37300435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8E93F-9AAE-4F74-B42E-254F9563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72C4D-0EBC-4B29-98BA-4B91FA8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C9D3A-5F12-475F-B395-7641EDB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A4B-1769-4504-8568-2137E8B4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64341-0F16-407F-9EDD-B6D0CED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7B6C0-818A-486B-BB7D-9FE05D3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7A877-E2BF-4AEA-936A-D8C8DEA3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C21ED-55C6-4AB9-99CA-A7C2A180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4EFC6-CD3B-4A64-B712-FA1FE021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331-708C-413D-AA55-D1E915C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7B7-402A-4C3C-84FA-E35B4FEE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3E9-DC79-4195-8A6C-3B2C29A7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EC2-8D79-4119-90BD-FB2D2B85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5F7-47AE-4970-8660-5D731D0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67D-0CC6-4EC2-AFF9-2A2D62A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600-A710-41CD-BF78-C240659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909-DBED-411B-879A-02BFA868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29F-633E-437D-9A20-75B64002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145-E95C-4728-848C-6DA37F25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155-041F-4B4A-92C3-C255F557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7ADE-5562-4855-B72D-9E7691B2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CA1F-BBB0-40C4-8351-39DAF444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2D51-7BDE-4073-8C5F-A28EA2C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49B2-1559-465E-A802-D1F520E2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1B30-89E8-48E1-B58E-76284B6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8A17-7E2A-47B6-B4BC-1FAE8EC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94C5-FBDB-46AD-B153-1291AD3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AE83-DA32-4B5E-9B78-43C9D2BE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5316-AF05-4072-BE3F-B35F945F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6AC2-B232-47F3-A42D-062F3DBD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73AF-E50F-40E0-91E1-3F487AAE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DD30-044A-40B4-94B8-FF92DB90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FDFB-05A8-4A99-861B-4C09BAFD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729F-2DE4-4E4A-9A5E-9D3D53F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3D02-9E12-4E32-86B6-A7C43050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1C03-9CB7-4EBA-B0DE-AFDC3FCC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8E3E-3DAA-4D30-B31B-7D77E24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F179E-289F-4AAB-96A7-B018945E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1BF0-92C7-42C4-B4D0-F9B0CE1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675C-7D53-4B76-B167-C0A9F866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1342-9D2D-4D3D-B60F-9D3BFBE3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5B59-F86F-4211-913B-69B8A856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7CF9-5C2C-4D55-A508-21D0457A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995B-CB07-4BEB-A58D-33B13A04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02D0-AEC5-4871-89B2-F4B5942D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E99A-FDC1-46E4-BF3F-C29E8E3D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E74C-9E95-4C10-95FD-F59012F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348F-222B-4C0D-9BD9-72A6252E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31D2-8F00-40F3-B2A5-7C8578A5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4B02-5559-4799-9EFC-64D99E41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193F-195E-4522-8EEB-91EF43C5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9450-8CB0-490F-8D32-1D380C2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D9A3-7A00-42FE-ACF0-7B72C464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B192-5D6B-4B56-B588-7835366C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A6F6-F152-4114-85A9-BF3784E6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6948-F5CF-4F79-8924-32D6A4B0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4912B-EE2F-4D07-AED1-8A6DD2E6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44F3C-C19E-4AFC-92C9-B0BA6768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25FC-B4F6-4A13-87FC-8C2B6147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4D6E2-21A0-4840-8B64-640EBAF0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C06B-65DA-48C4-9DC4-9ADBA625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63CD-5996-450C-9EEA-11B6999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30653-C7F4-4F60-B01A-042F1C5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B081-5359-480A-886C-5E0774B9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1132-5AEB-4F65-B361-712D2E6F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D057-9FD9-4759-A7CB-7DE2E6BF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3887-4B9E-41D9-B715-6BCF8296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918EF-20F0-4D7A-9F32-7FC7CB1C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EEF1-DDFD-499F-9E35-8F8001A9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3780-298C-4A61-B3B8-A6DFD2C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B56E1-84E6-4BD1-B270-F56C41DE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38D2A-4E6E-4578-A065-BB8253B0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008F1-7B22-463A-88B6-4388218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6D542-B589-499D-9445-59626A6C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44D50-55C1-4985-87BC-62017CD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8DE1-505B-42DF-B839-08571192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F6A69-1108-4C89-8DE4-C637E54C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A0104-D201-40BA-81D9-3B89C195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92DB8-29A1-4F55-AC65-5787A37C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76C0A-CB12-4B49-9D53-3D15A3BD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BF79-D95C-4FEF-B423-5EB8F74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FC26-6AB0-4828-9DD7-2911C5D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7B0E-9206-45CB-8B02-CC8645F0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44632-52DC-408C-B17D-4213493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8C4B1-F932-4DC5-AE03-64214E29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A30E3-BF1D-4C72-8EA7-FC5BE92B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9100-D160-406E-9BBF-D77F0F9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E7FE8-132A-4909-AAB5-AE57375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D9B3A-4290-44AC-932A-2EDC64F7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7B77-17ED-4FC6-A223-1B977CBF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81F4-FE85-49B0-8C9B-5776B289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EBAFD-F1D1-419B-9472-C73A0F6D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CFD3-CE1D-4495-ABA4-C6C33688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9670D-55F3-4DA9-8CD6-5DF8577F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EBEE-C1C5-40A7-B4DD-AE8028775D4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70FA-8FB6-445B-B0BD-E351FF7ECAA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4EFD-F9D3-4E44-9B32-C42BDB333EC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D3E-A0F6-47AE-853A-270F764436A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D498-6F72-4DA7-8E95-48BF46AA1AC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21A3-D4E8-4EEC-A2FB-A00F86E0A7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D126-B72C-4223-AE4E-6E70C369E3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4711-FF45-41FD-9758-A4C6C6960C6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24A9-6F24-459F-A97C-47B11F8C4AC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5732-84F3-4434-9920-3ADE130B9D9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CC29-B684-4BD0-9140-7AE45B563B3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hyperlink" Target="http://saratov-gorodok.ru/kak-vyazat-detskie-kombinezony-shema/" TargetMode="External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linda6035.ucoz.ru/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Группа 6"/>
          <p:cNvGrpSpPr/>
          <p:nvPr/>
        </p:nvGrpSpPr>
        <p:grpSpPr>
          <a:xfrm>
            <a:off x="1403280" y="1773360"/>
            <a:ext cx="7500960" cy="4535640"/>
            <a:chOff x="1403280" y="1773360"/>
            <a:chExt cx="7500960" cy="4535640"/>
          </a:xfrm>
        </p:grpSpPr>
        <p:pic>
          <p:nvPicPr>
            <p:cNvPr id="4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03280" y="1773360"/>
              <a:ext cx="7500960" cy="21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Прямоугольник 5"/>
            <p:cNvSpPr/>
            <p:nvPr/>
          </p:nvSpPr>
          <p:spPr>
            <a:xfrm>
              <a:off x="2394360" y="5940720"/>
              <a:ext cx="52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31марта  2023 го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Прямоугольник 6"/>
          <p:cNvGrpSpPr/>
          <p:nvPr/>
        </p:nvGrpSpPr>
        <p:grpSpPr>
          <a:xfrm>
            <a:off x="1627200" y="480960"/>
            <a:ext cx="6815160" cy="677880"/>
            <a:chOff x="1627200" y="480960"/>
            <a:chExt cx="6815160" cy="677880"/>
          </a:xfrm>
        </p:grpSpPr>
        <p:pic>
          <p:nvPicPr>
            <p:cNvPr id="47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627200" y="480960"/>
              <a:ext cx="6815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643040" y="500040"/>
              <a:ext cx="67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Муниципальное автономное общеобразовательное учреждение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«Средняя общеобразовательная школа № 64». г.Улан-Уд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Прямоугольник 7"/>
          <p:cNvSpPr/>
          <p:nvPr/>
        </p:nvSpPr>
        <p:spPr>
          <a:xfrm>
            <a:off x="3708360" y="4071960"/>
            <a:ext cx="51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Учитель-наставник Доржиева Туяна Буб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олодой педагог (наставляемый) Горяшина Ксения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1770120" y="418464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оответств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ебованиями САНПи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Рисунок 2" descr="istock_000004822639small.jpg"/>
          <p:cNvPicPr/>
          <p:nvPr/>
        </p:nvPicPr>
        <p:blipFill>
          <a:blip r:embed="rId1"/>
          <a:stretch/>
        </p:blipFill>
        <p:spPr>
          <a:xfrm>
            <a:off x="6372360" y="405612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1"/>
          <p:cNvSpPr/>
          <p:nvPr/>
        </p:nvSpPr>
        <p:spPr>
          <a:xfrm>
            <a:off x="2482920" y="2840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аправления в рабо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3"/>
          <p:cNvSpPr/>
          <p:nvPr/>
        </p:nvSpPr>
        <p:spPr>
          <a:xfrm>
            <a:off x="1749600" y="1254240"/>
            <a:ext cx="64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рганизации учебного процесс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4"/>
          <p:cNvSpPr/>
          <p:nvPr/>
        </p:nvSpPr>
        <p:spPr>
          <a:xfrm>
            <a:off x="1749600" y="2130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ведению школьной документ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5"/>
          <p:cNvSpPr/>
          <p:nvPr/>
        </p:nvSpPr>
        <p:spPr>
          <a:xfrm>
            <a:off x="1770120" y="2971800"/>
            <a:ext cx="64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методы организации урочной и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ой деятельности, досуга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476360" y="1484280"/>
          <a:ext cx="7048440" cy="4556160"/>
        </p:xfrm>
        <a:graphic>
          <a:graphicData uri="http://schemas.openxmlformats.org/drawingml/2006/table">
            <a:tbl>
              <a:tblPr/>
              <a:tblGrid>
                <a:gridCol w="3524400"/>
                <a:gridCol w="3524040"/>
              </a:tblGrid>
              <a:tr h="3510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тавн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дой 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учение нормативных документов и локальных актов О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ие планированию и ведению школьной докум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ирование или совмест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ещение уроков молодог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ещение уроков наставни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2">
                  <a:txBody>
                    <a:bodyPr lIns="61560" rIns="615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посещенных ур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 grid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тогов контрольных работ, проверочных и итогов четвер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воспитатель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ричины и корректиров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7" name="TextBox 3"/>
          <p:cNvSpPr/>
          <p:nvPr/>
        </p:nvSpPr>
        <p:spPr>
          <a:xfrm>
            <a:off x="2210400" y="476280"/>
            <a:ext cx="58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Методическая помощь настав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"/>
          <p:cNvSpPr/>
          <p:nvPr/>
        </p:nvSpPr>
        <p:spPr>
          <a:xfrm>
            <a:off x="1638360" y="4959000"/>
            <a:ext cx="49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й этап – оцен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1774080" y="520560"/>
            <a:ext cx="35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1"/>
          <p:cNvSpPr/>
          <p:nvPr/>
        </p:nvSpPr>
        <p:spPr>
          <a:xfrm>
            <a:off x="1638360" y="19810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й этап – проектиров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3"/>
          <p:cNvSpPr/>
          <p:nvPr/>
        </p:nvSpPr>
        <p:spPr>
          <a:xfrm>
            <a:off x="1648800" y="357660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й этап – основ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5199120" y="2778120"/>
            <a:ext cx="35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адаптационны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5304240" y="420048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практически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6"/>
          <p:cNvSpPr/>
          <p:nvPr/>
        </p:nvSpPr>
        <p:spPr>
          <a:xfrm>
            <a:off x="5187240" y="5532480"/>
            <a:ext cx="33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аналитически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https://openmind.com.ua/wp-content/uploads/2015/02/team-with-gears.png"/>
          <p:cNvPicPr/>
          <p:nvPr/>
        </p:nvPicPr>
        <p:blipFill>
          <a:blip r:embed="rId1"/>
          <a:stretch/>
        </p:blipFill>
        <p:spPr>
          <a:xfrm>
            <a:off x="5724360" y="266760"/>
            <a:ext cx="2583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2271600" y="405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Calibri"/>
              </a:rPr>
              <a:t>«Обратная связь" наставни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Схема 2" descr=""/>
          <p:cNvPicPr/>
          <p:nvPr/>
        </p:nvPicPr>
        <p:blipFill>
          <a:blip r:embed="rId1"/>
          <a:stretch/>
        </p:blipFill>
        <p:spPr>
          <a:xfrm>
            <a:off x="1463760" y="1090440"/>
            <a:ext cx="6978600" cy="4932360"/>
          </a:xfrm>
          <a:prstGeom prst="rect">
            <a:avLst/>
          </a:prstGeom>
          <a:ln w="0">
            <a:noFill/>
          </a:ln>
        </p:spPr>
      </p:pic>
      <p:pic>
        <p:nvPicPr>
          <p:cNvPr id="518" name="Прямоугольник 1" descr=""/>
          <p:cNvPicPr/>
          <p:nvPr/>
        </p:nvPicPr>
        <p:blipFill>
          <a:blip r:embed="rId2"/>
          <a:stretch/>
        </p:blipFill>
        <p:spPr>
          <a:xfrm>
            <a:off x="1176480" y="-146160"/>
            <a:ext cx="1536480" cy="1341720"/>
          </a:xfrm>
          <a:prstGeom prst="rect">
            <a:avLst/>
          </a:prstGeom>
          <a:ln w="0">
            <a:noFill/>
          </a:ln>
        </p:spPr>
      </p:pic>
      <p:sp>
        <p:nvSpPr>
          <p:cNvPr id="519" name="Прямоугольник 3"/>
          <p:cNvSpPr/>
          <p:nvPr/>
        </p:nvSpPr>
        <p:spPr>
          <a:xfrm>
            <a:off x="1692360" y="113508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мосфера дове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сотрудни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Прямоугольник 5"/>
          <p:cNvSpPr/>
          <p:nvPr/>
        </p:nvSpPr>
        <p:spPr>
          <a:xfrm>
            <a:off x="2268360" y="227664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фессиональный р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Прямоугольник 6"/>
          <p:cNvSpPr/>
          <p:nvPr/>
        </p:nvSpPr>
        <p:spPr>
          <a:xfrm>
            <a:off x="2411280" y="3141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особ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творческий потенци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Прямоугольник 7"/>
          <p:cNvSpPr/>
          <p:nvPr/>
        </p:nvSpPr>
        <p:spPr>
          <a:xfrm>
            <a:off x="2771640" y="4149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достигнуто и что делать дал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3203640" y="53006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щущение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2" descr="obr_sv.jpg"/>
          <p:cNvPicPr/>
          <p:nvPr/>
        </p:nvPicPr>
        <p:blipFill>
          <a:blip r:embed="rId1"/>
          <a:stretch/>
        </p:blipFill>
        <p:spPr>
          <a:xfrm>
            <a:off x="5148360" y="4589640"/>
            <a:ext cx="2062080" cy="201132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1"/>
          <p:cNvSpPr/>
          <p:nvPr/>
        </p:nvSpPr>
        <p:spPr>
          <a:xfrm>
            <a:off x="1181520" y="404640"/>
            <a:ext cx="75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Cambria"/>
              </a:rPr>
              <a:t>Основные стадии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Прямоугольник 3"/>
          <p:cNvSpPr/>
          <p:nvPr/>
        </p:nvSpPr>
        <p:spPr>
          <a:xfrm>
            <a:off x="1171800" y="1341360"/>
            <a:ext cx="8057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Я расскажу, а ты послуша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Я покажу, а ты посмотр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ем вмест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й сам, а я подскаж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й сам и расскажи, что ты сделал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"/>
          <p:cNvSpPr/>
          <p:nvPr/>
        </p:nvSpPr>
        <p:spPr>
          <a:xfrm>
            <a:off x="1714680" y="358560"/>
            <a:ext cx="671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декс наставника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Схема 2" descr=""/>
          <p:cNvPicPr/>
          <p:nvPr/>
        </p:nvPicPr>
        <p:blipFill>
          <a:blip r:embed="rId1"/>
          <a:stretch/>
        </p:blipFill>
        <p:spPr>
          <a:xfrm>
            <a:off x="1487520" y="920880"/>
            <a:ext cx="7095960" cy="5608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3387600" y="4762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mbria"/>
              </a:rPr>
              <a:t>Памя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2"/>
          <p:cNvSpPr/>
          <p:nvPr/>
        </p:nvSpPr>
        <p:spPr>
          <a:xfrm>
            <a:off x="731520" y="981000"/>
            <a:ext cx="8611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бязанности классного руководите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рганизация работы с неуспевающи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чащими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нализ и самоанализ ур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рганизация работы с родител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тодические рекомендации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оведению родительского собр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неклассных мероприятий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2" descr="https://avatarko.ru/img/kartinka/5/chelovechek_4156.jpg"/>
          <p:cNvPicPr/>
          <p:nvPr/>
        </p:nvPicPr>
        <p:blipFill>
          <a:blip r:embed="rId1"/>
          <a:stretch/>
        </p:blipFill>
        <p:spPr>
          <a:xfrm>
            <a:off x="7380360" y="2349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Rectangle 1"/>
          <p:cNvGrpSpPr/>
          <p:nvPr/>
        </p:nvGrpSpPr>
        <p:grpSpPr>
          <a:xfrm>
            <a:off x="1268280" y="3419640"/>
            <a:ext cx="7504200" cy="1487160"/>
            <a:chOff x="1268280" y="3419640"/>
            <a:chExt cx="7504200" cy="1487160"/>
          </a:xfrm>
        </p:grpSpPr>
        <p:pic>
          <p:nvPicPr>
            <p:cNvPr id="533" name="Rectangle 1" descr=""/>
            <p:cNvPicPr/>
            <p:nvPr/>
          </p:nvPicPr>
          <p:blipFill>
            <a:blip r:embed="rId1"/>
            <a:stretch/>
          </p:blipFill>
          <p:spPr>
            <a:xfrm>
              <a:off x="1268280" y="3419640"/>
              <a:ext cx="750420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476360" y="3577680"/>
              <a:ext cx="717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затели качества обученности учащихся и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цент успеваемости находятся на базовом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е.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Рисунок 2" descr="analysis-clipart-8.jpg"/>
          <p:cNvPicPr/>
          <p:nvPr/>
        </p:nvPicPr>
        <p:blipFill>
          <a:blip r:embed="rId2"/>
          <a:stretch/>
        </p:blipFill>
        <p:spPr>
          <a:xfrm>
            <a:off x="4067280" y="5084640"/>
            <a:ext cx="1977840" cy="148284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оугольник 1"/>
          <p:cNvSpPr/>
          <p:nvPr/>
        </p:nvSpPr>
        <p:spPr>
          <a:xfrm>
            <a:off x="2025720" y="46980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Cambria"/>
                <a:ea typeface="Times New Roman"/>
              </a:rPr>
              <a:t>Процесс наставничества законч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Прямоугольник 3"/>
          <p:cNvGrpSpPr/>
          <p:nvPr/>
        </p:nvGrpSpPr>
        <p:grpSpPr>
          <a:xfrm>
            <a:off x="1206360" y="1127160"/>
            <a:ext cx="7516800" cy="1122480"/>
            <a:chOff x="1206360" y="1127160"/>
            <a:chExt cx="7516800" cy="1122480"/>
          </a:xfrm>
        </p:grpSpPr>
        <p:pic>
          <p:nvPicPr>
            <p:cNvPr id="53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206360" y="1127160"/>
              <a:ext cx="75168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409760" y="1284120"/>
              <a:ext cx="719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ие занятий стало привычным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не вызывает чувства страха, неуверенност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Прямоугольник 4"/>
          <p:cNvGrpSpPr/>
          <p:nvPr/>
        </p:nvGrpSpPr>
        <p:grpSpPr>
          <a:xfrm>
            <a:off x="1268280" y="2262240"/>
            <a:ext cx="7504200" cy="1120680"/>
            <a:chOff x="1268280" y="2262240"/>
            <a:chExt cx="7504200" cy="1120680"/>
          </a:xfrm>
        </p:grpSpPr>
        <p:pic>
          <p:nvPicPr>
            <p:cNvPr id="541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268280" y="2262240"/>
              <a:ext cx="75042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1476360" y="2421000"/>
              <a:ext cx="717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ладел знаниями и практическими навыками в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 </a:t>
              </a:r>
              <a:r>
                <a:rPr b="0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  <a:hlinkClick r:id="rId5"/>
                </a:rPr>
                <a:t>учебной и внеурочной деятель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ll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2" descr="4_95.jpg"/>
          <p:cNvPicPr/>
          <p:nvPr/>
        </p:nvPicPr>
        <p:blipFill>
          <a:blip r:embed="rId1"/>
          <a:stretch/>
        </p:blipFill>
        <p:spPr>
          <a:xfrm>
            <a:off x="1428840" y="357120"/>
            <a:ext cx="1022400" cy="12002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2450880" y="438120"/>
            <a:ext cx="62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0000"/>
                </a:solidFill>
                <a:uFillTx/>
                <a:latin typeface="Cambria"/>
                <a:ea typeface="Calibri"/>
              </a:rPr>
              <a:t>Каким должен быть наставник</a:t>
            </a:r>
            <a:r>
              <a:rPr b="1" lang="ru-RU" sz="2800" spc="-1" strike="noStrike">
                <a:solidFill>
                  <a:srgbClr val="8a0000"/>
                </a:solidFill>
                <a:latin typeface="Cambria"/>
                <a:ea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Прямоугольник 1"/>
          <p:cNvSpPr/>
          <p:nvPr/>
        </p:nvSpPr>
        <p:spPr>
          <a:xfrm>
            <a:off x="1258920" y="1309680"/>
            <a:ext cx="7489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адать навыками консультирования 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открытым и готовым к диал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адать терпением и спокойствием, умени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вствовать и понимать молодого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примером в отношениях с коллегами, 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мися и их род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ен развивать свой творческий потенциал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диться в педагогическом поиске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ствовать свои методы и формы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имать чужой опыт и делиться собственными разработ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1332000" y="692280"/>
            <a:ext cx="7497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 Доржиева Туяна Бубеевна 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высше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 19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й педагог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шина Кс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ьевна 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а БРПК в 2022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с отлич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ж  работы 1 год 6 м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5" descr="C:\Users\Надежда\Downloads\attachment (32).png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ytkrx5o7c.jpg"/>
          <p:cNvPicPr/>
          <p:nvPr/>
        </p:nvPicPr>
        <p:blipFill>
          <a:blip r:embed="rId1"/>
          <a:stretch/>
        </p:blipFill>
        <p:spPr>
          <a:xfrm>
            <a:off x="1403280" y="476280"/>
            <a:ext cx="2162160" cy="16225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"/>
          <p:cNvSpPr/>
          <p:nvPr/>
        </p:nvSpPr>
        <p:spPr>
          <a:xfrm>
            <a:off x="1390680" y="21945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е перспекти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ение от общ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молодым учител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яется стремление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овершенствовани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т доверия   администрации   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го коллектива школ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чему-то научиться у молодог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ьерный р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Прямоугольник 2"/>
          <p:cNvSpPr/>
          <p:nvPr/>
        </p:nvSpPr>
        <p:spPr>
          <a:xfrm>
            <a:off x="3851280" y="47628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Что  работа даё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учителю - наставнику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"/>
          <p:cNvSpPr/>
          <p:nvPr/>
        </p:nvSpPr>
        <p:spPr>
          <a:xfrm>
            <a:off x="1258920" y="4082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озможные ошибки в организации наставничества в современной шко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Прямоугольник 1"/>
          <p:cNvSpPr/>
          <p:nvPr/>
        </p:nvSpPr>
        <p:spPr>
          <a:xfrm>
            <a:off x="1476360" y="1430280"/>
            <a:ext cx="75596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несовмест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"обратной связ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рование своих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оценочного суж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выгорание наста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заинтересова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ьное выполнение обязан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рузка молодого учителя замечаниями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ями по широкому кругу вопр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1"/>
          <p:cNvSpPr/>
          <p:nvPr/>
        </p:nvSpPr>
        <p:spPr>
          <a:xfrm>
            <a:off x="1229760" y="1413000"/>
            <a:ext cx="75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0000"/>
                </a:solidFill>
                <a:latin typeface="Cambria"/>
              </a:rPr>
              <a:t>Практическая ча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4" descr="Картинки по запросу практика"/>
          <p:cNvPicPr/>
          <p:nvPr/>
        </p:nvPicPr>
        <p:blipFill>
          <a:blip r:embed="rId1"/>
          <a:stretch/>
        </p:blipFill>
        <p:spPr>
          <a:xfrm>
            <a:off x="2843280" y="2852640"/>
            <a:ext cx="37526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Прямоугольник 1" descr=""/>
          <p:cNvPicPr/>
          <p:nvPr/>
        </p:nvPicPr>
        <p:blipFill>
          <a:blip r:embed="rId1"/>
          <a:stretch/>
        </p:blipFill>
        <p:spPr>
          <a:xfrm>
            <a:off x="3024360" y="219240"/>
            <a:ext cx="38574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4" name=""/>
          <p:cNvGraphicFramePr/>
          <p:nvPr/>
        </p:nvGraphicFramePr>
        <p:xfrm>
          <a:off x="1476360" y="1700280"/>
          <a:ext cx="7199280" cy="4321080"/>
        </p:xfrm>
        <a:graphic>
          <a:graphicData uri="http://schemas.openxmlformats.org/drawingml/2006/table">
            <a:tbl>
              <a:tblPr/>
              <a:tblGrid>
                <a:gridCol w="2376360"/>
                <a:gridCol w="3383280"/>
                <a:gridCol w="1439640"/>
              </a:tblGrid>
              <a:tr h="92376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336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318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318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Прямоугольник 1" descr=""/>
          <p:cNvPicPr/>
          <p:nvPr/>
        </p:nvPicPr>
        <p:blipFill>
          <a:blip r:embed="rId1"/>
          <a:stretch/>
        </p:blipFill>
        <p:spPr>
          <a:xfrm>
            <a:off x="2736720" y="-60480"/>
            <a:ext cx="3859200" cy="11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1444680" y="2492280"/>
          <a:ext cx="6854760" cy="3486240"/>
        </p:xfrm>
        <a:graphic>
          <a:graphicData uri="http://schemas.openxmlformats.org/drawingml/2006/table">
            <a:tbl>
              <a:tblPr/>
              <a:tblGrid>
                <a:gridCol w="3568680"/>
                <a:gridCol w="3286080"/>
              </a:tblGrid>
              <a:tr h="120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41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41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557" name="Прямоугольник 3"/>
          <p:cNvSpPr/>
          <p:nvPr/>
        </p:nvSpPr>
        <p:spPr>
          <a:xfrm>
            <a:off x="1100160" y="10666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русского языка (2 кла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4"/>
          <p:cNvSpPr/>
          <p:nvPr/>
        </p:nvSpPr>
        <p:spPr>
          <a:xfrm>
            <a:off x="967680" y="1706400"/>
            <a:ext cx="81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ема урока: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«Корень слова. Однокоренные сло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476360" y="1557360"/>
          <a:ext cx="6624720" cy="3384360"/>
        </p:xfrm>
        <a:graphic>
          <a:graphicData uri="http://schemas.openxmlformats.org/drawingml/2006/table">
            <a:tbl>
              <a:tblPr/>
              <a:tblGrid>
                <a:gridCol w="4179960"/>
                <a:gridCol w="2444760"/>
              </a:tblGrid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 – называется одним сло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писание темы – в дву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57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ействия – в трё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ложение из четырех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дно слово, которое выражает на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560" name="Прямоугольник 3" descr=""/>
          <p:cNvPicPr/>
          <p:nvPr/>
        </p:nvPicPr>
        <p:blipFill>
          <a:blip r:embed="rId1"/>
          <a:stretch/>
        </p:blipFill>
        <p:spPr>
          <a:xfrm>
            <a:off x="2859120" y="219240"/>
            <a:ext cx="377964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914400" y="5661000"/>
            <a:ext cx="822960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сточник дизайна шаблона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Сайт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Monotype Corsiva"/>
                <a:hlinkClick r:id="rId1"/>
              </a:rPr>
              <a:t>http://linda6035.ucoz.ru/</a:t>
            </a: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Прямоугольник 1" descr=""/>
          <p:cNvPicPr/>
          <p:nvPr/>
        </p:nvPicPr>
        <p:blipFill>
          <a:blip r:embed="rId2"/>
          <a:stretch/>
        </p:blipFill>
        <p:spPr>
          <a:xfrm>
            <a:off x="1371600" y="2163600"/>
            <a:ext cx="730872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1835280" y="476280"/>
            <a:ext cx="70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a0000"/>
                </a:solidFill>
                <a:uFillTx/>
                <a:latin typeface="Times New Roman"/>
                <a:ea typeface="Times New Roman"/>
              </a:rPr>
              <a:t>Цель наставничества</a:t>
            </a:r>
            <a:r>
              <a:rPr b="0" lang="ru-RU" sz="4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Рисунок 3" descr="clipart_of_process.png"/>
          <p:cNvPicPr/>
          <p:nvPr/>
        </p:nvPicPr>
        <p:blipFill>
          <a:blip r:embed="rId1"/>
          <a:stretch/>
        </p:blipFill>
        <p:spPr>
          <a:xfrm>
            <a:off x="3276720" y="386568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2"/>
          <p:cNvSpPr/>
          <p:nvPr/>
        </p:nvSpPr>
        <p:spPr>
          <a:xfrm>
            <a:off x="1801800" y="1557360"/>
            <a:ext cx="57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фессиональном развити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1908000" y="1555920"/>
            <a:ext cx="6480360" cy="4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1763640" y="765000"/>
            <a:ext cx="612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ую задачу, как наставника, определила для себя следующим образом – помочь начинающему педагогу, стать настоящим учителем, передать накопленный опыт, обрести счастье в профессии, осознать всю важность и ответственность своей ми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Прямоугольник 7"/>
          <p:cNvSpPr/>
          <p:nvPr/>
        </p:nvSpPr>
        <p:spPr>
          <a:xfrm>
            <a:off x="1763640" y="278136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моя, как наставника – быть рядом, вовремя прийти на помощь, поддержать. И тогда полученное педагогическое образование обязательно воплотится в профессиональное умение, а программные знания помогут вместе с воспитанниками осваивать азы школьной нау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1403280" y="662400"/>
            <a:ext cx="7215120" cy="48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 интереса и творческого  отношения к  педагог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пособности  качественно выполнять профессиональные  обяза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 развитие  профессиональных  и личностных компетенц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воение традиций школы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корпоративной  куль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непрерывного образ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зание помощи в преодоление различных затруд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Рисунок 2" descr="stand-in-a-circle.jpg"/>
          <p:cNvPicPr/>
          <p:nvPr/>
        </p:nvPicPr>
        <p:blipFill>
          <a:blip r:embed="rId1"/>
          <a:stretch/>
        </p:blipFill>
        <p:spPr>
          <a:xfrm>
            <a:off x="5364000" y="5157720"/>
            <a:ext cx="2303640" cy="144000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"/>
          <p:cNvSpPr/>
          <p:nvPr/>
        </p:nvSpPr>
        <p:spPr>
          <a:xfrm>
            <a:off x="3151080" y="189000"/>
            <a:ext cx="40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аставничества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Картинки по запросу взаимодействие опытного и неопытного учителя"/>
          <p:cNvPicPr/>
          <p:nvPr/>
        </p:nvPicPr>
        <p:blipFill>
          <a:blip r:embed="rId1"/>
          <a:stretch/>
        </p:blipFill>
        <p:spPr>
          <a:xfrm>
            <a:off x="5721480" y="2130480"/>
            <a:ext cx="2660400" cy="2087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1436760" y="2421000"/>
            <a:ext cx="3039840" cy="1741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Картинки по запросу взаимодействие опытного и неопытного учителя"/>
          <p:cNvPicPr/>
          <p:nvPr/>
        </p:nvPicPr>
        <p:blipFill>
          <a:blip r:embed="rId3"/>
          <a:stretch/>
        </p:blipFill>
        <p:spPr>
          <a:xfrm>
            <a:off x="3492360" y="3927600"/>
            <a:ext cx="2416320" cy="241596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"/>
          <p:cNvSpPr/>
          <p:nvPr/>
        </p:nvSpPr>
        <p:spPr>
          <a:xfrm>
            <a:off x="1098720" y="352440"/>
            <a:ext cx="761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вусторон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роцесс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3" descr="Open-Ended-Questions-Give-You-The-Information-You-Need-To-Make-The-Sale-–-Part-3.jpg"/>
          <p:cNvPicPr/>
          <p:nvPr/>
        </p:nvPicPr>
        <p:blipFill>
          <a:blip r:embed="rId1"/>
          <a:stretch/>
        </p:blipFill>
        <p:spPr>
          <a:xfrm>
            <a:off x="6156360" y="3933720"/>
            <a:ext cx="2374920" cy="23749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"/>
          <p:cNvSpPr/>
          <p:nvPr/>
        </p:nvSpPr>
        <p:spPr>
          <a:xfrm>
            <a:off x="1643040" y="5022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ибольшие сложности у малоопытных учителей вызывают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714680" y="1312920"/>
            <a:ext cx="642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ния современного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циплины и организации порядка на уро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ы со школьной документаци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и работы с родителями обучающих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3" descr="factureren.jpg"/>
          <p:cNvPicPr/>
          <p:nvPr/>
        </p:nvPicPr>
        <p:blipFill>
          <a:blip r:embed="rId1"/>
          <a:stretch/>
        </p:blipFill>
        <p:spPr>
          <a:xfrm>
            <a:off x="6443640" y="4849920"/>
            <a:ext cx="2305080" cy="17269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1"/>
          <p:cNvSpPr/>
          <p:nvPr/>
        </p:nvSpPr>
        <p:spPr>
          <a:xfrm>
            <a:off x="1901520" y="47628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Регламентирующие докумен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2"/>
          <p:cNvSpPr/>
          <p:nvPr/>
        </p:nvSpPr>
        <p:spPr>
          <a:xfrm>
            <a:off x="1619280" y="13510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наставни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работано творческой групп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4"/>
          <p:cNvSpPr/>
          <p:nvPr/>
        </p:nvSpPr>
        <p:spPr>
          <a:xfrm>
            <a:off x="1657440" y="2652840"/>
            <a:ext cx="68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ректора школ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ставниче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"/>
          <p:cNvSpPr/>
          <p:nvPr/>
        </p:nvSpPr>
        <p:spPr>
          <a:xfrm>
            <a:off x="1657440" y="3865680"/>
            <a:ext cx="68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го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6"/>
          <p:cNvSpPr/>
          <p:nvPr/>
        </p:nvSpPr>
        <p:spPr>
          <a:xfrm>
            <a:off x="1979640" y="501336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 МО учителей начальной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>
            <a:off x="1317600" y="646200"/>
            <a:ext cx="7561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Принципы наставнич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оброво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ума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блюдение прав молодого учите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нфиденциа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ветстве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скреннее желание помочь в преодолении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ос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заимопоним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особность видеть л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олодом учите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3" descr="Безымянный.png"/>
          <p:cNvPicPr/>
          <p:nvPr/>
        </p:nvPicPr>
        <p:blipFill>
          <a:blip r:embed="rId1"/>
          <a:stretch/>
        </p:blipFill>
        <p:spPr>
          <a:xfrm>
            <a:off x="6588000" y="1197000"/>
            <a:ext cx="202572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1:55Z</dcterms:created>
  <dc:creator>Фокина Лидия Петровна</dc:creator>
  <dc:description/>
  <cp:keywords>Шаблон презентации</cp:keywords>
  <dc:language>en-US</dc:language>
  <cp:lastModifiedBy>Надежда</cp:lastModifiedBy>
  <dcterms:modified xsi:type="dcterms:W3CDTF">2023-04-02T11:11:16Z</dcterms:modified>
  <cp:revision>106</cp:revision>
  <dc:subject/>
  <dc:title>Тетрадь на спирали</dc:title>
</cp:coreProperties>
</file>