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35A27-A25D-4D1A-8A03-99414695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C0D46-F97B-45C9-BF49-E15AB36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118B7-401C-46EC-82D9-20EF24AD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441BB-EFA7-4902-B0B7-8675866D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A9B45-F6E5-490D-A384-C4D3115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60AA6-73FF-4048-B146-FF812AA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215D-7C55-40D5-8930-3EA2461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79051-F1BE-4352-B3F2-ACED9762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24205-AF33-46B5-8D47-15B5AD07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B9E94-E6C5-4EA6-BD97-7B678265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7F9B1-2C3F-4F0C-B8FE-07378063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F4E77-28EC-4985-B4B7-82D6D7BF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D05CF-7EAE-4C5C-BA53-3C1FFC4D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FE201-CDA2-4ADB-8BE8-48F9E1C9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E0842-D191-4701-86CD-F80D4BCB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D9DB8-9634-4260-B8C7-7184858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AD3ED-6113-4D02-A63D-DC51CAF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E537F-776D-4A3C-8D86-C29DE25F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DD4AB-F188-4A0D-8772-5847BF7D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2B822-C49A-42C9-9FE4-9D48B489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7E00F-2A9C-4013-9A49-E18FEE20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A9B78-3C10-4873-B432-87D2D81A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3DA7D-18E4-4F90-A8F8-1D1CAC02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DC91F-02CD-4691-ABE8-5C7D8DD3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CA840-58C7-4955-9C91-94EEC78E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4DA84-25F5-45A3-8495-4153580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7F7AB-8041-4473-AED7-09C06FA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48FDB-4584-4DD1-B4D1-BC0D8192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1FE29-640E-4870-BF1F-FEF870BD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F4829-CB44-4E39-9512-21AA4E47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BAE-8417-46A4-A6C9-B0BA13DD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0A4B8-4307-45E2-BF35-3E0EE332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D6F3E-1317-4514-B26C-F2CF8757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03DC2-B5D1-4FC9-9A94-84063ED0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960D3-F56F-48D6-B909-89410C0E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2E676-5E28-4B2D-B5EC-EE295DC1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7AD64-42A6-4FA2-AAFB-539A6AF0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60D2D-7033-4539-846F-02B0B86E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4CB6-FC87-4847-818F-D5D6DD5C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BEEDE-7B5E-4476-97BD-4F3255D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7B878-464B-49B4-8C85-5F670F5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5F2-D794-4DE5-AE24-9F0DFC17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DBCDF-A0E2-45C4-AFD9-21C7018C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2ABEB-D750-42DA-A834-BF28AE1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8F251-93D6-4290-BE62-E545BE9C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F02BA-32E4-4F35-9832-7E9531F2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81864-BF21-4DB1-ABEA-564BC0ED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672-7ABE-4A0B-856A-91A04855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C95-8EAA-4F93-8E95-D64093F1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3B6-48F0-4D4F-8B61-21FCF8AD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A85-2933-4E3D-8A04-B3A59A6B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59C-7F2D-4B4B-993C-20A5B160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2D4-F0A1-4599-AFF2-DC67D8A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61C-A19F-4771-B0D2-5527A05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47B-68C3-43B0-A956-EE24C6B7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3A4-0C9B-45F4-ACD6-872E40CC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05E-2E0D-4866-8052-E656EA9B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FDE0-C159-4BC9-B0EE-23FDBA34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15BB-78A2-4259-8AF3-4E43EB9B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94E-E679-43B4-A24C-C88212BB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BCA3-AF9E-4619-B360-8D892017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4472-8A20-4910-BD3D-DAC533FE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F413-E453-45B0-99DE-B822ED73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BD2C-9DBE-4E02-87C4-3CD3F25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6613-51E8-483F-ACB8-D537F90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B22A-EBAB-43FE-A2AB-7CC5E1EF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7299-8274-4B6E-AC60-72EB508E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2925-03B3-45E5-80A3-C0E7D341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049D-3ADB-48E0-A911-666D08DF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B8B9-D74A-42D8-9065-39EFAEE4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2AC3-8E12-4332-820C-6DFBBDD2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DA75-5E5F-472B-821D-4FDBA75C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9263-A346-48D8-B06F-5470AFDE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25F74-229F-4F90-A845-136090A0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9AAF-DF36-4E1E-9DA5-19B69AD2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2A77-02EE-430D-B447-8C073B92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6BFF-D6C1-43F4-9010-41E48A12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D3D6-08AA-451E-B3B2-23F0681D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5F28-7125-4FF0-9386-C649AC00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55B6-7C19-424F-8353-64C94A2B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D7F5-9F64-49C3-909F-B731443B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F3117-B70D-45C3-8FDA-EBE656D2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2251-DA56-4A48-9651-46381E4B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54B7C-5D4C-4931-AE65-66D1C96A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E87C0-9EB6-4D73-A512-D8FDDB48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BF57-B33C-4E88-9D49-C60E83AF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1F96-AD7F-438D-9885-71978767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EFEC-2A0D-42BE-8D7C-F2C5F4F4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20ADB-C676-4F51-B857-6C2C4B1F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8BAAC-1C59-464A-AA82-D7088D02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B692-99C4-4A64-A478-E5A56AD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7CF67-DA34-4D05-BBC0-B80D9B7D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9C8F-8BA5-47AD-8E06-39C02DB8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00B4B-E771-47BF-B110-2AE2716C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EE5F-7679-46C1-B2EA-B324CC5C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4B60-61DF-484B-9C1D-54CE37F1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595E0-3131-47D8-868E-60F68842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4DFC-8C02-43A1-AC9A-4B83ACB0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FF6F-B41C-41A6-BB36-120D21AC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69D3-8F53-42C9-9A59-E001FB7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8E679-12EB-447D-BE9D-DE939A7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B3F4D-08CF-4EDE-9AB1-F4BD489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8AC41-C0A7-4E66-B920-B06F5B9F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85CD9-27D6-4D82-9B0C-D9A350BE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46203-C5CF-4AF0-B404-3417C45A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D7480-44C6-4880-AFCE-0E6440C6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B760F-C2E2-4DCF-A2C6-25FED058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F27E7-B363-4CCD-A170-2FE8E3A2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805E2-219E-470D-8F15-95A26AA9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DC21-B059-4DEB-81E8-F254A17A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B3CF-9817-4974-A648-BCC71489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264AD-D244-4305-B729-01FB961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A6A4D-D8CD-487D-A122-C61D22C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F7071-C5F6-4797-82D5-1397EC7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86186-7BE7-4197-A5A7-AA5E8BDB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D10A1-4FE0-4422-B8EC-D8ED5B3E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94D54-774A-4240-BBF1-5DE153F7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FA7D5-E828-4CE4-8FC8-AA67391A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33101-25E5-40EC-97EE-89DC939F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CF234-A2E1-461E-8625-F05EFDF3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B54DC-F1EC-49E0-AD2D-477D850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879DF-5559-4593-8097-985E513F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43BA9-11F8-44E3-BC9F-07215432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376AA-C391-4EA4-BED0-9E4EE9E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9604E-F1D0-44E8-843B-F4ADE78B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7AFF1-40A4-468C-A17C-6420582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E3C6B-4B3E-4B12-9772-8F5FD1E0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14D84-47FC-4F40-8751-070E6559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61D3-44E5-45AF-9656-AA36B3AF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DE8F8-1701-41CC-806F-D2E5DDE0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86EC9-7132-4C1C-896C-5D3ACF8B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3C2E0-A527-4D7B-B526-131BA392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476E-5E4A-43EB-BFB8-7D1B851A980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6FC9-827E-402B-BD5D-C8F6590CDF2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A57-EF8B-415E-AFC1-367BAE6C4F8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1B30-BF51-4F8B-835E-903DA75F557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948B-6E8A-4345-A334-EA9E8302B68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8B4D-1CEC-4B58-906B-BE2823BFE79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B7BF-17AC-4C69-939E-6AF1466EF74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A1AC-F7FE-41EA-BF42-4938E768B78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D6ED-43C4-4207-9769-CD7185CE607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F7A-7DF0-4C6E-82A4-8CF01F5F02F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7E2C-5FF9-4FF4-851B-B3F013A03F9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hyperlink" Target="http://saratov-gorodok.ru/kak-vyazat-detskie-kombinezony-shema/" TargetMode="External"/><Relationship Id="rId6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linda6035.ucoz.ru/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Группа 6"/>
          <p:cNvGrpSpPr/>
          <p:nvPr/>
        </p:nvGrpSpPr>
        <p:grpSpPr>
          <a:xfrm>
            <a:off x="1403280" y="1773360"/>
            <a:ext cx="7500960" cy="4535640"/>
            <a:chOff x="1403280" y="1773360"/>
            <a:chExt cx="7500960" cy="4535640"/>
          </a:xfrm>
        </p:grpSpPr>
        <p:pic>
          <p:nvPicPr>
            <p:cNvPr id="46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403280" y="1773360"/>
              <a:ext cx="7500960" cy="21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Прямоугольник 5"/>
            <p:cNvSpPr/>
            <p:nvPr/>
          </p:nvSpPr>
          <p:spPr>
            <a:xfrm>
              <a:off x="2394360" y="5940720"/>
              <a:ext cx="52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</a:rPr>
                <a:t>31марта  2023 го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Прямоугольник 6"/>
          <p:cNvGrpSpPr/>
          <p:nvPr/>
        </p:nvGrpSpPr>
        <p:grpSpPr>
          <a:xfrm>
            <a:off x="1627200" y="480960"/>
            <a:ext cx="6815160" cy="677880"/>
            <a:chOff x="1627200" y="480960"/>
            <a:chExt cx="6815160" cy="677880"/>
          </a:xfrm>
        </p:grpSpPr>
        <p:pic>
          <p:nvPicPr>
            <p:cNvPr id="471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627200" y="480960"/>
              <a:ext cx="6815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643040" y="500040"/>
              <a:ext cx="678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</a:rPr>
                <a:t>Муниципальное автономное общеобразовательное учреждение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imes New Roman"/>
                </a:rPr>
                <a:t>«Средняя общеобразовательная школа № 64». г.Улан-Уд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Прямоугольник 7"/>
          <p:cNvSpPr/>
          <p:nvPr/>
        </p:nvSpPr>
        <p:spPr>
          <a:xfrm>
            <a:off x="3708360" y="4071960"/>
            <a:ext cx="51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Учитель-наставник Доржиева Туяна Буб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олодой педагог (наставляемый) Горяшина Ксения 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"/>
          <p:cNvSpPr/>
          <p:nvPr/>
        </p:nvSpPr>
        <p:spPr>
          <a:xfrm>
            <a:off x="1770120" y="418464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оответств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ребованиями САНПиН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Рисунок 2" descr="istock_000004822639small.jpg"/>
          <p:cNvPicPr/>
          <p:nvPr/>
        </p:nvPicPr>
        <p:blipFill>
          <a:blip r:embed="rId1"/>
          <a:stretch/>
        </p:blipFill>
        <p:spPr>
          <a:xfrm>
            <a:off x="6372360" y="405612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1"/>
          <p:cNvSpPr/>
          <p:nvPr/>
        </p:nvSpPr>
        <p:spPr>
          <a:xfrm>
            <a:off x="2482920" y="28404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аправления в рабо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3"/>
          <p:cNvSpPr/>
          <p:nvPr/>
        </p:nvSpPr>
        <p:spPr>
          <a:xfrm>
            <a:off x="1749600" y="1254240"/>
            <a:ext cx="64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организации учебного процесс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4"/>
          <p:cNvSpPr/>
          <p:nvPr/>
        </p:nvSpPr>
        <p:spPr>
          <a:xfrm>
            <a:off x="1749600" y="2130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ведению школьной документ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5"/>
          <p:cNvSpPr/>
          <p:nvPr/>
        </p:nvSpPr>
        <p:spPr>
          <a:xfrm>
            <a:off x="1770120" y="2971800"/>
            <a:ext cx="64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 методы организации урочной и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ой деятельности, досуга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476360" y="1484280"/>
          <a:ext cx="7048440" cy="4556160"/>
        </p:xfrm>
        <a:graphic>
          <a:graphicData uri="http://schemas.openxmlformats.org/drawingml/2006/table">
            <a:tbl>
              <a:tblPr/>
              <a:tblGrid>
                <a:gridCol w="3524400"/>
                <a:gridCol w="3524040"/>
              </a:tblGrid>
              <a:tr h="3510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тавн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одой 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2">
                  <a:txBody>
                    <a:bodyPr lIns="61560" rIns="615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учение нормативных документов и локальных актов О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ие планированию и ведению школьной докум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ирование или совместна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ещение уроков молодого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ещение уроков наставни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2">
                  <a:txBody>
                    <a:bodyPr lIns="61560" rIns="615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посещенных ур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 grid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тогов контрольных работ, проверочных и итогов четвер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воспитательн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ричины и корректиров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7" name="TextBox 3"/>
          <p:cNvSpPr/>
          <p:nvPr/>
        </p:nvSpPr>
        <p:spPr>
          <a:xfrm>
            <a:off x="2210400" y="476280"/>
            <a:ext cx="58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Методическая помощь настав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"/>
          <p:cNvSpPr/>
          <p:nvPr/>
        </p:nvSpPr>
        <p:spPr>
          <a:xfrm>
            <a:off x="1638360" y="4959000"/>
            <a:ext cx="49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й этап – оцен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1774080" y="520560"/>
            <a:ext cx="353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1"/>
          <p:cNvSpPr/>
          <p:nvPr/>
        </p:nvSpPr>
        <p:spPr>
          <a:xfrm>
            <a:off x="1638360" y="19810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й этап – проектиров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3"/>
          <p:cNvSpPr/>
          <p:nvPr/>
        </p:nvSpPr>
        <p:spPr>
          <a:xfrm>
            <a:off x="1648800" y="357660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й этап – основ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5199120" y="2778120"/>
            <a:ext cx="35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(адаптационный)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5304240" y="420048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(практический)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оугольник 6"/>
          <p:cNvSpPr/>
          <p:nvPr/>
        </p:nvSpPr>
        <p:spPr>
          <a:xfrm>
            <a:off x="5187240" y="5532480"/>
            <a:ext cx="33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(аналитический)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https://openmind.com.ua/wp-content/uploads/2015/02/team-with-gears.png"/>
          <p:cNvPicPr/>
          <p:nvPr/>
        </p:nvPicPr>
        <p:blipFill>
          <a:blip r:embed="rId1"/>
          <a:stretch/>
        </p:blipFill>
        <p:spPr>
          <a:xfrm>
            <a:off x="5724360" y="266760"/>
            <a:ext cx="2583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"/>
          <p:cNvSpPr/>
          <p:nvPr/>
        </p:nvSpPr>
        <p:spPr>
          <a:xfrm>
            <a:off x="2271600" y="405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Times New Roman"/>
                <a:ea typeface="Calibri"/>
              </a:rPr>
              <a:t>«Обратная связь" наставни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Схема 2" descr=""/>
          <p:cNvPicPr/>
          <p:nvPr/>
        </p:nvPicPr>
        <p:blipFill>
          <a:blip r:embed="rId1"/>
          <a:stretch/>
        </p:blipFill>
        <p:spPr>
          <a:xfrm>
            <a:off x="1463760" y="1090440"/>
            <a:ext cx="6978600" cy="4932360"/>
          </a:xfrm>
          <a:prstGeom prst="rect">
            <a:avLst/>
          </a:prstGeom>
          <a:ln w="0">
            <a:noFill/>
          </a:ln>
        </p:spPr>
      </p:pic>
      <p:pic>
        <p:nvPicPr>
          <p:cNvPr id="518" name="Прямоугольник 1" descr=""/>
          <p:cNvPicPr/>
          <p:nvPr/>
        </p:nvPicPr>
        <p:blipFill>
          <a:blip r:embed="rId2"/>
          <a:stretch/>
        </p:blipFill>
        <p:spPr>
          <a:xfrm>
            <a:off x="1176480" y="-146160"/>
            <a:ext cx="1536480" cy="1341720"/>
          </a:xfrm>
          <a:prstGeom prst="rect">
            <a:avLst/>
          </a:prstGeom>
          <a:ln w="0">
            <a:noFill/>
          </a:ln>
        </p:spPr>
      </p:pic>
      <p:sp>
        <p:nvSpPr>
          <p:cNvPr id="519" name="Прямоугольник 3"/>
          <p:cNvSpPr/>
          <p:nvPr/>
        </p:nvSpPr>
        <p:spPr>
          <a:xfrm>
            <a:off x="1692360" y="113508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Атмосфера дове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сотрудни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Прямоугольник 5"/>
          <p:cNvSpPr/>
          <p:nvPr/>
        </p:nvSpPr>
        <p:spPr>
          <a:xfrm>
            <a:off x="2268360" y="227664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фессиональный р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Прямоугольник 6"/>
          <p:cNvSpPr/>
          <p:nvPr/>
        </p:nvSpPr>
        <p:spPr>
          <a:xfrm>
            <a:off x="2411280" y="3141720"/>
            <a:ext cx="44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особ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творческий потенци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Прямоугольник 7"/>
          <p:cNvSpPr/>
          <p:nvPr/>
        </p:nvSpPr>
        <p:spPr>
          <a:xfrm>
            <a:off x="2771640" y="4149720"/>
            <a:ext cx="44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 достигнуто и что делать даль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Прямоугольник 8"/>
          <p:cNvSpPr/>
          <p:nvPr/>
        </p:nvSpPr>
        <p:spPr>
          <a:xfrm>
            <a:off x="3203640" y="53006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щущение помощ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Рисунок 2" descr="obr_sv.jpg"/>
          <p:cNvPicPr/>
          <p:nvPr/>
        </p:nvPicPr>
        <p:blipFill>
          <a:blip r:embed="rId1"/>
          <a:stretch/>
        </p:blipFill>
        <p:spPr>
          <a:xfrm>
            <a:off x="5148360" y="4589640"/>
            <a:ext cx="2062080" cy="201132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1"/>
          <p:cNvSpPr/>
          <p:nvPr/>
        </p:nvSpPr>
        <p:spPr>
          <a:xfrm>
            <a:off x="1181520" y="404640"/>
            <a:ext cx="75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Cambria"/>
              </a:rPr>
              <a:t>Основные стадии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Прямоугольник 3"/>
          <p:cNvSpPr/>
          <p:nvPr/>
        </p:nvSpPr>
        <p:spPr>
          <a:xfrm>
            <a:off x="1171800" y="1341360"/>
            <a:ext cx="8057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Я расскажу, а ты послуша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Я покажу, а ты посмотр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делаем вмест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делай сам, а я подскаж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делай сам и расскажи, что ты сделал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"/>
          <p:cNvSpPr/>
          <p:nvPr/>
        </p:nvSpPr>
        <p:spPr>
          <a:xfrm>
            <a:off x="1714680" y="358560"/>
            <a:ext cx="671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декс наставника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Схема 2" descr=""/>
          <p:cNvPicPr/>
          <p:nvPr/>
        </p:nvPicPr>
        <p:blipFill>
          <a:blip r:embed="rId1"/>
          <a:stretch/>
        </p:blipFill>
        <p:spPr>
          <a:xfrm>
            <a:off x="1487520" y="920880"/>
            <a:ext cx="7095960" cy="5608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3387600" y="47628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Cambria"/>
              </a:rPr>
              <a:t>Памя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2"/>
          <p:cNvSpPr/>
          <p:nvPr/>
        </p:nvSpPr>
        <p:spPr>
          <a:xfrm>
            <a:off x="731520" y="981000"/>
            <a:ext cx="8611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бязанности классного руководите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рганизация работы с неуспевающи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чащими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нализ и самоанализ ур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рганизация работы с родител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тодические рекомендации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оведению родительского собр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неклассных мероприятий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Picture 2" descr="https://avatarko.ru/img/kartinka/5/chelovechek_4156.jpg"/>
          <p:cNvPicPr/>
          <p:nvPr/>
        </p:nvPicPr>
        <p:blipFill>
          <a:blip r:embed="rId1"/>
          <a:stretch/>
        </p:blipFill>
        <p:spPr>
          <a:xfrm>
            <a:off x="7380360" y="2349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Rectangle 1"/>
          <p:cNvGrpSpPr/>
          <p:nvPr/>
        </p:nvGrpSpPr>
        <p:grpSpPr>
          <a:xfrm>
            <a:off x="1268280" y="3419640"/>
            <a:ext cx="7504200" cy="1487160"/>
            <a:chOff x="1268280" y="3419640"/>
            <a:chExt cx="7504200" cy="1487160"/>
          </a:xfrm>
        </p:grpSpPr>
        <p:pic>
          <p:nvPicPr>
            <p:cNvPr id="533" name="Rectangle 1" descr=""/>
            <p:cNvPicPr/>
            <p:nvPr/>
          </p:nvPicPr>
          <p:blipFill>
            <a:blip r:embed="rId1"/>
            <a:stretch/>
          </p:blipFill>
          <p:spPr>
            <a:xfrm>
              <a:off x="1268280" y="3419640"/>
              <a:ext cx="750420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476360" y="3577680"/>
              <a:ext cx="717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казатели качества обученности учащихся и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цент успеваемости находятся на базовом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е.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Рисунок 2" descr="analysis-clipart-8.jpg"/>
          <p:cNvPicPr/>
          <p:nvPr/>
        </p:nvPicPr>
        <p:blipFill>
          <a:blip r:embed="rId2"/>
          <a:stretch/>
        </p:blipFill>
        <p:spPr>
          <a:xfrm>
            <a:off x="4067280" y="5084640"/>
            <a:ext cx="1977840" cy="148284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оугольник 1"/>
          <p:cNvSpPr/>
          <p:nvPr/>
        </p:nvSpPr>
        <p:spPr>
          <a:xfrm>
            <a:off x="2025720" y="46980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Cambria"/>
                <a:ea typeface="Times New Roman"/>
              </a:rPr>
              <a:t>Процесс наставничества законч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Прямоугольник 3"/>
          <p:cNvGrpSpPr/>
          <p:nvPr/>
        </p:nvGrpSpPr>
        <p:grpSpPr>
          <a:xfrm>
            <a:off x="1206360" y="1127160"/>
            <a:ext cx="7516800" cy="1122480"/>
            <a:chOff x="1206360" y="1127160"/>
            <a:chExt cx="7516800" cy="1122480"/>
          </a:xfrm>
        </p:grpSpPr>
        <p:pic>
          <p:nvPicPr>
            <p:cNvPr id="53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206360" y="1127160"/>
              <a:ext cx="75168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409760" y="1284120"/>
              <a:ext cx="719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ние занятий стало привычным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та не вызывает чувства страха, неуверенност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0" name="Прямоугольник 4"/>
          <p:cNvGrpSpPr/>
          <p:nvPr/>
        </p:nvGrpSpPr>
        <p:grpSpPr>
          <a:xfrm>
            <a:off x="1268280" y="2262240"/>
            <a:ext cx="7504200" cy="1120680"/>
            <a:chOff x="1268280" y="2262240"/>
            <a:chExt cx="7504200" cy="1120680"/>
          </a:xfrm>
        </p:grpSpPr>
        <p:pic>
          <p:nvPicPr>
            <p:cNvPr id="541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268280" y="2262240"/>
              <a:ext cx="75042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1476360" y="2421000"/>
              <a:ext cx="717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ладел знаниями и практическими навыками в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и </a:t>
              </a:r>
              <a:r>
                <a:rPr b="0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  <a:hlinkClick r:id="rId5"/>
                </a:rPr>
                <a:t>учебной и внеурочной деятель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ll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2" descr="4_95.jpg"/>
          <p:cNvPicPr/>
          <p:nvPr/>
        </p:nvPicPr>
        <p:blipFill>
          <a:blip r:embed="rId1"/>
          <a:stretch/>
        </p:blipFill>
        <p:spPr>
          <a:xfrm>
            <a:off x="1428840" y="357120"/>
            <a:ext cx="1022400" cy="120024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3"/>
          <p:cNvSpPr/>
          <p:nvPr/>
        </p:nvSpPr>
        <p:spPr>
          <a:xfrm>
            <a:off x="2450880" y="438120"/>
            <a:ext cx="62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a0000"/>
                </a:solidFill>
                <a:uFillTx/>
                <a:latin typeface="Cambria"/>
                <a:ea typeface="Calibri"/>
              </a:rPr>
              <a:t>Каким должен быть наставник</a:t>
            </a:r>
            <a:r>
              <a:rPr b="1" lang="ru-RU" sz="2800" spc="-1" strike="noStrike">
                <a:solidFill>
                  <a:srgbClr val="8a0000"/>
                </a:solidFill>
                <a:latin typeface="Cambria"/>
                <a:ea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Прямоугольник 1"/>
          <p:cNvSpPr/>
          <p:nvPr/>
        </p:nvSpPr>
        <p:spPr>
          <a:xfrm>
            <a:off x="1258920" y="1309680"/>
            <a:ext cx="7489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ладать навыками консультирования 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открытым и готовым к диал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ладать терпением и спокойствием, умение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увствовать и понимать молодого уч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примером в отношениях с коллегами, с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мися и их род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ен развивать свой творческий потенциал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диться в педагогическом поиске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ствовать свои методы и формы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имать чужой опыт и делиться собственными разработ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3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1332000" y="692280"/>
            <a:ext cx="7497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 Доржиева Туяна Бубеевна 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высшее образ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 19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й педагог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шина Кс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ьевна 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а БРПК в 2022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с отлич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ж  работы 1 год 6 м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5" descr="C:\Users\Надежда\Downloads\attachment (32).png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44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ytkrx5o7c.jpg"/>
          <p:cNvPicPr/>
          <p:nvPr/>
        </p:nvPicPr>
        <p:blipFill>
          <a:blip r:embed="rId1"/>
          <a:stretch/>
        </p:blipFill>
        <p:spPr>
          <a:xfrm>
            <a:off x="1403280" y="476280"/>
            <a:ext cx="2162160" cy="16225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"/>
          <p:cNvSpPr/>
          <p:nvPr/>
        </p:nvSpPr>
        <p:spPr>
          <a:xfrm>
            <a:off x="1390680" y="21945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е перспекти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овлетворение от общ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молодым учител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вляется стремление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овершенствовани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т доверия   администрации   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ого коллектива школ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чему-то научиться у молодого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ьерный р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Прямоугольник 2"/>
          <p:cNvSpPr/>
          <p:nvPr/>
        </p:nvSpPr>
        <p:spPr>
          <a:xfrm>
            <a:off x="3851280" y="47628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Что  работа даё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учителю - наставнику</a:t>
            </a:r>
            <a:r>
              <a:rPr b="0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"/>
          <p:cNvSpPr/>
          <p:nvPr/>
        </p:nvSpPr>
        <p:spPr>
          <a:xfrm>
            <a:off x="1258920" y="4082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Возможные ошибки в организации наставничества в современной шко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Прямоугольник 1"/>
          <p:cNvSpPr/>
          <p:nvPr/>
        </p:nvSpPr>
        <p:spPr>
          <a:xfrm>
            <a:off x="1476360" y="1430280"/>
            <a:ext cx="75596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несовмести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"обратной связ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рование своих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оценочного суж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выгорание настав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заинтересова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льное выполнение обязан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рузка молодого учителя замечаниями 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ями по широкому кругу вопро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1"/>
          <p:cNvSpPr/>
          <p:nvPr/>
        </p:nvSpPr>
        <p:spPr>
          <a:xfrm>
            <a:off x="1229760" y="1413000"/>
            <a:ext cx="75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0000"/>
                </a:solidFill>
                <a:latin typeface="Cambria"/>
              </a:rPr>
              <a:t>Практическая ча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4" descr="Картинки по запросу практика"/>
          <p:cNvPicPr/>
          <p:nvPr/>
        </p:nvPicPr>
        <p:blipFill>
          <a:blip r:embed="rId1"/>
          <a:stretch/>
        </p:blipFill>
        <p:spPr>
          <a:xfrm>
            <a:off x="2843280" y="2852640"/>
            <a:ext cx="375264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Прямоугольник 1" descr=""/>
          <p:cNvPicPr/>
          <p:nvPr/>
        </p:nvPicPr>
        <p:blipFill>
          <a:blip r:embed="rId1"/>
          <a:stretch/>
        </p:blipFill>
        <p:spPr>
          <a:xfrm>
            <a:off x="3024360" y="219240"/>
            <a:ext cx="385740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4" name=""/>
          <p:cNvGraphicFramePr/>
          <p:nvPr/>
        </p:nvGraphicFramePr>
        <p:xfrm>
          <a:off x="1476360" y="1700280"/>
          <a:ext cx="7199280" cy="4321080"/>
        </p:xfrm>
        <a:graphic>
          <a:graphicData uri="http://schemas.openxmlformats.org/drawingml/2006/table">
            <a:tbl>
              <a:tblPr/>
              <a:tblGrid>
                <a:gridCol w="2376360"/>
                <a:gridCol w="3383280"/>
                <a:gridCol w="1439640"/>
              </a:tblGrid>
              <a:tr h="92376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336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318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318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Прямоугольник 1" descr=""/>
          <p:cNvPicPr/>
          <p:nvPr/>
        </p:nvPicPr>
        <p:blipFill>
          <a:blip r:embed="rId1"/>
          <a:stretch/>
        </p:blipFill>
        <p:spPr>
          <a:xfrm>
            <a:off x="2736720" y="-60480"/>
            <a:ext cx="3859200" cy="111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1444680" y="2492280"/>
          <a:ext cx="6854760" cy="3486240"/>
        </p:xfrm>
        <a:graphic>
          <a:graphicData uri="http://schemas.openxmlformats.org/drawingml/2006/table">
            <a:tbl>
              <a:tblPr/>
              <a:tblGrid>
                <a:gridCol w="3568680"/>
                <a:gridCol w="3286080"/>
              </a:tblGrid>
              <a:tr h="120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41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предме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41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ос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557" name="Прямоугольник 3"/>
          <p:cNvSpPr/>
          <p:nvPr/>
        </p:nvSpPr>
        <p:spPr>
          <a:xfrm>
            <a:off x="1100160" y="10666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русского языка (2 кла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Прямоугольник 4"/>
          <p:cNvSpPr/>
          <p:nvPr/>
        </p:nvSpPr>
        <p:spPr>
          <a:xfrm>
            <a:off x="967680" y="1706400"/>
            <a:ext cx="81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ема урока: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«Корень слова. Однокоренные сло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476360" y="1557360"/>
          <a:ext cx="6624720" cy="3384360"/>
        </p:xfrm>
        <a:graphic>
          <a:graphicData uri="http://schemas.openxmlformats.org/drawingml/2006/table">
            <a:tbl>
              <a:tblPr/>
              <a:tblGrid>
                <a:gridCol w="4179960"/>
                <a:gridCol w="2444760"/>
              </a:tblGrid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 – называется одним сло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писание темы – в двух слов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57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ействия – в трёх слов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ложение из четырех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1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дно слово, которое выражает на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560" name="Прямоугольник 3" descr=""/>
          <p:cNvPicPr/>
          <p:nvPr/>
        </p:nvPicPr>
        <p:blipFill>
          <a:blip r:embed="rId1"/>
          <a:stretch/>
        </p:blipFill>
        <p:spPr>
          <a:xfrm>
            <a:off x="2859120" y="219240"/>
            <a:ext cx="377964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914400" y="5661000"/>
            <a:ext cx="822960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Источник дизайна шаблона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Сайт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Monotype Corsiva"/>
                <a:hlinkClick r:id="rId1"/>
              </a:rPr>
              <a:t>http://linda6035.ucoz.ru/</a:t>
            </a: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Прямоугольник 1" descr=""/>
          <p:cNvPicPr/>
          <p:nvPr/>
        </p:nvPicPr>
        <p:blipFill>
          <a:blip r:embed="rId2"/>
          <a:stretch/>
        </p:blipFill>
        <p:spPr>
          <a:xfrm>
            <a:off x="1371600" y="2163600"/>
            <a:ext cx="730872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1835280" y="476280"/>
            <a:ext cx="70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8a0000"/>
                </a:solidFill>
                <a:uFillTx/>
                <a:latin typeface="Times New Roman"/>
                <a:ea typeface="Times New Roman"/>
              </a:rPr>
              <a:t>Цель наставничества</a:t>
            </a:r>
            <a:r>
              <a:rPr b="0" lang="ru-RU" sz="4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Рисунок 3" descr="clipart_of_process.png"/>
          <p:cNvPicPr/>
          <p:nvPr/>
        </p:nvPicPr>
        <p:blipFill>
          <a:blip r:embed="rId1"/>
          <a:stretch/>
        </p:blipFill>
        <p:spPr>
          <a:xfrm>
            <a:off x="3276720" y="386568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2"/>
          <p:cNvSpPr/>
          <p:nvPr/>
        </p:nvSpPr>
        <p:spPr>
          <a:xfrm>
            <a:off x="1801800" y="1557360"/>
            <a:ext cx="57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фессиональном развити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1908000" y="1555920"/>
            <a:ext cx="6480360" cy="4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1763640" y="765000"/>
            <a:ext cx="6121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ую задачу, как наставника, определила для себя следующим образом – помочь начинающему педагогу, стать настоящим учителем, передать накопленный опыт, обрести счастье в профессии, осознать всю важность и ответственность своей мисс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Прямоугольник 7"/>
          <p:cNvSpPr/>
          <p:nvPr/>
        </p:nvSpPr>
        <p:spPr>
          <a:xfrm>
            <a:off x="1763640" y="278136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моя, как наставника – быть рядом, вовремя прийти на помощь, поддержать. И тогда полученное педагогическое образование обязательно воплотится в профессиональное умение, а программные знания помогут вместе с воспитанниками осваивать азы школьной нау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1403280" y="662400"/>
            <a:ext cx="7215120" cy="48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 интереса и творческого  отношения к  педагог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способности  качественно выполнять профессиональные  обяза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и развитие  профессиональных  и личностных компетенц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воение традиций школы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корпоративной  куль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непрерывного образ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азание помощи в преодоление различных затруд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Рисунок 2" descr="stand-in-a-circle.jpg"/>
          <p:cNvPicPr/>
          <p:nvPr/>
        </p:nvPicPr>
        <p:blipFill>
          <a:blip r:embed="rId1"/>
          <a:stretch/>
        </p:blipFill>
        <p:spPr>
          <a:xfrm>
            <a:off x="5364000" y="5157720"/>
            <a:ext cx="2303640" cy="144000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1"/>
          <p:cNvSpPr/>
          <p:nvPr/>
        </p:nvSpPr>
        <p:spPr>
          <a:xfrm>
            <a:off x="3151080" y="189000"/>
            <a:ext cx="40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наставничества</a:t>
            </a:r>
            <a:r>
              <a:rPr b="0" lang="ru-RU" sz="28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Картинки по запросу взаимодействие опытного и неопытного учителя"/>
          <p:cNvPicPr/>
          <p:nvPr/>
        </p:nvPicPr>
        <p:blipFill>
          <a:blip r:embed="rId1"/>
          <a:stretch/>
        </p:blipFill>
        <p:spPr>
          <a:xfrm>
            <a:off x="5721480" y="2130480"/>
            <a:ext cx="2660400" cy="2087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1436760" y="2421000"/>
            <a:ext cx="3039840" cy="17413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Картинки по запросу взаимодействие опытного и неопытного учителя"/>
          <p:cNvPicPr/>
          <p:nvPr/>
        </p:nvPicPr>
        <p:blipFill>
          <a:blip r:embed="rId3"/>
          <a:stretch/>
        </p:blipFill>
        <p:spPr>
          <a:xfrm>
            <a:off x="3492360" y="3927600"/>
            <a:ext cx="2416320" cy="241596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"/>
          <p:cNvSpPr/>
          <p:nvPr/>
        </p:nvSpPr>
        <p:spPr>
          <a:xfrm>
            <a:off x="1098720" y="352440"/>
            <a:ext cx="761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вусторон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процесс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3" descr="Open-Ended-Questions-Give-You-The-Information-You-Need-To-Make-The-Sale-–-Part-3.jpg"/>
          <p:cNvPicPr/>
          <p:nvPr/>
        </p:nvPicPr>
        <p:blipFill>
          <a:blip r:embed="rId1"/>
          <a:stretch/>
        </p:blipFill>
        <p:spPr>
          <a:xfrm>
            <a:off x="6156360" y="3933720"/>
            <a:ext cx="2374920" cy="23749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"/>
          <p:cNvSpPr/>
          <p:nvPr/>
        </p:nvSpPr>
        <p:spPr>
          <a:xfrm>
            <a:off x="1643040" y="5022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ибольшие сложности у малоопытных учителей вызывают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714680" y="1312920"/>
            <a:ext cx="6429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ния современного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циплины и организации порядка на уро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ы со школьной документаци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и работы с родителями обучающих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3" descr="factureren.jpg"/>
          <p:cNvPicPr/>
          <p:nvPr/>
        </p:nvPicPr>
        <p:blipFill>
          <a:blip r:embed="rId1"/>
          <a:stretch/>
        </p:blipFill>
        <p:spPr>
          <a:xfrm>
            <a:off x="6443640" y="4849920"/>
            <a:ext cx="2305080" cy="17269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1"/>
          <p:cNvSpPr/>
          <p:nvPr/>
        </p:nvSpPr>
        <p:spPr>
          <a:xfrm>
            <a:off x="1901520" y="476280"/>
            <a:ext cx="61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Регламентирующие докумен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2"/>
          <p:cNvSpPr/>
          <p:nvPr/>
        </p:nvSpPr>
        <p:spPr>
          <a:xfrm>
            <a:off x="1619280" y="13510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наставни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зработано творческой групп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4"/>
          <p:cNvSpPr/>
          <p:nvPr/>
        </p:nvSpPr>
        <p:spPr>
          <a:xfrm>
            <a:off x="1657440" y="2652840"/>
            <a:ext cx="68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ректора школ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ставниче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оугольник 5"/>
          <p:cNvSpPr/>
          <p:nvPr/>
        </p:nvSpPr>
        <p:spPr>
          <a:xfrm>
            <a:off x="1657440" y="3865680"/>
            <a:ext cx="68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го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6"/>
          <p:cNvSpPr/>
          <p:nvPr/>
        </p:nvSpPr>
        <p:spPr>
          <a:xfrm>
            <a:off x="1979640" y="501336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  МО учителей начальной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"/>
          <p:cNvSpPr/>
          <p:nvPr/>
        </p:nvSpPr>
        <p:spPr>
          <a:xfrm>
            <a:off x="1317600" y="646200"/>
            <a:ext cx="7561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Times New Roman"/>
                <a:ea typeface="Calibri"/>
              </a:rPr>
              <a:t>Принципы наставнич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оброво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гуман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блюдение прав молодого учител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онфиденциаль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ветствен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скреннее желание помочь в преодолении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нос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заимопоним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особность видеть л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олодом учите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3" descr="Безымянный.png"/>
          <p:cNvPicPr/>
          <p:nvPr/>
        </p:nvPicPr>
        <p:blipFill>
          <a:blip r:embed="rId1"/>
          <a:stretch/>
        </p:blipFill>
        <p:spPr>
          <a:xfrm>
            <a:off x="6588000" y="1197000"/>
            <a:ext cx="202572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7:01:55Z</dcterms:created>
  <dc:creator>Фокина Лидия Петровна</dc:creator>
  <dc:description/>
  <cp:keywords>Шаблон презентации</cp:keywords>
  <dc:language>en-US</dc:language>
  <cp:lastModifiedBy>Надежда</cp:lastModifiedBy>
  <dcterms:modified xsi:type="dcterms:W3CDTF">2023-04-02T11:11:16Z</dcterms:modified>
  <cp:revision>106</cp:revision>
  <dc:subject/>
  <dc:title>Тетрадь на спирали</dc:title>
</cp:coreProperties>
</file>