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6F24-C65D-436D-9A82-DC459FAB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C0AFF-18F9-4869-B7A0-320E5995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914E-9289-4DFF-AEF8-B4D8787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8973-4142-44DE-A9D9-3E2E6A3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7BA7F-7398-4F3E-91CB-8462F1E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D7403-4366-4903-B596-3766C18E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7083E-B7E5-4154-910C-54D4F0A8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4259-982C-4467-859F-2961F327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851B4-D40B-40AF-B3D2-F9308CC5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76388-4D7C-499D-88A0-7403FA95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8868F-C562-41D2-9A60-CE9345BD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160AE-9604-46A2-BE8C-3B5AA4E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45318-C204-49DB-9ABA-B826D5F0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45192-1178-4D2B-B422-F65ACB06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A9028-2391-4893-A5D4-59E0C6A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D309E-B7AD-46B5-8E75-EFAB75D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FE0DD-41D4-420D-A5BE-E250ADD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0782B-BB7E-4F44-B493-13175508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ABBB1-182F-4D6F-A30A-3CEC654B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70195-F322-478A-8027-ED2AF97A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62179-5F66-43D8-938C-89CC64BA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A269C-90BB-4D53-A71B-EE6A4C79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A8074-9AB5-43F0-9E3A-B1EE8073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2159B-BF4D-49DA-B7C5-FD8479F6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E6D5F-8359-4931-985A-22F668F1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1A97D-0AA3-430F-AFCE-906F9549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EF7CB-C252-4674-94B4-3C39E694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4AA2B-B526-4B62-A35C-16E6594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67159-3347-48D2-B215-C621524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8F132-A5F3-4556-A2F4-30EA6AB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03B-42E6-451A-B6CC-82454133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CBA5E-EE71-40AA-B277-6B811187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F37F2-646D-4E19-9012-848F1FE2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34D4C-084B-48DA-A4C9-4A4F6220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5BBE3-6C11-49FF-8065-6F85171F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442C5-D46F-41DC-ABB6-BABA615B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DE575-EB9A-4485-85E0-88525D9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48A3E-A355-4033-AE79-E65A333F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2CCC7-987B-4A20-914E-92DCC67D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5B8EE-4025-4FE9-9A01-B0820FED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BBA07-1651-485E-9523-2D06474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E7E-56A1-4E8A-BC51-A4C94389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5F43-B0CC-4E48-9377-FB6EB6E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A4342-9BFC-4C26-869B-5D597DC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E5E86-F0A9-4D48-A390-CC74729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D9FF5-D64E-4ADD-BE2D-3E18687D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1E950-637C-4928-AB31-0E773EFE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5BE-7778-4D60-A0BB-08DA3D68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2BC-6FF9-4CF3-A827-1BA970B8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ADE-8FE4-484B-B5EE-ABD311C0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10A-064A-4298-9AA0-D9A0224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DA0-F518-485E-807B-86A014F3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36F-C814-4134-8F87-7835BA3E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6D3-3408-4B1C-9935-923EA27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30F-EA06-4B3A-B863-F1BBEC0E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D45-43D7-4D0D-9722-8C41F873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5CF-C070-49EB-8F6B-EEFF5EA9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1046-11C2-4A78-A080-D4B0AE84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9046-93A7-4236-8E63-D3CCFBC9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93BB-6F1F-498C-9B1A-91E708D5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8D90-3124-4A73-B223-7639D16B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B79D-4766-4F11-B2B9-D6BB83FB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5400-42EC-494D-9325-B6601C2E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503A-7482-4AF4-B4AD-489D858F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3AF3-DCA5-4B7C-97B1-5321514B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8ABA-292B-4F72-B545-46D9391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A06B-F86E-43FF-9C60-BB20406A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9026-37D5-42DE-AEEE-C665C29E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7D2A-EEFF-4E86-9C8E-D84A919B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732E-8DF3-4BA4-85B0-BD1A8FAA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D8D8-8D27-4A08-9057-B3CB99D9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65E6-64CD-4B5B-80B3-C26EC22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DB72-E47A-4C56-82B8-BF461647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FB19-315D-4552-A56C-1F3B01E8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DC016-7E9E-4483-B925-F8294C7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C4F8-97CD-4FED-B0BB-3DA0212B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16E5-43EB-4425-A5F3-50AAF1BF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D9E20-C05A-4133-B38C-AAAE7DE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21DC-2023-4EAA-B0E0-6105CE01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2A3F-4266-453D-A221-FC810C6E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2195-9542-4655-B4BB-9D08F215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B694-4EA0-47AA-B17D-519D421F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7974-0A55-4871-95E7-43F30E8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28710-58BE-464D-8EA4-6C3D804E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702B-92CE-4767-A578-095961B1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9B08-C57D-439C-8056-B46A8137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A306-6578-498D-83B6-1D6450F6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FDE4-CC61-47D7-8299-F9682363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7858-EB96-42CA-B90F-6D31A594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B4B29-7546-4D68-827F-AB6DB632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AE17-4925-49CD-B5B6-408EC8AE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FA04-A6C9-4366-8D3B-AF488917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34E4-0224-4592-B846-8D3B0240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44FF-9F92-4236-814C-9E050DD4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8729C-7930-483F-BAC9-6D3DE60E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E019-DCA8-4664-B890-7C4D7A40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2D5B-8734-4EB4-97B4-F1E9455B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60A80-EAC4-4FED-9BAE-A71E10E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1A92A-B360-462B-8389-9ECA89E1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2AC99-8BF9-4B2D-8835-5F4B14BA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DE4D-C648-45B4-A4B8-8F07B1C1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80A6-BAC1-4BC0-839C-D76BA4D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305D-FEBF-4D44-9D32-928E55AA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5C8EA-C431-466D-BEAE-4A6A00BD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B558-F9C4-493D-9800-C791BC4B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728D-91F3-45E0-A5A2-44101C58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0793C-2345-49E6-B756-828BC989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DA145-ACC6-484C-8FCB-D05D84AA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BB773-FAFC-4F97-A2E5-CE1921CD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7125-EF8C-44D8-97C3-93429EB2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08822-19CA-450F-A35E-66FE9839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0AC47-C631-43FC-9DDA-819D887D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FB2FD-DA6A-4FDB-B18D-E9FEE4AD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A6AC2-B53A-4C8F-8FC1-D7E8157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C8E1F-CF50-4EA2-83A1-07E1754B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3E03B-5437-4FB0-AF80-E29D3C0B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C7CBD-F1B6-4EBF-9172-2AA77EF7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542BD-9BA9-4B92-9CC6-AF5DF715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BA06B-E1CB-4CA4-8960-FE107D7D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9B47-8962-4A0A-8596-5AE5722B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2DCF-53AF-4E19-8E69-77467606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5AD61-BBD4-48B7-BE1F-1F6E89D5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7C482-47C3-4BFC-B59B-5AE5943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CFC3A-087B-415A-AFA0-3DC6AA8F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BE6C-6893-4BB5-BA7D-C515AA9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1EAA-42F2-42AB-AEE8-5A1AB65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D1CFD-FD10-4599-B31E-F32D41D4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AC3D5-AC44-4397-A46F-05141F15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0DE4-3638-41A5-A69C-9078D509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2B404-D242-41D3-A224-72320F5D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4B456-9AA7-4275-95E8-30D5955E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B0C2B-E227-48F8-BCC2-22C1BA24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3251-EAD3-4293-ABCB-56CE49098BF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50CF-B0CD-4894-AAF0-66CAF5328CB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861-A23A-402D-89D6-0617EB5CB5B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6EC1-D66F-4314-8586-A4E51B95455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6E38-7043-4F24-8D74-FF3C64B36CA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906A-15F2-452B-9767-1034276BB17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66B2-4F5B-4CEE-8310-C46386F665F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A26-043E-404C-9B2E-30B1A54E492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96C-6D5D-4392-B3FE-B7B84993381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320F-310F-4DCB-8FDD-0CF05847D83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5DD6-59C6-4680-8EF7-58EB643634C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hyperlink" Target="http://saratov-gorodok.ru/kak-vyazat-detskie-kombinezony-shema/" TargetMode="External"/><Relationship Id="rId6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linda6035.ucoz.ru/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Группа 6"/>
          <p:cNvGrpSpPr/>
          <p:nvPr/>
        </p:nvGrpSpPr>
        <p:grpSpPr>
          <a:xfrm>
            <a:off x="1403280" y="1773360"/>
            <a:ext cx="7500960" cy="4535640"/>
            <a:chOff x="1403280" y="1773360"/>
            <a:chExt cx="7500960" cy="4535640"/>
          </a:xfrm>
        </p:grpSpPr>
        <p:pic>
          <p:nvPicPr>
            <p:cNvPr id="4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03280" y="1773360"/>
              <a:ext cx="7500960" cy="21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Прямоугольник 5"/>
            <p:cNvSpPr/>
            <p:nvPr/>
          </p:nvSpPr>
          <p:spPr>
            <a:xfrm>
              <a:off x="2394360" y="5940720"/>
              <a:ext cx="52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31марта  2023 го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Прямоугольник 6"/>
          <p:cNvGrpSpPr/>
          <p:nvPr/>
        </p:nvGrpSpPr>
        <p:grpSpPr>
          <a:xfrm>
            <a:off x="1627200" y="480960"/>
            <a:ext cx="6815160" cy="677880"/>
            <a:chOff x="1627200" y="480960"/>
            <a:chExt cx="6815160" cy="677880"/>
          </a:xfrm>
        </p:grpSpPr>
        <p:pic>
          <p:nvPicPr>
            <p:cNvPr id="471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627200" y="480960"/>
              <a:ext cx="6815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643040" y="500040"/>
              <a:ext cx="678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Муниципальное автономное общеобразовательное учреждение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«Средняя общеобразовательная школа № 64». г.Улан-Уд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Прямоугольник 7"/>
          <p:cNvSpPr/>
          <p:nvPr/>
        </p:nvSpPr>
        <p:spPr>
          <a:xfrm>
            <a:off x="3708360" y="4071960"/>
            <a:ext cx="51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Учитель-наставник Доржиева Туяна Буб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олодой педагог (наставляемый) Горяшина Ксения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1770120" y="418464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оответств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ебованиями САНПи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Рисунок 2" descr="istock_000004822639small.jpg"/>
          <p:cNvPicPr/>
          <p:nvPr/>
        </p:nvPicPr>
        <p:blipFill>
          <a:blip r:embed="rId1"/>
          <a:stretch/>
        </p:blipFill>
        <p:spPr>
          <a:xfrm>
            <a:off x="6372360" y="405612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1"/>
          <p:cNvSpPr/>
          <p:nvPr/>
        </p:nvSpPr>
        <p:spPr>
          <a:xfrm>
            <a:off x="2482920" y="28404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аправления в рабо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3"/>
          <p:cNvSpPr/>
          <p:nvPr/>
        </p:nvSpPr>
        <p:spPr>
          <a:xfrm>
            <a:off x="1749600" y="1254240"/>
            <a:ext cx="64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организации учебного процесс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4"/>
          <p:cNvSpPr/>
          <p:nvPr/>
        </p:nvSpPr>
        <p:spPr>
          <a:xfrm>
            <a:off x="1749600" y="2130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ведению школьной документ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5"/>
          <p:cNvSpPr/>
          <p:nvPr/>
        </p:nvSpPr>
        <p:spPr>
          <a:xfrm>
            <a:off x="1770120" y="2971800"/>
            <a:ext cx="64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методы организации урочной и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ой деятельности, досуга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476360" y="1484280"/>
          <a:ext cx="7048440" cy="4556160"/>
        </p:xfrm>
        <a:graphic>
          <a:graphicData uri="http://schemas.openxmlformats.org/drawingml/2006/table">
            <a:tbl>
              <a:tblPr/>
              <a:tblGrid>
                <a:gridCol w="3524400"/>
                <a:gridCol w="3524040"/>
              </a:tblGrid>
              <a:tr h="3510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тавн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дой 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2">
                  <a:txBody>
                    <a:bodyPr lIns="61560" rIns="615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учение нормативных документов и локальных актов О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ие планированию и ведению школьной докум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ирование или совместн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ещение уроков молодог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ещение уроков наставни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2">
                  <a:txBody>
                    <a:bodyPr lIns="61560" rIns="615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посещенных ур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 grid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тогов контрольных работ, проверочных и итогов четвер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воспитательн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ричины и корректиров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7" name="TextBox 3"/>
          <p:cNvSpPr/>
          <p:nvPr/>
        </p:nvSpPr>
        <p:spPr>
          <a:xfrm>
            <a:off x="2210400" y="476280"/>
            <a:ext cx="58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Методическая помощь настав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"/>
          <p:cNvSpPr/>
          <p:nvPr/>
        </p:nvSpPr>
        <p:spPr>
          <a:xfrm>
            <a:off x="1638360" y="4959000"/>
            <a:ext cx="49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й этап – оцен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1774080" y="520560"/>
            <a:ext cx="35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1"/>
          <p:cNvSpPr/>
          <p:nvPr/>
        </p:nvSpPr>
        <p:spPr>
          <a:xfrm>
            <a:off x="1638360" y="19810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й этап – проектиров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3"/>
          <p:cNvSpPr/>
          <p:nvPr/>
        </p:nvSpPr>
        <p:spPr>
          <a:xfrm>
            <a:off x="1648800" y="357660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й этап – основ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5199120" y="2778120"/>
            <a:ext cx="35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адаптационны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5304240" y="420048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практически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6"/>
          <p:cNvSpPr/>
          <p:nvPr/>
        </p:nvSpPr>
        <p:spPr>
          <a:xfrm>
            <a:off x="5187240" y="5532480"/>
            <a:ext cx="33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аналитически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https://openmind.com.ua/wp-content/uploads/2015/02/team-with-gears.png"/>
          <p:cNvPicPr/>
          <p:nvPr/>
        </p:nvPicPr>
        <p:blipFill>
          <a:blip r:embed="rId1"/>
          <a:stretch/>
        </p:blipFill>
        <p:spPr>
          <a:xfrm>
            <a:off x="5724360" y="266760"/>
            <a:ext cx="2583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2271600" y="405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Calibri"/>
              </a:rPr>
              <a:t>«Обратная связь" наставни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Схема 2" descr=""/>
          <p:cNvPicPr/>
          <p:nvPr/>
        </p:nvPicPr>
        <p:blipFill>
          <a:blip r:embed="rId1"/>
          <a:stretch/>
        </p:blipFill>
        <p:spPr>
          <a:xfrm>
            <a:off x="1463760" y="1090440"/>
            <a:ext cx="6978600" cy="4932360"/>
          </a:xfrm>
          <a:prstGeom prst="rect">
            <a:avLst/>
          </a:prstGeom>
          <a:ln w="0">
            <a:noFill/>
          </a:ln>
        </p:spPr>
      </p:pic>
      <p:pic>
        <p:nvPicPr>
          <p:cNvPr id="518" name="Прямоугольник 1" descr=""/>
          <p:cNvPicPr/>
          <p:nvPr/>
        </p:nvPicPr>
        <p:blipFill>
          <a:blip r:embed="rId2"/>
          <a:stretch/>
        </p:blipFill>
        <p:spPr>
          <a:xfrm>
            <a:off x="1176480" y="-146160"/>
            <a:ext cx="1536480" cy="1341720"/>
          </a:xfrm>
          <a:prstGeom prst="rect">
            <a:avLst/>
          </a:prstGeom>
          <a:ln w="0">
            <a:noFill/>
          </a:ln>
        </p:spPr>
      </p:pic>
      <p:sp>
        <p:nvSpPr>
          <p:cNvPr id="519" name="Прямоугольник 3"/>
          <p:cNvSpPr/>
          <p:nvPr/>
        </p:nvSpPr>
        <p:spPr>
          <a:xfrm>
            <a:off x="1692360" y="113508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тмосфера дове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сотрудни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Прямоугольник 5"/>
          <p:cNvSpPr/>
          <p:nvPr/>
        </p:nvSpPr>
        <p:spPr>
          <a:xfrm>
            <a:off x="2268360" y="227664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фессиональный р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Прямоугольник 6"/>
          <p:cNvSpPr/>
          <p:nvPr/>
        </p:nvSpPr>
        <p:spPr>
          <a:xfrm>
            <a:off x="2411280" y="314172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особ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творческий потенци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Прямоугольник 7"/>
          <p:cNvSpPr/>
          <p:nvPr/>
        </p:nvSpPr>
        <p:spPr>
          <a:xfrm>
            <a:off x="2771640" y="414972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 достигнуто и что делать даль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Прямоугольник 8"/>
          <p:cNvSpPr/>
          <p:nvPr/>
        </p:nvSpPr>
        <p:spPr>
          <a:xfrm>
            <a:off x="3203640" y="53006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щущение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Рисунок 2" descr="obr_sv.jpg"/>
          <p:cNvPicPr/>
          <p:nvPr/>
        </p:nvPicPr>
        <p:blipFill>
          <a:blip r:embed="rId1"/>
          <a:stretch/>
        </p:blipFill>
        <p:spPr>
          <a:xfrm>
            <a:off x="5148360" y="4589640"/>
            <a:ext cx="2062080" cy="201132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1"/>
          <p:cNvSpPr/>
          <p:nvPr/>
        </p:nvSpPr>
        <p:spPr>
          <a:xfrm>
            <a:off x="1181520" y="404640"/>
            <a:ext cx="75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Cambria"/>
              </a:rPr>
              <a:t>Основные стадии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Прямоугольник 3"/>
          <p:cNvSpPr/>
          <p:nvPr/>
        </p:nvSpPr>
        <p:spPr>
          <a:xfrm>
            <a:off x="1171800" y="1341360"/>
            <a:ext cx="8057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Я расскажу, а ты послуша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Я покажу, а ты посмотр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ем вмест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й сам, а я подскаж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й сам и расскажи, что ты сделал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"/>
          <p:cNvSpPr/>
          <p:nvPr/>
        </p:nvSpPr>
        <p:spPr>
          <a:xfrm>
            <a:off x="1714680" y="358560"/>
            <a:ext cx="671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декс наставника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Схема 2" descr=""/>
          <p:cNvPicPr/>
          <p:nvPr/>
        </p:nvPicPr>
        <p:blipFill>
          <a:blip r:embed="rId1"/>
          <a:stretch/>
        </p:blipFill>
        <p:spPr>
          <a:xfrm>
            <a:off x="1487520" y="920880"/>
            <a:ext cx="7095960" cy="5608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3387600" y="47628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mbria"/>
              </a:rPr>
              <a:t>Памя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2"/>
          <p:cNvSpPr/>
          <p:nvPr/>
        </p:nvSpPr>
        <p:spPr>
          <a:xfrm>
            <a:off x="731520" y="981000"/>
            <a:ext cx="8611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бязанности классного руководите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рганизация работы с неуспевающи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чащими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нализ и самоанализ ур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рганизация работы с родител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тодические рекомендации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оведению родительского собр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неклассных мероприятий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2" descr="https://avatarko.ru/img/kartinka/5/chelovechek_4156.jpg"/>
          <p:cNvPicPr/>
          <p:nvPr/>
        </p:nvPicPr>
        <p:blipFill>
          <a:blip r:embed="rId1"/>
          <a:stretch/>
        </p:blipFill>
        <p:spPr>
          <a:xfrm>
            <a:off x="7380360" y="2349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Rectangle 1"/>
          <p:cNvGrpSpPr/>
          <p:nvPr/>
        </p:nvGrpSpPr>
        <p:grpSpPr>
          <a:xfrm>
            <a:off x="1268280" y="3419640"/>
            <a:ext cx="7504200" cy="1487160"/>
            <a:chOff x="1268280" y="3419640"/>
            <a:chExt cx="7504200" cy="1487160"/>
          </a:xfrm>
        </p:grpSpPr>
        <p:pic>
          <p:nvPicPr>
            <p:cNvPr id="533" name="Rectangle 1" descr=""/>
            <p:cNvPicPr/>
            <p:nvPr/>
          </p:nvPicPr>
          <p:blipFill>
            <a:blip r:embed="rId1"/>
            <a:stretch/>
          </p:blipFill>
          <p:spPr>
            <a:xfrm>
              <a:off x="1268280" y="3419640"/>
              <a:ext cx="750420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476360" y="3577680"/>
              <a:ext cx="717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казатели качества обученности учащихся и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цент успеваемости находятся на базовом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е.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Рисунок 2" descr="analysis-clipart-8.jpg"/>
          <p:cNvPicPr/>
          <p:nvPr/>
        </p:nvPicPr>
        <p:blipFill>
          <a:blip r:embed="rId2"/>
          <a:stretch/>
        </p:blipFill>
        <p:spPr>
          <a:xfrm>
            <a:off x="4067280" y="5084640"/>
            <a:ext cx="1977840" cy="148284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оугольник 1"/>
          <p:cNvSpPr/>
          <p:nvPr/>
        </p:nvSpPr>
        <p:spPr>
          <a:xfrm>
            <a:off x="2025720" y="46980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Cambria"/>
                <a:ea typeface="Times New Roman"/>
              </a:rPr>
              <a:t>Процесс наставничества законч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Прямоугольник 3"/>
          <p:cNvGrpSpPr/>
          <p:nvPr/>
        </p:nvGrpSpPr>
        <p:grpSpPr>
          <a:xfrm>
            <a:off x="1206360" y="1127160"/>
            <a:ext cx="7516800" cy="1122480"/>
            <a:chOff x="1206360" y="1127160"/>
            <a:chExt cx="7516800" cy="1122480"/>
          </a:xfrm>
        </p:grpSpPr>
        <p:pic>
          <p:nvPicPr>
            <p:cNvPr id="53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206360" y="1127160"/>
              <a:ext cx="75168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409760" y="1284120"/>
              <a:ext cx="719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ие занятий стало привычным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 не вызывает чувства страха, неуверенност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Прямоугольник 4"/>
          <p:cNvGrpSpPr/>
          <p:nvPr/>
        </p:nvGrpSpPr>
        <p:grpSpPr>
          <a:xfrm>
            <a:off x="1268280" y="2262240"/>
            <a:ext cx="7504200" cy="1120680"/>
            <a:chOff x="1268280" y="2262240"/>
            <a:chExt cx="7504200" cy="1120680"/>
          </a:xfrm>
        </p:grpSpPr>
        <p:pic>
          <p:nvPicPr>
            <p:cNvPr id="541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268280" y="2262240"/>
              <a:ext cx="75042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1476360" y="2421000"/>
              <a:ext cx="717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ладел знаниями и практическими навыками в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и </a:t>
              </a:r>
              <a:r>
                <a:rPr b="0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  <a:hlinkClick r:id="rId5"/>
                </a:rPr>
                <a:t>учебной и внеурочной деятель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ll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2" descr="4_95.jpg"/>
          <p:cNvPicPr/>
          <p:nvPr/>
        </p:nvPicPr>
        <p:blipFill>
          <a:blip r:embed="rId1"/>
          <a:stretch/>
        </p:blipFill>
        <p:spPr>
          <a:xfrm>
            <a:off x="1428840" y="357120"/>
            <a:ext cx="1022400" cy="12002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3"/>
          <p:cNvSpPr/>
          <p:nvPr/>
        </p:nvSpPr>
        <p:spPr>
          <a:xfrm>
            <a:off x="2450880" y="438120"/>
            <a:ext cx="62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0000"/>
                </a:solidFill>
                <a:uFillTx/>
                <a:latin typeface="Cambria"/>
                <a:ea typeface="Calibri"/>
              </a:rPr>
              <a:t>Каким должен быть наставник</a:t>
            </a:r>
            <a:r>
              <a:rPr b="1" lang="ru-RU" sz="2800" spc="-1" strike="noStrike">
                <a:solidFill>
                  <a:srgbClr val="8a0000"/>
                </a:solidFill>
                <a:latin typeface="Cambria"/>
                <a:ea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Прямоугольник 1"/>
          <p:cNvSpPr/>
          <p:nvPr/>
        </p:nvSpPr>
        <p:spPr>
          <a:xfrm>
            <a:off x="1258920" y="1309680"/>
            <a:ext cx="7489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ладать навыками консультирования 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открытым и готовым к диал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ладать терпением и спокойствием, умени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увствовать и понимать молодого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примером в отношениях с коллегами, 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мися и их род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ен развивать свой творческий потенциал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диться в педагогическом поиске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ствовать свои методы и формы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имать чужой опыт и делиться собственными разработ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1332000" y="692280"/>
            <a:ext cx="7497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 Доржиева Туяна Бубеевна 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высше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 19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й педагог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шина Кс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ьевна 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а БРПК в 2022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с отлич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ж  работы 1 год 6 м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5" descr="C:\Users\Надежда\Downloads\attachment (32).png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ytkrx5o7c.jpg"/>
          <p:cNvPicPr/>
          <p:nvPr/>
        </p:nvPicPr>
        <p:blipFill>
          <a:blip r:embed="rId1"/>
          <a:stretch/>
        </p:blipFill>
        <p:spPr>
          <a:xfrm>
            <a:off x="1403280" y="476280"/>
            <a:ext cx="2162160" cy="16225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"/>
          <p:cNvSpPr/>
          <p:nvPr/>
        </p:nvSpPr>
        <p:spPr>
          <a:xfrm>
            <a:off x="1390680" y="21945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е перспекти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ение от общ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молодым учител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яется стремление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овершенствовани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т доверия   администрации   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го коллектива школ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чему-то научиться у молодог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ьерный р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Прямоугольник 2"/>
          <p:cNvSpPr/>
          <p:nvPr/>
        </p:nvSpPr>
        <p:spPr>
          <a:xfrm>
            <a:off x="3851280" y="47628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Что  работа даё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учителю - наставнику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"/>
          <p:cNvSpPr/>
          <p:nvPr/>
        </p:nvSpPr>
        <p:spPr>
          <a:xfrm>
            <a:off x="1258920" y="4082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озможные ошибки в организации наставничества в современной шко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Прямоугольник 1"/>
          <p:cNvSpPr/>
          <p:nvPr/>
        </p:nvSpPr>
        <p:spPr>
          <a:xfrm>
            <a:off x="1476360" y="1430280"/>
            <a:ext cx="75596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несовмести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"обратной связ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рование своих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оценочного суж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выгорание наста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заинтересова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ьное выполнение обязан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рузка молодого учителя замечаниями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ями по широкому кругу вопр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1"/>
          <p:cNvSpPr/>
          <p:nvPr/>
        </p:nvSpPr>
        <p:spPr>
          <a:xfrm>
            <a:off x="1229760" y="1413000"/>
            <a:ext cx="75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0000"/>
                </a:solidFill>
                <a:latin typeface="Cambria"/>
              </a:rPr>
              <a:t>Практическая ча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4" descr="Картинки по запросу практика"/>
          <p:cNvPicPr/>
          <p:nvPr/>
        </p:nvPicPr>
        <p:blipFill>
          <a:blip r:embed="rId1"/>
          <a:stretch/>
        </p:blipFill>
        <p:spPr>
          <a:xfrm>
            <a:off x="2843280" y="2852640"/>
            <a:ext cx="375264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Прямоугольник 1" descr=""/>
          <p:cNvPicPr/>
          <p:nvPr/>
        </p:nvPicPr>
        <p:blipFill>
          <a:blip r:embed="rId1"/>
          <a:stretch/>
        </p:blipFill>
        <p:spPr>
          <a:xfrm>
            <a:off x="3024360" y="219240"/>
            <a:ext cx="385740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4" name=""/>
          <p:cNvGraphicFramePr/>
          <p:nvPr/>
        </p:nvGraphicFramePr>
        <p:xfrm>
          <a:off x="1476360" y="1700280"/>
          <a:ext cx="7199280" cy="4321080"/>
        </p:xfrm>
        <a:graphic>
          <a:graphicData uri="http://schemas.openxmlformats.org/drawingml/2006/table">
            <a:tbl>
              <a:tblPr/>
              <a:tblGrid>
                <a:gridCol w="2376360"/>
                <a:gridCol w="3383280"/>
                <a:gridCol w="1439640"/>
              </a:tblGrid>
              <a:tr h="92376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336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318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318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Прямоугольник 1" descr=""/>
          <p:cNvPicPr/>
          <p:nvPr/>
        </p:nvPicPr>
        <p:blipFill>
          <a:blip r:embed="rId1"/>
          <a:stretch/>
        </p:blipFill>
        <p:spPr>
          <a:xfrm>
            <a:off x="2736720" y="-60480"/>
            <a:ext cx="3859200" cy="111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1444680" y="2492280"/>
          <a:ext cx="6854760" cy="3486240"/>
        </p:xfrm>
        <a:graphic>
          <a:graphicData uri="http://schemas.openxmlformats.org/drawingml/2006/table">
            <a:tbl>
              <a:tblPr/>
              <a:tblGrid>
                <a:gridCol w="3568680"/>
                <a:gridCol w="3286080"/>
              </a:tblGrid>
              <a:tr h="120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41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предме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41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ос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557" name="Прямоугольник 3"/>
          <p:cNvSpPr/>
          <p:nvPr/>
        </p:nvSpPr>
        <p:spPr>
          <a:xfrm>
            <a:off x="1100160" y="10666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русского языка (2 кла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Прямоугольник 4"/>
          <p:cNvSpPr/>
          <p:nvPr/>
        </p:nvSpPr>
        <p:spPr>
          <a:xfrm>
            <a:off x="967680" y="1706400"/>
            <a:ext cx="81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ема урока: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«Корень слова. Однокоренные сло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476360" y="1557360"/>
          <a:ext cx="6624720" cy="3384360"/>
        </p:xfrm>
        <a:graphic>
          <a:graphicData uri="http://schemas.openxmlformats.org/drawingml/2006/table">
            <a:tbl>
              <a:tblPr/>
              <a:tblGrid>
                <a:gridCol w="4179960"/>
                <a:gridCol w="2444760"/>
              </a:tblGrid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 – называется одним сло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писание темы – в двух слов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57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ействия – в трёх слов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ложение из четырех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дно слово, которое выражает на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560" name="Прямоугольник 3" descr=""/>
          <p:cNvPicPr/>
          <p:nvPr/>
        </p:nvPicPr>
        <p:blipFill>
          <a:blip r:embed="rId1"/>
          <a:stretch/>
        </p:blipFill>
        <p:spPr>
          <a:xfrm>
            <a:off x="2859120" y="219240"/>
            <a:ext cx="377964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914400" y="5661000"/>
            <a:ext cx="822960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сточник дизайна шаблона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Сайт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Monotype Corsiva"/>
                <a:hlinkClick r:id="rId1"/>
              </a:rPr>
              <a:t>http://linda6035.ucoz.ru/</a:t>
            </a: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Прямоугольник 1" descr=""/>
          <p:cNvPicPr/>
          <p:nvPr/>
        </p:nvPicPr>
        <p:blipFill>
          <a:blip r:embed="rId2"/>
          <a:stretch/>
        </p:blipFill>
        <p:spPr>
          <a:xfrm>
            <a:off x="1371600" y="2163600"/>
            <a:ext cx="730872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1835280" y="476280"/>
            <a:ext cx="70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a0000"/>
                </a:solidFill>
                <a:uFillTx/>
                <a:latin typeface="Times New Roman"/>
                <a:ea typeface="Times New Roman"/>
              </a:rPr>
              <a:t>Цель наставничества</a:t>
            </a:r>
            <a:r>
              <a:rPr b="0" lang="ru-RU" sz="4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Рисунок 3" descr="clipart_of_process.png"/>
          <p:cNvPicPr/>
          <p:nvPr/>
        </p:nvPicPr>
        <p:blipFill>
          <a:blip r:embed="rId1"/>
          <a:stretch/>
        </p:blipFill>
        <p:spPr>
          <a:xfrm>
            <a:off x="3276720" y="386568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2"/>
          <p:cNvSpPr/>
          <p:nvPr/>
        </p:nvSpPr>
        <p:spPr>
          <a:xfrm>
            <a:off x="1801800" y="1557360"/>
            <a:ext cx="57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фессиональном развити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1908000" y="1555920"/>
            <a:ext cx="6480360" cy="4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1763640" y="765000"/>
            <a:ext cx="612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ую задачу, как наставника, определила для себя следующим образом – помочь начинающему педагогу, стать настоящим учителем, передать накопленный опыт, обрести счастье в профессии, осознать всю важность и ответственность своей мисс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Прямоугольник 7"/>
          <p:cNvSpPr/>
          <p:nvPr/>
        </p:nvSpPr>
        <p:spPr>
          <a:xfrm>
            <a:off x="1763640" y="278136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моя, как наставника – быть рядом, вовремя прийти на помощь, поддержать. И тогда полученное педагогическое образование обязательно воплотится в профессиональное умение, а программные знания помогут вместе с воспитанниками осваивать азы школьной нау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1403280" y="662400"/>
            <a:ext cx="7215120" cy="48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 интереса и творческого  отношения к  педагог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способности  качественно выполнять профессиональные  обяза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 развитие  профессиональных  и личностных компетенц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воение традиций школы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корпоративной  куль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непрерывного образ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зание помощи в преодоление различных затруд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Рисунок 2" descr="stand-in-a-circle.jpg"/>
          <p:cNvPicPr/>
          <p:nvPr/>
        </p:nvPicPr>
        <p:blipFill>
          <a:blip r:embed="rId1"/>
          <a:stretch/>
        </p:blipFill>
        <p:spPr>
          <a:xfrm>
            <a:off x="5364000" y="5157720"/>
            <a:ext cx="2303640" cy="144000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1"/>
          <p:cNvSpPr/>
          <p:nvPr/>
        </p:nvSpPr>
        <p:spPr>
          <a:xfrm>
            <a:off x="3151080" y="189000"/>
            <a:ext cx="40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аставничества</a:t>
            </a: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Картинки по запросу взаимодействие опытного и неопытного учителя"/>
          <p:cNvPicPr/>
          <p:nvPr/>
        </p:nvPicPr>
        <p:blipFill>
          <a:blip r:embed="rId1"/>
          <a:stretch/>
        </p:blipFill>
        <p:spPr>
          <a:xfrm>
            <a:off x="5721480" y="2130480"/>
            <a:ext cx="2660400" cy="2087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1436760" y="2421000"/>
            <a:ext cx="3039840" cy="17413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Картинки по запросу взаимодействие опытного и неопытного учителя"/>
          <p:cNvPicPr/>
          <p:nvPr/>
        </p:nvPicPr>
        <p:blipFill>
          <a:blip r:embed="rId3"/>
          <a:stretch/>
        </p:blipFill>
        <p:spPr>
          <a:xfrm>
            <a:off x="3492360" y="3927600"/>
            <a:ext cx="2416320" cy="241596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"/>
          <p:cNvSpPr/>
          <p:nvPr/>
        </p:nvSpPr>
        <p:spPr>
          <a:xfrm>
            <a:off x="1098720" y="352440"/>
            <a:ext cx="761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вусторон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роцесс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3" descr="Open-Ended-Questions-Give-You-The-Information-You-Need-To-Make-The-Sale-–-Part-3.jpg"/>
          <p:cNvPicPr/>
          <p:nvPr/>
        </p:nvPicPr>
        <p:blipFill>
          <a:blip r:embed="rId1"/>
          <a:stretch/>
        </p:blipFill>
        <p:spPr>
          <a:xfrm>
            <a:off x="6156360" y="3933720"/>
            <a:ext cx="2374920" cy="23749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"/>
          <p:cNvSpPr/>
          <p:nvPr/>
        </p:nvSpPr>
        <p:spPr>
          <a:xfrm>
            <a:off x="1643040" y="5022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ибольшие сложности у малоопытных учителей вызывают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714680" y="1312920"/>
            <a:ext cx="642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ния современного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циплины и организации порядка на уро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ы со школьной документаци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и работы с родителями обучающих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3" descr="factureren.jpg"/>
          <p:cNvPicPr/>
          <p:nvPr/>
        </p:nvPicPr>
        <p:blipFill>
          <a:blip r:embed="rId1"/>
          <a:stretch/>
        </p:blipFill>
        <p:spPr>
          <a:xfrm>
            <a:off x="6443640" y="4849920"/>
            <a:ext cx="2305080" cy="17269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1"/>
          <p:cNvSpPr/>
          <p:nvPr/>
        </p:nvSpPr>
        <p:spPr>
          <a:xfrm>
            <a:off x="1901520" y="47628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Регламентирующие докумен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2"/>
          <p:cNvSpPr/>
          <p:nvPr/>
        </p:nvSpPr>
        <p:spPr>
          <a:xfrm>
            <a:off x="1619280" y="13510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наставни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работано творческой групп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4"/>
          <p:cNvSpPr/>
          <p:nvPr/>
        </p:nvSpPr>
        <p:spPr>
          <a:xfrm>
            <a:off x="1657440" y="2652840"/>
            <a:ext cx="68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ректора школ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ставниче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"/>
          <p:cNvSpPr/>
          <p:nvPr/>
        </p:nvSpPr>
        <p:spPr>
          <a:xfrm>
            <a:off x="1657440" y="3865680"/>
            <a:ext cx="68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го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6"/>
          <p:cNvSpPr/>
          <p:nvPr/>
        </p:nvSpPr>
        <p:spPr>
          <a:xfrm>
            <a:off x="1979640" y="501336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  МО учителей начальной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>
            <a:off x="1317600" y="646200"/>
            <a:ext cx="7561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Принципы наставнич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оброво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уман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блюдение прав молодого учите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онфиденциа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ветствен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скреннее желание помочь в преодолении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нос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заимопоним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особность видеть л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олодом учите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3" descr="Безымянный.png"/>
          <p:cNvPicPr/>
          <p:nvPr/>
        </p:nvPicPr>
        <p:blipFill>
          <a:blip r:embed="rId1"/>
          <a:stretch/>
        </p:blipFill>
        <p:spPr>
          <a:xfrm>
            <a:off x="6588000" y="1197000"/>
            <a:ext cx="202572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7:01:55Z</dcterms:created>
  <dc:creator>Фокина Лидия Петровна</dc:creator>
  <dc:description/>
  <cp:keywords>Шаблон презентации</cp:keywords>
  <dc:language>en-US</dc:language>
  <cp:lastModifiedBy>Надежда</cp:lastModifiedBy>
  <dcterms:modified xsi:type="dcterms:W3CDTF">2023-04-02T11:11:16Z</dcterms:modified>
  <cp:revision>106</cp:revision>
  <dc:subject/>
  <dc:title>Тетрадь на спирали</dc:title>
</cp:coreProperties>
</file>