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18.gif" ContentType="image/gif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15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891-049F-4657-9540-9018A9DA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3F4-8BA8-4CA9-A176-377CFB8D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757-2297-4F27-B876-6826D685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32E-EB04-4924-9EDA-FF51C045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9E2-CFED-415F-9659-99D65E08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A0DA-11E5-472B-9843-95BCF276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FC41-0592-4D96-A79D-DAE92DE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B17D-D0C1-4F2C-A4C4-579E49D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207-93F2-4A22-9B45-3B9B05BC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7EB-C2A6-47DB-B203-59F6EB8F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26C-B915-4C41-80F2-968BD0E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911-6CDC-4217-81D1-91E12DB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2CB-5FBB-43AE-8A12-A9B6528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4D84-6B10-4DA4-8A35-9CF9F4A9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3B9-2B26-4052-B7B1-532C7E8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094-E867-4370-8457-C9A8A42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0B7-2379-4709-AD1F-06A6C970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642-75D4-4F3C-8E5D-35C16F8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386-1C1D-4A07-8F11-6137E75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1AB-C884-4106-8578-C75CF28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A9D-1C17-40CF-821B-7AA737A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D91-D5BF-457A-9A2A-BD005C4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C11-626E-434D-B2AC-C10FC07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035-AE9F-4A92-9693-97273C43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C49B-B449-46A0-9142-D6D05A7DC3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C0C-509A-48D5-A696-FCAB569D2C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11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3708360" y="76500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211640" y="386064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малышей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kf44ovig[1]"/>
          <p:cNvPicPr/>
          <p:nvPr/>
        </p:nvPicPr>
        <p:blipFill>
          <a:blip r:embed="rId1"/>
          <a:stretch/>
        </p:blipFill>
        <p:spPr>
          <a:xfrm>
            <a:off x="4859280" y="1700280"/>
            <a:ext cx="3745080" cy="3662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1403280" y="595008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omic Sans MS"/>
              </a:rPr>
              <a:t>А теперь разгадай кроссвор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6165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 страницу с план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1"/>
          <p:cNvPicPr/>
          <p:nvPr/>
        </p:nvPicPr>
        <p:blipFill>
          <a:blip r:embed="rId1"/>
          <a:stretch/>
        </p:blipFill>
        <p:spPr>
          <a:xfrm>
            <a:off x="4970520" y="1413000"/>
            <a:ext cx="3768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ан игры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2349360"/>
            <a:ext cx="18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659640" y="4437000"/>
            <a:ext cx="2484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4000" y="616572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4" action="ppaction://hlinksldjump"/>
              </a:rPr>
              <a:t>Дорожные зна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50920" y="364500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5" action="ppaction://hlinksldjump"/>
              </a:rPr>
              <a:t>Регулировщ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04000" y="5229360"/>
            <a:ext cx="23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99"/>
                </a:solidFill>
                <a:uFillTx/>
                <a:latin typeface="Comic Sans MS"/>
                <a:hlinkClick r:id="rId6" action="ppaction://hlinksldjump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724360" y="6021360"/>
            <a:ext cx="341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7" action="ppaction://hlinksldjump"/>
              </a:rPr>
              <a:t>Добрый сов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68360" y="530064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8" action="ppaction://hlinksldjump"/>
              </a:rPr>
              <a:t>Об авто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738600" y="5877000"/>
            <a:ext cx="4865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Organization Chart 34"/>
          <p:cNvGrpSpPr/>
          <p:nvPr/>
        </p:nvGrpSpPr>
        <p:grpSpPr>
          <a:xfrm>
            <a:off x="2050920" y="1958040"/>
            <a:ext cx="5879880" cy="1775880"/>
            <a:chOff x="2050920" y="1958040"/>
            <a:chExt cx="5879880" cy="1775880"/>
          </a:xfrm>
        </p:grpSpPr>
        <p:cxnSp>
          <p:nvCxnSpPr>
            <p:cNvPr id="184" name="_s1028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893560" y="1509840"/>
              <a:ext cx="228240" cy="203508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029"/>
            <p:cNvCxnSpPr>
              <a:stCxn id="188" idx="0"/>
              <a:endCxn id="186" idx="2"/>
            </p:cNvCxnSpPr>
            <p:nvPr/>
          </p:nvCxnSpPr>
          <p:spPr>
            <a:xfrm flipV="1">
              <a:off x="4990320" y="2413440"/>
              <a:ext cx="2520" cy="22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030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859920" y="1510920"/>
              <a:ext cx="228240" cy="2032920"/>
            </a:xfrm>
            <a:prstGeom prst="bentConnector3">
              <a:avLst>
                <a:gd name="adj1" fmla="val 496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1031"/>
            <p:cNvSpPr/>
            <p:nvPr/>
          </p:nvSpPr>
          <p:spPr>
            <a:xfrm>
              <a:off x="4004640" y="1958040"/>
              <a:ext cx="1972440" cy="455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1032"/>
            <p:cNvSpPr/>
            <p:nvPr/>
          </p:nvSpPr>
          <p:spPr>
            <a:xfrm>
              <a:off x="2050920" y="2641680"/>
              <a:ext cx="181476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_s1033"/>
            <p:cNvSpPr/>
            <p:nvPr/>
          </p:nvSpPr>
          <p:spPr>
            <a:xfrm>
              <a:off x="408312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6115680" y="2641680"/>
              <a:ext cx="1815120" cy="10922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42" descr="zfys1of_[1]"/>
          <p:cNvPicPr/>
          <p:nvPr/>
        </p:nvPicPr>
        <p:blipFill>
          <a:blip r:embed="rId2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5" descr="0wevhluf[1]"/>
          <p:cNvPicPr/>
          <p:nvPr/>
        </p:nvPicPr>
        <p:blipFill>
          <a:blip r:embed="rId3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j0211949"/>
          <p:cNvPicPr/>
          <p:nvPr/>
        </p:nvPicPr>
        <p:blipFill>
          <a:blip r:embed="rId4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cc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99"/>
                </a:solidFill>
                <a:uFillTx/>
                <a:latin typeface="Comic Sans MS"/>
                <a:hlinkClick r:id="rId3" action="ppaction://hlinksldjump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227640" y="6237360"/>
            <a:ext cx="273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99"/>
                </a:solidFill>
                <a:uFillTx/>
                <a:latin typeface="Comic Sans MS"/>
                <a:hlinkClick r:id="rId1" action="ppaction://hlinksldjump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23" descr="18019_1012380580"/>
          <p:cNvPicPr/>
          <p:nvPr/>
        </p:nvPicPr>
        <p:blipFill>
          <a:blip r:embed="rId2"/>
          <a:stretch/>
        </p:blipFill>
        <p:spPr>
          <a:xfrm>
            <a:off x="2700360" y="1484280"/>
            <a:ext cx="4248000" cy="23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5" descr="282"/>
          <p:cNvPicPr/>
          <p:nvPr/>
        </p:nvPicPr>
        <p:blipFill>
          <a:blip r:embed="rId3"/>
          <a:stretch/>
        </p:blipFill>
        <p:spPr>
          <a:xfrm>
            <a:off x="1523880" y="3933720"/>
            <a:ext cx="3335400" cy="2087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sobol2-s"/>
          <p:cNvPicPr/>
          <p:nvPr/>
        </p:nvPicPr>
        <p:blipFill>
          <a:blip r:embed="rId4"/>
          <a:stretch/>
        </p:blipFill>
        <p:spPr>
          <a:xfrm>
            <a:off x="5084640" y="3903840"/>
            <a:ext cx="31654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3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7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5219640" y="5229360"/>
            <a:ext cx="36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99"/>
                </a:solidFill>
                <a:uFillTx/>
                <a:latin typeface="Comic Sans MS"/>
                <a:hlinkClick r:id="rId2" action="ppaction://hlinksldjump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18" descr="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1692360" y="62164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50920" y="189000"/>
            <a:ext cx="52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39640" y="6308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187280" y="59500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Назад на страницу с планом 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011560" y="1268280"/>
            <a:ext cx="2945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Оксана Романовская</cp:lastModifiedBy>
  <dcterms:modified xsi:type="dcterms:W3CDTF">2019-05-04T18:40:40Z</dcterms:modified>
  <cp:revision>67</cp:revision>
  <dc:subject/>
  <dc:title>Слайд 1</dc:title>
</cp:coreProperties>
</file>