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8.gif" ContentType="image/gif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5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161-A4B1-4C46-A4A5-8556E79E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C4E-1C01-4073-894E-34A243E6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F11-A014-4B9E-89D7-F101EA02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732-3942-43CB-915B-B5061D5F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1D27-0BFF-4E3C-BC65-2DC5B774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A8B9-F6F6-48A3-8EA8-C32D556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39E-10FE-4AA1-918D-C93C61B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7E4C-4B24-43BA-97AB-DEB15296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4162-CF98-4F17-A896-E77A6AD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1DDC-7AF8-4A94-B5C5-8D3BE25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5814-BDBD-4C44-895B-5D8D15B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DA0-B6C5-4AD3-8696-85F45EC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0360-177B-46EC-BA2E-3A95080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7555-ADEB-440E-9C79-3B1B3A6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55C9-0474-400D-AFA8-6395E47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E553-26AB-48A0-BCA5-03D7EC40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892B-83D7-4E9A-BD0E-3BCBE52E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F62-41BE-48F7-BFC9-8CBCBFF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C25-5C55-4BC7-AA74-B914D4BD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2F4-DE58-4F3C-9EB6-AB7064C5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49C-D709-4E8D-8581-154F238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413-18D2-4515-BF47-E8C6EA2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37F-4F9A-4798-AD1A-B09A833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E8B-667F-4506-89D3-F85996C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5DC-902E-44E7-B874-6534A02DF6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C2C-12C2-4CED-B68D-86EB7C1F4E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1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211640" y="386064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малышей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234936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50920" y="364500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8" action="ppaction://hlinksldjump"/>
              </a:rPr>
              <a:t>Об авто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8:40:40Z</dcterms:modified>
  <cp:revision>67</cp:revision>
  <dc:subject/>
  <dc:title>Слайд 1</dc:title>
</cp:coreProperties>
</file>