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18.gif" ContentType="image/gif"/>
  <Override PartName="/ppt/media/image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15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4FC-1B2F-4C66-B4FB-C5888F46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D0C-906A-4D00-8D8A-E979D790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B6C-70FE-4A64-9ECE-F9AE74ED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D18-054D-433E-86B6-7D7189C1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F0B9-97F8-486F-8A2B-AF41F106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674C-DEAA-4F40-B57C-D4F9FFC2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0946-C01B-4717-ADE6-029B82AC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E6F2-1EE5-4D8A-B1E9-AC1940AC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70EB-E649-464C-9697-D8812F02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0C90-5496-4358-A0F5-5DC660B9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05A7-599C-42E6-AB50-4D3D06B3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F88-A8C2-4A9A-A9EA-848BD38D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CAA9-91E1-44F3-BA75-CEACDD81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7298-14A7-4425-8209-7B3AEA5C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8CEE-69ED-4F19-A316-1002FC31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3A29-1BB6-4BE9-B75E-5A6D1E5A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4545-A88A-42AE-9901-81AC86E4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F1E-6384-4D75-8113-CDE53806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932-4996-4071-AE63-044B65E1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6D9-45B4-4871-9D59-AC4C2427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2CA-7A9E-4109-B434-2B1A2107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D8C-3023-44F5-9C1A-111ADFD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906-F838-4DFD-85E5-75D0DAD0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FB3-44B4-4C64-B824-50FFA08C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240E-1BD8-4AE3-8B06-F32D1AE079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AE0A-93A0-4928-BB0E-CCEB84768B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3.xml"/><Relationship Id="rId7" Type="http://schemas.openxmlformats.org/officeDocument/2006/relationships/slide" Target="slide11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3708360" y="765000"/>
            <a:ext cx="50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А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з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б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у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к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р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д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211640" y="3860640"/>
            <a:ext cx="33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Познавательная игра для малышей по 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4508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15" descr="4"/>
          <p:cNvPicPr/>
          <p:nvPr/>
        </p:nvPicPr>
        <p:blipFill>
          <a:blip r:embed="rId1"/>
          <a:stretch/>
        </p:blipFill>
        <p:spPr>
          <a:xfrm>
            <a:off x="1042920" y="0"/>
            <a:ext cx="216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в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е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т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ф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слово составлено из двух частей- «свет» и «фор». «Свет» - это всем понятно. А «фор»? «Фор» произошло от греческого слова «форос», что означает «несущий» или «носитель».А вместе «светофор»- значит «носитель света». Он и несёт свет трёх разных цветов: красного, жёлтого и зелен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7" descr="kf44ovig[1]"/>
          <p:cNvPicPr/>
          <p:nvPr/>
        </p:nvPicPr>
        <p:blipFill>
          <a:blip r:embed="rId1"/>
          <a:stretch/>
        </p:blipFill>
        <p:spPr>
          <a:xfrm>
            <a:off x="4859280" y="1700280"/>
            <a:ext cx="3745080" cy="3662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1403280" y="595008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omic Sans MS"/>
              </a:rPr>
              <a:t>А теперь разгадай кроссвор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Добрый совет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збуку города помни всегда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б не случилась с тобою беда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042920" y="61657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На страницу с пла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8" descr="1"/>
          <p:cNvPicPr/>
          <p:nvPr/>
        </p:nvPicPr>
        <p:blipFill>
          <a:blip r:embed="rId1"/>
          <a:stretch/>
        </p:blipFill>
        <p:spPr>
          <a:xfrm>
            <a:off x="4970520" y="1413000"/>
            <a:ext cx="37688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План игры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2349360"/>
            <a:ext cx="18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Светоф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659640" y="4437000"/>
            <a:ext cx="2484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Автомоби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24000" y="616572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4" action="ppaction://hlinksldjump"/>
              </a:rPr>
              <a:t>Дорожные зна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50920" y="364500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5" action="ppaction://hlinksldjump"/>
              </a:rPr>
              <a:t>Регулировщ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04000" y="5229360"/>
            <a:ext cx="23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6" action="ppaction://hlinksldjump"/>
              </a:rPr>
              <a:t>Твор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724360" y="6021360"/>
            <a:ext cx="34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7" action="ppaction://hlinksldjump"/>
              </a:rPr>
              <a:t>Добрый сов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68360" y="530064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8" action="ppaction://hlinksldjump"/>
              </a:rPr>
              <a:t>Об авто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0"/>
          <p:cNvSpPr/>
          <p:nvPr/>
        </p:nvSpPr>
        <p:spPr>
          <a:xfrm>
            <a:off x="3276720" y="41904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738600" y="5877000"/>
            <a:ext cx="4865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Ответь на вопрос те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1763640" y="26028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Автомобили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Organization Chart 34"/>
          <p:cNvGrpSpPr/>
          <p:nvPr/>
        </p:nvGrpSpPr>
        <p:grpSpPr>
          <a:xfrm>
            <a:off x="2050920" y="1958040"/>
            <a:ext cx="5879880" cy="1775880"/>
            <a:chOff x="2050920" y="1958040"/>
            <a:chExt cx="5879880" cy="1775880"/>
          </a:xfrm>
        </p:grpSpPr>
        <p:cxnSp>
          <p:nvCxnSpPr>
            <p:cNvPr id="184" name="_s1028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893560" y="1509840"/>
              <a:ext cx="228240" cy="203508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1029"/>
            <p:cNvCxnSpPr>
              <a:stCxn id="188" idx="0"/>
              <a:endCxn id="186" idx="2"/>
            </p:cNvCxnSpPr>
            <p:nvPr/>
          </p:nvCxnSpPr>
          <p:spPr>
            <a:xfrm flipV="1">
              <a:off x="4990320" y="2413440"/>
              <a:ext cx="2520" cy="22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030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3859920" y="1510920"/>
              <a:ext cx="228240" cy="203292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1031"/>
            <p:cNvSpPr/>
            <p:nvPr/>
          </p:nvSpPr>
          <p:spPr>
            <a:xfrm>
              <a:off x="4004640" y="1958040"/>
              <a:ext cx="1972440" cy="455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Comic Sans MS"/>
                </a:rPr>
                <a:t>Автомобил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_s1032"/>
            <p:cNvSpPr/>
            <p:nvPr/>
          </p:nvSpPr>
          <p:spPr>
            <a:xfrm>
              <a:off x="2050920" y="2641680"/>
              <a:ext cx="181476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6600"/>
                  </a:solidFill>
                  <a:latin typeface="Comic Sans MS"/>
                </a:rPr>
                <a:t>Легковые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_s1033"/>
            <p:cNvSpPr/>
            <p:nvPr/>
          </p:nvSpPr>
          <p:spPr>
            <a:xfrm>
              <a:off x="408312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Грузов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1034"/>
            <p:cNvSpPr/>
            <p:nvPr/>
          </p:nvSpPr>
          <p:spPr>
            <a:xfrm>
              <a:off x="611568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Пожарные,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милицейские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корая помощь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пецмашины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1" name="Picture 42" descr="zfys1of_[1]"/>
          <p:cNvPicPr/>
          <p:nvPr/>
        </p:nvPicPr>
        <p:blipFill>
          <a:blip r:embed="rId2"/>
          <a:stretch/>
        </p:blipFill>
        <p:spPr>
          <a:xfrm>
            <a:off x="3995640" y="3933720"/>
            <a:ext cx="2303640" cy="163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5" descr="0wevhluf[1]"/>
          <p:cNvPicPr/>
          <p:nvPr/>
        </p:nvPicPr>
        <p:blipFill>
          <a:blip r:embed="rId3"/>
          <a:stretch/>
        </p:blipFill>
        <p:spPr>
          <a:xfrm>
            <a:off x="1835280" y="4076640"/>
            <a:ext cx="200952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j0211949"/>
          <p:cNvPicPr/>
          <p:nvPr/>
        </p:nvPicPr>
        <p:blipFill>
          <a:blip r:embed="rId4"/>
          <a:stretch/>
        </p:blipFill>
        <p:spPr>
          <a:xfrm>
            <a:off x="6443640" y="4076640"/>
            <a:ext cx="1900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Вопрос теста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cc"/>
                </a:solidFill>
                <a:latin typeface="Comic Sans MS"/>
              </a:rPr>
              <a:t>Какие автомобили могут ехать на красный свет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Папина и мам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Так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Пожарная, милицейская, скорая помощь, спецмаш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осмотри и ответь правильно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227640" y="6237360"/>
            <a:ext cx="273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Назад к вопро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23" descr="18019_1012380580"/>
          <p:cNvPicPr/>
          <p:nvPr/>
        </p:nvPicPr>
        <p:blipFill>
          <a:blip r:embed="rId2"/>
          <a:stretch/>
        </p:blipFill>
        <p:spPr>
          <a:xfrm>
            <a:off x="2700360" y="1484280"/>
            <a:ext cx="4248000" cy="237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5" descr="282"/>
          <p:cNvPicPr/>
          <p:nvPr/>
        </p:nvPicPr>
        <p:blipFill>
          <a:blip r:embed="rId3"/>
          <a:stretch/>
        </p:blipFill>
        <p:spPr>
          <a:xfrm>
            <a:off x="1523880" y="3933720"/>
            <a:ext cx="3335400" cy="2087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sobol2-s"/>
          <p:cNvPicPr/>
          <p:nvPr/>
        </p:nvPicPr>
        <p:blipFill>
          <a:blip r:embed="rId4"/>
          <a:stretch/>
        </p:blipFill>
        <p:spPr>
          <a:xfrm>
            <a:off x="5084640" y="3903840"/>
            <a:ext cx="31654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392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наки все мы знать долж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Чтобы, выехав на ры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Не остались дружно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без ног, и без ботин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 красном треугольни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Знаки осторожны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Они предупреждаю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 вниманью призываю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апрещают зна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Разное движение: обгоны, поворот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в красные кружоч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Обводит их нар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А ещё есть знаки- добрые друзь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Укажут направления вашего движен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Где поесть, заправиться, поспа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И как в деревню к бабушке попа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17" descr="7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648320" y="1413000"/>
            <a:ext cx="4038480" cy="136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1"/>
          <p:cNvSpPr/>
          <p:nvPr/>
        </p:nvSpPr>
        <p:spPr>
          <a:xfrm>
            <a:off x="5219640" y="5229360"/>
            <a:ext cx="360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Выполни зад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18" descr="8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648320" y="2565360"/>
            <a:ext cx="403848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Untitled-1 copy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4859280" y="3933720"/>
            <a:ext cx="3816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айди соответствие между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знаками и стиха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Круглый знак, а в нём- окошк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е спешите с горяч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А подумайте немножк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Что здесь- свалка кирпич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В треугольнике шагаю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Транспорт я предупреждаю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Скоро место переход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регите пеш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Только я для пешех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нак на месте пер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 голубом иду квадрат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Переходоуказа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eaivezvz[1]"/>
          <p:cNvPicPr/>
          <p:nvPr/>
        </p:nvPicPr>
        <p:blipFill>
          <a:blip r:embed="rId1"/>
          <a:stretch/>
        </p:blipFill>
        <p:spPr>
          <a:xfrm>
            <a:off x="5745240" y="175248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12"/>
          <p:cNvPicPr/>
          <p:nvPr/>
        </p:nvPicPr>
        <p:blipFill>
          <a:blip r:embed="rId2">
            <a:lum contrast="48000"/>
          </a:blip>
          <a:stretch/>
        </p:blipFill>
        <p:spPr>
          <a:xfrm rot="20484600">
            <a:off x="4003560" y="4206600"/>
            <a:ext cx="2286000" cy="2044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 rot="2204400">
            <a:off x="6710400" y="4460400"/>
            <a:ext cx="2719440" cy="2038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3"/>
          <p:cNvSpPr/>
          <p:nvPr/>
        </p:nvSpPr>
        <p:spPr>
          <a:xfrm>
            <a:off x="1692360" y="62164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292720" y="4437000"/>
            <a:ext cx="403848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Бывает же работ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Завидно от душ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Свисти, когда ох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И палочкой маш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250920" y="189000"/>
            <a:ext cx="525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Регулировщ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539640" y="6308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рочитай шут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Шутк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Бежать нельзя на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Сказал медведь еж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Я знаю, - буркнул ёж в отв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о очень я спеш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Куда же ёж спешишь ты та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А я спешу в больниц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Тогда беги, и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Тебе вполне сгоди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20" descr="Untitled-1 copy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948360" y="4941720"/>
            <a:ext cx="1800360" cy="1224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1"/>
          <p:cNvSpPr/>
          <p:nvPr/>
        </p:nvSpPr>
        <p:spPr>
          <a:xfrm>
            <a:off x="1187280" y="59500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23" descr="Untitled-1 cop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011560" y="1268280"/>
            <a:ext cx="2945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2:50:07Z</dcterms:created>
  <dc:creator>_</dc:creator>
  <dc:description/>
  <dc:language>en-US</dc:language>
  <cp:lastModifiedBy>Оксана Романовская</cp:lastModifiedBy>
  <dcterms:modified xsi:type="dcterms:W3CDTF">2019-05-04T18:40:40Z</dcterms:modified>
  <cp:revision>67</cp:revision>
  <dc:subject/>
  <dc:title>Слайд 1</dc:title>
</cp:coreProperties>
</file>