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7.jpeg" ContentType="image/jpeg"/>
  <Override PartName="/ppt/media/image4.wmf" ContentType="image/x-wmf"/>
  <Override PartName="/ppt/media/image27.wmf" ContentType="image/x-wmf"/>
  <Override PartName="/ppt/media/image8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gif" ContentType="image/gif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625-2E96-4210-9C13-5D92A4D2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483-E8CB-49C8-A858-054C9172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18C-45E5-4D95-BDDC-B414B40F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1A7-7555-405B-B0E0-93EE1D96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C75F-4645-4B7C-BF93-7217B52A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3294-61A9-4F89-B844-EE2ECF75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EFCB-9831-4D08-BE75-8D358EBC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6B43-D941-4602-ABF9-EC28A867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0F24-7C4D-423C-8B39-8FB8F48B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6C59-F6E9-4F0A-AE15-E5E9F326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C23D-9F3A-4375-B830-A4B047B3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73C-8ED4-494F-B4A2-BA426359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4FF4-844C-4FBB-97E6-DC9F867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B8CC-2BED-4EB6-A963-85DC9AD1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B3D6-BEB4-459B-B50D-6A16B37C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39A7-E796-4712-A8A7-844B9176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BEFC-7353-4CC7-A627-AACBF100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801-27D7-4EA1-A852-439FFE7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C85-034A-4B93-B91E-069A091B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41A-9ED4-4548-9C72-ECB6BE58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458-1773-4F89-857A-A55058D8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E52-EC00-4970-8445-B50EAC0A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EF5-0857-4A05-8E9D-D67DD80A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DB6-80EB-43C8-95FD-7789D80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D8B1-A32D-4E65-8E38-E749216FDD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1360" y="62640"/>
              <a:ext cx="3638880" cy="6148800"/>
              <a:chOff x="5391360" y="62640"/>
              <a:chExt cx="3638880" cy="6148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0080" y="347760"/>
                <a:ext cx="2117160" cy="23580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4560" y="197244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0920" y="259164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6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6280" y="2656800"/>
                <a:ext cx="16380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200" y="12448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2000" y="2947680"/>
                <a:ext cx="523800" cy="32698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00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20012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29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6680" y="4532040"/>
              <a:ext cx="56232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900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1440" y="5195880"/>
              <a:ext cx="176112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5480" y="1033200"/>
              <a:ext cx="1016280" cy="1262880"/>
              <a:chOff x="4155480" y="1033200"/>
              <a:chExt cx="1016280" cy="126288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0920" y="1071000"/>
                <a:ext cx="285840" cy="379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5160" y="160416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5520" y="196236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440" y="266400"/>
              <a:ext cx="894240" cy="826200"/>
              <a:chOff x="5644440" y="266400"/>
              <a:chExt cx="89424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400" y="761760"/>
                <a:ext cx="178560" cy="362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280" y="441000"/>
                <a:ext cx="306000" cy="301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366480"/>
                <a:ext cx="320040" cy="153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45560"/>
              <a:ext cx="1059840" cy="831240"/>
              <a:chOff x="969840" y="5245560"/>
              <a:chExt cx="105984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880" y="5510160"/>
                <a:ext cx="25128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200" y="5722200"/>
                <a:ext cx="43020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200" y="5370120"/>
                <a:ext cx="44964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200" y="416160"/>
              <a:ext cx="1692000" cy="1146600"/>
              <a:chOff x="376200" y="416160"/>
              <a:chExt cx="16920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240" y="10346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4200" y="559440"/>
                <a:ext cx="60840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000" y="107352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22840" y="3711960"/>
              <a:ext cx="1157400" cy="1608480"/>
              <a:chOff x="7422840" y="3711960"/>
              <a:chExt cx="115740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77560" y="4756680"/>
                <a:ext cx="35604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28640" y="4455720"/>
                <a:ext cx="60912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21920" y="3781080"/>
                <a:ext cx="63684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4280" y="3240"/>
              <a:ext cx="13698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0080" y="160560"/>
              <a:ext cx="10821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3760" y="1361160"/>
              <a:ext cx="52416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44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772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3840" y="1964520"/>
              <a:ext cx="62460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D0F9-F32A-489C-870D-3F23D5C0D3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4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5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26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7.wmf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3708360" y="76500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ДОРОЖНОЕ ДВИЖЕ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143240" y="31431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знавательная игра для дошкольников по 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5" descr="4"/>
          <p:cNvPicPr/>
          <p:nvPr/>
        </p:nvPicPr>
        <p:blipFill>
          <a:blip r:embed="rId1"/>
          <a:stretch/>
        </p:blipFill>
        <p:spPr>
          <a:xfrm>
            <a:off x="1042920" y="0"/>
            <a:ext cx="216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е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т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ф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kf44ovig[1]"/>
          <p:cNvPicPr/>
          <p:nvPr/>
        </p:nvPicPr>
        <p:blipFill>
          <a:blip r:embed="rId1"/>
          <a:stretch/>
        </p:blipFill>
        <p:spPr>
          <a:xfrm>
            <a:off x="4859280" y="1700280"/>
            <a:ext cx="3745080" cy="3662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1403280" y="59500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omic Sans MS"/>
              </a:rPr>
              <a:t>А теперь разгадай кроссвор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476360" y="907920"/>
          <a:ext cx="7056360" cy="4724640"/>
        </p:xfrm>
        <a:graphic>
          <a:graphicData uri="http://schemas.openxmlformats.org/drawingml/2006/table">
            <a:tbl>
              <a:tblPr/>
              <a:tblGrid>
                <a:gridCol w="641520"/>
                <a:gridCol w="641160"/>
                <a:gridCol w="641520"/>
                <a:gridCol w="641160"/>
                <a:gridCol w="641520"/>
                <a:gridCol w="642960"/>
                <a:gridCol w="641160"/>
                <a:gridCol w="641520"/>
                <a:gridCol w="641160"/>
                <a:gridCol w="641520"/>
                <a:gridCol w="641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206"/>
          <p:cNvSpPr/>
          <p:nvPr/>
        </p:nvSpPr>
        <p:spPr>
          <a:xfrm>
            <a:off x="104292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207"/>
          <p:cNvSpPr/>
          <p:nvPr/>
        </p:nvSpPr>
        <p:spPr>
          <a:xfrm>
            <a:off x="987480" y="1484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208"/>
          <p:cNvSpPr/>
          <p:nvPr/>
        </p:nvSpPr>
        <p:spPr>
          <a:xfrm>
            <a:off x="104292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209"/>
          <p:cNvSpPr/>
          <p:nvPr/>
        </p:nvSpPr>
        <p:spPr>
          <a:xfrm>
            <a:off x="3564000" y="256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210"/>
          <p:cNvSpPr/>
          <p:nvPr/>
        </p:nvSpPr>
        <p:spPr>
          <a:xfrm>
            <a:off x="1116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11"/>
          <p:cNvSpPr/>
          <p:nvPr/>
        </p:nvSpPr>
        <p:spPr>
          <a:xfrm>
            <a:off x="104292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212"/>
          <p:cNvSpPr/>
          <p:nvPr/>
        </p:nvSpPr>
        <p:spPr>
          <a:xfrm>
            <a:off x="34923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213"/>
          <p:cNvSpPr/>
          <p:nvPr/>
        </p:nvSpPr>
        <p:spPr>
          <a:xfrm>
            <a:off x="1116000" y="45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14"/>
          <p:cNvSpPr/>
          <p:nvPr/>
        </p:nvSpPr>
        <p:spPr>
          <a:xfrm>
            <a:off x="219564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WordArt 222"/>
          <p:cNvSpPr txBox="1"/>
          <p:nvPr/>
        </p:nvSpPr>
        <p:spPr>
          <a:xfrm>
            <a:off x="3338640" y="0"/>
            <a:ext cx="4833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Text Box 225"/>
          <p:cNvSpPr/>
          <p:nvPr/>
        </p:nvSpPr>
        <p:spPr>
          <a:xfrm>
            <a:off x="1258920" y="59500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2. Как называют место, где ожидают транспор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227"/>
          <p:cNvSpPr/>
          <p:nvPr/>
        </p:nvSpPr>
        <p:spPr>
          <a:xfrm>
            <a:off x="1476360" y="602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1. Как называется часть загородной дорог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28"/>
          <p:cNvSpPr/>
          <p:nvPr/>
        </p:nvSpPr>
        <p:spPr>
          <a:xfrm>
            <a:off x="2050920" y="5595840"/>
            <a:ext cx="5832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3. Не похож я на кон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Но седло есть у меня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Спицы есть- они, признатьс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Для вязанья не годятс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29"/>
          <p:cNvSpPr/>
          <p:nvPr/>
        </p:nvSpPr>
        <p:spPr>
          <a:xfrm>
            <a:off x="2124000" y="5805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4. Как называется участник дорожного движения, идущий по тротуа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30"/>
          <p:cNvSpPr/>
          <p:nvPr/>
        </p:nvSpPr>
        <p:spPr>
          <a:xfrm>
            <a:off x="2195640" y="5734080"/>
            <a:ext cx="45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5. Опоясал каменный рем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отни городов и деревен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31"/>
          <p:cNvSpPr/>
          <p:nvPr/>
        </p:nvSpPr>
        <p:spPr>
          <a:xfrm>
            <a:off x="2050920" y="566100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6. Как называется место, где пересекаются улицы и доро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232"/>
          <p:cNvSpPr/>
          <p:nvPr/>
        </p:nvSpPr>
        <p:spPr>
          <a:xfrm>
            <a:off x="2268360" y="59500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7. Как называется дорожка, по которой идут пешехо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233"/>
          <p:cNvSpPr/>
          <p:nvPr/>
        </p:nvSpPr>
        <p:spPr>
          <a:xfrm>
            <a:off x="2124000" y="5661000"/>
            <a:ext cx="48261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8. На самом перекрёстке висит колдун трёхглазы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Но никогда не смотрит тремя глазами сраз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234"/>
          <p:cNvSpPr/>
          <p:nvPr/>
        </p:nvSpPr>
        <p:spPr>
          <a:xfrm>
            <a:off x="2340000" y="5877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9. Шагаешь- впереди леж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Оглянешься- домой беж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6" name="Object 239"/>
          <p:cNvGraphicFramePr/>
          <p:nvPr/>
        </p:nvGraphicFramePr>
        <p:xfrm>
          <a:off x="1542960" y="760320"/>
          <a:ext cx="5772240" cy="8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2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760320"/>
                    <a:ext cx="5772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251"/>
          <p:cNvGraphicFramePr/>
          <p:nvPr/>
        </p:nvGraphicFramePr>
        <p:xfrm>
          <a:off x="1476360" y="1341360"/>
          <a:ext cx="6019920" cy="79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9" name="Object 2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341360"/>
                    <a:ext cx="60199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256"/>
          <p:cNvGraphicFramePr/>
          <p:nvPr/>
        </p:nvGraphicFramePr>
        <p:xfrm>
          <a:off x="1547640" y="1916280"/>
          <a:ext cx="6245280" cy="720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1" name="Object 2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1916280"/>
                    <a:ext cx="6245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61"/>
          <p:cNvGraphicFramePr/>
          <p:nvPr/>
        </p:nvGraphicFramePr>
        <p:xfrm>
          <a:off x="4071960" y="2421000"/>
          <a:ext cx="5072040" cy="720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53" name="Object 2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2421000"/>
                    <a:ext cx="5072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Text Box 338"/>
          <p:cNvSpPr/>
          <p:nvPr/>
        </p:nvSpPr>
        <p:spPr>
          <a:xfrm>
            <a:off x="154764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5" name="Object 351"/>
          <p:cNvGraphicFramePr/>
          <p:nvPr/>
        </p:nvGraphicFramePr>
        <p:xfrm>
          <a:off x="1476360" y="2852640"/>
          <a:ext cx="5772240" cy="819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56" name="Object 3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2852640"/>
                    <a:ext cx="5772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60"/>
          <p:cNvGraphicFramePr/>
          <p:nvPr/>
        </p:nvGraphicFramePr>
        <p:xfrm>
          <a:off x="1476360" y="3429000"/>
          <a:ext cx="7416720" cy="15127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58" name="Object 36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6360" y="3429000"/>
                    <a:ext cx="7416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65"/>
          <p:cNvGraphicFramePr/>
          <p:nvPr/>
        </p:nvGraphicFramePr>
        <p:xfrm>
          <a:off x="4140360" y="3933720"/>
          <a:ext cx="5832360" cy="790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60" name="Object 3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0360" y="3933720"/>
                    <a:ext cx="58323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370"/>
          <p:cNvGraphicFramePr/>
          <p:nvPr/>
        </p:nvGraphicFramePr>
        <p:xfrm>
          <a:off x="1547640" y="4508640"/>
          <a:ext cx="5977080" cy="6490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262" name="Object 37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7640" y="4508640"/>
                    <a:ext cx="59770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75"/>
          <p:cNvGraphicFramePr/>
          <p:nvPr/>
        </p:nvGraphicFramePr>
        <p:xfrm>
          <a:off x="2843280" y="4941720"/>
          <a:ext cx="5772240" cy="81936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264" name="Object 37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43280" y="4941720"/>
                    <a:ext cx="5772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376"/>
          <p:cNvSpPr/>
          <p:nvPr/>
        </p:nvSpPr>
        <p:spPr>
          <a:xfrm>
            <a:off x="7740720" y="49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Добрый совет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збуку города помни всегда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 не случилась с тобою бед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042920" y="61657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а страницу с пла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8" descr="1"/>
          <p:cNvPicPr/>
          <p:nvPr/>
        </p:nvPicPr>
        <p:blipFill>
          <a:blip r:embed="rId1"/>
          <a:stretch/>
        </p:blipFill>
        <p:spPr>
          <a:xfrm>
            <a:off x="4970520" y="1413000"/>
            <a:ext cx="376884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План игры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85840" y="4786200"/>
            <a:ext cx="18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Светоф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659640" y="4437000"/>
            <a:ext cx="2484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Автомоби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24000" y="616572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4" action="ppaction://hlinksldjump"/>
              </a:rPr>
              <a:t>Дорожные зна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0" y="371484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5" action="ppaction://hlinksldjump"/>
              </a:rPr>
              <a:t>Регулировщ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04000" y="5229360"/>
            <a:ext cx="23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6" action="ppaction://hlinksldjump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724360" y="6021360"/>
            <a:ext cx="34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7" action="ppaction://hlinksldjump"/>
              </a:rPr>
              <a:t>Добрый сов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68360" y="5300640"/>
            <a:ext cx="27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0"/>
          <p:cNvSpPr/>
          <p:nvPr/>
        </p:nvSpPr>
        <p:spPr>
          <a:xfrm>
            <a:off x="3276720" y="41904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738600" y="5877000"/>
            <a:ext cx="4865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Ответь на вопрос те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1763640" y="2602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Автомобили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Organization Chart 34"/>
          <p:cNvGrpSpPr/>
          <p:nvPr/>
        </p:nvGrpSpPr>
        <p:grpSpPr>
          <a:xfrm>
            <a:off x="2050920" y="1958040"/>
            <a:ext cx="5879880" cy="1775880"/>
            <a:chOff x="2050920" y="1958040"/>
            <a:chExt cx="5879880" cy="1775880"/>
          </a:xfrm>
        </p:grpSpPr>
        <p:cxnSp>
          <p:nvCxnSpPr>
            <p:cNvPr id="184" name="_s102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893560" y="1509840"/>
              <a:ext cx="228240" cy="203508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029"/>
            <p:cNvCxnSpPr>
              <a:stCxn id="188" idx="0"/>
              <a:endCxn id="186" idx="2"/>
            </p:cNvCxnSpPr>
            <p:nvPr/>
          </p:nvCxnSpPr>
          <p:spPr>
            <a:xfrm flipV="1">
              <a:off x="4990320" y="2413440"/>
              <a:ext cx="2520" cy="22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030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859920" y="1510920"/>
              <a:ext cx="228240" cy="203292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031"/>
            <p:cNvSpPr/>
            <p:nvPr/>
          </p:nvSpPr>
          <p:spPr>
            <a:xfrm>
              <a:off x="4004640" y="1958040"/>
              <a:ext cx="1972440" cy="455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Comic Sans MS"/>
                </a:rPr>
                <a:t>Автомобил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_s1032"/>
            <p:cNvSpPr/>
            <p:nvPr/>
          </p:nvSpPr>
          <p:spPr>
            <a:xfrm>
              <a:off x="2050920" y="2641680"/>
              <a:ext cx="181476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6600"/>
                  </a:solidFill>
                  <a:latin typeface="Comic Sans MS"/>
                </a:rPr>
                <a:t>Легковые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_s1033"/>
            <p:cNvSpPr/>
            <p:nvPr/>
          </p:nvSpPr>
          <p:spPr>
            <a:xfrm>
              <a:off x="408312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Грузов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1034"/>
            <p:cNvSpPr/>
            <p:nvPr/>
          </p:nvSpPr>
          <p:spPr>
            <a:xfrm>
              <a:off x="611568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Пожарные,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милицейские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корая помощь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пецмашин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1" name="Picture 42" descr="zfys1of_[1]"/>
          <p:cNvPicPr/>
          <p:nvPr/>
        </p:nvPicPr>
        <p:blipFill>
          <a:blip r:embed="rId2"/>
          <a:stretch/>
        </p:blipFill>
        <p:spPr>
          <a:xfrm>
            <a:off x="3995640" y="3933720"/>
            <a:ext cx="2303640" cy="163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5" descr="0wevhluf[1]"/>
          <p:cNvPicPr/>
          <p:nvPr/>
        </p:nvPicPr>
        <p:blipFill>
          <a:blip r:embed="rId3"/>
          <a:stretch/>
        </p:blipFill>
        <p:spPr>
          <a:xfrm>
            <a:off x="1835280" y="4076640"/>
            <a:ext cx="20095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j0211949"/>
          <p:cNvPicPr/>
          <p:nvPr/>
        </p:nvPicPr>
        <p:blipFill>
          <a:blip r:embed="rId4"/>
          <a:stretch/>
        </p:blipFill>
        <p:spPr>
          <a:xfrm>
            <a:off x="6443640" y="4076640"/>
            <a:ext cx="190044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Вопрос тест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cc"/>
                </a:solidFill>
                <a:latin typeface="Comic Sans MS"/>
              </a:rPr>
              <a:t>Какие автомобили могут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Папина и мам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Пожарная, милицейская, скорая помощь, спецмаш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осмотри и ответь правильно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227640" y="6237360"/>
            <a:ext cx="273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Назад к вопро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23" descr="18019_1012380580"/>
          <p:cNvPicPr/>
          <p:nvPr/>
        </p:nvPicPr>
        <p:blipFill>
          <a:blip r:embed="rId2"/>
          <a:stretch/>
        </p:blipFill>
        <p:spPr>
          <a:xfrm>
            <a:off x="2700360" y="1484280"/>
            <a:ext cx="4248000" cy="23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282"/>
          <p:cNvPicPr/>
          <p:nvPr/>
        </p:nvPicPr>
        <p:blipFill>
          <a:blip r:embed="rId3"/>
          <a:stretch/>
        </p:blipFill>
        <p:spPr>
          <a:xfrm>
            <a:off x="1523880" y="3933720"/>
            <a:ext cx="3335400" cy="208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sobol2-s"/>
          <p:cNvPicPr/>
          <p:nvPr/>
        </p:nvPicPr>
        <p:blipFill>
          <a:blip r:embed="rId4"/>
          <a:stretch/>
        </p:blipFill>
        <p:spPr>
          <a:xfrm>
            <a:off x="5084640" y="3903840"/>
            <a:ext cx="316548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39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17" descr="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48320" y="1413000"/>
            <a:ext cx="4038480" cy="136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5219640" y="5229360"/>
            <a:ext cx="36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Выполни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18" descr="8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648320" y="256536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Untitled-1 copy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4859280" y="3933720"/>
            <a:ext cx="381636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йди соответствие между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ками и стиха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Круглый знак, а в нём- окошк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е спешите с горяч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А подумайте немножк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Что здесь- свалка кирпич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В треугольнике шага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Транспорт я предупрежда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Скоро место перех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регите пеш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олько я для пеше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нак на месте пер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 голубом иду квадрат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ереходоуказ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eaivezvz[1]"/>
          <p:cNvPicPr/>
          <p:nvPr/>
        </p:nvPicPr>
        <p:blipFill>
          <a:blip r:embed="rId1"/>
          <a:stretch/>
        </p:blipFill>
        <p:spPr>
          <a:xfrm>
            <a:off x="5745240" y="175248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12"/>
          <p:cNvPicPr/>
          <p:nvPr/>
        </p:nvPicPr>
        <p:blipFill>
          <a:blip r:embed="rId2">
            <a:lum contrast="48000"/>
          </a:blip>
          <a:stretch/>
        </p:blipFill>
        <p:spPr>
          <a:xfrm rot="20484600">
            <a:off x="4003560" y="4206600"/>
            <a:ext cx="2286000" cy="2044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 rot="2204400">
            <a:off x="6710400" y="4460400"/>
            <a:ext cx="2719440" cy="2038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1692360" y="6216480"/>
            <a:ext cx="5184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4" action="ppaction://hlinksldjump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292720" y="4437000"/>
            <a:ext cx="403848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Бывает же рабо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Завидно от душ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Свисти, когда ох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И палочкой ма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50920" y="189000"/>
            <a:ext cx="52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Регулировщ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39640" y="6308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очитай шут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Шутк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Бежать нельзя на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Сказал медведь е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Я знаю, - буркнул ёж в отв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о очень я спеш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Куда же ёж спешишь ты та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А я спешу в больниц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Тогда беги, и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Тебе вполне сгоди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20" descr="Untitled-1 copy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948360" y="4941720"/>
            <a:ext cx="180036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1"/>
          <p:cNvSpPr/>
          <p:nvPr/>
        </p:nvSpPr>
        <p:spPr>
          <a:xfrm>
            <a:off x="1187280" y="59500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3" descr="Untitled-1 cop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011560" y="1268280"/>
            <a:ext cx="294516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50:07Z</dcterms:created>
  <dc:creator>_</dc:creator>
  <dc:description/>
  <dc:language>en-US</dc:language>
  <cp:lastModifiedBy>Оксана Романовская</cp:lastModifiedBy>
  <dcterms:modified xsi:type="dcterms:W3CDTF">2019-05-04T17:19:29Z</dcterms:modified>
  <cp:revision>79</cp:revision>
  <dc:subject/>
  <dc:title>Слайд 1</dc:title>
</cp:coreProperties>
</file>