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11.png" ContentType="image/png"/>
  <Override PartName="/ppt/media/image7.jpeg" ContentType="image/jpeg"/>
  <Override PartName="/ppt/media/image4.wmf" ContentType="image/x-wmf"/>
  <Override PartName="/ppt/media/image27.wmf" ContentType="image/x-wmf"/>
  <Override PartName="/ppt/media/image8.jpeg" ContentType="image/jpeg"/>
  <Override PartName="/ppt/media/image3.wmf" ContentType="image/x-wmf"/>
  <Override PartName="/ppt/media/image15.jpeg" ContentType="image/jpeg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8.gif" ContentType="image/gif"/>
  <Override PartName="/ppt/media/image21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5.wmf" ContentType="image/x-wmf"/>
  <Override PartName="/ppt/media/image2.jpeg" ContentType="image/jpeg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9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417-4426-4A77-9054-903E7D79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06A-CB8A-487D-A8A8-56316AA2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23E-112D-4356-ABFA-FF1DFF9D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435-A760-4A55-A61A-2ADAA413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00CB-30EA-4DE9-B874-98EA5EC3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505F-1BB8-4531-8D71-21AD458A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4E3A-C808-4BAB-AEA7-3E8B632A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5EE5-ED59-4BB4-91DE-0715ABD9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DBBD-E32E-421B-9103-FBD97AD9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8B9D-1AC2-402C-A11C-1426E198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FD9E-C1B5-4D6C-9955-26042266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9D9-33A6-4D48-AF72-4E131C76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8A02-F830-471E-8CB6-AC309CF1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59B1-CA8D-4A5F-9762-36212A48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5EF9-3FE7-4CE1-BF9B-2985705A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7750-324D-4B2F-BDE6-56667B57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D8C5-F24F-4017-8020-7A6CE19B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6BF-5B9E-41A3-9D19-3D8B8540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5AC-B829-407C-B716-B07316B0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113C-7898-42A8-8CB3-CC5B2FA0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15E-03F7-431C-8D1B-544470D0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EF7-7B44-43ED-82AE-9539CBD3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EB5-ABBA-4983-B985-D0BFAB78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394C-D474-4BA4-9F96-D4935B1D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9040"/>
              <a:chOff x="-1080" y="2601000"/>
              <a:chExt cx="26874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200" y="4050360"/>
                <a:ext cx="1833120" cy="1669680"/>
                <a:chOff x="853200" y="4050360"/>
                <a:chExt cx="1833120" cy="166968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7640" y="3932280"/>
                  <a:ext cx="477360" cy="1250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72400" y="4978440"/>
                  <a:ext cx="110520" cy="5130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400" y="5565600"/>
                  <a:ext cx="200880" cy="892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EF41-A8CD-4077-98AF-43BBF6D8E8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1360" y="62640"/>
              <a:ext cx="3638880" cy="6148800"/>
              <a:chOff x="5391360" y="62640"/>
              <a:chExt cx="3638880" cy="6148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0080" y="347760"/>
                <a:ext cx="2117160" cy="23580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4560" y="197244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0920" y="259164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8600" y="67644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6280" y="2656800"/>
                <a:ext cx="16380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6200" y="12448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2000" y="2947680"/>
                <a:ext cx="523800" cy="326988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00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200124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29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6680" y="4532040"/>
              <a:ext cx="56232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900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1440" y="5195880"/>
              <a:ext cx="176112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5480" y="1033200"/>
              <a:ext cx="1016280" cy="1262880"/>
              <a:chOff x="4155480" y="1033200"/>
              <a:chExt cx="1016280" cy="126288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70920" y="1071000"/>
                <a:ext cx="285840" cy="379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5160" y="160416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5520" y="196236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4440" y="266400"/>
              <a:ext cx="894240" cy="826200"/>
              <a:chOff x="5644440" y="266400"/>
              <a:chExt cx="89424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400" y="761760"/>
                <a:ext cx="178560" cy="362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280" y="441000"/>
                <a:ext cx="306000" cy="301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366480"/>
                <a:ext cx="320040" cy="153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840" y="5245560"/>
              <a:ext cx="1059840" cy="831240"/>
              <a:chOff x="969840" y="5245560"/>
              <a:chExt cx="1059840" cy="8312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880" y="5510160"/>
                <a:ext cx="25128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200" y="5722200"/>
                <a:ext cx="43020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200" y="5370120"/>
                <a:ext cx="449640" cy="127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200" y="416160"/>
              <a:ext cx="1692000" cy="1146600"/>
              <a:chOff x="376200" y="416160"/>
              <a:chExt cx="16920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8240" y="103464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4200" y="559440"/>
                <a:ext cx="60840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9000" y="107352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22840" y="3711960"/>
              <a:ext cx="1157400" cy="1608480"/>
              <a:chOff x="7422840" y="3711960"/>
              <a:chExt cx="1157400" cy="160848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77560" y="4756680"/>
                <a:ext cx="356040" cy="530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28640" y="4455720"/>
                <a:ext cx="60912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21920" y="3781080"/>
                <a:ext cx="63684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4280" y="3240"/>
              <a:ext cx="13698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30080" y="160560"/>
              <a:ext cx="108216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3760" y="1361160"/>
              <a:ext cx="52416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448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772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3840" y="1964520"/>
              <a:ext cx="62460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26E1-B010-49FD-BD56-038AA919F3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2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3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4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25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26.wmf"/><Relationship Id="rId17" Type="http://schemas.openxmlformats.org/officeDocument/2006/relationships/package" Target="../embeddings/oleObject9.docx"/><Relationship Id="rId18" Type="http://schemas.openxmlformats.org/officeDocument/2006/relationships/image" Target="../media/image27.wmf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9"/>
          <p:cNvSpPr/>
          <p:nvPr/>
        </p:nvSpPr>
        <p:spPr>
          <a:xfrm>
            <a:off x="3708360" y="76500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Comic Sans MS"/>
              </a:rPr>
              <a:t>ДОРОЖНОЕ ДВИЖЕН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4143240" y="3143160"/>
            <a:ext cx="36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Познавательная игра для дошкольников по 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619280" y="450864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15" descr="4"/>
          <p:cNvPicPr/>
          <p:nvPr/>
        </p:nvPicPr>
        <p:blipFill>
          <a:blip r:embed="rId1"/>
          <a:stretch/>
        </p:blipFill>
        <p:spPr>
          <a:xfrm>
            <a:off x="1042920" y="0"/>
            <a:ext cx="2160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С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в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е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т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ф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Это слово составлено из двух частей- «свет» и «фор». «Свет» - это всем понятно. А «фор»? «Фор» произошло от греческого слова «форос», что означает «несущий» или «носитель».А вместе «светофор»- значит «носитель света». Он и несёт свет трёх разных цветов: красного, жёлтого и зеленог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7" descr="kf44ovig[1]"/>
          <p:cNvPicPr/>
          <p:nvPr/>
        </p:nvPicPr>
        <p:blipFill>
          <a:blip r:embed="rId1"/>
          <a:stretch/>
        </p:blipFill>
        <p:spPr>
          <a:xfrm>
            <a:off x="4859280" y="1700280"/>
            <a:ext cx="3745080" cy="36622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"/>
          <p:cNvSpPr/>
          <p:nvPr/>
        </p:nvSpPr>
        <p:spPr>
          <a:xfrm>
            <a:off x="1403280" y="595008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omic Sans MS"/>
              </a:rPr>
              <a:t>А теперь разгадай кроссвор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476360" y="907920"/>
          <a:ext cx="7056360" cy="4724640"/>
        </p:xfrm>
        <a:graphic>
          <a:graphicData uri="http://schemas.openxmlformats.org/drawingml/2006/table">
            <a:tbl>
              <a:tblPr/>
              <a:tblGrid>
                <a:gridCol w="641520"/>
                <a:gridCol w="641160"/>
                <a:gridCol w="641520"/>
                <a:gridCol w="641160"/>
                <a:gridCol w="641520"/>
                <a:gridCol w="642960"/>
                <a:gridCol w="641160"/>
                <a:gridCol w="641520"/>
                <a:gridCol w="641160"/>
                <a:gridCol w="641520"/>
                <a:gridCol w="641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206"/>
          <p:cNvSpPr/>
          <p:nvPr/>
        </p:nvSpPr>
        <p:spPr>
          <a:xfrm>
            <a:off x="1042920" y="907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207"/>
          <p:cNvSpPr/>
          <p:nvPr/>
        </p:nvSpPr>
        <p:spPr>
          <a:xfrm>
            <a:off x="987480" y="1484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208"/>
          <p:cNvSpPr/>
          <p:nvPr/>
        </p:nvSpPr>
        <p:spPr>
          <a:xfrm>
            <a:off x="104292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209"/>
          <p:cNvSpPr/>
          <p:nvPr/>
        </p:nvSpPr>
        <p:spPr>
          <a:xfrm>
            <a:off x="3564000" y="256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210"/>
          <p:cNvSpPr/>
          <p:nvPr/>
        </p:nvSpPr>
        <p:spPr>
          <a:xfrm>
            <a:off x="111600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211"/>
          <p:cNvSpPr/>
          <p:nvPr/>
        </p:nvSpPr>
        <p:spPr>
          <a:xfrm>
            <a:off x="1042920" y="350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212"/>
          <p:cNvSpPr/>
          <p:nvPr/>
        </p:nvSpPr>
        <p:spPr>
          <a:xfrm>
            <a:off x="349236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213"/>
          <p:cNvSpPr/>
          <p:nvPr/>
        </p:nvSpPr>
        <p:spPr>
          <a:xfrm>
            <a:off x="1116000" y="4581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214"/>
          <p:cNvSpPr/>
          <p:nvPr/>
        </p:nvSpPr>
        <p:spPr>
          <a:xfrm>
            <a:off x="2195640" y="51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WordArt 222"/>
          <p:cNvSpPr txBox="1"/>
          <p:nvPr/>
        </p:nvSpPr>
        <p:spPr>
          <a:xfrm>
            <a:off x="3338640" y="0"/>
            <a:ext cx="48337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россвор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Text Box 225"/>
          <p:cNvSpPr/>
          <p:nvPr/>
        </p:nvSpPr>
        <p:spPr>
          <a:xfrm>
            <a:off x="1258920" y="595008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2. Как называют место, где ожидают транспор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227"/>
          <p:cNvSpPr/>
          <p:nvPr/>
        </p:nvSpPr>
        <p:spPr>
          <a:xfrm>
            <a:off x="1476360" y="6021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1. Как называется часть загородной дорог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228"/>
          <p:cNvSpPr/>
          <p:nvPr/>
        </p:nvSpPr>
        <p:spPr>
          <a:xfrm>
            <a:off x="2050920" y="5595840"/>
            <a:ext cx="58327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3. Не похож я на коня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Но седло есть у меня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Спицы есть- они, признаться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Для вязанья не годятс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229"/>
          <p:cNvSpPr/>
          <p:nvPr/>
        </p:nvSpPr>
        <p:spPr>
          <a:xfrm>
            <a:off x="2124000" y="58053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4. Как называется участник дорожного движения, идущий по тротуар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230"/>
          <p:cNvSpPr/>
          <p:nvPr/>
        </p:nvSpPr>
        <p:spPr>
          <a:xfrm>
            <a:off x="2195640" y="5734080"/>
            <a:ext cx="45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5. Опоясал каменный рем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Сотни городов и деревен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231"/>
          <p:cNvSpPr/>
          <p:nvPr/>
        </p:nvSpPr>
        <p:spPr>
          <a:xfrm>
            <a:off x="2050920" y="566100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6. Как называется место, где пересекаются улицы и дорог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232"/>
          <p:cNvSpPr/>
          <p:nvPr/>
        </p:nvSpPr>
        <p:spPr>
          <a:xfrm>
            <a:off x="2268360" y="59500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7. Как называется дорожка, по которой идут пешеходы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233"/>
          <p:cNvSpPr/>
          <p:nvPr/>
        </p:nvSpPr>
        <p:spPr>
          <a:xfrm>
            <a:off x="2124000" y="5661000"/>
            <a:ext cx="48261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8. На самом перекрёстке висит колдун трёхглазый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Но никогда не смотрит тремя глазами сраз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234"/>
          <p:cNvSpPr/>
          <p:nvPr/>
        </p:nvSpPr>
        <p:spPr>
          <a:xfrm>
            <a:off x="2340000" y="5877000"/>
            <a:ext cx="55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9. Шагаешь- впереди леж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Оглянешься- домой беж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6" name="Object 239"/>
          <p:cNvGraphicFramePr/>
          <p:nvPr/>
        </p:nvGraphicFramePr>
        <p:xfrm>
          <a:off x="1542960" y="760320"/>
          <a:ext cx="5772240" cy="8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Object 2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2960" y="760320"/>
                    <a:ext cx="577224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251"/>
          <p:cNvGraphicFramePr/>
          <p:nvPr/>
        </p:nvGraphicFramePr>
        <p:xfrm>
          <a:off x="1476360" y="1341360"/>
          <a:ext cx="6019920" cy="795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9" name="Object 2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1341360"/>
                    <a:ext cx="601992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256"/>
          <p:cNvGraphicFramePr/>
          <p:nvPr/>
        </p:nvGraphicFramePr>
        <p:xfrm>
          <a:off x="1547640" y="1916280"/>
          <a:ext cx="6245280" cy="720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51" name="Object 2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1916280"/>
                    <a:ext cx="62452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261"/>
          <p:cNvGraphicFramePr/>
          <p:nvPr/>
        </p:nvGraphicFramePr>
        <p:xfrm>
          <a:off x="4071960" y="2421000"/>
          <a:ext cx="5072040" cy="720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53" name="Object 26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71960" y="2421000"/>
                    <a:ext cx="50720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Text Box 338"/>
          <p:cNvSpPr/>
          <p:nvPr/>
        </p:nvSpPr>
        <p:spPr>
          <a:xfrm>
            <a:off x="1547640" y="306864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5" name="Object 351"/>
          <p:cNvGraphicFramePr/>
          <p:nvPr/>
        </p:nvGraphicFramePr>
        <p:xfrm>
          <a:off x="1476360" y="2852640"/>
          <a:ext cx="5772240" cy="819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56" name="Object 35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2852640"/>
                    <a:ext cx="577224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360"/>
          <p:cNvGraphicFramePr/>
          <p:nvPr/>
        </p:nvGraphicFramePr>
        <p:xfrm>
          <a:off x="1476360" y="3429000"/>
          <a:ext cx="7416720" cy="15127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58" name="Object 36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76360" y="3429000"/>
                    <a:ext cx="74167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365"/>
          <p:cNvGraphicFramePr/>
          <p:nvPr/>
        </p:nvGraphicFramePr>
        <p:xfrm>
          <a:off x="4140360" y="3933720"/>
          <a:ext cx="5832360" cy="7905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260" name="Object 36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0360" y="3933720"/>
                    <a:ext cx="58323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370"/>
          <p:cNvGraphicFramePr/>
          <p:nvPr/>
        </p:nvGraphicFramePr>
        <p:xfrm>
          <a:off x="1547640" y="4508640"/>
          <a:ext cx="5977080" cy="64908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262" name="Object 37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47640" y="4508640"/>
                    <a:ext cx="597708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375"/>
          <p:cNvGraphicFramePr/>
          <p:nvPr/>
        </p:nvGraphicFramePr>
        <p:xfrm>
          <a:off x="2843280" y="4941720"/>
          <a:ext cx="5772240" cy="81936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264" name="Object 37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43280" y="4941720"/>
                    <a:ext cx="577224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376"/>
          <p:cNvSpPr/>
          <p:nvPr/>
        </p:nvSpPr>
        <p:spPr>
          <a:xfrm>
            <a:off x="7740720" y="4941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Comic Sans MS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2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1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Добрый совет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Азбуку города помни всегда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Чтоб не случилась с тобою беда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1042920" y="616572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На страницу с план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8" descr="1"/>
          <p:cNvPicPr/>
          <p:nvPr/>
        </p:nvPicPr>
        <p:blipFill>
          <a:blip r:embed="rId1"/>
          <a:stretch/>
        </p:blipFill>
        <p:spPr>
          <a:xfrm>
            <a:off x="4970520" y="1413000"/>
            <a:ext cx="376884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8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План игры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85840" y="4786200"/>
            <a:ext cx="18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2" action="ppaction://hlinksldjump"/>
              </a:rPr>
              <a:t>Светоф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6659640" y="4437000"/>
            <a:ext cx="2484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99"/>
                </a:solidFill>
                <a:uFillTx/>
                <a:latin typeface="Comic Sans MS"/>
                <a:hlinkClick r:id="rId3" action="ppaction://hlinksldjump"/>
              </a:rPr>
              <a:t>Автомоби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324000" y="616572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4" action="ppaction://hlinksldjump"/>
              </a:rPr>
              <a:t>Дорожные зна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0" y="3714840"/>
            <a:ext cx="30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5" action="ppaction://hlinksldjump"/>
              </a:rPr>
              <a:t>Регулировщ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6804000" y="5229360"/>
            <a:ext cx="2340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99"/>
                </a:solidFill>
                <a:uFillTx/>
                <a:latin typeface="Comic Sans MS"/>
                <a:hlinkClick r:id="rId6" action="ppaction://hlinksldjump"/>
              </a:rPr>
              <a:t>Твор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724360" y="6021360"/>
            <a:ext cx="341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7" action="ppaction://hlinksldjump"/>
              </a:rPr>
              <a:t>Добрый сов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468360" y="5300640"/>
            <a:ext cx="27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0"/>
          <p:cNvSpPr/>
          <p:nvPr/>
        </p:nvSpPr>
        <p:spPr>
          <a:xfrm>
            <a:off x="3276720" y="419040"/>
            <a:ext cx="18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3738600" y="5877000"/>
            <a:ext cx="4865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1" action="ppaction://hlinksldjump"/>
              </a:rPr>
              <a:t>Ответь на вопрос те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1763640" y="260280"/>
            <a:ext cx="68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Автомобили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Organization Chart 34"/>
          <p:cNvGrpSpPr/>
          <p:nvPr/>
        </p:nvGrpSpPr>
        <p:grpSpPr>
          <a:xfrm>
            <a:off x="2050920" y="1958040"/>
            <a:ext cx="5879880" cy="1775880"/>
            <a:chOff x="2050920" y="1958040"/>
            <a:chExt cx="5879880" cy="1775880"/>
          </a:xfrm>
        </p:grpSpPr>
        <p:cxnSp>
          <p:nvCxnSpPr>
            <p:cNvPr id="184" name="_s1028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5893560" y="1509840"/>
              <a:ext cx="228240" cy="2035080"/>
            </a:xfrm>
            <a:prstGeom prst="bentConnector3">
              <a:avLst>
                <a:gd name="adj1" fmla="val 496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1029"/>
            <p:cNvCxnSpPr>
              <a:stCxn id="188" idx="0"/>
              <a:endCxn id="186" idx="2"/>
            </p:cNvCxnSpPr>
            <p:nvPr/>
          </p:nvCxnSpPr>
          <p:spPr>
            <a:xfrm flipV="1">
              <a:off x="4990320" y="2413440"/>
              <a:ext cx="2520" cy="22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1030"/>
            <p:cNvCxnSpPr>
              <a:stCxn id="190" idx="0"/>
              <a:endCxn id="186" idx="2"/>
            </p:cNvCxnSpPr>
            <p:nvPr/>
          </p:nvCxnSpPr>
          <p:spPr>
            <a:xfrm flipH="1" flipV="1" rot="5400000">
              <a:off x="3859920" y="1510920"/>
              <a:ext cx="228240" cy="2032920"/>
            </a:xfrm>
            <a:prstGeom prst="bentConnector3">
              <a:avLst>
                <a:gd name="adj1" fmla="val 496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6" name="_s1031"/>
            <p:cNvSpPr/>
            <p:nvPr/>
          </p:nvSpPr>
          <p:spPr>
            <a:xfrm>
              <a:off x="4004640" y="1958040"/>
              <a:ext cx="1972440" cy="4554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Comic Sans MS"/>
                </a:rPr>
                <a:t>Автомобили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_s1032"/>
            <p:cNvSpPr/>
            <p:nvPr/>
          </p:nvSpPr>
          <p:spPr>
            <a:xfrm>
              <a:off x="2050920" y="2641680"/>
              <a:ext cx="1814760" cy="10922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6600"/>
                  </a:solidFill>
                  <a:latin typeface="Comic Sans MS"/>
                </a:rPr>
                <a:t>Легковые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_s1033"/>
            <p:cNvSpPr/>
            <p:nvPr/>
          </p:nvSpPr>
          <p:spPr>
            <a:xfrm>
              <a:off x="4083120" y="2641680"/>
              <a:ext cx="1815120" cy="10922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Грузовы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_s1034"/>
            <p:cNvSpPr/>
            <p:nvPr/>
          </p:nvSpPr>
          <p:spPr>
            <a:xfrm>
              <a:off x="6115680" y="2641680"/>
              <a:ext cx="1815120" cy="10922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Пожарные,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милицейские,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Скорая помощь,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спецмашины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91" name="Picture 42" descr="zfys1of_[1]"/>
          <p:cNvPicPr/>
          <p:nvPr/>
        </p:nvPicPr>
        <p:blipFill>
          <a:blip r:embed="rId2"/>
          <a:stretch/>
        </p:blipFill>
        <p:spPr>
          <a:xfrm>
            <a:off x="3995640" y="3933720"/>
            <a:ext cx="2303640" cy="1638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5" descr="0wevhluf[1]"/>
          <p:cNvPicPr/>
          <p:nvPr/>
        </p:nvPicPr>
        <p:blipFill>
          <a:blip r:embed="rId3"/>
          <a:stretch/>
        </p:blipFill>
        <p:spPr>
          <a:xfrm>
            <a:off x="1835280" y="4076640"/>
            <a:ext cx="2009520" cy="1368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8" descr="j0211949"/>
          <p:cNvPicPr/>
          <p:nvPr/>
        </p:nvPicPr>
        <p:blipFill>
          <a:blip r:embed="rId4"/>
          <a:stretch/>
        </p:blipFill>
        <p:spPr>
          <a:xfrm>
            <a:off x="6443640" y="4076640"/>
            <a:ext cx="190044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Вопрос теста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cc"/>
                </a:solidFill>
                <a:latin typeface="Comic Sans MS"/>
              </a:rPr>
              <a:t>Какие автомобили могут ехать на красный свет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1" action="ppaction://hlinksldjump"/>
              </a:rPr>
              <a:t>Папина и мами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2" action="ppaction://hlinksldjump"/>
              </a:rPr>
              <a:t>Так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3" action="ppaction://hlinksldjump"/>
              </a:rPr>
              <a:t>Пожарная, милицейская, скорая помощь, спецмаши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Посмотри и ответь правильно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6227640" y="6237360"/>
            <a:ext cx="273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1" action="ppaction://hlinksldjump"/>
              </a:rPr>
              <a:t>Назад к вопро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23" descr="18019_1012380580"/>
          <p:cNvPicPr/>
          <p:nvPr/>
        </p:nvPicPr>
        <p:blipFill>
          <a:blip r:embed="rId2"/>
          <a:stretch/>
        </p:blipFill>
        <p:spPr>
          <a:xfrm>
            <a:off x="2700360" y="1484280"/>
            <a:ext cx="4248000" cy="2376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5" descr="282"/>
          <p:cNvPicPr/>
          <p:nvPr/>
        </p:nvPicPr>
        <p:blipFill>
          <a:blip r:embed="rId3"/>
          <a:stretch/>
        </p:blipFill>
        <p:spPr>
          <a:xfrm>
            <a:off x="1523880" y="3933720"/>
            <a:ext cx="3335400" cy="2087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6" descr="sobol2-s"/>
          <p:cNvPicPr/>
          <p:nvPr/>
        </p:nvPicPr>
        <p:blipFill>
          <a:blip r:embed="rId4"/>
          <a:stretch/>
        </p:blipFill>
        <p:spPr>
          <a:xfrm>
            <a:off x="5084640" y="3903840"/>
            <a:ext cx="3165480" cy="21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Дорожные знак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392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Знаки все мы знать должны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Чтобы, выехав на рын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Не остались дружно 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И без ног, и без ботино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В красном треугольни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Знаки осторожны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Они предупреждаю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К вниманью призываю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Запрещают зна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Разное движение: обгоны, поворот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И в красные кружоч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Обводит их нар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А ещё есть знаки- добрые друзь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Укажут направления вашего движени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Где поесть, заправиться, поспат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И как в деревню к бабушке попа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17" descr="7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648320" y="1413000"/>
            <a:ext cx="4038480" cy="1368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1"/>
          <p:cNvSpPr/>
          <p:nvPr/>
        </p:nvSpPr>
        <p:spPr>
          <a:xfrm>
            <a:off x="5219640" y="5229360"/>
            <a:ext cx="3600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99"/>
                </a:solidFill>
                <a:uFillTx/>
                <a:latin typeface="Comic Sans MS"/>
                <a:hlinkClick r:id="rId2" action="ppaction://hlinksldjump"/>
              </a:rPr>
              <a:t>Выполни зад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18" descr="8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648320" y="2565360"/>
            <a:ext cx="4038480" cy="1368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2" descr="Untitled-1 copy"/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4859280" y="3933720"/>
            <a:ext cx="381636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Найди соответствие между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знаками и стиха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Круглый знак, а в нём- окошк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Не спешите с горяч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А подумайте немножк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Что здесь- свалка кирпича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В треугольнике шагаю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Транспорт я предупреждаю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Скоро место переход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Берегите пешех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Только я для пешех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Знак на месте перех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В голубом иду квадрат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Переходоуказат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eaivezvz[1]"/>
          <p:cNvPicPr/>
          <p:nvPr/>
        </p:nvPicPr>
        <p:blipFill>
          <a:blip r:embed="rId1"/>
          <a:stretch/>
        </p:blipFill>
        <p:spPr>
          <a:xfrm>
            <a:off x="5745240" y="175248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12"/>
          <p:cNvPicPr/>
          <p:nvPr/>
        </p:nvPicPr>
        <p:blipFill>
          <a:blip r:embed="rId2">
            <a:lum contrast="48000"/>
          </a:blip>
          <a:stretch/>
        </p:blipFill>
        <p:spPr>
          <a:xfrm rot="20484600">
            <a:off x="4003560" y="4206600"/>
            <a:ext cx="2286000" cy="2044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Untitled-1 copy"/>
          <p:cNvPicPr/>
          <p:nvPr/>
        </p:nvPicPr>
        <p:blipFill>
          <a:blip r:embed="rId3">
            <a:lum contrast="60000"/>
          </a:blip>
          <a:stretch/>
        </p:blipFill>
        <p:spPr>
          <a:xfrm rot="2204400">
            <a:off x="6710400" y="4460400"/>
            <a:ext cx="2719440" cy="20383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3"/>
          <p:cNvSpPr/>
          <p:nvPr/>
        </p:nvSpPr>
        <p:spPr>
          <a:xfrm>
            <a:off x="1692360" y="6216480"/>
            <a:ext cx="5184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99"/>
                </a:solidFill>
                <a:uFillTx/>
                <a:latin typeface="Comic Sans MS"/>
                <a:hlinkClick r:id="rId4" action="ppaction://hlinksldjump"/>
              </a:rPr>
              <a:t>Назад на страницу с планом иг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292720" y="4437000"/>
            <a:ext cx="403848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Бывает же работ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Завидно от душ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Свисти, когда ох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И палочкой маш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250920" y="189000"/>
            <a:ext cx="525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Регулировщи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539640" y="630864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Прочитай шут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Шутка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Бежать нельзя на красный с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Сказал медведь еж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Я знаю, - буркнул ёж в отве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Но очень я спеш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Куда же ёж спешишь ты так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А я спешу в больниц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Тогда беги, и красный с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Тебе вполне сгоди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20" descr="Untitled-1 copy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948360" y="4941720"/>
            <a:ext cx="1800360" cy="1224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1"/>
          <p:cNvSpPr/>
          <p:nvPr/>
        </p:nvSpPr>
        <p:spPr>
          <a:xfrm>
            <a:off x="1187280" y="595008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Назад на страницу с планом иг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23" descr="Untitled-1 copy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011560" y="1268280"/>
            <a:ext cx="294516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2:50:07Z</dcterms:created>
  <dc:creator>_</dc:creator>
  <dc:description/>
  <dc:language>en-US</dc:language>
  <cp:lastModifiedBy>Оксана Романовская</cp:lastModifiedBy>
  <dcterms:modified xsi:type="dcterms:W3CDTF">2019-05-04T17:19:29Z</dcterms:modified>
  <cp:revision>79</cp:revision>
  <dc:subject/>
  <dc:title>Слайд 1</dc:title>
</cp:coreProperties>
</file>