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8.gif" ContentType="image/gif"/>
  <Override PartName="/ppt/media/image8.png" ContentType="image/png"/>
  <Override PartName="/ppt/media/image30.gif" ContentType="image/gif"/>
  <Override PartName="/ppt/media/image23.gif" ContentType="image/gif"/>
  <Override PartName="/ppt/media/image3.png" ContentType="image/png"/>
  <Override PartName="/ppt/media/image11.gif" ContentType="image/gif"/>
  <Override PartName="/ppt/media/image29.gif" ContentType="image/gif"/>
  <Override PartName="/ppt/media/image9.png" ContentType="image/png"/>
  <Override PartName="/ppt/media/image10.gif" ContentType="image/gif"/>
  <Override PartName="/ppt/media/image7.gif" ContentType="image/gif"/>
  <Override PartName="/ppt/media/image12.gif" ContentType="image/gif"/>
  <Override PartName="/ppt/media/image16.jpeg" ContentType="image/jpeg"/>
  <Override PartName="/ppt/media/image13.gif" ContentType="image/gif"/>
  <Override PartName="/ppt/media/image2.png" ContentType="image/png"/>
  <Override PartName="/ppt/media/image2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24.png" ContentType="image/pn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0.gif" ContentType="image/gif"/>
  <Override PartName="/ppt/media/image26.gif" ContentType="image/gi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CDA-B939-4C8E-A001-94CDA2B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C2C-DE9F-4557-BA43-7F3254D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7CA-2034-44C1-9BBD-04F7E35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F74-4B61-4CAA-AA9B-DB3A8E2C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31D-6575-4091-B8F1-90F649B5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560A-B905-4D0D-8B13-0BF0B0F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78B-8AA0-4ADB-932B-7C47DB8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F220-8509-421E-BB44-6DD54E3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3A49-F28B-4019-9DDB-4D44A6D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CA4-803F-4505-B4BE-7A1EDC9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C407-DC15-4654-987A-79C20A9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B61-E284-4AEC-80A5-3623AC02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C45-B6EB-4C10-AB62-7564858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BE9A-5E98-4BEC-B1C1-F4B00B2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F83-31EA-4508-93C3-A13DB5B4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0EE0-A35C-4708-B498-D0AF53A2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F994-713C-4573-9B9D-3A4A6812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F8CE-9099-4658-AB20-9355D064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E0C6-CFB2-42E7-A5F0-CF7894B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81B6-1639-4227-A196-1C3EBC4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A1E7-CB06-4D78-8AD9-058004B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6F2F-B16A-4021-913C-1246506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9A3-C4D7-400A-9963-4116C578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2691-3404-48CF-BF8E-680A656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1B2F-88CB-4CF0-BC4C-64EB954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84E4-89FD-482A-8AE1-270D6E1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46B3-E2C1-49DC-9171-50393D58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701B-7AAC-44CC-83C0-64EECBD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B628-E7F3-48A7-AE30-85FFBA90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EA27-4725-4759-885B-4863AFDE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CF6-5B15-4415-807E-A710C154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9D7-ACD2-4056-B654-7AC0813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C25-B4DE-47BF-B38B-B1AD789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5B7-12CA-4D5E-A5D0-1E55DF0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D95-1DE6-42EF-9E35-1A997A4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FDD-36BE-4E49-93A4-872B498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FB239-65CB-4FE3-BA11-EA4533A63808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2BE71-8A1B-4835-B883-674D8FC6D889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913AF-FA24-4FB7-9628-85695C1639D5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969840" y="1554120"/>
            <a:ext cx="7479000" cy="2925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 rot="20587200">
            <a:off x="676440" y="312840"/>
            <a:ext cx="2277720" cy="2278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3"/>
          <a:srcRect l="0" t="0" r="0" b="35558"/>
          <a:stretch/>
        </p:blipFill>
        <p:spPr>
          <a:xfrm>
            <a:off x="4695840" y="4581360"/>
            <a:ext cx="4370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На одном берегу – утята, на другом – цыплята. </a:t>
            </a:r>
            <a:br>
              <a:rPr sz="2800"/>
            </a:b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то быстрее доплывёт до острова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209240" y="557208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1521b"/>
                </a:solidFill>
                <a:latin typeface="Corbel"/>
              </a:rPr>
              <a:t>Утята. Цыплята плавать не умею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6" name="Рисунок 5" descr="36_15_36[1].gif"/>
          <p:cNvPicPr/>
          <p:nvPr/>
        </p:nvPicPr>
        <p:blipFill>
          <a:blip r:embed="rId1"/>
          <a:stretch/>
        </p:blipFill>
        <p:spPr>
          <a:xfrm>
            <a:off x="7358040" y="521496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743904782.gif"/>
          <p:cNvPicPr/>
          <p:nvPr/>
        </p:nvPicPr>
        <p:blipFill>
          <a:blip r:embed="rId2"/>
          <a:stretch/>
        </p:blipFill>
        <p:spPr>
          <a:xfrm>
            <a:off x="857160" y="5286240"/>
            <a:ext cx="868320" cy="779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Рисунок199.jpg"/>
          <p:cNvPicPr/>
          <p:nvPr/>
        </p:nvPicPr>
        <p:blipFill>
          <a:blip r:embed="rId3"/>
          <a:stretch/>
        </p:blipFill>
        <p:spPr>
          <a:xfrm>
            <a:off x="1908000" y="1844640"/>
            <a:ext cx="5251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98240"/>
            <a:ext cx="8229600" cy="1143000"/>
          </a:xfrm>
          <a:prstGeom prst="rect">
            <a:avLst/>
          </a:prstGeom>
          <a:noFill/>
          <a:ln w="9360">
            <a:solidFill>
              <a:srgbClr val="99cb3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ак ты думаешь, какой признак объединяет предметы в каждой группе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2" name="Рисунок 4" descr="158.gif"/>
          <p:cNvPicPr/>
          <p:nvPr/>
        </p:nvPicPr>
        <p:blipFill>
          <a:blip r:embed="rId1"/>
          <a:stretch/>
        </p:blipFill>
        <p:spPr>
          <a:xfrm>
            <a:off x="7512120" y="2633760"/>
            <a:ext cx="785880" cy="733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slad71.jpg"/>
          <p:cNvPicPr/>
          <p:nvPr/>
        </p:nvPicPr>
        <p:blipFill>
          <a:blip r:embed="rId2"/>
          <a:stretch/>
        </p:blipFill>
        <p:spPr>
          <a:xfrm>
            <a:off x="733320" y="2570040"/>
            <a:ext cx="809640" cy="857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kras18.jpg"/>
          <p:cNvPicPr/>
          <p:nvPr/>
        </p:nvPicPr>
        <p:blipFill>
          <a:blip r:embed="rId3"/>
          <a:stretch/>
        </p:blipFill>
        <p:spPr>
          <a:xfrm>
            <a:off x="738360" y="4519440"/>
            <a:ext cx="80928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derev06.gif"/>
          <p:cNvPicPr/>
          <p:nvPr/>
        </p:nvPicPr>
        <p:blipFill>
          <a:blip r:embed="rId4"/>
          <a:stretch/>
        </p:blipFill>
        <p:spPr>
          <a:xfrm>
            <a:off x="7332840" y="450864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Рисунок13.jpg"/>
          <p:cNvPicPr/>
          <p:nvPr/>
        </p:nvPicPr>
        <p:blipFill>
          <a:blip r:embed="rId5"/>
          <a:stretch/>
        </p:blipFill>
        <p:spPr>
          <a:xfrm>
            <a:off x="1835280" y="1916280"/>
            <a:ext cx="5329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9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7dd4a9"/>
                </a:solidFill>
                <a:latin typeface="Corbel"/>
              </a:rPr>
              <a:t>Найди 10 различий</a:t>
            </a:r>
            <a:endParaRPr b="0" lang="en-US" sz="36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52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Подумай, что было сначала, а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64" name="Содержимое 3" descr="Image12.bmp"/>
          <p:cNvPicPr/>
          <p:nvPr/>
        </p:nvPicPr>
        <p:blipFill>
          <a:blip r:embed="rId1"/>
          <a:stretch/>
        </p:blipFill>
        <p:spPr>
          <a:xfrm>
            <a:off x="1785960" y="1571760"/>
            <a:ext cx="5929200" cy="45496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alf6 (32).gif"/>
          <p:cNvPicPr/>
          <p:nvPr/>
        </p:nvPicPr>
        <p:blipFill>
          <a:blip r:embed="rId2"/>
          <a:stretch/>
        </p:blipFill>
        <p:spPr>
          <a:xfrm>
            <a:off x="685800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alf6 (33).gif"/>
          <p:cNvPicPr/>
          <p:nvPr/>
        </p:nvPicPr>
        <p:blipFill>
          <a:blip r:embed="rId3"/>
          <a:stretch/>
        </p:blipFill>
        <p:spPr>
          <a:xfrm>
            <a:off x="6786720" y="1643040"/>
            <a:ext cx="44100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alf6 (34).gif"/>
          <p:cNvPicPr/>
          <p:nvPr/>
        </p:nvPicPr>
        <p:blipFill>
          <a:blip r:embed="rId4"/>
          <a:stretch/>
        </p:blipFill>
        <p:spPr>
          <a:xfrm>
            <a:off x="378612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8" descr="alf6 (35).gif"/>
          <p:cNvPicPr/>
          <p:nvPr/>
        </p:nvPicPr>
        <p:blipFill>
          <a:blip r:embed="rId5"/>
          <a:stretch/>
        </p:blipFill>
        <p:spPr>
          <a:xfrm>
            <a:off x="3714840" y="1643040"/>
            <a:ext cx="4791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5" descr="Рисунок18.jpg"/>
          <p:cNvPicPr/>
          <p:nvPr/>
        </p:nvPicPr>
        <p:blipFill>
          <a:blip r:embed="rId1"/>
          <a:stretch/>
        </p:blipFill>
        <p:spPr>
          <a:xfrm>
            <a:off x="1979640" y="2133720"/>
            <a:ext cx="5184720" cy="4147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900" spc="-1" strike="noStrike">
                <a:solidFill>
                  <a:srgbClr val="7dd4a9"/>
                </a:solidFill>
                <a:latin typeface="Corbel"/>
              </a:rPr>
              <a:t>У каждого из этих предметов есть смысловая пара, кроме одного. Что это за предмет?</a:t>
            </a:r>
            <a:endParaRPr b="0" lang="en-US" sz="29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1" name="Рисунок 4" descr="butterfn.gif"/>
          <p:cNvPicPr/>
          <p:nvPr/>
        </p:nvPicPr>
        <p:blipFill>
          <a:blip r:embed="rId2"/>
          <a:stretch/>
        </p:blipFill>
        <p:spPr>
          <a:xfrm>
            <a:off x="3714840" y="335772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Скажи, что было сначала,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3" name="Содержимое 3" descr="Image16.bmp"/>
          <p:cNvPicPr/>
          <p:nvPr/>
        </p:nvPicPr>
        <p:blipFill>
          <a:blip r:embed="rId1"/>
          <a:stretch/>
        </p:blipFill>
        <p:spPr>
          <a:xfrm>
            <a:off x="3313080" y="2801880"/>
            <a:ext cx="2492280" cy="25495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40737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264492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431400" y="3429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64492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00248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309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0" name="Рисунок 10" descr="big_smiles_31.gif"/>
          <p:cNvPicPr/>
          <p:nvPr/>
        </p:nvPicPr>
        <p:blipFill>
          <a:blip r:embed="rId2"/>
          <a:stretch/>
        </p:blipFill>
        <p:spPr>
          <a:xfrm>
            <a:off x="6929280" y="4714920"/>
            <a:ext cx="1124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Рисунок144.jpg"/>
          <p:cNvPicPr/>
          <p:nvPr/>
        </p:nvPicPr>
        <p:blipFill>
          <a:blip r:embed="rId1"/>
          <a:stretch/>
        </p:blipFill>
        <p:spPr>
          <a:xfrm>
            <a:off x="1258920" y="2060640"/>
            <a:ext cx="6499080" cy="37544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пирамидку. </a:t>
            </a:r>
            <a:br>
              <a:rPr sz="3200"/>
            </a:b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Какой вид сверху ей соответствует?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83" name="Рисунок 5" descr="50.gif"/>
          <p:cNvPicPr/>
          <p:nvPr/>
        </p:nvPicPr>
        <p:blipFill>
          <a:blip r:embed="rId2"/>
          <a:stretch/>
        </p:blipFill>
        <p:spPr>
          <a:xfrm>
            <a:off x="6286680" y="1643040"/>
            <a:ext cx="8157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10:05Z</dcterms:created>
  <dc:creator>Admin</dc:creator>
  <dc:description/>
  <dc:language>en-US</dc:language>
  <cp:lastModifiedBy>365 Pro Plus</cp:lastModifiedBy>
  <dcterms:modified xsi:type="dcterms:W3CDTF">2024-05-21T18:48:46Z</dcterms:modified>
  <cp:revision>31</cp:revision>
  <dc:subject/>
  <dc:title>УЧИМСЯ МЫСЛИТЬ ЛОГИЧЕСКИ</dc:title>
</cp:coreProperties>
</file>