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C0F-E594-4178-8A48-D8762575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954-FA18-4C21-A92C-2AF81A5E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C95-9676-47D6-B359-E25294EC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449-7351-40F0-AE9D-DC4C961D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E0923-1E5B-4C74-A5C8-092AF21B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CA22A-5106-4E61-9D6A-F63339EC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C7632-613A-4BF5-B018-CF320DD6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4AA31-B03D-4D3F-B97F-853B5F37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C3C45-2C02-4CFC-BAFF-FD9ECBEE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B03A7-8D4B-4598-BC0F-9401980E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E00BC-C345-4DE8-B3FA-09B4E99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4E5-6566-406A-9191-83AB331F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1CF3A-4715-4832-9947-5A8FC2B3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FF370-782A-4C02-B610-0DE9474C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F278A-48CA-4143-839D-40BD2D49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EFB6D-055C-4334-ADD5-A986F3BD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88D0B-BAE8-46AE-AF75-5F29D413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B21FB-10C2-4F00-B546-6835250E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ED1C6-7284-4C83-BBF7-35363F1E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71ECB-697D-40A0-9A45-F34AFE99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DB1AF-FE2F-42C3-A593-6171A915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422B5-AE4B-4FCB-B947-2AF7E2F1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48B-1EF9-4EE2-9ECD-3DE736F2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2D249-C9BA-4F01-A2C7-8EB9568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DA8FC-B283-43EB-BB8B-A773653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F293E-7700-4849-94D4-543C19C8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6EB6E-A1EE-4562-83B9-EAF5A6B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16EE8-E1AF-498C-ABAF-8FEC594B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FF6E5-51B9-47E7-A532-1512BF07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016D8-589B-49FF-A757-8501C632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8B7C9-90F1-4F99-B228-F025F91A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47C3D-A65D-40B1-947D-71B2FD2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5A2D8-F693-4B99-94D1-6651708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BCE-2717-4159-AB12-347801A1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D2CB2-89B5-4FB6-AA3E-B76B2894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6F465-6927-4569-8132-6A5608A6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95444-3831-4F0D-AB6A-592AB996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5CABE-A4BF-465D-9A0D-0C569DDE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4A9FD-BE07-4F08-90BB-DEF40895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F6489-6E15-40C1-BD5D-109543B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8BDDA-A69A-40F2-ADB2-93659B0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81B84B-259F-46D8-994B-25E58E28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59D6D-5EBE-4DEC-8DDC-7EEA2200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38607-DDFA-40BB-ABE8-3F303279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A77-C895-407D-A730-25AC87F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35816-9C0D-42B4-AD87-126E70AA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7945E-7EDB-4C91-8D86-6109F638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C35E3-45C1-4E85-87FE-042A1356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8E522-1188-4904-970F-8719A9D0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90316-A76B-4C5F-9628-6011A845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F2387-EAB8-4821-93FB-A4BA7AA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E28A0-A191-4507-82D5-4F30B05D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70F46-E2D3-4CCE-937B-8AEA17D2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9E4A5-7264-4479-A56E-F7A6A8BA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7E232-3DD1-4B38-B43F-096FC531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518-8F3C-45AB-BDB1-B088A2C3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5A4B4-BC15-40D0-B525-97EC5B06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074F1-EFF9-4000-9469-034D72BD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8DCEE-F11F-4C0B-841A-570922CD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D156D-91A8-447A-81D8-6E0578FF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4F446-ABDB-4934-9BE7-CC3F75A7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DB20B-B059-4034-BDBC-A8F7C584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BBD59-AA6E-4145-9461-014EE85C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82F81-9EF6-42D5-BBCD-2AF15ADD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2F08A-5E41-4FC1-83F5-5CFCD535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59EF8-76CB-4524-B072-CB516F72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BDE-600F-439B-84C7-9F54946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45617-FF84-4085-ADFF-5CF27F56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E1115-76E3-4D1C-B0D8-E7B88263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E3507-2094-44AB-A4B1-D96ED410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389-88FB-4295-B640-3D83B0E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56E-81A9-433C-8ED6-D04132DF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A5E-E519-470A-AAD1-8F9E2B7B55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40C9-03DC-4782-BF21-2B9E8FE685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5D4C-3143-4084-8FFB-B00F8B4689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614A-3FFC-48FF-ACFF-A4F3BA9D0E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B1B6-CCFA-486F-BC9F-9EC18C05C8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af22"/>
            </a:gs>
            <a:gs pos="100000">
              <a:srgbClr val="7243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26A1-8594-4F1A-A740-DFB4629415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3"/>
          <p:cNvSpPr/>
          <p:nvPr/>
        </p:nvSpPr>
        <p:spPr>
          <a:xfrm>
            <a:off x="519120" y="547200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амое высокое животное на плане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го рост достигает 6 метров, то есть он выше двухэтажного дома.  Жирафы живут только в Африке. Крупнее его на планете слон, носорог и бегемо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282600" y="189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 из самых интересных жителей африканской саванны — жираф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419411"/>
          <p:cNvPicPr/>
          <p:nvPr/>
        </p:nvPicPr>
        <p:blipFill>
          <a:blip r:embed="rId1"/>
          <a:stretch/>
        </p:blipFill>
        <p:spPr>
          <a:xfrm>
            <a:off x="1258920" y="242100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E:\ЖИРАФ\жираф 1.jpg"/>
          <p:cNvPicPr/>
          <p:nvPr/>
        </p:nvPicPr>
        <p:blipFill>
          <a:blip r:embed="rId2"/>
          <a:stretch/>
        </p:blipFill>
        <p:spPr>
          <a:xfrm>
            <a:off x="4964040" y="1135080"/>
            <a:ext cx="2921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baby-giraffe-photography-i17"/>
          <p:cNvPicPr/>
          <p:nvPr/>
        </p:nvPicPr>
        <p:blipFill>
          <a:blip r:embed="rId1"/>
          <a:stretch/>
        </p:blipFill>
        <p:spPr>
          <a:xfrm>
            <a:off x="642960" y="1773360"/>
            <a:ext cx="3211560" cy="4680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"/>
          <p:cNvSpPr/>
          <p:nvPr/>
        </p:nvSpPr>
        <p:spPr>
          <a:xfrm>
            <a:off x="108000" y="26028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ждение жирафёнка – радостное событие для всего стада. Появившегося на свет жирафёнка, каждый взрослый нежно приветствует прикосновением но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767040" y="2780280"/>
            <a:ext cx="52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гда появляется на свет тольк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дин малыш весом 50-70 кг и ростом под 2 метра! Уже через час он вста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свои тонкие ножки, а через два резво бег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newborn_giraffe_05"/>
          <p:cNvPicPr/>
          <p:nvPr/>
        </p:nvPicPr>
        <p:blipFill>
          <a:blip r:embed="rId1"/>
          <a:stretch/>
        </p:blipFill>
        <p:spPr>
          <a:xfrm>
            <a:off x="826920" y="1484280"/>
            <a:ext cx="2936880" cy="4176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0000181d_big"/>
          <p:cNvPicPr/>
          <p:nvPr/>
        </p:nvPicPr>
        <p:blipFill>
          <a:blip r:embed="rId2"/>
          <a:stretch/>
        </p:blipFill>
        <p:spPr>
          <a:xfrm>
            <a:off x="4842000" y="1413000"/>
            <a:ext cx="3224160" cy="432108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"/>
          <p:cNvSpPr/>
          <p:nvPr/>
        </p:nvSpPr>
        <p:spPr>
          <a:xfrm>
            <a:off x="969120" y="115920"/>
            <a:ext cx="726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рафы млекопитающ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и выкармливают своих детёнышей молоком, в зоопарк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мать не может кормить своего жирафён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у роль на себя берёт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187280" y="5819760"/>
            <a:ext cx="741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возрасте 2-3 недель малыш уже уме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ывать себе корм, но сосёт мать 1,5 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аф растёт до 6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9" descr="download"/>
          <p:cNvPicPr/>
          <p:nvPr/>
        </p:nvPicPr>
        <p:blipFill>
          <a:blip r:embed="rId1"/>
          <a:stretch/>
        </p:blipFill>
        <p:spPr>
          <a:xfrm>
            <a:off x="2133720" y="2637000"/>
            <a:ext cx="5181480" cy="29145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1"/>
          <p:cNvSpPr/>
          <p:nvPr/>
        </p:nvSpPr>
        <p:spPr>
          <a:xfrm>
            <a:off x="820440" y="187920"/>
            <a:ext cx="766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тёныши жирафа рождаются очень миленькими и смешн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интересно, они рождаются на голо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ез рожек, а на их месте растет черный пушок шер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 временем, когда рожки уже появляют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и волоски исчезаю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250920" y="26028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ы мужественно защищают малышей, чьи бы они ни были. Особенно защищает свое потомство родительница. Она, не задумываясь, бросается навстречу стае гиен, не отступает перед львами, даже если их несколь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video_1512262_0"/>
          <p:cNvPicPr/>
          <p:nvPr/>
        </p:nvPicPr>
        <p:blipFill>
          <a:blip r:embed="rId1"/>
          <a:stretch/>
        </p:blipFill>
        <p:spPr>
          <a:xfrm>
            <a:off x="1476360" y="2205000"/>
            <a:ext cx="64803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755640" y="6228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гда малыш уже достаточно твердо стоит на ножках. Мать отыскивает находящихся поблизости других самок с такими же малыш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они устраивают для своих потомков «детский сад»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grupo_jirafas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7"/>
          <p:cNvSpPr/>
          <p:nvPr/>
        </p:nvSpPr>
        <p:spPr>
          <a:xfrm>
            <a:off x="392400" y="619560"/>
            <a:ext cx="36129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мотрите на жираф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 высокий, выше  шкаф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лефонной башни выше 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н котенка снимет с крыш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. Родивилин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8"/>
          <p:cNvSpPr/>
          <p:nvPr/>
        </p:nvSpPr>
        <p:spPr>
          <a:xfrm>
            <a:off x="5725440" y="477000"/>
            <a:ext cx="300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клонись, жираф, ко м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спрошу тебя на ушк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Ты, наверное, к Лу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касаешься макушкой?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не жираф ответил так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Не такой уж я чудак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Луне порядком пыл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 мне голову помы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. Фоков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9"/>
          <p:cNvSpPr/>
          <p:nvPr/>
        </p:nvSpPr>
        <p:spPr>
          <a:xfrm>
            <a:off x="1338840" y="107640"/>
            <a:ext cx="408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ИХИ ПРО ЖИРАФ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0"/>
          <p:cNvSpPr/>
          <p:nvPr/>
        </p:nvSpPr>
        <p:spPr>
          <a:xfrm>
            <a:off x="2862000" y="3373920"/>
            <a:ext cx="341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одит медленно жираф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до голову задра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чень стройный, очень яркий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 - от родины вдал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тобы дети в зоопар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юбоваться им могла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. Ши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47840" y="168840"/>
            <a:ext cx="821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Жираф - это странное на вид животное Афр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овина его роста – длинная, до 3 метров, ше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рошечная голова с двумя короткими рожк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тянутыми кожей, поднята над землей на 5 - 6 мет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хвост длиной в 1 метр. Весит жираф 750 килограм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лаза так посажены, что все вокруг видят и головой не надо верте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9" descr="giraf"/>
          <p:cNvPicPr/>
          <p:nvPr/>
        </p:nvPicPr>
        <p:blipFill>
          <a:blip r:embed="rId1"/>
          <a:stretch/>
        </p:blipFill>
        <p:spPr>
          <a:xfrm>
            <a:off x="2050920" y="2637000"/>
            <a:ext cx="48261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img14-520x245"/>
          <p:cNvPicPr/>
          <p:nvPr/>
        </p:nvPicPr>
        <p:blipFill>
          <a:blip r:embed="rId1"/>
          <a:srcRect l="0" t="0" r="31557" b="-1898"/>
          <a:stretch/>
        </p:blipFill>
        <p:spPr>
          <a:xfrm>
            <a:off x="701640" y="2906640"/>
            <a:ext cx="4248360" cy="29815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13" descr="1"/>
          <p:cNvPicPr/>
          <p:nvPr/>
        </p:nvPicPr>
        <p:blipFill>
          <a:blip r:embed="rId2"/>
          <a:srcRect l="18815" t="0" r="23107" b="0"/>
          <a:stretch/>
        </p:blipFill>
        <p:spPr>
          <a:xfrm>
            <a:off x="5940360" y="1471680"/>
            <a:ext cx="2691000" cy="46339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4"/>
          <p:cNvSpPr/>
          <p:nvPr/>
        </p:nvSpPr>
        <p:spPr>
          <a:xfrm>
            <a:off x="0" y="540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жирафа самая длинная шея, но в 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го 7 позвонков, также как у человека, кошки или мышки. Просто эти позвонки очень крупные и вытянуты в дл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576360" y="2602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ы – травоядные животные, жвачные, как коровы. Они могут питаться листвой самых верхушек деревьев. Жираф обхватывает ветвь своим языком и тянет её ко рту, общипывая листья. Жираф имеет самый длинный из всех млекопитающих язык (50 см), а ещё он почти коричневого цвета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g3"/>
          <p:cNvPicPr/>
          <p:nvPr/>
        </p:nvPicPr>
        <p:blipFill>
          <a:blip r:embed="rId1"/>
          <a:stretch/>
        </p:blipFill>
        <p:spPr>
          <a:xfrm>
            <a:off x="1639800" y="2833560"/>
            <a:ext cx="5559480" cy="2667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7"/>
          <p:cNvSpPr/>
          <p:nvPr/>
        </p:nvSpPr>
        <p:spPr>
          <a:xfrm>
            <a:off x="7560" y="5732640"/>
            <a:ext cx="56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им длинным языком жирафы да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чистить собственные уш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3"/>
          <p:cNvSpPr/>
          <p:nvPr/>
        </p:nvSpPr>
        <p:spPr>
          <a:xfrm>
            <a:off x="0" y="11592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рафам трудно наклонить шею, поэтому траву они щиплют только в голодные времена. На еду у самого высокого на Земле млекопитающего уходит по 20 часов в сутки!  В день он съедает 30-40 кг зеле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1" descr="g15"/>
          <p:cNvPicPr/>
          <p:nvPr/>
        </p:nvPicPr>
        <p:blipFill>
          <a:blip r:embed="rId1"/>
          <a:stretch/>
        </p:blipFill>
        <p:spPr>
          <a:xfrm>
            <a:off x="5400720" y="1773360"/>
            <a:ext cx="3635280" cy="42512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4"/>
          <p:cNvSpPr/>
          <p:nvPr/>
        </p:nvSpPr>
        <p:spPr>
          <a:xfrm>
            <a:off x="0" y="302904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тобы попить воды жираф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ходится принимать необычные позы, широко раздвигать передние ноги и наклонять переднюю часть туловища и шею вперёд. Жираф может обходиться без воды дольше, чем верблю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выпить сразу до 6 ведер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3"/>
          <p:cNvSpPr/>
          <p:nvPr/>
        </p:nvSpPr>
        <p:spPr>
          <a:xfrm>
            <a:off x="0" y="0"/>
            <a:ext cx="89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гда животное скачет галопом, его длиннющая шея мотается из стороны в сторону, описывая восьмерку. Кажется, что она может завязаться узлом. Длина одного шага жирафа - 6-8 метров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ка жираф сделает один шаг,  мы пробежим 11 шаг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g18"/>
          <p:cNvPicPr/>
          <p:nvPr/>
        </p:nvPicPr>
        <p:blipFill>
          <a:blip r:embed="rId1"/>
          <a:stretch/>
        </p:blipFill>
        <p:spPr>
          <a:xfrm>
            <a:off x="2771640" y="2244600"/>
            <a:ext cx="35290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24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ы хорошие прыгу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и очень-очень высоко прыгаю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высоту почти на 2 метр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image"/>
          <p:cNvPicPr/>
          <p:nvPr/>
        </p:nvPicPr>
        <p:blipFill>
          <a:blip r:embed="rId1"/>
          <a:stretch/>
        </p:blipFill>
        <p:spPr>
          <a:xfrm>
            <a:off x="4932360" y="549360"/>
            <a:ext cx="332892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149400" y="260280"/>
            <a:ext cx="89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отличие от человека, жирафы умеют отдыхать стоя. Обычно сеанс сна на ногах длится не больше 5 минут. Но когда жирафу необходимо хорошенько выспаться, он ложится на землю, поджимает под себя передние ноги, загибает голову назад и кладет ее на ножку. При этом общая продолжительность сна за сутки у жирафов редко превышает 60 мину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9" descr="g13"/>
          <p:cNvPicPr/>
          <p:nvPr/>
        </p:nvPicPr>
        <p:blipFill>
          <a:blip r:embed="rId1"/>
          <a:stretch/>
        </p:blipFill>
        <p:spPr>
          <a:xfrm>
            <a:off x="2195640" y="2276640"/>
            <a:ext cx="5113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os9i"/>
          <p:cNvPicPr/>
          <p:nvPr/>
        </p:nvPicPr>
        <p:blipFill>
          <a:blip r:embed="rId1"/>
          <a:stretch/>
        </p:blipFill>
        <p:spPr>
          <a:xfrm>
            <a:off x="2104920" y="2708280"/>
            <a:ext cx="5156280" cy="34574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900000" y="11808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раф - хороший сосед, так как жираф с высоты своего роста всегда может увидеть своих врагов. Поэтому антилопы, зебры, страусы любят держаться рядом с ними, так как враги у них одни, это гиены или ль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17:11:13Z</dcterms:created>
  <dc:creator>Valentina</dc:creator>
  <dc:description/>
  <dc:language>en-US</dc:language>
  <cp:lastModifiedBy>Учетная запись Майкрософт</cp:lastModifiedBy>
  <dcterms:modified xsi:type="dcterms:W3CDTF">2023-05-14T16:55:29Z</dcterms:modified>
  <cp:revision>27</cp:revision>
  <dc:subject/>
  <dc:title>Слайд 1</dc:title>
</cp:coreProperties>
</file>