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88A-4D50-494E-BF24-F8B729C2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458-C665-4BD2-A45C-DDF09CCD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426-DB71-46B0-9074-5B356060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0C6-2000-4532-BFFD-1DFB771A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AE358-B224-4D67-A59D-835220F6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10AD5-E2CC-4618-8923-57402B58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78B88-7214-4FE3-91E4-B61ADCA6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C74E2-59E2-48F2-8BDD-DB52DBCF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74557-29E4-45EF-85E6-6B65442D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C70F9-B6F6-45EE-8A4B-9029EA8D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91ACD-AF9C-4740-A092-A8FE2956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CDF-8E16-4E45-A559-605615CF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0EEFC-0B4E-4E71-8043-F8D19FFF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83225-76AF-4D80-AEEA-1A1DE29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E59A6-89C8-4C3F-A5B7-6FF3A657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BDABF-5078-4457-9720-3AF7BB58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3CB10-6AC1-4E82-9183-2FE00A0B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30756-5B1A-44EC-8CB3-3174140D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EFFFF-EA31-4CF1-ACCC-885D5C6D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111D0-9769-4D5C-83C6-A0B64859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848CD-3FDC-43C3-9C4C-1080211B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682B0-4C38-450F-9B8D-20A2CFD7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08E-E7BC-4B46-920A-7BB777FC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DC1E3-D3C0-4118-BBAC-31D5F423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0F4D9-8AAE-48F4-8AD4-59DD9801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A5046-A55D-4FE7-8C07-2F099540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7EC51-F603-4507-AE6C-B4D07EFE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BD9D6-DECF-4034-87DF-D622CF8E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76DA1-0C35-4FE2-99BB-F09EB373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CD5B2-6D5F-4518-B73B-020AF461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CD1AD-191C-4A5C-AE32-2E0B96CB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6E1C88-383E-473A-8855-3733A17D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AE00A-DA6A-4BE1-853B-2463BDF2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613-102A-42E5-9112-CE8DA280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079FA-23D3-489F-BEE0-714EF40E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C3CA3-48C4-4674-9019-D759A677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10E21-122F-49EA-9243-E62A6213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46C6F-DD00-441C-A864-FCDA74BA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9E7DA-DDF4-4F1B-9AAF-AC4DF5C0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DBB53-311E-4A6C-B452-1F4E642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799D0-3650-40AC-B027-B844F728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26BFDF-E7BB-4AF5-B941-69845E68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47BC6-2129-41C5-AFF3-C6C5F4CB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9111A-AE16-4E4F-A52D-C9E34DAD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5BB-3902-4CA4-A139-22E7DFC7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E8D06-7370-435C-8873-CC09DB8D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680CB-64BE-446E-B809-6E2C8616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6A487-2564-4F50-A326-DC2A2652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543D8-6AC6-4541-BAD8-60EB6D88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41B35-9129-4002-BB68-11F1FF03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FCDB2-1771-4B83-822A-1C0AB383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12C7F-392A-4C3A-A955-FB9088B4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E4931-ACE4-4CD1-87BC-080BE24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0EB93-7ED8-41C2-B561-3C1D827C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1F0C8-D223-4819-8258-8FAE6C30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7C1-0871-4A7A-93BC-F92C4D2A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ACCC78-3248-4CA7-B133-CE2807E5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0E7EC-7D78-4268-A866-5ADBDAE5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44465-6B34-4348-A20F-3CDF2333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815E7-7C65-4EBF-B658-03F47786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98505-AEAC-4E6E-8BD3-253B99D9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8589D-3983-43C2-8400-B85224CE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BC97E-A47A-477A-B6BA-1844F72F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4F335-273A-4624-8E8B-7D582417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197F0-419F-4335-8B00-2A54446B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6DF0A-0C27-4AD2-B092-B0E50F00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159-F7C8-4005-AF88-5450C0D0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5B84B-8640-46C0-8337-CC1BE7AF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65F3A-A45B-4106-9521-0E5731E4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06E7E-17E5-4830-8747-CD71B1E1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33D-A204-4038-AF44-302B27AF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957-6C29-4D10-850B-E7E7C883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F633-97EF-40F1-A744-D56016781E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0911-CA6D-45D2-96FE-C6E0F50581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F459-93DA-4DB7-BFF0-551032E479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5B65-27D9-42B7-97CD-50B3C8CDAC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1A5C-A2DF-451B-9EDB-40A1E886FF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B63B-6521-49FE-A2DD-C6AE625BAB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3"/>
          <p:cNvSpPr/>
          <p:nvPr/>
        </p:nvSpPr>
        <p:spPr>
          <a:xfrm>
            <a:off x="519120" y="547200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амое высокое животное на плане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го рост достигает 6 метров, то есть он выше двухэтажного дома.  Жирафы живут только в Африке. Крупнее его на планете слон, носорог и бегемо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282600" y="189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 из самых интересных жителей африканской саванны — жираф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419411"/>
          <p:cNvPicPr/>
          <p:nvPr/>
        </p:nvPicPr>
        <p:blipFill>
          <a:blip r:embed="rId1"/>
          <a:stretch/>
        </p:blipFill>
        <p:spPr>
          <a:xfrm>
            <a:off x="1258920" y="242100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E:\ЖИРАФ\жираф 1.jpg"/>
          <p:cNvPicPr/>
          <p:nvPr/>
        </p:nvPicPr>
        <p:blipFill>
          <a:blip r:embed="rId2"/>
          <a:stretch/>
        </p:blipFill>
        <p:spPr>
          <a:xfrm>
            <a:off x="4964040" y="1135080"/>
            <a:ext cx="2921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baby-giraffe-photography-i17"/>
          <p:cNvPicPr/>
          <p:nvPr/>
        </p:nvPicPr>
        <p:blipFill>
          <a:blip r:embed="rId1"/>
          <a:stretch/>
        </p:blipFill>
        <p:spPr>
          <a:xfrm>
            <a:off x="642960" y="1773360"/>
            <a:ext cx="3211560" cy="4680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"/>
          <p:cNvSpPr/>
          <p:nvPr/>
        </p:nvSpPr>
        <p:spPr>
          <a:xfrm>
            <a:off x="108000" y="260280"/>
            <a:ext cx="88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ждение жирафёнка – радостное событие для всего стада. Появившегося на свет жирафёнка, каждый взрослый нежно приветствует прикосновением но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767040" y="2780280"/>
            <a:ext cx="52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гда появляется на свет тольк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дин малыш весом 50-70 кг и ростом под 2 метра! Уже через час он вста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свои тонкие ножки, а через два резво бег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newborn_giraffe_05"/>
          <p:cNvPicPr/>
          <p:nvPr/>
        </p:nvPicPr>
        <p:blipFill>
          <a:blip r:embed="rId1"/>
          <a:stretch/>
        </p:blipFill>
        <p:spPr>
          <a:xfrm>
            <a:off x="826920" y="1484280"/>
            <a:ext cx="2936880" cy="4176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0000181d_big"/>
          <p:cNvPicPr/>
          <p:nvPr/>
        </p:nvPicPr>
        <p:blipFill>
          <a:blip r:embed="rId2"/>
          <a:stretch/>
        </p:blipFill>
        <p:spPr>
          <a:xfrm>
            <a:off x="4842000" y="1413000"/>
            <a:ext cx="3224160" cy="432108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"/>
          <p:cNvSpPr/>
          <p:nvPr/>
        </p:nvSpPr>
        <p:spPr>
          <a:xfrm>
            <a:off x="969120" y="115920"/>
            <a:ext cx="726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рафы млекопитающ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ни выкармливают своих детёнышей молоком, в зоопарк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мать не может кормить своего жирафён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у роль на себя берёт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187280" y="5819760"/>
            <a:ext cx="741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возрасте 2-3 недель малыш уже уме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бывать себе корм, но сосёт мать 1,5 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аф растёт до 6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9" descr="download"/>
          <p:cNvPicPr/>
          <p:nvPr/>
        </p:nvPicPr>
        <p:blipFill>
          <a:blip r:embed="rId1"/>
          <a:stretch/>
        </p:blipFill>
        <p:spPr>
          <a:xfrm>
            <a:off x="2133720" y="2637000"/>
            <a:ext cx="5181480" cy="29145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1"/>
          <p:cNvSpPr/>
          <p:nvPr/>
        </p:nvSpPr>
        <p:spPr>
          <a:xfrm>
            <a:off x="820440" y="187920"/>
            <a:ext cx="766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тёныши жирафа рождаются очень миленькими и смешн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интересно, они рождаются на голо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ез рожек, а на их месте растет черный пушок шер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 временем, когда рожки уже появляют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и волоски исчезаю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3"/>
          <p:cNvSpPr/>
          <p:nvPr/>
        </p:nvSpPr>
        <p:spPr>
          <a:xfrm>
            <a:off x="250920" y="26028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ы мужественно защищают малышей, чьи бы они ни были. Особенно защищает свое потомство родительница. Она, не задумываясь, бросается навстречу стае гиен, не отступает перед львами, даже если их несколь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video_1512262_0"/>
          <p:cNvPicPr/>
          <p:nvPr/>
        </p:nvPicPr>
        <p:blipFill>
          <a:blip r:embed="rId1"/>
          <a:stretch/>
        </p:blipFill>
        <p:spPr>
          <a:xfrm>
            <a:off x="1476360" y="2205000"/>
            <a:ext cx="64803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755640" y="6228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гда малыш уже достаточно твердо стоит на ножках. Мать отыскивает находящихся поблизости других самок с такими же малыш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они устраивают для своих потомков «детский сад»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6" descr="grupo_jirafas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7"/>
          <p:cNvSpPr/>
          <p:nvPr/>
        </p:nvSpPr>
        <p:spPr>
          <a:xfrm>
            <a:off x="392400" y="619560"/>
            <a:ext cx="36129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мотрите на жираф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н высокий, выше  шкаф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лефонной башни выше 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н котенка снимет с крыш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. Родивилин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8"/>
          <p:cNvSpPr/>
          <p:nvPr/>
        </p:nvSpPr>
        <p:spPr>
          <a:xfrm>
            <a:off x="5725440" y="477000"/>
            <a:ext cx="300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клонись, жираф, ко м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спрошу тебя на ушко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Ты, наверное, к Лу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касаешься макушкой?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не жираф ответил так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Не такой уж я чудак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Луне порядком пыл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 мне голову помы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. Фоков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9"/>
          <p:cNvSpPr/>
          <p:nvPr/>
        </p:nvSpPr>
        <p:spPr>
          <a:xfrm>
            <a:off x="1338840" y="107640"/>
            <a:ext cx="408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ИХИ ПРО ЖИРАФ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0"/>
          <p:cNvSpPr/>
          <p:nvPr/>
        </p:nvSpPr>
        <p:spPr>
          <a:xfrm>
            <a:off x="2862000" y="3373920"/>
            <a:ext cx="341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одит медленно жираф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рдо голову задра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чень стройный, очень яркий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н - от родины вдал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тобы дети в зоопар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юбоваться им могла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. Ши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47840" y="168840"/>
            <a:ext cx="821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раф - это странное на вид животное Афр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овина его роста – длинная, до 3 метров, ше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рошечная голова с двумя короткими рожк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тянутыми кожей, поднята над землей на 5 - 6 мет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хвост длиной в 1 метр. Весит жираф 750 килограм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за так посажены, что все вокруг видят и головой не надо верте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9" descr="giraf"/>
          <p:cNvPicPr/>
          <p:nvPr/>
        </p:nvPicPr>
        <p:blipFill>
          <a:blip r:embed="rId1"/>
          <a:stretch/>
        </p:blipFill>
        <p:spPr>
          <a:xfrm>
            <a:off x="2050920" y="2637000"/>
            <a:ext cx="48261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img14-520x245"/>
          <p:cNvPicPr/>
          <p:nvPr/>
        </p:nvPicPr>
        <p:blipFill>
          <a:blip r:embed="rId1"/>
          <a:srcRect l="0" t="0" r="31557" b="-1898"/>
          <a:stretch/>
        </p:blipFill>
        <p:spPr>
          <a:xfrm>
            <a:off x="701640" y="2906640"/>
            <a:ext cx="4248360" cy="29815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13" descr="1"/>
          <p:cNvPicPr/>
          <p:nvPr/>
        </p:nvPicPr>
        <p:blipFill>
          <a:blip r:embed="rId2"/>
          <a:srcRect l="18815" t="0" r="23107" b="0"/>
          <a:stretch/>
        </p:blipFill>
        <p:spPr>
          <a:xfrm>
            <a:off x="5940360" y="1471680"/>
            <a:ext cx="2691000" cy="46339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4"/>
          <p:cNvSpPr/>
          <p:nvPr/>
        </p:nvSpPr>
        <p:spPr>
          <a:xfrm>
            <a:off x="0" y="540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жирафа самая длинная шея, но в 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го 7 позвонков, также как у человека, кошки или мышки. Просто эти позвонки очень крупные и вытянуты в дл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576360" y="26028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ы – травоядные животные, жвачные, как коровы. Они могут питаться листвой самых верхушек деревьев. Жираф обхватывает ветвь своим языком и тянет её ко рту, общипывая листья. Жираф имеет самый длинный из всех млекопитающих язык (50 см), а ещё он почти коричневого цвета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g3"/>
          <p:cNvPicPr/>
          <p:nvPr/>
        </p:nvPicPr>
        <p:blipFill>
          <a:blip r:embed="rId1"/>
          <a:stretch/>
        </p:blipFill>
        <p:spPr>
          <a:xfrm>
            <a:off x="1639800" y="2833560"/>
            <a:ext cx="5559480" cy="2667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7"/>
          <p:cNvSpPr/>
          <p:nvPr/>
        </p:nvSpPr>
        <p:spPr>
          <a:xfrm>
            <a:off x="7560" y="5732640"/>
            <a:ext cx="56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ким длинным языком жирафы даж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чистить собственные уш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3"/>
          <p:cNvSpPr/>
          <p:nvPr/>
        </p:nvSpPr>
        <p:spPr>
          <a:xfrm>
            <a:off x="0" y="11592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рафам трудно наклонить шею, поэтому траву они щиплют только в голодные времена. На еду у самого высокого на Земле млекопитающего уходит по 20 часов в сутки!  В день он съедает 30-40 кг зел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1" descr="g15"/>
          <p:cNvPicPr/>
          <p:nvPr/>
        </p:nvPicPr>
        <p:blipFill>
          <a:blip r:embed="rId1"/>
          <a:stretch/>
        </p:blipFill>
        <p:spPr>
          <a:xfrm>
            <a:off x="5400720" y="1773360"/>
            <a:ext cx="3635280" cy="42512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4"/>
          <p:cNvSpPr/>
          <p:nvPr/>
        </p:nvSpPr>
        <p:spPr>
          <a:xfrm>
            <a:off x="0" y="302904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тобы попить воды жираф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ходится принимать необычные позы, широко раздвигать передние ноги и наклонять переднюю часть туловища и шею вперёд. Жираф может обходиться без воды дольше, чем верблю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выпить сразу до 6 ведер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3"/>
          <p:cNvSpPr/>
          <p:nvPr/>
        </p:nvSpPr>
        <p:spPr>
          <a:xfrm>
            <a:off x="0" y="0"/>
            <a:ext cx="89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гда животное скачет галопом, его длиннющая шея мотается из стороны в сторону, описывая восьмерку. Кажется, что она может завязаться узлом. Длина одного шага жирафа - 6-8 метров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ка жираф сделает один шаг,  мы пробежим 11 шаг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g18"/>
          <p:cNvPicPr/>
          <p:nvPr/>
        </p:nvPicPr>
        <p:blipFill>
          <a:blip r:embed="rId1"/>
          <a:stretch/>
        </p:blipFill>
        <p:spPr>
          <a:xfrm>
            <a:off x="2771640" y="2244600"/>
            <a:ext cx="35290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0" y="242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ы хорошие прыгу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и очень-очень высоко прыгаю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высоту почти на 2 метр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image"/>
          <p:cNvPicPr/>
          <p:nvPr/>
        </p:nvPicPr>
        <p:blipFill>
          <a:blip r:embed="rId1"/>
          <a:stretch/>
        </p:blipFill>
        <p:spPr>
          <a:xfrm>
            <a:off x="4932360" y="549360"/>
            <a:ext cx="33289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3"/>
          <p:cNvSpPr/>
          <p:nvPr/>
        </p:nvSpPr>
        <p:spPr>
          <a:xfrm>
            <a:off x="149400" y="260280"/>
            <a:ext cx="89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отличие от человека, жирафы умеют отдыхать стоя. Обычно сеанс сна на ногах длится не больше 5 минут. Но когда жирафу необходимо хорошенько выспаться, он ложится на землю, поджимает под себя передние ноги, загибает голову назад и кладет ее на ножку. При этом общая продолжительность сна за сутки у жирафов редко превышает 60 мину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9" descr="g13"/>
          <p:cNvPicPr/>
          <p:nvPr/>
        </p:nvPicPr>
        <p:blipFill>
          <a:blip r:embed="rId1"/>
          <a:stretch/>
        </p:blipFill>
        <p:spPr>
          <a:xfrm>
            <a:off x="2195640" y="2276640"/>
            <a:ext cx="5113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os9i"/>
          <p:cNvPicPr/>
          <p:nvPr/>
        </p:nvPicPr>
        <p:blipFill>
          <a:blip r:embed="rId1"/>
          <a:stretch/>
        </p:blipFill>
        <p:spPr>
          <a:xfrm>
            <a:off x="2104920" y="2708280"/>
            <a:ext cx="5156280" cy="34574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900000" y="11808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 - хороший сосед, так как жираф с высоты своего роста всегда может увидеть своих врагов. Поэтому антилопы, зебры, страусы любят держаться рядом с ними, так как враги у них одни, это гиены или ль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8T17:11:13Z</dcterms:created>
  <dc:creator>Valentina</dc:creator>
  <dc:description/>
  <dc:language>en-US</dc:language>
  <cp:lastModifiedBy>Учетная запись Майкрософт</cp:lastModifiedBy>
  <dcterms:modified xsi:type="dcterms:W3CDTF">2023-05-14T16:55:29Z</dcterms:modified>
  <cp:revision>27</cp:revision>
  <dc:subject/>
  <dc:title>Слайд 1</dc:title>
</cp:coreProperties>
</file>