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DC87-970A-44E9-BB98-E364603A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51A7-420F-4627-AD56-13BA8456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440B-C12D-4DB4-97BE-5A4BB5FA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29B0-17EC-4DA4-B8FA-F4EBD98E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7B791-A95A-4181-A2CA-6F100C78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55BA7-EAC1-4788-9A7D-C93FF381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3CFAD-9E67-4359-9B64-534BDD53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D6631-AB7B-4295-A7AD-582BB2F5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07955-89BA-4DFB-B370-DDA5B505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6EDFC-94D4-42BE-9D70-2097D7A6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30894-9D6E-4909-85A5-515DFB56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9C41-F812-4B9D-8F85-7E90DA58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A4103-984A-4DBD-97BB-3CFADB92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50D91-E50C-4589-841C-C431C00F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192B5-5F85-403C-809E-8319F452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C6336-2163-4DC9-A5EE-F02E3F77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4E4C6-7EFA-444F-9766-13CB520B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D7D15-A4DE-488E-8376-0E12BFCD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D50FC-15F8-4C3A-9B07-9BBA4E63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C1A1D0-3B08-4543-B738-303B461D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3D3C81-5658-4BF3-A07C-F8A351C3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1EAF4-CDFA-49A4-8BA7-85C636FA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9B7D-DDB4-4D01-B452-925F9EEB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2F7CE7-2B1D-4AC6-9796-2CED4BF0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2A061F-CB28-48D5-A3A3-67DDB93C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4D88EE-A1D4-4FB8-B24C-E58C5F70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5BF6CC-2427-421B-9110-8BD855D6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8CD4E6-DA03-404B-8C00-328B6CE3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2537D-9808-4BAD-BC30-C4516BD1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10C4F7-9B07-4083-8972-932F6518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AF338D-1949-4071-90FB-B891B87A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3B1D9E-1DE4-44CC-970A-2E519594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455A66-489F-4F36-8861-94FBBE56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E8B9-8A2D-4013-B33E-EB36D407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57621A-0AEA-41FD-8CE1-78746222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2F0E51-A6D9-44B8-B9FF-70041A9A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68030D-F794-4659-92FD-83AAA78E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23B526-B900-491C-8A24-1371008C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2E493C-EF79-4B07-8093-58F83237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8ECFFE-60E3-4093-BAA8-64AC7B6D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2AE463-37FF-413F-BCA4-6DE8FE35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67D6E3-E110-4F77-B45E-167D06B1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9D8EAD-37D3-4698-8568-A385FA8D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134CFE-6082-443E-B449-F5B2E6D4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B0C1-7243-4592-A18F-C2FFC4AB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453F07-7359-4470-9EA5-CF68849F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008619-2155-4053-A1C2-4F78180A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606BC8-70E1-438E-BF95-0E26C6A1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867F0E-A75A-4BA5-8651-38B8740F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7874F8-3D95-4028-B63D-594124EE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C851F1-9589-4108-888F-AA9F8AC4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8291A4-7945-47E4-AC4B-628965F3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5F2E12-3040-42CF-91D1-83F5173A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6761F5-F63C-45C0-99EF-AD05731A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AD1AB9-9572-4DE6-85C3-AD844A4B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E0FD-BDA6-4BB7-B4D3-D43EC58C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B34FD9-893F-43A2-8BCF-EA0CCB86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A288BA-78A9-480D-A4A4-B1354DAB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3B1277-01EF-45E4-A97F-1274F59C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371461-7872-402F-A5F2-6503E0E2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F5A42D-5C32-485F-A015-846CE79B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D24171-6CDF-4BD5-ACA0-A39AD942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FB164F-3489-48FE-8677-CC437F57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022EFF-DBE6-4E5D-B00B-6051254E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FAB96A-C1AC-438E-964D-3E896DFF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73BEC5-78E0-4CA0-8113-ECE08558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CAFF-7F9D-4811-B0C1-6BB8A683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65C91E-2EE7-4596-AD5E-A847B46E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59BCCC-4CCE-4CA9-9158-C4541A51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DBD5BC-8AF8-4EB8-AAF5-4912D2FF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19AD-D064-4F89-B1DE-7A174232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9FDB-448A-49B6-9EC6-9B5317B0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af22"/>
            </a:gs>
            <a:gs pos="100000">
              <a:srgbClr val="7243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07C3-0E80-475E-8CA2-F3D97C9911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af22"/>
            </a:gs>
            <a:gs pos="100000">
              <a:srgbClr val="7243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3042-AADE-4311-8353-E405165DC6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af22"/>
            </a:gs>
            <a:gs pos="100000">
              <a:srgbClr val="7243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D651-C0DB-4FC7-B368-5D53E9F73A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af22"/>
            </a:gs>
            <a:gs pos="100000">
              <a:srgbClr val="7243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E02A-DABD-4D48-9589-CC0B70BFAB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af22"/>
            </a:gs>
            <a:gs pos="100000">
              <a:srgbClr val="7243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F236-1358-4B69-A310-94C82DBD97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af22"/>
            </a:gs>
            <a:gs pos="100000">
              <a:srgbClr val="7243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F624-DE80-4EC9-83EC-5CC08C2A20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3"/>
          <p:cNvSpPr/>
          <p:nvPr/>
        </p:nvSpPr>
        <p:spPr>
          <a:xfrm>
            <a:off x="519120" y="547200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Это самое высокое животное на планет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го рост достигает 6 метров, то есть он выше двухэтажного дома.  Жирафы живут только в Африке. Крупнее его на планете слон, носорог и бегемо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4"/>
          <p:cNvSpPr/>
          <p:nvPr/>
        </p:nvSpPr>
        <p:spPr>
          <a:xfrm>
            <a:off x="282600" y="189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дин из самых интересных жителей африканской саванны — жираф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11" descr="419411"/>
          <p:cNvPicPr/>
          <p:nvPr/>
        </p:nvPicPr>
        <p:blipFill>
          <a:blip r:embed="rId1"/>
          <a:stretch/>
        </p:blipFill>
        <p:spPr>
          <a:xfrm>
            <a:off x="1258920" y="2421000"/>
            <a:ext cx="2946240" cy="2209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E:\ЖИРАФ\жираф 1.jpg"/>
          <p:cNvPicPr/>
          <p:nvPr/>
        </p:nvPicPr>
        <p:blipFill>
          <a:blip r:embed="rId2"/>
          <a:stretch/>
        </p:blipFill>
        <p:spPr>
          <a:xfrm>
            <a:off x="4964040" y="1135080"/>
            <a:ext cx="292104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7" descr="baby-giraffe-photography-i17"/>
          <p:cNvPicPr/>
          <p:nvPr/>
        </p:nvPicPr>
        <p:blipFill>
          <a:blip r:embed="rId1"/>
          <a:stretch/>
        </p:blipFill>
        <p:spPr>
          <a:xfrm>
            <a:off x="642960" y="1773360"/>
            <a:ext cx="3211560" cy="468000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1"/>
          <p:cNvSpPr/>
          <p:nvPr/>
        </p:nvSpPr>
        <p:spPr>
          <a:xfrm>
            <a:off x="108000" y="260280"/>
            <a:ext cx="885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ождение жирафёнка – радостное событие для всего стада. Появившегося на свет жирафёнка, каждый взрослый нежно приветствует прикосновением нос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3767040" y="2780280"/>
            <a:ext cx="521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егда появляется на свет тольк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дин малыш весом 50-70 кг и ростом под 2 метра! Уже через час он вста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 свои тонкие ножки, а через два резво бега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newborn_giraffe_05"/>
          <p:cNvPicPr/>
          <p:nvPr/>
        </p:nvPicPr>
        <p:blipFill>
          <a:blip r:embed="rId1"/>
          <a:stretch/>
        </p:blipFill>
        <p:spPr>
          <a:xfrm>
            <a:off x="826920" y="1484280"/>
            <a:ext cx="2936880" cy="4176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0000181d_big"/>
          <p:cNvPicPr/>
          <p:nvPr/>
        </p:nvPicPr>
        <p:blipFill>
          <a:blip r:embed="rId2"/>
          <a:stretch/>
        </p:blipFill>
        <p:spPr>
          <a:xfrm>
            <a:off x="4842000" y="1413000"/>
            <a:ext cx="3224160" cy="432108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1"/>
          <p:cNvSpPr/>
          <p:nvPr/>
        </p:nvSpPr>
        <p:spPr>
          <a:xfrm>
            <a:off x="969120" y="115920"/>
            <a:ext cx="7261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Жирафы млекопитающи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ни выкармливают своих детёнышей молоком, в зоопарка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сли мать не может кормить своего жирафёнк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эту роль на себя берёт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187280" y="5819760"/>
            <a:ext cx="7417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возрасте 2-3 недель малыш уже уме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обывать себе корм, но сосёт мать 1,5 го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раф растёт до 6 л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9" descr="download"/>
          <p:cNvPicPr/>
          <p:nvPr/>
        </p:nvPicPr>
        <p:blipFill>
          <a:blip r:embed="rId1"/>
          <a:stretch/>
        </p:blipFill>
        <p:spPr>
          <a:xfrm>
            <a:off x="2133720" y="2637000"/>
            <a:ext cx="5181480" cy="291456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11"/>
          <p:cNvSpPr/>
          <p:nvPr/>
        </p:nvSpPr>
        <p:spPr>
          <a:xfrm>
            <a:off x="820440" y="187920"/>
            <a:ext cx="766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тёныши жирафа рождаются очень миленькими и смешны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то интересно, они рождаются на голов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ез рожек, а на их месте растет черный пушок шер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о временем, когда рожки уже появляютс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эти волоски исчезаю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3"/>
          <p:cNvSpPr/>
          <p:nvPr/>
        </p:nvSpPr>
        <p:spPr>
          <a:xfrm>
            <a:off x="250920" y="26028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ирафы мужественно защищают малышей, чьи бы они ни были. Особенно защищает свое потомство родительница. Она, не задумываясь, бросается навстречу стае гиен, не отступает перед львами, даже если их несколь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4" descr="video_1512262_0"/>
          <p:cNvPicPr/>
          <p:nvPr/>
        </p:nvPicPr>
        <p:blipFill>
          <a:blip r:embed="rId1"/>
          <a:stretch/>
        </p:blipFill>
        <p:spPr>
          <a:xfrm>
            <a:off x="1476360" y="2205000"/>
            <a:ext cx="648036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"/>
          <p:cNvSpPr/>
          <p:nvPr/>
        </p:nvSpPr>
        <p:spPr>
          <a:xfrm>
            <a:off x="755640" y="62280"/>
            <a:ext cx="79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гда малыш уже достаточно твердо стоит на ножках. Мать отыскивает находящихся поблизости других самок с такими же малыша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они устраивают для своих потомков «детский сад»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6" descr="grupo_jirafas"/>
          <p:cNvPicPr/>
          <p:nvPr/>
        </p:nvPicPr>
        <p:blipFill>
          <a:blip r:embed="rId1"/>
          <a:stretch/>
        </p:blipFill>
        <p:spPr>
          <a:xfrm>
            <a:off x="1116000" y="1557360"/>
            <a:ext cx="6912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7"/>
          <p:cNvSpPr/>
          <p:nvPr/>
        </p:nvSpPr>
        <p:spPr>
          <a:xfrm>
            <a:off x="392400" y="619560"/>
            <a:ext cx="361296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мотрите на жираф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н высокий, выше  шкафа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елефонной башни выше 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н котенка снимет с крыши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. Родивилина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28"/>
          <p:cNvSpPr/>
          <p:nvPr/>
        </p:nvSpPr>
        <p:spPr>
          <a:xfrm>
            <a:off x="5725440" y="477000"/>
            <a:ext cx="300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клонись, жираф, ко мн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Я спрошу тебя на ушко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 Ты, наверное, к Лун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касаешься макушкой?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не жираф ответил так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 Не такой уж я чудак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 Луне порядком пыл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 мне голову помы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. Фоков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29"/>
          <p:cNvSpPr/>
          <p:nvPr/>
        </p:nvSpPr>
        <p:spPr>
          <a:xfrm>
            <a:off x="1338840" y="107640"/>
            <a:ext cx="408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ТИХИ ПРО ЖИРАФА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30"/>
          <p:cNvSpPr/>
          <p:nvPr/>
        </p:nvSpPr>
        <p:spPr>
          <a:xfrm>
            <a:off x="2862000" y="3373920"/>
            <a:ext cx="3417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одит медленно жираф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ордо голову задрав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чень стройный, очень яркий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н - от родины вдал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тобы дети в зоопарк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юбоваться им могла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. Шил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447840" y="168840"/>
            <a:ext cx="8212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Жираф - это странное на вид животное Афри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ловина его роста – длинная, до 3 метров, ше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рошечная голова с двумя короткими рожкам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бтянутыми кожей, поднята над землей на 5 - 6 мет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 хвост длиной в 1 метр. Весит жираф 750 килограмм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лаза так посажены, что все вокруг видят и головой не надо верте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9" descr="giraf"/>
          <p:cNvPicPr/>
          <p:nvPr/>
        </p:nvPicPr>
        <p:blipFill>
          <a:blip r:embed="rId1"/>
          <a:stretch/>
        </p:blipFill>
        <p:spPr>
          <a:xfrm>
            <a:off x="2050920" y="2637000"/>
            <a:ext cx="48261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img14-520x245"/>
          <p:cNvPicPr/>
          <p:nvPr/>
        </p:nvPicPr>
        <p:blipFill>
          <a:blip r:embed="rId1"/>
          <a:srcRect l="0" t="0" r="31557" b="-1898"/>
          <a:stretch/>
        </p:blipFill>
        <p:spPr>
          <a:xfrm>
            <a:off x="701640" y="2906640"/>
            <a:ext cx="4248360" cy="298152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13" descr="1"/>
          <p:cNvPicPr/>
          <p:nvPr/>
        </p:nvPicPr>
        <p:blipFill>
          <a:blip r:embed="rId2"/>
          <a:srcRect l="18815" t="0" r="23107" b="0"/>
          <a:stretch/>
        </p:blipFill>
        <p:spPr>
          <a:xfrm>
            <a:off x="5940360" y="1471680"/>
            <a:ext cx="2691000" cy="46339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14"/>
          <p:cNvSpPr/>
          <p:nvPr/>
        </p:nvSpPr>
        <p:spPr>
          <a:xfrm>
            <a:off x="0" y="540360"/>
            <a:ext cx="56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 жирафа самая длинная шея, но в н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сего 7 позвонков, также как у человека, кошки или мышки. Просто эти позвонки очень крупные и вытянуты в дли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576360" y="26028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ирафы – травоядные животные, жвачные, как коровы. Они могут питаться листвой самых верхушек деревьев. Жираф обхватывает ветвь своим языком и тянет её ко рту, общипывая листья. Жираф имеет самый длинный из всех млекопитающих язык (50 см), а ещё он почти коричневого цвета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5" descr="g3"/>
          <p:cNvPicPr/>
          <p:nvPr/>
        </p:nvPicPr>
        <p:blipFill>
          <a:blip r:embed="rId1"/>
          <a:stretch/>
        </p:blipFill>
        <p:spPr>
          <a:xfrm>
            <a:off x="1639800" y="2833560"/>
            <a:ext cx="5559480" cy="26672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7"/>
          <p:cNvSpPr/>
          <p:nvPr/>
        </p:nvSpPr>
        <p:spPr>
          <a:xfrm>
            <a:off x="7560" y="5732640"/>
            <a:ext cx="56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аким длинным языком жирафы даж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гут чистить собственные уш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3"/>
          <p:cNvSpPr/>
          <p:nvPr/>
        </p:nvSpPr>
        <p:spPr>
          <a:xfrm>
            <a:off x="0" y="115920"/>
            <a:ext cx="87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рафам трудно наклонить шею, поэтому траву они щиплют только в голодные времена. На еду у самого высокого на Земле млекопитающего уходит по 20 часов в сутки!  В день он съедает 30-40 кг зелен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11" descr="g15"/>
          <p:cNvPicPr/>
          <p:nvPr/>
        </p:nvPicPr>
        <p:blipFill>
          <a:blip r:embed="rId1"/>
          <a:stretch/>
        </p:blipFill>
        <p:spPr>
          <a:xfrm>
            <a:off x="5400720" y="1773360"/>
            <a:ext cx="3635280" cy="425124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4"/>
          <p:cNvSpPr/>
          <p:nvPr/>
        </p:nvSpPr>
        <p:spPr>
          <a:xfrm>
            <a:off x="0" y="302904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тобы попить воды жираф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ходится принимать необычные позы, широко раздвигать передние ноги и наклонять переднюю часть туловища и шею вперёд. Жираф может обходиться без воды дольше, чем верблю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выпить сразу до 6 ведер во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3"/>
          <p:cNvSpPr/>
          <p:nvPr/>
        </p:nvSpPr>
        <p:spPr>
          <a:xfrm>
            <a:off x="0" y="0"/>
            <a:ext cx="892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гда животное скачет галопом, его длиннющая шея мотается из стороны в сторону, описывая восьмерку. Кажется, что она может завязаться узлом. Длина одного шага жирафа - 6-8 метров.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ка жираф сделает один шаг,  мы пробежим 11 шагов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5" descr="g18"/>
          <p:cNvPicPr/>
          <p:nvPr/>
        </p:nvPicPr>
        <p:blipFill>
          <a:blip r:embed="rId1"/>
          <a:stretch/>
        </p:blipFill>
        <p:spPr>
          <a:xfrm>
            <a:off x="2771640" y="2244600"/>
            <a:ext cx="352908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0" y="2421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ирафы хорошие прыгун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ни очень-очень высоко прыгаю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высоту почти на 2 метра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6" descr="image"/>
          <p:cNvPicPr/>
          <p:nvPr/>
        </p:nvPicPr>
        <p:blipFill>
          <a:blip r:embed="rId1"/>
          <a:stretch/>
        </p:blipFill>
        <p:spPr>
          <a:xfrm>
            <a:off x="4932360" y="549360"/>
            <a:ext cx="3328920" cy="54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3"/>
          <p:cNvSpPr/>
          <p:nvPr/>
        </p:nvSpPr>
        <p:spPr>
          <a:xfrm>
            <a:off x="149400" y="260280"/>
            <a:ext cx="896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отличие от человека, жирафы умеют отдыхать стоя. Обычно сеанс сна на ногах длится не больше 5 минут. Но когда жирафу необходимо хорошенько выспаться, он ложится на землю, поджимает под себя передние ноги, загибает голову назад и кладет ее на ножку. При этом общая продолжительность сна за сутки у жирафов редко превышает 60 мину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9" descr="g13"/>
          <p:cNvPicPr/>
          <p:nvPr/>
        </p:nvPicPr>
        <p:blipFill>
          <a:blip r:embed="rId1"/>
          <a:stretch/>
        </p:blipFill>
        <p:spPr>
          <a:xfrm>
            <a:off x="2195640" y="2276640"/>
            <a:ext cx="511308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7" descr="os9i"/>
          <p:cNvPicPr/>
          <p:nvPr/>
        </p:nvPicPr>
        <p:blipFill>
          <a:blip r:embed="rId1"/>
          <a:stretch/>
        </p:blipFill>
        <p:spPr>
          <a:xfrm>
            <a:off x="2104920" y="2708280"/>
            <a:ext cx="5156280" cy="34574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8"/>
          <p:cNvSpPr/>
          <p:nvPr/>
        </p:nvSpPr>
        <p:spPr>
          <a:xfrm>
            <a:off x="900000" y="118080"/>
            <a:ext cx="741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ираф - хороший сосед, так как жираф с высоты своего роста всегда может увидеть своих врагов. Поэтому антилопы, зебры, страусы любят держаться рядом с ними, так как враги у них одни, это гиены или льв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8T17:11:13Z</dcterms:created>
  <dc:creator>Valentina</dc:creator>
  <dc:description/>
  <dc:language>en-US</dc:language>
  <cp:lastModifiedBy>Учетная запись Майкрософт</cp:lastModifiedBy>
  <dcterms:modified xsi:type="dcterms:W3CDTF">2023-05-14T16:55:29Z</dcterms:modified>
  <cp:revision>27</cp:revision>
  <dc:subject/>
  <dc:title>Слайд 1</dc:title>
</cp:coreProperties>
</file>