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0D6-1324-4C87-AB7D-D790166B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B18-AA70-4048-8E7C-931849D0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53A35-448B-4291-A42E-09B6FD17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D795A-CE89-4C48-A427-58FF1124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9CAE9-FA89-489E-8150-DFD755AF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C513A-DBCD-4515-AE48-3A29CBE1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7A26D-09AF-4267-9B91-1B8A0AEB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C1891-2508-466B-B10E-F62E8A22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55773-6B36-4E36-B35E-3D194306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8EED1-5EAB-4D20-AC7F-C91CADCC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A6C32-CBDD-443A-8715-45E36574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D9C-FA1F-4501-B2F9-E7B2ACF3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18D-E5FC-40D8-9DE0-60AEEBD5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3A5A-8980-4367-B98E-82BDD72C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4908-4708-43CD-8EAD-EC7BA9C9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BA1C-5951-4FC6-AA78-971F2C93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5F0F-1252-4BEB-85D4-A970365A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CE13-0A09-42BA-963D-BB9FD4F6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C013-6A51-4E92-9924-829ECBA7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F3E0-B39A-4910-95D0-10B0B980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91E-3D8C-4A97-9E4E-66F22876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FB29-48DB-42E2-A251-2F0606A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A71A-444A-43E8-88A3-C0EDFC2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EC56-4994-4BD0-ACAF-E17DB4FC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D53A-04C8-40AB-8E1F-48F3A22B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2C90-4032-49FD-A2D4-030144E9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1618-B59A-4725-A69C-A0E13116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30795-35EF-4FF0-B8D4-D9FB551B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66C9-B551-4EAE-811D-79C7128D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EC97-EAA3-433A-8F12-8E252C53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002F-C60F-4768-B1F7-BF761308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C73-DFAF-4F38-969E-FAEFE512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7C70-41C3-4854-9632-0B76BFC7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B0C5-CFD8-4C54-AB27-37212A53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17A9-8E1E-4389-BEB7-93B940C8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3115-0BE3-43D5-8798-DBEB1044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AEF3B-CD6B-4425-A0DD-B062E066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8A32D-AA5D-4995-BD1B-13CA8176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3823-8920-4238-ABD8-C0FAEB78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EA48D-CF07-437D-B6A8-A9D2A129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E8F5-1D69-4C5E-A358-31BF0F0B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80BA2-C13C-4E2C-A894-25866B53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E8E-A26A-41A8-B2A4-51891986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1DBF2-539F-49F2-A6EE-FA64751C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0BDA-B84D-4D86-8DC0-B8FEBB1A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F386-FBAF-434E-9500-ECA1BF00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8590-4C6A-4119-9D84-E4230508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55351-05E6-44DB-ABF6-35D195B9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A5B2-5672-46C6-9B11-274A639C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1F06-5625-4F76-80B3-9167A9AF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4897F-3603-46F1-B021-5AC9A96B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6E5DF-CC43-4639-9C92-32D23DC9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1D97-3D3C-4985-A6D5-B2B457B3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C7D-EFA9-4AB3-9949-2347F4F2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86D9B-DD91-4E90-B2D1-9CD85C74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7CB0B-8B7F-41D9-89D1-31BA8478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8B06-8D04-43B3-B2AF-ADB4F4B1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E420A-F0CA-46C3-988A-8ABB5A67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2157E-DE66-4685-A717-365378D1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C80F-B0C3-4D1E-A933-0CA97651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9AA68-E261-4049-A6EF-A2C53CAD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D582-DFDE-4C46-8F0D-04B501DC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1FF33-ACC0-487C-BC82-94B40BDB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1977-D4A3-4FBA-83C5-343237C9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85D-D72A-4E97-B216-1C85D07B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901A2-6C26-4E42-8331-219ABA22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A6423-910A-4B5A-8A35-F976C799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C5B91-6191-4DFB-BB08-7608E53F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4A27B-F757-44C3-BFBB-E029DC00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51DA1-48C4-4B52-AF71-E0B50678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8C485-D48E-4DE5-AD98-4257DCBA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21522-EBED-4C97-84F7-B2361543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DE548-F7B8-4E58-899E-91C6D08D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AF2BF-CCBB-412C-B530-F350C349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BA87A-02FD-454C-BD15-EF5939F4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4D4-6421-4F21-80CB-18D4B1C5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8572B-E0A5-433F-A625-F014AD69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B5DBB-CF19-4275-B58E-83E5B2CD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981DE-3BDF-4A52-9252-5965E975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969F3-4109-4762-9B4E-0BB3D67E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6AA09-348B-4074-A561-D7CED8EA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80FC2-EDEF-4BE7-AFE5-9CF92D0D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19449-CA6E-4C72-85DB-DF3FE81B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D54A5-2238-4E04-B123-4CB2D99A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B52AD-BCB6-41C1-940F-2C63FAD5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E6E70-0C1A-4F65-ADE0-2341554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CBC-FFB9-420D-98AE-417861FC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7BC2F-162D-40D3-9BE5-6133921B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0B79D-E365-4BD6-85C9-42928A3A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68500-A3B7-4365-B63F-9D17D228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CBA6E-DA4E-4ED3-A696-2BF4897E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2C47B-60CA-4D30-B051-C89EB4C4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6C40C-1013-41ED-8F9A-FE4D2980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52716-D384-496A-B17A-A6DF857E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B6661-B156-469A-A0B4-4C32E832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2628B-3E0D-4848-98CF-698919EA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FF7C6-00F3-43AB-A2B2-6BFDA19B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DE0-CB2C-4BD0-9E6A-E6B652B9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BF1FC-9F15-4602-9F4F-3A957AF9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3C923-C803-415D-B1B9-65BA935D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6E7F6-39B8-4923-9017-59B64F78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F1882-83FE-4BAF-B65E-42113899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180A-DDE2-42FC-B2B6-661FB65A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DB273-637C-4394-B495-CC6BA14C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AC386-27FC-4B39-865F-CA87A6F3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96471-9EA0-4C38-B97E-07FF3DB7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B647D-35DD-409B-B6F2-49614525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9B475-75BD-4799-B653-F804ECD0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8D50-C644-4EC3-AB0C-6247162F1F30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D719-9313-483D-94FE-A754D821D86B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16A3-2AAE-4BEE-B02B-2A376A4072F8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c9c2d1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c2d1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c9c2d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94E2-1DC2-42E3-93C9-73B7E1F2DC20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F79-9DC5-4431-BB32-3BD37C73608F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ADA8-B914-4E78-AA90-D6511225490E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5825-C9AD-4C23-AF21-730C99DF2EB7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E718-C333-42A2-9221-D648D3A0A114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C8AE-7884-4F98-BE72-828BFFF1406D}" type="slidenum">
              <a:rPr b="0" lang="ru-RU" sz="1200" spc="-1" strike="noStrike">
                <a:solidFill>
                  <a:srgbClr val="b5a35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68000" y="98100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Презентация к уроку литературного чтения по теме: «</a:t>
            </a: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Рассказ А.И.Куприна «Скворцы. Словарная работа»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о АООП НОО для слабослышащих и позднооглохших обучающихся ФГОС НОО обучающихся с ОВЗ. (вариант 2.2), 4 класс </a:t>
            </a:r>
            <a:endParaRPr b="0" lang="en-US" sz="2400" spc="-1" strike="noStrike">
              <a:solidFill>
                <a:srgbClr val="69676d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Georgia"/>
              </a:rPr>
              <a:t>Подготовила: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Якушевич Е.И.,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ГБОУ «Белгородская коррекционная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общеобразовательная 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школа- интернат № 23</a:t>
            </a:r>
            <a:endParaRPr b="0" lang="en-US" sz="2000" spc="-1" strike="noStrike">
              <a:solidFill>
                <a:srgbClr val="69676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80520" y="4365360"/>
            <a:ext cx="8007480" cy="193500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ка – это мама –скворец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ец – это папа-скворец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9" name="Рисунок 4" descr=""/>
          <p:cNvPicPr/>
          <p:nvPr/>
        </p:nvPicPr>
        <p:blipFill>
          <a:blip r:embed="rId1"/>
          <a:stretch/>
        </p:blipFill>
        <p:spPr>
          <a:xfrm>
            <a:off x="1857240" y="333360"/>
            <a:ext cx="54295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80520" y="4723920"/>
            <a:ext cx="8294760" cy="15764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Times New Roman"/>
                <a:ea typeface="Times New Roman"/>
              </a:rPr>
              <a:t>Яйца скворца</a:t>
            </a:r>
            <a:r>
              <a:rPr b="0" lang="en-US" sz="4000" spc="-1" strike="noStrike">
                <a:solidFill>
                  <a:srgbClr val="09028c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9028c"/>
                </a:solidFill>
                <a:latin typeface="Times New Roman"/>
                <a:ea typeface="Times New Roman"/>
              </a:rPr>
              <a:t>- маленькие, голубоватые, глянцеватые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1" name="Рисунок 4" descr=""/>
          <p:cNvPicPr/>
          <p:nvPr/>
        </p:nvPicPr>
        <p:blipFill>
          <a:blip r:embed="rId1"/>
          <a:stretch/>
        </p:blipFill>
        <p:spPr>
          <a:xfrm>
            <a:off x="2085840" y="557280"/>
            <a:ext cx="49723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380520" y="4581000"/>
            <a:ext cx="8294760" cy="201636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ворец развлекает самку пением. 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ка высиживает птенцов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3" name="Рисунок 4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99104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80520" y="4652640"/>
            <a:ext cx="7791480" cy="1647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началу июня вылупились птенцы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5" name="Рисунок 4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80520" y="4508640"/>
            <a:ext cx="8294760" cy="179208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тенец скворца есть истинное чудовище (очень некрасивый)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7" name="Рисунок 4" descr=""/>
          <p:cNvPicPr/>
          <p:nvPr/>
        </p:nvPicPr>
        <p:blipFill>
          <a:blip r:embed="rId1"/>
          <a:stretch/>
        </p:blipFill>
        <p:spPr>
          <a:xfrm>
            <a:off x="2095560" y="539640"/>
            <a:ext cx="4952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80520" y="5532480"/>
            <a:ext cx="586764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76d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29" name="Рисунок 4" descr=""/>
          <p:cNvPicPr/>
          <p:nvPr/>
        </p:nvPicPr>
        <p:blipFill>
          <a:blip r:embed="rId1"/>
          <a:stretch/>
        </p:blipFill>
        <p:spPr>
          <a:xfrm>
            <a:off x="684360" y="1386000"/>
            <a:ext cx="4105080" cy="408600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6" descr=""/>
          <p:cNvPicPr/>
          <p:nvPr/>
        </p:nvPicPr>
        <p:blipFill>
          <a:blip r:embed="rId2"/>
          <a:stretch/>
        </p:blipFill>
        <p:spPr>
          <a:xfrm>
            <a:off x="4937040" y="1371600"/>
            <a:ext cx="4037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520" y="5532480"/>
            <a:ext cx="586764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Times New Roman"/>
              </a:rPr>
              <a:t>Скворец кормит птенцов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2" name="Рисунок 4" descr=""/>
          <p:cNvPicPr/>
          <p:nvPr/>
        </p:nvPicPr>
        <p:blipFill>
          <a:blip r:embed="rId1"/>
          <a:stretch/>
        </p:blipFill>
        <p:spPr>
          <a:xfrm>
            <a:off x="2090880" y="981000"/>
            <a:ext cx="4962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920" y="551664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Arial"/>
              </a:rPr>
              <a:t>Скворцы охраняют своих птенцов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4" name="Рисунок 4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54673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9028c"/>
                </a:solidFill>
                <a:latin typeface="Times New Roman"/>
              </a:rPr>
              <a:t>Скворцы охраняют своих птенцов</a:t>
            </a:r>
            <a:br>
              <a:rPr sz="6500"/>
            </a:b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6" name="Рисунок 2" descr=""/>
          <p:cNvPicPr/>
          <p:nvPr/>
        </p:nvPicPr>
        <p:blipFill>
          <a:blip r:embed="rId1"/>
          <a:stretch/>
        </p:blipFill>
        <p:spPr>
          <a:xfrm>
            <a:off x="1366920" y="1295280"/>
            <a:ext cx="6410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9028c"/>
                </a:solidFill>
                <a:latin typeface="Times New Roman"/>
              </a:rPr>
              <a:t>Скворцы учатся летать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38" name="Рисунок 2" descr=""/>
          <p:cNvPicPr/>
          <p:nvPr/>
        </p:nvPicPr>
        <p:blipFill>
          <a:blip r:embed="rId1"/>
          <a:stretch/>
        </p:blipFill>
        <p:spPr>
          <a:xfrm>
            <a:off x="231840" y="1484280"/>
            <a:ext cx="86803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542880" y="549360"/>
            <a:ext cx="8375760" cy="24494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2195280" y="3213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eorgia"/>
              </a:rPr>
              <a:t>Скворцы.</a:t>
            </a:r>
            <a:endParaRPr b="0" lang="en-US" sz="4800" spc="-1" strike="noStrike">
              <a:solidFill>
                <a:srgbClr val="69676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4" descr=""/>
          <p:cNvPicPr/>
          <p:nvPr/>
        </p:nvPicPr>
        <p:blipFill>
          <a:blip r:embed="rId1"/>
          <a:stretch/>
        </p:blipFill>
        <p:spPr>
          <a:xfrm>
            <a:off x="542880" y="1054080"/>
            <a:ext cx="84679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4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4637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" descr=""/>
          <p:cNvPicPr/>
          <p:nvPr/>
        </p:nvPicPr>
        <p:blipFill>
          <a:blip r:embed="rId2"/>
          <a:stretch/>
        </p:blipFill>
        <p:spPr>
          <a:xfrm>
            <a:off x="2235240" y="1650960"/>
            <a:ext cx="4825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304920" y="414360"/>
            <a:ext cx="8686800" cy="1243080"/>
          </a:xfrm>
          <a:prstGeom prst="rect">
            <a:avLst/>
          </a:prstGeom>
          <a:ln w="0">
            <a:noFill/>
          </a:ln>
        </p:spPr>
      </p:pic>
      <p:pic>
        <p:nvPicPr>
          <p:cNvPr id="405" name="Объект 3" descr=""/>
          <p:cNvPicPr/>
          <p:nvPr/>
        </p:nvPicPr>
        <p:blipFill>
          <a:blip r:embed="rId2"/>
          <a:stretch/>
        </p:blipFill>
        <p:spPr>
          <a:xfrm>
            <a:off x="1558800" y="1413000"/>
            <a:ext cx="60264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80520" y="5532480"/>
            <a:ext cx="807876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 fontScale="77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ворец устраивает гнездо очень глубоко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07" name="Рисунок 6" descr=""/>
          <p:cNvPicPr/>
          <p:nvPr/>
        </p:nvPicPr>
        <p:blipFill>
          <a:blip r:embed="rId1"/>
          <a:stretch/>
        </p:blipFill>
        <p:spPr>
          <a:xfrm>
            <a:off x="2066760" y="1413000"/>
            <a:ext cx="501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920" y="5589720"/>
            <a:ext cx="800712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кворец ищет свой корм на земле.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09" name="Рисунок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38520" cy="32576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6" descr=""/>
          <p:cNvPicPr/>
          <p:nvPr/>
        </p:nvPicPr>
        <p:blipFill>
          <a:blip r:embed="rId2"/>
          <a:stretch/>
        </p:blipFill>
        <p:spPr>
          <a:xfrm>
            <a:off x="4254480" y="1344600"/>
            <a:ext cx="46958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9028c"/>
                </a:solidFill>
                <a:latin typeface="Arial"/>
              </a:rPr>
              <a:t>Ласточка ищет корм в небе на лету.</a:t>
            </a:r>
            <a:endParaRPr b="0" lang="en-US" sz="36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53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9028c"/>
                </a:solidFill>
                <a:latin typeface="Arial"/>
              </a:rPr>
              <a:t>Поползень и дятел ищут свой корм на дереве.</a:t>
            </a:r>
            <a:br>
              <a:rPr sz="2900"/>
            </a:br>
            <a:endParaRPr b="0" lang="en-US" sz="29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4" name="Рисунок 2" descr=""/>
          <p:cNvPicPr/>
          <p:nvPr/>
        </p:nvPicPr>
        <p:blipFill>
          <a:blip r:embed="rId1"/>
          <a:stretch/>
        </p:blipFill>
        <p:spPr>
          <a:xfrm>
            <a:off x="281160" y="1773360"/>
            <a:ext cx="4248000" cy="436248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"/>
          <p:cNvPicPr/>
          <p:nvPr/>
        </p:nvPicPr>
        <p:blipFill>
          <a:blip r:embed="rId2"/>
          <a:stretch/>
        </p:blipFill>
        <p:spPr>
          <a:xfrm>
            <a:off x="4630680" y="1692360"/>
            <a:ext cx="4361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80520" y="4652640"/>
            <a:ext cx="8512200" cy="1647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ворец  истребляет очень много вредных насекомых</a:t>
            </a:r>
            <a:endParaRPr b="0" lang="en-US" sz="4000" spc="-1" strike="noStrike">
              <a:solidFill>
                <a:srgbClr val="69676d"/>
              </a:solidFill>
              <a:latin typeface="Georgia"/>
            </a:endParaRPr>
          </a:p>
        </p:txBody>
      </p:sp>
      <p:pic>
        <p:nvPicPr>
          <p:cNvPr id="417" name="Рисунок 4" descr=""/>
          <p:cNvPicPr/>
          <p:nvPr/>
        </p:nvPicPr>
        <p:blipFill>
          <a:blip r:embed="rId1"/>
          <a:stretch/>
        </p:blipFill>
        <p:spPr>
          <a:xfrm>
            <a:off x="2109960" y="765000"/>
            <a:ext cx="4924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7:23:17Z</dcterms:created>
  <dc:creator>Игорь</dc:creator>
  <dc:description/>
  <dc:language>en-US</dc:language>
  <cp:lastModifiedBy>Илья Якушевич</cp:lastModifiedBy>
  <dcterms:modified xsi:type="dcterms:W3CDTF">2024-05-26T19:46:37Z</dcterms:modified>
  <cp:revision>34</cp:revision>
  <dc:subject/>
  <dc:title>Скворцы.</dc:title>
</cp:coreProperties>
</file>