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C5B-E023-43FF-9F22-96A962B3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59A-F42B-48E7-B7FA-AB4351FC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A2D90-D32B-48EA-9719-F2EC9661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302B5-03EA-4E62-9BC2-04E7F079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980AE-A751-496F-9654-253436E8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35475-279E-447A-B462-56E568E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6FBF0-71D8-486D-B9E2-2818E575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3C440-3A22-445B-A33A-B869E6AE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0BB8D-135E-4748-882E-4C735368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CFF23-25C2-47A8-A28E-0C64FFC4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52FA8-4328-4513-8F0C-F7429EF6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AFA-903B-406F-9903-A0989A06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D28-77C1-41BE-98DD-A7D3A966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D9D5-4AA6-48A9-A7B6-0FF2997C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5827-89FD-4914-B6A9-2CDDC1EA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F498-D824-48CA-8D48-57EC2511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AC10-F3DD-4F03-9428-3337B991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987E-E2A2-4960-8A18-E1866668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4D74-3171-45D7-8823-CB5CF3B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FDF7-611D-4599-87B4-061E374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FB3-023D-4C1D-A74C-FC4B69C4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A695-FED0-47C2-B9F0-B6DCCF5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1686-5C33-46A4-9819-602AF47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CF3B-B1C4-48D1-A764-5A2E2A6E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8EFC-A66D-4487-9983-764CD9F8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1133-68DD-484E-80F4-5494E139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67B2-1654-4FE3-8444-3AE6BF09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9750F-C929-469D-AABF-D8AD6E36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CF2B-B483-44EC-8A8C-29D5E9C4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6CAD-ECDB-4DC8-8389-46A52AFF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3A35-D90C-4A63-B001-426AF351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87E-7AE6-4875-A976-B4BD7A2D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5915-8917-40EA-BEAB-6F8ECBF9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7E02-6626-4D32-BB97-0EB4E904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AA34-6022-4543-A701-119B976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7C32-0D55-4F74-9589-26B1B84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4B42-6AAE-49DC-9142-A826CD2E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C5EA-4B8A-4904-8149-D2333241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766B-FF60-46CD-B712-37F3326E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43E1A-925E-4EE5-8628-2DE2DA7B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CEAD-77D3-4B09-945A-88149689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B06E-AF54-4C05-8E15-7376A31B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B28-0E7D-4B77-B7EC-905D4EB4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0C27-B061-44F4-8C5F-B2B96928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8369-B32C-4CF4-9C46-01E7119F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BCF4-ACD2-4ABE-B9B6-7DFD2EFB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DB46-B973-4D4D-A2D9-FA9E67F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53F38-BD70-4684-B77C-4DB202F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E203C-CA84-4990-B5CC-7935740C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1AA6-52AE-4999-B00B-5F3DAC2F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4A09-D766-4A6B-AC13-0EFD1B55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C137-C3DD-4D05-BE24-E1F67C81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BB8ED-90AA-424F-8554-3D0C5A78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FA7-85C4-4258-B90A-B0E968A3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7F608-8ADD-4179-B3C5-552AA2B8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8E433-2BC4-4514-AEA0-D519F105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0E2EA-F820-474B-AACF-DAE1B813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C8EE-3394-4353-8A7D-AA5BABDD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78E2-F910-4961-9CEE-58805E4B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75C15-E98A-4D9E-981C-4C94A05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B800-4362-482B-93FB-EF387529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35630-6FC0-4DAA-B462-8DD4E7E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73A86-203A-4DE3-94BF-9AB1E08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8177D-E582-45DC-BD3C-421FD5BE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AE8-45E9-44E5-B192-AEB0ED4F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7E567-106C-467D-A82C-472EEEB9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E21B7-F269-4D1B-8834-5366EED0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0F2C6-EC63-4A64-9574-1FBF6A74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5CBF6-F916-47DD-87A1-5279A97C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D6649-2F1F-4FD1-9A51-CD5A5C27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3037A-BE54-4247-A7CA-74273AC5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332F0-D666-45F9-92BE-F293871B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35B6B-E500-4D0B-B856-D67E24BB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7CFBF-AF77-486F-89D4-717C86A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C8C68-CDF5-4449-9B17-5486EC6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52C-5313-4B64-8F13-7F02177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06FD4-02BB-46BB-9EFC-53CFFE4C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EC8AB-8455-4393-BF6F-70301D0D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962C7-5268-415C-AD74-05E350BE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CEE7F-4CC0-416E-98EC-F813E420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487AB-6B67-4C2E-99AE-ACAF87E4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1375E-D782-486E-9134-32FD9888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DA427-4824-44C5-8816-F00E35D7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8EA5-DA6E-44AF-994C-375D3B5C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B2A4D-6DA2-4E7C-8C58-500CDF24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AE1CC-8DE7-4B3C-B9D3-FE104A82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9F0-9172-46A4-9D30-9388F8E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C99A6-0791-4B7E-8878-EA2D7CB3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8BDD1-FEFD-4BF1-B406-CD97FCA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9DC23-BFDC-49D8-98C0-27EE3DAC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0D03A-9F9D-47D9-B48D-C22F1698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0958-015E-4730-BF1A-11166E33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FA04A-1F44-4365-AA70-BA2C4F37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A4668-28EF-4119-86AB-1262F743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674C-D1CE-4D36-8F77-706729AB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F4BF5-8128-4BCF-B4D1-B5D805E3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A4D94-9200-4C6B-AF60-7B649891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8BE-62F8-412B-9948-8FE3C5AE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C36BD-D57C-4316-84A0-1AE9FE2E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45144-6C1B-4072-89EF-AB26905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DC0B2-F9ED-4B2A-BC9D-B55247A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5A6A-1CB0-4F72-8390-C107EE2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7B43-8E71-4D51-A343-74C0A8C7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D797D-5669-475E-AF57-EB0A09E5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B01B9-C004-4362-84F3-2B83C392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4A907-2955-4138-B33C-728F5EFC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EB93F-2EDE-47F7-A6DF-E7D80AA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9C257-5A7A-46F6-9619-0C829CC3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5A1-1F3B-41E3-959D-1D3619FA4A7D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89B6-3B2D-4C22-BBB8-320FEFAEA3E9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95B6-6F98-40AE-A108-F3E18BDD218E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c2d1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c9c2d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DF37-817B-410F-952B-555C15F085CB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E8DA-C090-4CFC-B7E4-94DF92FDB529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79A1-6368-4F28-A4D8-7350D3E76AC6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C66F-BE8A-4B8A-849E-2D9316475CDA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72B8-10CA-484A-B2C0-EA330AE53596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7E47-4B3E-47D2-88EB-8B83A31D96EE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68000" y="98100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Презентация к уроку литературного чтения по теме: «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Рассказ А.И.Куприна «Скворцы. Словарная работа»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о АООП НОО для слабослышащих и позднооглохших обучающихся ФГОС НОО обучающихся с ОВЗ. (вариант 2.2), 4 класс </a:t>
            </a:r>
            <a:endParaRPr b="0" lang="en-US" sz="2400" spc="-1" strike="noStrike">
              <a:solidFill>
                <a:srgbClr val="69676d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Georgia"/>
              </a:rPr>
              <a:t>Подготовила: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Якушевич Е.И.,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ГБОУ «Белгородская коррекционная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бщеобразовательная 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школа- интернат № 23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80520" y="4365360"/>
            <a:ext cx="8007480" cy="193500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ка – это мама –скворец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ец – это папа-скворец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9" name="Рисунок 4" descr=""/>
          <p:cNvPicPr/>
          <p:nvPr/>
        </p:nvPicPr>
        <p:blipFill>
          <a:blip r:embed="rId1"/>
          <a:stretch/>
        </p:blipFill>
        <p:spPr>
          <a:xfrm>
            <a:off x="1857240" y="333360"/>
            <a:ext cx="54295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80520" y="4723920"/>
            <a:ext cx="8294760" cy="15764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Times New Roman"/>
                <a:ea typeface="Times New Roman"/>
              </a:rPr>
              <a:t>Яйца скворца</a:t>
            </a:r>
            <a:r>
              <a:rPr b="0" lang="en-US" sz="4000" spc="-1" strike="noStrike">
                <a:solidFill>
                  <a:srgbClr val="09028c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9028c"/>
                </a:solidFill>
                <a:latin typeface="Times New Roman"/>
                <a:ea typeface="Times New Roman"/>
              </a:rPr>
              <a:t>- маленькие, голубоватые, глянцеватые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1" name="Рисунок 4" descr=""/>
          <p:cNvPicPr/>
          <p:nvPr/>
        </p:nvPicPr>
        <p:blipFill>
          <a:blip r:embed="rId1"/>
          <a:stretch/>
        </p:blipFill>
        <p:spPr>
          <a:xfrm>
            <a:off x="2085840" y="557280"/>
            <a:ext cx="49723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380520" y="4581000"/>
            <a:ext cx="8294760" cy="201636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орец развлекает самку пением. 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ка высиживает птенцов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3" name="Рисунок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99104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80520" y="4652640"/>
            <a:ext cx="7791480" cy="1647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началу июня вылупились птенцы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5" name="Рисунок 4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80520" y="4508640"/>
            <a:ext cx="8294760" cy="179208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тенец скворца есть истинное чудовище (очень некрасивый)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7" name="Рисунок 4" descr=""/>
          <p:cNvPicPr/>
          <p:nvPr/>
        </p:nvPicPr>
        <p:blipFill>
          <a:blip r:embed="rId1"/>
          <a:stretch/>
        </p:blipFill>
        <p:spPr>
          <a:xfrm>
            <a:off x="2095560" y="539640"/>
            <a:ext cx="4952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80520" y="5532480"/>
            <a:ext cx="586764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76d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9" name="Рисунок 4" descr=""/>
          <p:cNvPicPr/>
          <p:nvPr/>
        </p:nvPicPr>
        <p:blipFill>
          <a:blip r:embed="rId1"/>
          <a:stretch/>
        </p:blipFill>
        <p:spPr>
          <a:xfrm>
            <a:off x="684360" y="1386000"/>
            <a:ext cx="4105080" cy="40860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6" descr=""/>
          <p:cNvPicPr/>
          <p:nvPr/>
        </p:nvPicPr>
        <p:blipFill>
          <a:blip r:embed="rId2"/>
          <a:stretch/>
        </p:blipFill>
        <p:spPr>
          <a:xfrm>
            <a:off x="4937040" y="1371600"/>
            <a:ext cx="4037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520" y="5532480"/>
            <a:ext cx="586764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Times New Roman"/>
              </a:rPr>
              <a:t>Скворец кормит птенцов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2" name="Рисунок 4" descr=""/>
          <p:cNvPicPr/>
          <p:nvPr/>
        </p:nvPicPr>
        <p:blipFill>
          <a:blip r:embed="rId1"/>
          <a:stretch/>
        </p:blipFill>
        <p:spPr>
          <a:xfrm>
            <a:off x="2090880" y="981000"/>
            <a:ext cx="4962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920" y="551664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Arial"/>
              </a:rPr>
              <a:t>Скворцы охраняют своих птенцов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4" name="Рисунок 4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5467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9028c"/>
                </a:solidFill>
                <a:latin typeface="Times New Roman"/>
              </a:rPr>
              <a:t>Скворцы охраняют своих птенцов</a:t>
            </a:r>
            <a:br>
              <a:rPr sz="6500"/>
            </a:b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6" name="Рисунок 2" descr=""/>
          <p:cNvPicPr/>
          <p:nvPr/>
        </p:nvPicPr>
        <p:blipFill>
          <a:blip r:embed="rId1"/>
          <a:stretch/>
        </p:blipFill>
        <p:spPr>
          <a:xfrm>
            <a:off x="1366920" y="1295280"/>
            <a:ext cx="6410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Times New Roman"/>
              </a:rPr>
              <a:t>Скворцы учатся летать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8" name="Рисунок 2" descr=""/>
          <p:cNvPicPr/>
          <p:nvPr/>
        </p:nvPicPr>
        <p:blipFill>
          <a:blip r:embed="rId1"/>
          <a:stretch/>
        </p:blipFill>
        <p:spPr>
          <a:xfrm>
            <a:off x="231840" y="1484280"/>
            <a:ext cx="8680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542880" y="549360"/>
            <a:ext cx="8375760" cy="24494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2195280" y="3213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Скворцы.</a:t>
            </a:r>
            <a:endParaRPr b="0" lang="en-US" sz="4800" spc="-1" strike="noStrike">
              <a:solidFill>
                <a:srgbClr val="6967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4" descr=""/>
          <p:cNvPicPr/>
          <p:nvPr/>
        </p:nvPicPr>
        <p:blipFill>
          <a:blip r:embed="rId1"/>
          <a:stretch/>
        </p:blipFill>
        <p:spPr>
          <a:xfrm>
            <a:off x="542880" y="1054080"/>
            <a:ext cx="84679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4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4637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"/>
          <p:cNvPicPr/>
          <p:nvPr/>
        </p:nvPicPr>
        <p:blipFill>
          <a:blip r:embed="rId2"/>
          <a:stretch/>
        </p:blipFill>
        <p:spPr>
          <a:xfrm>
            <a:off x="2235240" y="1650960"/>
            <a:ext cx="4825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04920" y="414360"/>
            <a:ext cx="8686800" cy="1243080"/>
          </a:xfrm>
          <a:prstGeom prst="rect">
            <a:avLst/>
          </a:prstGeom>
          <a:ln w="0">
            <a:noFill/>
          </a:ln>
        </p:spPr>
      </p:pic>
      <p:pic>
        <p:nvPicPr>
          <p:cNvPr id="405" name="Объект 3" descr=""/>
          <p:cNvPicPr/>
          <p:nvPr/>
        </p:nvPicPr>
        <p:blipFill>
          <a:blip r:embed="rId2"/>
          <a:stretch/>
        </p:blipFill>
        <p:spPr>
          <a:xfrm>
            <a:off x="1558800" y="1413000"/>
            <a:ext cx="60264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80520" y="5532480"/>
            <a:ext cx="807876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 fontScale="7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ворец устраивает гнездо очень глубоко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07" name="Рисунок 6" descr=""/>
          <p:cNvPicPr/>
          <p:nvPr/>
        </p:nvPicPr>
        <p:blipFill>
          <a:blip r:embed="rId1"/>
          <a:stretch/>
        </p:blipFill>
        <p:spPr>
          <a:xfrm>
            <a:off x="2066760" y="1413000"/>
            <a:ext cx="501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5589720"/>
            <a:ext cx="800712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кворец ищет свой корм на земле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09" name="Рисунок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38520" cy="32576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6" descr=""/>
          <p:cNvPicPr/>
          <p:nvPr/>
        </p:nvPicPr>
        <p:blipFill>
          <a:blip r:embed="rId2"/>
          <a:stretch/>
        </p:blipFill>
        <p:spPr>
          <a:xfrm>
            <a:off x="4254480" y="1344600"/>
            <a:ext cx="46958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9028c"/>
                </a:solidFill>
                <a:latin typeface="Arial"/>
              </a:rPr>
              <a:t>Ласточка ищет корм в небе на лету.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53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9028c"/>
                </a:solidFill>
                <a:latin typeface="Arial"/>
              </a:rPr>
              <a:t>Поползень и дятел ищут свой корм на дереве.</a:t>
            </a:r>
            <a:br>
              <a:rPr sz="2900"/>
            </a:br>
            <a:endParaRPr b="0" lang="en-US" sz="29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4" name="Рисунок 2" descr=""/>
          <p:cNvPicPr/>
          <p:nvPr/>
        </p:nvPicPr>
        <p:blipFill>
          <a:blip r:embed="rId1"/>
          <a:stretch/>
        </p:blipFill>
        <p:spPr>
          <a:xfrm>
            <a:off x="281160" y="1773360"/>
            <a:ext cx="4248000" cy="436248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"/>
          <p:cNvPicPr/>
          <p:nvPr/>
        </p:nvPicPr>
        <p:blipFill>
          <a:blip r:embed="rId2"/>
          <a:stretch/>
        </p:blipFill>
        <p:spPr>
          <a:xfrm>
            <a:off x="4630680" y="1692360"/>
            <a:ext cx="4361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80520" y="4652640"/>
            <a:ext cx="8512200" cy="1647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ворец  истребляет очень много вредных насекомых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7" name="Рисунок 4" descr=""/>
          <p:cNvPicPr/>
          <p:nvPr/>
        </p:nvPicPr>
        <p:blipFill>
          <a:blip r:embed="rId1"/>
          <a:stretch/>
        </p:blipFill>
        <p:spPr>
          <a:xfrm>
            <a:off x="2109960" y="765000"/>
            <a:ext cx="4924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7:23:17Z</dcterms:created>
  <dc:creator>Игорь</dc:creator>
  <dc:description/>
  <dc:language>en-US</dc:language>
  <cp:lastModifiedBy>Илья Якушевич</cp:lastModifiedBy>
  <dcterms:modified xsi:type="dcterms:W3CDTF">2024-05-26T19:46:37Z</dcterms:modified>
  <cp:revision>34</cp:revision>
  <dc:subject/>
  <dc:title>Скворцы.</dc:title>
</cp:coreProperties>
</file>