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DE2-2D5F-457A-95A7-D7C8BF2F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660-A7B4-4DD6-BC14-08BFF03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EA922-43C2-44F9-87DC-1B920F42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32DB7-C689-4F7B-840D-D8C1C40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00E9-93B2-43F2-9775-EE38E24E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F6CA2-FE72-43CE-8424-43D10A0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3CCD5-38C5-48E6-A65C-B78C4D0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8074B-0A6C-43C8-9177-B11ED201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EFF68-8670-4E84-A5F4-4C77300D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F5423-7D79-4352-919C-DEF4D1AD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6E189-BFDD-4C82-BDF4-A7151F42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9DB-F0D9-4BEA-891D-EF17AC13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B82-8B56-4668-928C-85CE29F7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6B3D-700F-427A-9CB3-7B024F07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E6AD-C08B-4F51-9B4A-109F88B8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5C99-88F9-4F28-9CF2-84D2418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076D-8378-461F-813D-E58BE76D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2D27-A5C9-4EBA-9B2F-AF2C28A6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6831-3370-4970-915D-3BD1DA18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7EFB-CB12-4CBD-94D0-65C25F2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238-F6A6-4275-B70C-90802FD8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5D44-C15F-4A1C-9A2E-F05245D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D7F-159E-49BA-846C-5F3DF241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2E25-27BE-4C41-80DC-F3090BF1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887C-9130-4D6A-84D9-256A9AA1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2003-8931-447D-96FE-093CEDE5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B2AAD-83E4-459E-AD1A-4D2CE582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BE72-B542-40B9-8630-2573E19B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947D-3C3C-4624-9007-FBE20A01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22DD-E8AA-4083-A254-204E4CB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16B8-3B20-4669-80EF-BCC63EED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EF6-0EFD-4433-BA39-D35D180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F1F3-EB73-4B5A-A421-CA4E1341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CBE1-7CDA-415A-BC3C-35C08FE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129D-3918-4763-991A-2F7A676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219A-DB48-4C30-A50B-531D149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D871-F78B-44B1-823D-B6B09A20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4A8A-04BF-4705-B922-3D28B4B2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1C04-7A4E-49B9-8D33-638301FB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571A-216D-445F-B7B9-C9709F72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CB7B-77E9-4303-BBD1-5C871C96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11D9-C345-489F-8E96-55C4753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835-3928-4B80-8CD6-FAC29A5F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61EA-DF6B-4D54-A48E-E3C264FA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0B35-5239-4711-A0A1-877EEB8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3EFD-7239-41DE-AAD6-D49E81CD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400B-724D-402A-8B69-8E96DDD2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0FA6-F0CF-436E-B976-923A5E2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47C7-F69D-484E-B656-5490EF2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E801-0F04-491A-841E-A0DC236F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032B0-A7E4-4DB6-B7B7-D7E8374D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BF4A-C6C2-4D5A-909D-327605C2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54CC-9B9E-4304-B28C-D5393785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E19-7440-42D5-A099-4DBE4964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2FED-4B7C-43E1-89CA-80759A21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0A3E-2189-46F5-8453-7D935D6D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C3E3C-6466-44A4-9B66-68C20CAA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AA33-4678-41C8-B3C4-C10D610B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EB44D-EB0A-4621-A96F-CD53CDE4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ADB9-CD5A-40CB-9AC0-389B256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E6AE-4C92-41FD-AFF2-4CF294DF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0497-01F0-43C6-8CF1-6FF9AB17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44308-046B-4480-912C-FF54DF96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928D-DB0B-492F-A5B8-CDB3317D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941-9741-4CBF-8A95-40DEFB6E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B28FA-27F9-4B58-9059-BC771F9F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C176-9B11-40BC-A830-18ED08A8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7925-0127-48B8-A885-D4FD91B6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BB31-29FD-47CD-BFCE-3D371224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68AA-99DF-4963-8866-DD59D4CA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1637-857D-4B50-B6DD-12AF5CA2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40B1-E2FD-4F24-A45C-0A00975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BDD5E-69E1-4DCB-ABD7-07497B39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2722-E7F3-4A62-9BC1-DF3F813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4969-6D71-4EC1-A52A-CBDB9A74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894-F75B-4CA5-9D54-134E036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7E4C-9D17-4530-B5EB-51D4CA4D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FD2E-D5EC-4A7C-A74E-1B34E4BC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1DA9-6E60-4180-B06E-301DCCB9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9EDF-E4FB-4339-9F8E-A2E39C23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7BC1A-6BAC-4D39-A3EA-978D7838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73FE-D181-4404-831E-BA6C25B0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C229-D75B-4C64-9677-4E8C8FC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0EF38-0609-498D-A2AE-E421404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4085-4EC7-471B-991A-761862D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1D259-59D4-4EAB-8737-79C42A51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5B1-E141-4521-8D39-6CC2C67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C415-E312-414D-90C7-84316D9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D045-9F37-41C8-B3AE-067D216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1101-86D9-4338-8A23-94A0B74E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0A8B4-1A57-4ED0-8330-589AA896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C22C-49E7-4EBC-A632-A645C102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0444B-6EC3-4FD6-8CAD-0D2B4D3E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36DF-1162-4FBA-84D5-70FCDDC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40F1-2835-4C33-AAC9-F975A0C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62C56-3449-446D-B442-3B22E0B5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EA5B-7176-4332-9E97-C269339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7F5-CFD3-4D5F-9512-41C7165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C4FBA-877B-4C0C-830C-7C63EAD2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ED07C-7E7F-4479-99C4-D4359E64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C27B-F355-4715-8529-0289320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DB322-9E18-490F-8321-FEFC8A2B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CF181-2459-4DC3-9D59-DEB80B28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895D9-3926-45E1-A1DD-EB82C6B1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FD04E-E66C-421A-A6AE-B57B7607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4306-1494-4D92-95B3-856537A7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480F-9814-42E8-B949-9F1B5813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50779-016E-4F02-8CCF-637D7A39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7AF1-E0C5-4E90-9B56-D31C6FAF4267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FC8-55AE-4198-9DFC-16271699386D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9FEE-E1AF-4E96-9839-AC18E8A9867E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C07-0CFD-4944-A92A-1AC92DB15830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ECA-84F5-42AC-AA27-4C27B08C4394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BF2B-4494-4693-9A79-B529AB2FC322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106C-4FD0-4A6B-A855-93A93888B8A7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2107-1893-45D8-95F5-D48E0B36D8BC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8502-3B06-481D-AF99-9D9FA98457AF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Презентация к уроку литературного чтения по теме: «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Рассказ А.И.Куприна «Скворцы. Словарная работа»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о АООП НОО для слабослышащих и позднооглохших обучающихся ФГОС НОО обучающихся с ОВЗ. (вариант 2.2), 4 класс </a:t>
            </a:r>
            <a:endParaRPr b="0" lang="en-US" sz="2400" spc="-1" strike="noStrike">
              <a:solidFill>
                <a:srgbClr val="69676d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eorgia"/>
              </a:rPr>
              <a:t>Подготовила: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Якушевич Е.И.,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ГБОУ «Белгородская коррекционная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бщеобразовательная 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школа- интернат № 23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80520" y="4365360"/>
            <a:ext cx="8007480" cy="1935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ка – это мама –скворец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ец – это папа-скворец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9" name="Рисунок 4" descr=""/>
          <p:cNvPicPr/>
          <p:nvPr/>
        </p:nvPicPr>
        <p:blipFill>
          <a:blip r:embed="rId1"/>
          <a:stretch/>
        </p:blipFill>
        <p:spPr>
          <a:xfrm>
            <a:off x="1857240" y="333360"/>
            <a:ext cx="54295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0520" y="4723920"/>
            <a:ext cx="8294760" cy="15764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Яйца скворца</a:t>
            </a:r>
            <a:r>
              <a:rPr b="0" lang="en-US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- маленькие, голубоватые, глянцеватые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1" name="Рисунок 4" descr=""/>
          <p:cNvPicPr/>
          <p:nvPr/>
        </p:nvPicPr>
        <p:blipFill>
          <a:blip r:embed="rId1"/>
          <a:stretch/>
        </p:blipFill>
        <p:spPr>
          <a:xfrm>
            <a:off x="2085840" y="557280"/>
            <a:ext cx="49723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80520" y="4581000"/>
            <a:ext cx="8294760" cy="201636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орец развлекает самку пением. 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ка высиживает птенцов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3" name="Рисунок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9910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80520" y="465264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началу июня вылупились птенцы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5" name="Рисунок 4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80520" y="4508640"/>
            <a:ext cx="8294760" cy="179208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тенец скворца есть истинное чудовище (очень некрасивый)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7" name="Рисунок 4" descr=""/>
          <p:cNvPicPr/>
          <p:nvPr/>
        </p:nvPicPr>
        <p:blipFill>
          <a:blip r:embed="rId1"/>
          <a:stretch/>
        </p:blipFill>
        <p:spPr>
          <a:xfrm>
            <a:off x="2095560" y="539640"/>
            <a:ext cx="4952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586764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76d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9" name="Рисунок 4" descr=""/>
          <p:cNvPicPr/>
          <p:nvPr/>
        </p:nvPicPr>
        <p:blipFill>
          <a:blip r:embed="rId1"/>
          <a:stretch/>
        </p:blipFill>
        <p:spPr>
          <a:xfrm>
            <a:off x="684360" y="1386000"/>
            <a:ext cx="4105080" cy="40860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6" descr=""/>
          <p:cNvPicPr/>
          <p:nvPr/>
        </p:nvPicPr>
        <p:blipFill>
          <a:blip r:embed="rId2"/>
          <a:stretch/>
        </p:blipFill>
        <p:spPr>
          <a:xfrm>
            <a:off x="4937040" y="1371600"/>
            <a:ext cx="4037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586764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</a:rPr>
              <a:t>Скворец кормит птенцов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2" name="Рисунок 4" descr=""/>
          <p:cNvPicPr/>
          <p:nvPr/>
        </p:nvPicPr>
        <p:blipFill>
          <a:blip r:embed="rId1"/>
          <a:stretch/>
        </p:blipFill>
        <p:spPr>
          <a:xfrm>
            <a:off x="2090880" y="981000"/>
            <a:ext cx="4962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551664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Arial"/>
              </a:rPr>
              <a:t>Скворцы охраняют своих птенцов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4" name="Рисунок 4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5467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9028c"/>
                </a:solidFill>
                <a:latin typeface="Times New Roman"/>
              </a:rPr>
              <a:t>Скворцы охраняют своих птенцов</a:t>
            </a:r>
            <a:br>
              <a:rPr sz="6500"/>
            </a:b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6" name="Рисунок 2" descr=""/>
          <p:cNvPicPr/>
          <p:nvPr/>
        </p:nvPicPr>
        <p:blipFill>
          <a:blip r:embed="rId1"/>
          <a:stretch/>
        </p:blipFill>
        <p:spPr>
          <a:xfrm>
            <a:off x="1366920" y="1295280"/>
            <a:ext cx="6410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</a:rPr>
              <a:t>Скворцы учатся летать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8" name="Рисунок 2" descr=""/>
          <p:cNvPicPr/>
          <p:nvPr/>
        </p:nvPicPr>
        <p:blipFill>
          <a:blip r:embed="rId1"/>
          <a:stretch/>
        </p:blipFill>
        <p:spPr>
          <a:xfrm>
            <a:off x="231840" y="1484280"/>
            <a:ext cx="8680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375760" cy="2449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2195280" y="3213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Скворцы.</a:t>
            </a:r>
            <a:endParaRPr b="0" lang="en-US" sz="4800" spc="-1" strike="noStrike">
              <a:solidFill>
                <a:srgbClr val="6967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4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84679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4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4637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"/>
          <p:cNvPicPr/>
          <p:nvPr/>
        </p:nvPicPr>
        <p:blipFill>
          <a:blip r:embed="rId2"/>
          <a:stretch/>
        </p:blipFill>
        <p:spPr>
          <a:xfrm>
            <a:off x="2235240" y="1650960"/>
            <a:ext cx="4825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04920" y="414360"/>
            <a:ext cx="8686800" cy="1243080"/>
          </a:xfrm>
          <a:prstGeom prst="rect">
            <a:avLst/>
          </a:prstGeom>
          <a:ln w="0">
            <a:noFill/>
          </a:ln>
        </p:spPr>
      </p:pic>
      <p:pic>
        <p:nvPicPr>
          <p:cNvPr id="405" name="Объект 3" descr=""/>
          <p:cNvPicPr/>
          <p:nvPr/>
        </p:nvPicPr>
        <p:blipFill>
          <a:blip r:embed="rId2"/>
          <a:stretch/>
        </p:blipFill>
        <p:spPr>
          <a:xfrm>
            <a:off x="1558800" y="1413000"/>
            <a:ext cx="60264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807876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 fontScale="7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ворец устраивает гнездо очень глубоко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07" name="Рисунок 6" descr=""/>
          <p:cNvPicPr/>
          <p:nvPr/>
        </p:nvPicPr>
        <p:blipFill>
          <a:blip r:embed="rId1"/>
          <a:stretch/>
        </p:blipFill>
        <p:spPr>
          <a:xfrm>
            <a:off x="2066760" y="1413000"/>
            <a:ext cx="501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5589720"/>
            <a:ext cx="800712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кворец ищет свой корм на земле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09" name="Рисунок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38520" cy="32576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"/>
          <p:cNvPicPr/>
          <p:nvPr/>
        </p:nvPicPr>
        <p:blipFill>
          <a:blip r:embed="rId2"/>
          <a:stretch/>
        </p:blipFill>
        <p:spPr>
          <a:xfrm>
            <a:off x="4254480" y="1344600"/>
            <a:ext cx="46958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9028c"/>
                </a:solidFill>
                <a:latin typeface="Arial"/>
              </a:rPr>
              <a:t>Ласточка ищет корм в небе на лету.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53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9028c"/>
                </a:solidFill>
                <a:latin typeface="Arial"/>
              </a:rPr>
              <a:t>Поползень и дятел ищут свой корм на дереве.</a:t>
            </a:r>
            <a:br>
              <a:rPr sz="2900"/>
            </a:br>
            <a:endParaRPr b="0" lang="en-US" sz="29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4" name="Рисунок 2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4248000" cy="43624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"/>
          <p:cNvPicPr/>
          <p:nvPr/>
        </p:nvPicPr>
        <p:blipFill>
          <a:blip r:embed="rId2"/>
          <a:stretch/>
        </p:blipFill>
        <p:spPr>
          <a:xfrm>
            <a:off x="4630680" y="1692360"/>
            <a:ext cx="4361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80520" y="4652640"/>
            <a:ext cx="8512200" cy="1647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ворец  истребляет очень много вредных насекомых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7" name="Рисунок 4" descr=""/>
          <p:cNvPicPr/>
          <p:nvPr/>
        </p:nvPicPr>
        <p:blipFill>
          <a:blip r:embed="rId1"/>
          <a:stretch/>
        </p:blipFill>
        <p:spPr>
          <a:xfrm>
            <a:off x="2109960" y="765000"/>
            <a:ext cx="4924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7:23:17Z</dcterms:created>
  <dc:creator>Игорь</dc:creator>
  <dc:description/>
  <dc:language>en-US</dc:language>
  <cp:lastModifiedBy>Илья Якушевич</cp:lastModifiedBy>
  <dcterms:modified xsi:type="dcterms:W3CDTF">2024-05-26T19:46:37Z</dcterms:modified>
  <cp:revision>34</cp:revision>
  <dc:subject/>
  <dc:title>Скворцы.</dc:title>
</cp:coreProperties>
</file>