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wind.wav" ContentType="audio/x-wav"/>
  <Override PartName="/ppt/media/image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159-AC40-43C0-A14D-94081182F8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7AB-5FD2-4E0D-B339-0771913654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24B-541C-4AA7-A9AE-860766302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EBB-2B5D-48FF-8FA1-BAF0942899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762-8434-4180-A5B0-321785980D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55A-A33B-4531-8663-F5BF2C8996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F98-16BF-40F8-A5E7-1DF44E076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8FB0-544E-4B37-B5F9-EBF9D4FB51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4C9-8614-4B0F-A65F-7828E1CDB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C20-365E-416D-9D90-31D881AACB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0B1-F120-41CA-9A28-A07E55398F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2245-CE07-4BFA-838E-1666E72811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1AA8-FB34-41E9-BB65-8D902AA80B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C67-C74F-4F80-BDD3-7C533F2E5F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2E6B-5A1E-4F27-82B3-CEB23ABB4D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87E-AB99-474F-99FB-F6FCEA77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32D-929D-4E9B-9D28-D34ADD3A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393-A67F-47FD-A12F-8B00EE83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EA8-56F1-4544-AEFD-138CA566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A56-3968-44BD-9C5D-3299887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034-AC4E-40B2-B00E-FB8FE4C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304-6A91-45A4-8C89-11AE268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BE3-9898-4526-AF59-548BC8E9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B58-5A11-4C9A-8F71-7A569F2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B06-F208-4D52-9D2B-2490076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7F9-697D-42E2-8DDE-122A8D7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530-A062-4E0A-BD85-278F8FD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992-5FD5-4010-B7B3-93A1A443CD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03280" y="119700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Урок литературного чтения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i (13)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70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51737176_Sneg1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5768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51737176_Sneg1"/>
          <p:cNvPicPr/>
          <p:nvPr/>
        </p:nvPicPr>
        <p:blipFill>
          <a:blip r:embed="rId2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1892 год.jpg"/>
          <p:cNvPicPr/>
          <p:nvPr/>
        </p:nvPicPr>
        <p:blipFill>
          <a:blip r:embed="rId1"/>
          <a:stretch/>
        </p:blipFill>
        <p:spPr>
          <a:xfrm>
            <a:off x="-182520" y="0"/>
            <a:ext cx="4363920" cy="5772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924360" y="0"/>
            <a:ext cx="521964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нстантин Дмитриевич Бальмонт родился в семье небогатого дворянина. Детство провёл в деревне. Отец поэта – тихий, добрый человек, научил сына видеть красоту русской природы, а благодаря матери мальчик узнал красоту музыки и слова. В 9 лет Константин Дмитриевич начал писать стихи. Они очень певучи и музыкальн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57340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867 - 19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0"/>
            <a:ext cx="853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Домашнее задание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71640" y="1052640"/>
            <a:ext cx="7993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учить наизу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полнить творческое 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придумать загадку о снежинк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сыграть мини – спектакль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написать отзы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189000"/>
            <a:ext cx="98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одолжи предложе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17733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годня мы узнали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 хотели бы узн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16000" y="1557360"/>
            <a:ext cx="712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Дом её на белой туче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о ей страшен солнца лучи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еребристая пушинка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Шестигранна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73682633.gif"/>
          <p:cNvPicPr/>
          <p:nvPr/>
        </p:nvPicPr>
        <p:blipFill>
          <a:blip r:embed="rId1"/>
          <a:stretch/>
        </p:blipFill>
        <p:spPr>
          <a:xfrm>
            <a:off x="2268360" y="1484280"/>
            <a:ext cx="482472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403280" y="1197000"/>
            <a:ext cx="7274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К.Д. Бальмон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«Снежинка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0.08704 C 0.00903 0.04537 0.02257 -0.13541 -0.01007 -0.20717 C -0.01111 -0.21203 -0.01181 -0.21713 -0.01302 -0.22152 C -0.01459 -0.22662 -0.01754 -0.23032 -0.01875 -0.23564 C -0.02031 -0.24143 -0.01945 -0.2493 -0.0217 -0.25463 C -0.02361 -0.25949 -0.02743 -0.26088 -0.03021 -0.26412 C -0.03403 -0.27361 -0.03559 -0.28727 -0.04167 -0.29259 C -0.05191 -0.30115 -0.06893 -0.3206 -0.07899 -0.32592 C -0.09653 -0.33472 -0.12101 -0.34051 -0.13941 -0.3449 C -0.1625 -0.34328 -0.18577 -0.34629 -0.20834 -0.34004 C -0.22639 -0.33541 -0.24757 -0.28102 -0.26285 -0.26412 C -0.26372 -0.25949 -0.26424 -0.25416 -0.2658 -0.25 C -0.26806 -0.24305 -0.27257 -0.23819 -0.27448 -0.23102 C -0.27639 -0.22361 -0.27552 -0.21458 -0.27726 -0.20717 C -0.27847 -0.20185 -0.28177 -0.19814 -0.28299 -0.19282 C -0.29011 -0.16666 -0.29202 -0.13912 -0.29722 -0.11227 C -0.29827 -0.10115 -0.3 -0.09027 -0.30018 -0.07893 C -0.30191 -0.02037 -0.30052 0.03797 -0.30313 0.09653 C -0.30469 0.13773 -0.33455 0.16158 -0.33455 0.20093 E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0920" y="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ловарь настроени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508720" y="907920"/>
            <a:ext cx="30956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ьёз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рач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поднят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ревож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ечаль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корб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оск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мур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об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дит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еспокой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омантичес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осхищё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ечтатель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908000" y="907920"/>
            <a:ext cx="2808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шалов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васт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сёл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одр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аинстве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лнеч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дост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иричес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шут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бродуш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меш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ветл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осторже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априз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49228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Лазурна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90920" y="1268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Цвета лазури (светло - синяя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16360" y="587700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из словаря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500720" y="3141720"/>
            <a:ext cx="446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ереносное –         несбыточная (лазурная мечт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11280" y="692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Леле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11280" y="25653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е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443700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змет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67280" y="76500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нежить, холить заботливо ухажи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211640" y="270828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дуть, обдувать дуновени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067280" y="458136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поднимать кверху резко или броск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067280" y="5877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из словаря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5280" y="501336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их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i (6).jpg"/>
          <p:cNvPicPr/>
          <p:nvPr/>
        </p:nvPicPr>
        <p:blipFill>
          <a:blip r:embed="rId1"/>
          <a:stretch/>
        </p:blipFill>
        <p:spPr>
          <a:xfrm>
            <a:off x="4998960" y="1695600"/>
            <a:ext cx="3973680" cy="3754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059280" y="501336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мет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227640" y="5013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ьюг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1" descr="73682633.gif"/>
          <p:cNvPicPr/>
          <p:nvPr/>
        </p:nvPicPr>
        <p:blipFill>
          <a:blip r:embed="rId2"/>
          <a:stretch/>
        </p:blipFill>
        <p:spPr>
          <a:xfrm>
            <a:off x="125892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73682633.gif"/>
          <p:cNvPicPr/>
          <p:nvPr/>
        </p:nvPicPr>
        <p:blipFill>
          <a:blip r:embed="rId3"/>
          <a:stretch/>
        </p:blipFill>
        <p:spPr>
          <a:xfrm>
            <a:off x="395280" y="3789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73682633.gif"/>
          <p:cNvPicPr/>
          <p:nvPr/>
        </p:nvPicPr>
        <p:blipFill>
          <a:blip r:embed="rId4"/>
          <a:stretch/>
        </p:blipFill>
        <p:spPr>
          <a:xfrm>
            <a:off x="111600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i (8).jpg"/>
          <p:cNvPicPr/>
          <p:nvPr/>
        </p:nvPicPr>
        <p:blipFill>
          <a:blip r:embed="rId5"/>
          <a:stretch/>
        </p:blipFill>
        <p:spPr>
          <a:xfrm>
            <a:off x="895320" y="255600"/>
            <a:ext cx="3968640" cy="3755880"/>
          </a:xfrm>
          <a:prstGeom prst="rect">
            <a:avLst/>
          </a:prstGeom>
          <a:ln w="0">
            <a:noFill/>
          </a:ln>
        </p:spPr>
      </p:pic>
      <p:pic>
        <p:nvPicPr>
          <p:cNvPr id="76" name="Zvuk_-_vyuga_(iPlayer.f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051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38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4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250920" y="1197000"/>
            <a:ext cx="867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тафора – это использование слова в переносном значении на основании сходства или наоборот контраста одного предмета или явления с други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81652590_snezhinka1"/>
          <p:cNvPicPr/>
          <p:nvPr/>
        </p:nvPicPr>
        <p:blipFill>
          <a:blip r:embed="rId1"/>
          <a:stretch/>
        </p:blipFill>
        <p:spPr>
          <a:xfrm>
            <a:off x="2357280" y="2143080"/>
            <a:ext cx="3638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765000"/>
            <a:ext cx="86756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Рондо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 – это стихотворная форма, в которой автор повторяет одно и тоже предложение, создавая своеобразный замкнутый круг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84360" y="765000"/>
            <a:ext cx="88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spcBef>
                <a:spcPts val="3376"/>
              </a:spcBef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. Определите вид  чтения (соло, дуэт, трио и т.д.)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1280" y="3284640"/>
            <a:ext cx="89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2. Подготовьтесь выразительно читать стихотворе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07:30:54Z</dcterms:created>
  <dc:creator>Компьютер</dc:creator>
  <dc:description/>
  <dc:language>en-US</dc:language>
  <cp:lastModifiedBy>Admin</cp:lastModifiedBy>
  <dcterms:modified xsi:type="dcterms:W3CDTF">2023-04-19T18:39:08Z</dcterms:modified>
  <cp:revision>30</cp:revision>
  <dc:subject/>
  <dc:title>Слайд 1</dc:title>
</cp:coreProperties>
</file>