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wind.wav" ContentType="audio/x-wav"/>
  <Override PartName="/ppt/media/image7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254E-C854-4A56-BEA1-C9D66FD4AC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4AC2-66FF-424E-B5A9-8452B7BFEF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3E22-3447-459A-BCFE-FA72D09ED4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7191-C6A2-4BDB-B436-F5BB4BE3D3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4861-BAA2-4097-8F7F-D776F38815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FBFE-0B55-4CC3-BCCF-69B7646E16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2A0-CE5E-4A67-9D7B-0D9F32D24C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41F5-574E-428E-9CE6-52E64524D9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2C6F-4153-407F-AA47-A70AA7C560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9C9F-F43F-4FBD-B6ED-C5B2ABD444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CD42-8350-40BC-87E5-E7A2FC0E3F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73FE-83B4-448A-A4C6-A1570086D7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DBA3-9F81-4FC7-92D9-2155AF4582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9A22-989C-4FCE-B61D-B936136A15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835-B5AD-42EF-B9A6-C0FE63DC26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7D3-947C-4834-9A07-C28DA0DD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5A5-3399-4478-84D8-8837B329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FD8-E625-44BB-96EB-D29E7229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0B6-DC9C-47B0-A3BA-09976C7D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334-1500-48E2-86BA-CD2A398E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29B-6D8D-450B-B48E-2EEF106A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D14-3026-4C8E-B49A-497BA9DD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4B3-5F56-4DBE-A634-31671BA5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A9E-FBDB-4E4E-85F4-3A376FA8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4E0-A058-429C-A148-1F964F51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896-E720-4A81-B9B8-6BBD0132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474-DD3B-45E9-AC55-EF305F6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ABAA-7618-47B0-93BB-D48CDADCF2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03280" y="1197000"/>
            <a:ext cx="727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Урок литературного чтения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i (13)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702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51737176_Sneg1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5768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51737176_Sneg1"/>
          <p:cNvPicPr/>
          <p:nvPr/>
        </p:nvPicPr>
        <p:blipFill>
          <a:blip r:embed="rId2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1892 год.jpg"/>
          <p:cNvPicPr/>
          <p:nvPr/>
        </p:nvPicPr>
        <p:blipFill>
          <a:blip r:embed="rId1"/>
          <a:stretch/>
        </p:blipFill>
        <p:spPr>
          <a:xfrm>
            <a:off x="-182520" y="0"/>
            <a:ext cx="4363920" cy="5772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924360" y="0"/>
            <a:ext cx="521964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Константин Дмитриевич Бальмонт родился в семье небогатого дворянина. Детство провёл в деревне. Отец поэта – тихий, добрый человек, научил сына видеть красоту русской природы, а благодаря матери мальчик узнал красоту музыки и слова. В 9 лет Константин Дмитриевич начал писать стихи. Они очень певучи и музыкальн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573408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867 - 19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0"/>
            <a:ext cx="853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Домашнее задание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71640" y="1052640"/>
            <a:ext cx="7993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ыучить наизус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ыполнить творческое зада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придумать загадку о снежинк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сыграть мини – спектакль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- написать отзы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0920" y="189000"/>
            <a:ext cx="98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Продолжи предложени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00000" y="17733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егодня мы узнали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 хотели бы узна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116000" y="1557360"/>
            <a:ext cx="712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Дом её на белой туче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о ей страшен солнца лучи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еребристая пушинка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Шестигранная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3" descr="73682633.gif"/>
          <p:cNvPicPr/>
          <p:nvPr/>
        </p:nvPicPr>
        <p:blipFill>
          <a:blip r:embed="rId1"/>
          <a:stretch/>
        </p:blipFill>
        <p:spPr>
          <a:xfrm>
            <a:off x="2268360" y="1484280"/>
            <a:ext cx="482472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403280" y="1197000"/>
            <a:ext cx="72741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К.Д. Бальмон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«Снежинка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0.08704 C 0.00903 0.04537 0.02257 -0.13541 -0.01007 -0.20717 C -0.01111 -0.21203 -0.01181 -0.21713 -0.01302 -0.22152 C -0.01459 -0.22662 -0.01754 -0.23032 -0.01875 -0.23564 C -0.02031 -0.24143 -0.01945 -0.2493 -0.0217 -0.25463 C -0.02361 -0.25949 -0.02743 -0.26088 -0.03021 -0.26412 C -0.03403 -0.27361 -0.03559 -0.28727 -0.04167 -0.29259 C -0.05191 -0.30115 -0.06893 -0.3206 -0.07899 -0.32592 C -0.09653 -0.33472 -0.12101 -0.34051 -0.13941 -0.3449 C -0.1625 -0.34328 -0.18577 -0.34629 -0.20834 -0.34004 C -0.22639 -0.33541 -0.24757 -0.28102 -0.26285 -0.26412 C -0.26372 -0.25949 -0.26424 -0.25416 -0.2658 -0.25 C -0.26806 -0.24305 -0.27257 -0.23819 -0.27448 -0.23102 C -0.27639 -0.22361 -0.27552 -0.21458 -0.27726 -0.20717 C -0.27847 -0.20185 -0.28177 -0.19814 -0.28299 -0.19282 C -0.29011 -0.16666 -0.29202 -0.13912 -0.29722 -0.11227 C -0.29827 -0.10115 -0.3 -0.09027 -0.30018 -0.07893 C -0.30191 -0.02037 -0.30052 0.03797 -0.30313 0.09653 C -0.30469 0.13773 -0.33455 0.16158 -0.33455 0.20093 E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50920" y="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ловарь настроений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508720" y="907920"/>
            <a:ext cx="30956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ерьёз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рач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поднят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ревож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ечаль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корб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оск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хмур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обк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ердит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еспокой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омантическ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осхищён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ечтатель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908000" y="907920"/>
            <a:ext cx="2808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шалов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хваст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сёл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одр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аинствен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олнеч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дост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ирическ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шут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обродуш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мешлив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ветл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осторжен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апризно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49228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Лазурна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390920" y="1268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Цвета лазури (светло - синяя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716360" y="587700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из словаря С.И. Ожег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500720" y="3141720"/>
            <a:ext cx="446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ереносное –         несбыточная (лазурная мечта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611280" y="6922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Лелея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11280" y="256536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ея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84360" y="443700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змет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67280" y="76500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нежить, холить заботливо ухажив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211640" y="270828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дуть, обдувать дуновени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4067280" y="458136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поднимать кверху резко или броск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067280" y="587700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из словаря С.И. Ожего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95280" y="501336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ихр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4" descr="i (6).jpg"/>
          <p:cNvPicPr/>
          <p:nvPr/>
        </p:nvPicPr>
        <p:blipFill>
          <a:blip r:embed="rId1"/>
          <a:stretch/>
        </p:blipFill>
        <p:spPr>
          <a:xfrm>
            <a:off x="4998960" y="1695600"/>
            <a:ext cx="3973680" cy="3754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059280" y="5013360"/>
            <a:ext cx="30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мете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227640" y="5013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ьюг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11" descr="73682633.gif"/>
          <p:cNvPicPr/>
          <p:nvPr/>
        </p:nvPicPr>
        <p:blipFill>
          <a:blip r:embed="rId2"/>
          <a:stretch/>
        </p:blipFill>
        <p:spPr>
          <a:xfrm>
            <a:off x="125892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73682633.gif"/>
          <p:cNvPicPr/>
          <p:nvPr/>
        </p:nvPicPr>
        <p:blipFill>
          <a:blip r:embed="rId3"/>
          <a:stretch/>
        </p:blipFill>
        <p:spPr>
          <a:xfrm>
            <a:off x="395280" y="3789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3" descr="73682633.gif"/>
          <p:cNvPicPr/>
          <p:nvPr/>
        </p:nvPicPr>
        <p:blipFill>
          <a:blip r:embed="rId4"/>
          <a:stretch/>
        </p:blipFill>
        <p:spPr>
          <a:xfrm>
            <a:off x="111600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i (8).jpg"/>
          <p:cNvPicPr/>
          <p:nvPr/>
        </p:nvPicPr>
        <p:blipFill>
          <a:blip r:embed="rId5"/>
          <a:stretch/>
        </p:blipFill>
        <p:spPr>
          <a:xfrm>
            <a:off x="895320" y="255600"/>
            <a:ext cx="3968640" cy="3755880"/>
          </a:xfrm>
          <a:prstGeom prst="rect">
            <a:avLst/>
          </a:prstGeom>
          <a:ln w="0">
            <a:noFill/>
          </a:ln>
        </p:spPr>
      </p:pic>
      <p:pic>
        <p:nvPicPr>
          <p:cNvPr id="76" name="Zvuk_-_vyuga_(iPlayer.fm)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051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Motion origin="layout" path="M 0.05035 -0.06667 C 0.05295 -0.07709 0.05556 -0.08426 0.05972 -0.09375 C 0.06267 -0.10023 0.06736 -0.10533 0.0691 -0.1125 C 0.0717 -0.12269 0.07604 -0.1301 0.0816 -0.1375 C 0.08542 -0.15301 0.08681 -0.14653 0.09566 -0.15834 C 0.09861 -0.16227 0.10035 -0.16736 0.10347 -0.17084 C 0.11372 -0.18218 0.13108 -0.18727 0.1441 -0.18959 C 0.1559 -0.18727 0.16563 -0.1838 0.17691 -0.17917 C 0.18108 -0.17755 0.18941 -0.17523 0.18941 -0.17523 C 0.19635 -0.16829 0.20486 -0.16181 0.20972 -0.15209 C 0.21406 -0.14352 0.21632 -0.1338 0.22066 -0.125 C 0.21962 -0.11598 0.21927 -0.10672 0.21754 -0.09792 C 0.21493 -0.08403 0.20226 -0.08287 0.1941 -0.07917 C 0.18629 -0.08102 0.17726 -0.07963 0.17066 -0.08542 C 0.16024 -0.09468 0.15538 -0.11204 0.14879 -0.125 C 0.14792 -0.13056 0.14566 -0.13588 0.14566 -0.14167 C 0.14566 -0.15834 0.14635 -0.17523 0.14722 -0.19167 C 0.14826 -0.20949 0.15799 -0.22686 0.16441 -0.2419 C 0.16806 -0.25047 0.16754 -0.25486 0.17379 -0.26065 C 0.17969 -0.27223 0.18819 -0.28172 0.19566 -0.29167 C 0.19722 -0.29375 0.20833 -0.29908 0.20972 -0.3 C 0.22934 -0.31204 0.24931 -0.32338 0.27066 -0.32917 C 0.28385 -0.33797 0.29045 -0.33496 0.3066 -0.33334 C 0.32552 -0.32709 0.33993 -0.30811 0.35816 -0.3 C 0.36441 -0.29167 0.37309 -0.28635 0.37847 -0.27709 C 0.38646 -0.26343 0.39254 -0.24792 0.39566 -0.23148 C 0.39618 -0.22431 0.3974 -0.21736 0.39722 -0.21042 C 0.39566 -0.17408 0.36806 -0.16945 0.34722 -0.16667 C 0.3316 -0.16852 0.31233 -0.16273 0.30191 -0.18125 C 0.30052 -0.1838 0.30017 -0.18727 0.29879 -0.18959 C 0.29705 -0.19283 0.29444 -0.19491 0.29254 -0.19792 C 0.28629 -0.20857 0.2809 -0.21898 0.27691 -0.23148 C 0.27604 -0.23403 0.27465 -0.23681 0.27379 -0.23959 C 0.27257 -0.24375 0.27066 -0.25232 0.27066 -0.25232 C 0.27118 -0.26968 0.26667 -0.30857 0.27691 -0.32917 C 0.27969 -0.34769 0.2816 -0.35324 0.28941 -0.36875 C 0.29236 -0.37477 0.29497 -0.38241 0.29879 -0.3875 C 0.30278 -0.39283 0.30851 -0.39306 0.31285 -0.39792 C 0.31962 -0.40556 0.32257 -0.40811 0.3316 -0.41042 C 0.33976 -0.4176 0.35052 -0.41875 0.35972 -0.42292 C 0.39323 -0.42153 0.4224 -0.41875 0.45486 -0.4125 C 0.46701 -0.4044 0.48073 -0.40232 0.4941 -0.4 C 0.50347 -0.39144 0.49288 -0.39977 0.5066 -0.39375 C 0.5217 -0.38704 0.53611 -0.38102 0.55035 -0.37084 C 0.55642 -0.36644 0.56424 -0.36482 0.5691 -0.35834 C 0.57066 -0.35625 0.5724 -0.3544 0.57379 -0.35209 C 0.575 -0.35023 0.57569 -0.34769 0.57691 -0.34584 C 0.58125 -0.33912 0.58802 -0.33496 0.59097 -0.32709 C 0.59375 -0.31991 0.59549 -0.31297 0.59879 -0.30625 C 0.60035 -0.29236 0.60208 -0.28912 0.59722 -0.275 C 0.59514 -0.26922 0.5901 -0.2676 0.58629 -0.26459 C 0.57622 -0.25648 0.56979 -0.25301 0.55816 -0.25 C 0.55104 -0.24375 0.5441 -0.24283 0.53611 -0.23959 C 0.52899 -0.23681 0.52344 -0.23357 0.5158 -0.23148 C 0.5092 -0.23264 0.50226 -0.23357 0.49549 -0.23542 C 0.48646 -0.23843 0.47899 -0.24954 0.47205 -0.25625 C 0.46875 -0.25926 0.46476 -0.26019 0.46129 -0.2625 C 0.45382 -0.27732 0.46337 -0.26019 0.45174 -0.27292 C 0.44792 -0.27732 0.44097 -0.2875 0.44097 -0.2875 C 0.43889 -0.29584 0.43542 -0.30162 0.43142 -0.30857 C 0.42882 -0.31852 0.42465 -0.32732 0.42205 -0.3375 C 0.42326 -0.36736 0.42066 -0.37153 0.42847 -0.39167 C 0.43229 -0.41713 0.44653 -0.44398 0.46267 -0.45834 C 0.46563 -0.46436 0.47083 -0.47084 0.47517 -0.475 C 0.47847 -0.47801 0.48281 -0.47824 0.48629 -0.48125 C 0.49531 -0.48959 0.50399 -0.49815 0.51441 -0.50417 C 0.52083 -0.50787 0.53125 -0.51042 0.53767 -0.5125 C 0.53993 -0.5132 0.5441 -0.51459 0.5441 -0.51459 C 0.5809 -0.51343 0.60729 -0.51273 0.64097 -0.50625 C 0.65191 -0.50047 0.66267 -0.49445 0.67379 -0.48959 C 0.68125 -0.48218 0.68854 -0.47871 0.69722 -0.47292 C 0.70625 -0.4669 0.70347 -0.46736 0.71129 -0.46042 C 0.71389 -0.45811 0.71649 -0.45625 0.7191 -0.45417 C 0.72222 -0.45139 0.72847 -0.44584 0.72847 -0.44584 C 0.73472 -0.43357 0.7349 -0.41852 0.74097 -0.40648 C 0.74375 -0.38797 0.7434 -0.39653 0.73941 -0.36875 C 0.73819 -0.35973 0.73507 -0.33912 0.72847 -0.33334 C 0.7191 -0.325 0.70816 -0.31621 0.69722 -0.3125 C 0.69115 -0.31042 0.68455 -0.31042 0.67847 -0.30857 C 0.67361 -0.30949 0.66285 -0.31111 0.6566 -0.31459 C 0.64254 -0.32269 0.63125 -0.33866 0.61754 -0.34792 C 0.60625 -0.35556 0.5967 -0.36042 0.58941 -0.375 C 0.58767 -0.38403 0.58333 -0.38912 0.5816 -0.39792 C 0.58038 -0.40348 0.57847 -0.41459 0.57847 -0.41459 C 0.58004 -0.44908 0.57934 -0.44653 0.58785 -0.475 C 0.58889 -0.47848 0.58906 -0.48287 0.59097 -0.48542 C 0.59444 -0.49005 0.59688 -0.49537 0.60035 -0.5 C 0.61927 -0.52523 0.64965 -0.53681 0.67535 -0.54167 C 0.69618 -0.55093 0.70313 -0.55209 0.72691 -0.55209 E">
                                      <p:cBhvr>
                                        <p:cTn id="138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Motion origin="layout" path="M 0.05035 -0.06667 C 0.05295 -0.07709 0.05556 -0.08426 0.05972 -0.09375 C 0.06267 -0.10023 0.06736 -0.10533 0.0691 -0.1125 C 0.0717 -0.12269 0.07604 -0.1301 0.0816 -0.1375 C 0.08542 -0.15301 0.08681 -0.14653 0.09566 -0.15834 C 0.09861 -0.16227 0.10035 -0.16736 0.10347 -0.17084 C 0.11372 -0.18218 0.13108 -0.18727 0.1441 -0.18959 C 0.1559 -0.18727 0.16563 -0.1838 0.17691 -0.17917 C 0.18108 -0.17755 0.18941 -0.17523 0.18941 -0.17523 C 0.19635 -0.16829 0.20486 -0.16181 0.20972 -0.15209 C 0.21406 -0.14352 0.21632 -0.1338 0.22066 -0.125 C 0.21962 -0.11598 0.21927 -0.10672 0.21754 -0.09792 C 0.21493 -0.08403 0.20226 -0.08287 0.1941 -0.07917 C 0.18629 -0.08102 0.17726 -0.07963 0.17066 -0.08542 C 0.16024 -0.09468 0.15538 -0.11204 0.14879 -0.125 C 0.14792 -0.13056 0.14566 -0.13588 0.14566 -0.14167 C 0.14566 -0.15834 0.14635 -0.17523 0.14722 -0.19167 C 0.14826 -0.20949 0.15799 -0.22686 0.16441 -0.2419 C 0.16806 -0.25047 0.16754 -0.25486 0.17379 -0.26065 C 0.17969 -0.27223 0.18819 -0.28172 0.19566 -0.29167 C 0.19722 -0.29375 0.20833 -0.29908 0.20972 -0.3 C 0.22934 -0.31204 0.24931 -0.32338 0.27066 -0.32917 C 0.28385 -0.33797 0.29045 -0.33496 0.3066 -0.33334 C 0.32552 -0.32709 0.33993 -0.30811 0.35816 -0.3 C 0.36441 -0.29167 0.37309 -0.28635 0.37847 -0.27709 C 0.38646 -0.26343 0.39254 -0.24792 0.39566 -0.23148 C 0.39618 -0.22431 0.3974 -0.21736 0.39722 -0.21042 C 0.39566 -0.17408 0.36806 -0.16945 0.34722 -0.16667 C 0.3316 -0.16852 0.31233 -0.16273 0.30191 -0.18125 C 0.30052 -0.1838 0.30017 -0.18727 0.29879 -0.18959 C 0.29705 -0.19283 0.29444 -0.19491 0.29254 -0.19792 C 0.28629 -0.20857 0.2809 -0.21898 0.27691 -0.23148 C 0.27604 -0.23403 0.27465 -0.23681 0.27379 -0.23959 C 0.27257 -0.24375 0.27066 -0.25232 0.27066 -0.25232 C 0.27118 -0.26968 0.26667 -0.30857 0.27691 -0.32917 C 0.27969 -0.34769 0.2816 -0.35324 0.28941 -0.36875 C 0.29236 -0.37477 0.29497 -0.38241 0.29879 -0.3875 C 0.30278 -0.39283 0.30851 -0.39306 0.31285 -0.39792 C 0.31962 -0.40556 0.32257 -0.40811 0.3316 -0.41042 C 0.33976 -0.4176 0.35052 -0.41875 0.35972 -0.42292 C 0.39323 -0.42153 0.4224 -0.41875 0.45486 -0.4125 C 0.46701 -0.4044 0.48073 -0.40232 0.4941 -0.4 C 0.50347 -0.39144 0.49288 -0.39977 0.5066 -0.39375 C 0.5217 -0.38704 0.53611 -0.38102 0.55035 -0.37084 C 0.55642 -0.36644 0.56424 -0.36482 0.5691 -0.35834 C 0.57066 -0.35625 0.5724 -0.3544 0.57379 -0.35209 C 0.575 -0.35023 0.57569 -0.34769 0.57691 -0.34584 C 0.58125 -0.33912 0.58802 -0.33496 0.59097 -0.32709 C 0.59375 -0.31991 0.59549 -0.31297 0.59879 -0.30625 C 0.60035 -0.29236 0.60208 -0.28912 0.59722 -0.275 C 0.59514 -0.26922 0.5901 -0.2676 0.58629 -0.26459 C 0.57622 -0.25648 0.56979 -0.25301 0.55816 -0.25 C 0.55104 -0.24375 0.5441 -0.24283 0.53611 -0.23959 C 0.52899 -0.23681 0.52344 -0.23357 0.5158 -0.23148 C 0.5092 -0.23264 0.50226 -0.23357 0.49549 -0.23542 C 0.48646 -0.23843 0.47899 -0.24954 0.47205 -0.25625 C 0.46875 -0.25926 0.46476 -0.26019 0.46129 -0.2625 C 0.45382 -0.27732 0.46337 -0.26019 0.45174 -0.27292 C 0.44792 -0.27732 0.44097 -0.2875 0.44097 -0.2875 C 0.43889 -0.29584 0.43542 -0.30162 0.43142 -0.30857 C 0.42882 -0.31852 0.42465 -0.32732 0.42205 -0.3375 C 0.42326 -0.36736 0.42066 -0.37153 0.42847 -0.39167 C 0.43229 -0.41713 0.44653 -0.44398 0.46267 -0.45834 C 0.46563 -0.46436 0.47083 -0.47084 0.47517 -0.475 C 0.47847 -0.47801 0.48281 -0.47824 0.48629 -0.48125 C 0.49531 -0.48959 0.50399 -0.49815 0.51441 -0.50417 C 0.52083 -0.50787 0.53125 -0.51042 0.53767 -0.5125 C 0.53993 -0.5132 0.5441 -0.51459 0.5441 -0.51459 C 0.5809 -0.51343 0.60729 -0.51273 0.64097 -0.50625 C 0.65191 -0.50047 0.66267 -0.49445 0.67379 -0.48959 C 0.68125 -0.48218 0.68854 -0.47871 0.69722 -0.47292 C 0.70625 -0.4669 0.70347 -0.46736 0.71129 -0.46042 C 0.71389 -0.45811 0.71649 -0.45625 0.7191 -0.45417 C 0.72222 -0.45139 0.72847 -0.44584 0.72847 -0.44584 C 0.73472 -0.43357 0.7349 -0.41852 0.74097 -0.40648 C 0.74375 -0.38797 0.7434 -0.39653 0.73941 -0.36875 C 0.73819 -0.35973 0.73507 -0.33912 0.72847 -0.33334 C 0.7191 -0.325 0.70816 -0.31621 0.69722 -0.3125 C 0.69115 -0.31042 0.68455 -0.31042 0.67847 -0.30857 C 0.67361 -0.30949 0.66285 -0.31111 0.6566 -0.31459 C 0.64254 -0.32269 0.63125 -0.33866 0.61754 -0.34792 C 0.60625 -0.35556 0.5967 -0.36042 0.58941 -0.375 C 0.58767 -0.38403 0.58333 -0.38912 0.5816 -0.39792 C 0.58038 -0.40348 0.57847 -0.41459 0.57847 -0.41459 C 0.58004 -0.44908 0.57934 -0.44653 0.58785 -0.475 C 0.58889 -0.47848 0.58906 -0.48287 0.59097 -0.48542 C 0.59444 -0.49005 0.59688 -0.49537 0.60035 -0.5 C 0.61927 -0.52523 0.64965 -0.53681 0.67535 -0.54167 C 0.69618 -0.55093 0.70313 -0.55209 0.72691 -0.55209 E">
                                      <p:cBhvr>
                                        <p:cTn id="14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Motion origin="layout" path="M 0.05035 -0.06667 C 0.05295 -0.07709 0.05556 -0.08426 0.05972 -0.09375 C 0.06267 -0.10023 0.06736 -0.10533 0.0691 -0.1125 C 0.0717 -0.12269 0.07604 -0.1301 0.0816 -0.1375 C 0.08542 -0.15301 0.08681 -0.14653 0.09566 -0.15834 C 0.09861 -0.16227 0.10035 -0.16736 0.10347 -0.17084 C 0.11372 -0.18218 0.13108 -0.18727 0.1441 -0.18959 C 0.1559 -0.18727 0.16563 -0.1838 0.17691 -0.17917 C 0.18108 -0.17755 0.18941 -0.17523 0.18941 -0.17523 C 0.19635 -0.16829 0.20486 -0.16181 0.20972 -0.15209 C 0.21406 -0.14352 0.21632 -0.1338 0.22066 -0.125 C 0.21962 -0.11598 0.21927 -0.10672 0.21754 -0.09792 C 0.21493 -0.08403 0.20226 -0.08287 0.1941 -0.07917 C 0.18629 -0.08102 0.17726 -0.07963 0.17066 -0.08542 C 0.16024 -0.09468 0.15538 -0.11204 0.14879 -0.125 C 0.14792 -0.13056 0.14566 -0.13588 0.14566 -0.14167 C 0.14566 -0.15834 0.14635 -0.17523 0.14722 -0.19167 C 0.14826 -0.20949 0.15799 -0.22686 0.16441 -0.2419 C 0.16806 -0.25047 0.16754 -0.25486 0.17379 -0.26065 C 0.17969 -0.27223 0.18819 -0.28172 0.19566 -0.29167 C 0.19722 -0.29375 0.20833 -0.29908 0.20972 -0.3 C 0.22934 -0.31204 0.24931 -0.32338 0.27066 -0.32917 C 0.28385 -0.33797 0.29045 -0.33496 0.3066 -0.33334 C 0.32552 -0.32709 0.33993 -0.30811 0.35816 -0.3 C 0.36441 -0.29167 0.37309 -0.28635 0.37847 -0.27709 C 0.38646 -0.26343 0.39254 -0.24792 0.39566 -0.23148 C 0.39618 -0.22431 0.3974 -0.21736 0.39722 -0.21042 C 0.39566 -0.17408 0.36806 -0.16945 0.34722 -0.16667 C 0.3316 -0.16852 0.31233 -0.16273 0.30191 -0.18125 C 0.30052 -0.1838 0.30017 -0.18727 0.29879 -0.18959 C 0.29705 -0.19283 0.29444 -0.19491 0.29254 -0.19792 C 0.28629 -0.20857 0.2809 -0.21898 0.27691 -0.23148 C 0.27604 -0.23403 0.27465 -0.23681 0.27379 -0.23959 C 0.27257 -0.24375 0.27066 -0.25232 0.27066 -0.25232 C 0.27118 -0.26968 0.26667 -0.30857 0.27691 -0.32917 C 0.27969 -0.34769 0.2816 -0.35324 0.28941 -0.36875 C 0.29236 -0.37477 0.29497 -0.38241 0.29879 -0.3875 C 0.30278 -0.39283 0.30851 -0.39306 0.31285 -0.39792 C 0.31962 -0.40556 0.32257 -0.40811 0.3316 -0.41042 C 0.33976 -0.4176 0.35052 -0.41875 0.35972 -0.42292 C 0.39323 -0.42153 0.4224 -0.41875 0.45486 -0.4125 C 0.46701 -0.4044 0.48073 -0.40232 0.4941 -0.4 C 0.50347 -0.39144 0.49288 -0.39977 0.5066 -0.39375 C 0.5217 -0.38704 0.53611 -0.38102 0.55035 -0.37084 C 0.55642 -0.36644 0.56424 -0.36482 0.5691 -0.35834 C 0.57066 -0.35625 0.5724 -0.3544 0.57379 -0.35209 C 0.575 -0.35023 0.57569 -0.34769 0.57691 -0.34584 C 0.58125 -0.33912 0.58802 -0.33496 0.59097 -0.32709 C 0.59375 -0.31991 0.59549 -0.31297 0.59879 -0.30625 C 0.60035 -0.29236 0.60208 -0.28912 0.59722 -0.275 C 0.59514 -0.26922 0.5901 -0.2676 0.58629 -0.26459 C 0.57622 -0.25648 0.56979 -0.25301 0.55816 -0.25 C 0.55104 -0.24375 0.5441 -0.24283 0.53611 -0.23959 C 0.52899 -0.23681 0.52344 -0.23357 0.5158 -0.23148 C 0.5092 -0.23264 0.50226 -0.23357 0.49549 -0.23542 C 0.48646 -0.23843 0.47899 -0.24954 0.47205 -0.25625 C 0.46875 -0.25926 0.46476 -0.26019 0.46129 -0.2625 C 0.45382 -0.27732 0.46337 -0.26019 0.45174 -0.27292 C 0.44792 -0.27732 0.44097 -0.2875 0.44097 -0.2875 C 0.43889 -0.29584 0.43542 -0.30162 0.43142 -0.30857 C 0.42882 -0.31852 0.42465 -0.32732 0.42205 -0.3375 C 0.42326 -0.36736 0.42066 -0.37153 0.42847 -0.39167 C 0.43229 -0.41713 0.44653 -0.44398 0.46267 -0.45834 C 0.46563 -0.46436 0.47083 -0.47084 0.47517 -0.475 C 0.47847 -0.47801 0.48281 -0.47824 0.48629 -0.48125 C 0.49531 -0.48959 0.50399 -0.49815 0.51441 -0.50417 C 0.52083 -0.50787 0.53125 -0.51042 0.53767 -0.5125 C 0.53993 -0.5132 0.5441 -0.51459 0.5441 -0.51459 C 0.5809 -0.51343 0.60729 -0.51273 0.64097 -0.50625 C 0.65191 -0.50047 0.66267 -0.49445 0.67379 -0.48959 C 0.68125 -0.48218 0.68854 -0.47871 0.69722 -0.47292 C 0.70625 -0.4669 0.70347 -0.46736 0.71129 -0.46042 C 0.71389 -0.45811 0.71649 -0.45625 0.7191 -0.45417 C 0.72222 -0.45139 0.72847 -0.44584 0.72847 -0.44584 C 0.73472 -0.43357 0.7349 -0.41852 0.74097 -0.40648 C 0.74375 -0.38797 0.7434 -0.39653 0.73941 -0.36875 C 0.73819 -0.35973 0.73507 -0.33912 0.72847 -0.33334 C 0.7191 -0.325 0.70816 -0.31621 0.69722 -0.3125 C 0.69115 -0.31042 0.68455 -0.31042 0.67847 -0.30857 C 0.67361 -0.30949 0.66285 -0.31111 0.6566 -0.31459 C 0.64254 -0.32269 0.63125 -0.33866 0.61754 -0.34792 C 0.60625 -0.35556 0.5967 -0.36042 0.58941 -0.375 C 0.58767 -0.38403 0.58333 -0.38912 0.5816 -0.39792 C 0.58038 -0.40348 0.57847 -0.41459 0.57847 -0.41459 C 0.58004 -0.44908 0.57934 -0.44653 0.58785 -0.475 C 0.58889 -0.47848 0.58906 -0.48287 0.59097 -0.48542 C 0.59444 -0.49005 0.59688 -0.49537 0.60035 -0.5 C 0.61927 -0.52523 0.64965 -0.53681 0.67535 -0.54167 C 0.69618 -0.55093 0.70313 -0.55209 0.72691 -0.55209 E">
                                      <p:cBhvr>
                                        <p:cTn id="142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250920" y="1197000"/>
            <a:ext cx="867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етафора – это использование слова в переносном значении на основании сходства или наоборот контраста одного предмета или явления с други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0" descr="81652590_snezhinka1"/>
          <p:cNvPicPr/>
          <p:nvPr/>
        </p:nvPicPr>
        <p:blipFill>
          <a:blip r:embed="rId1"/>
          <a:stretch/>
        </p:blipFill>
        <p:spPr>
          <a:xfrm>
            <a:off x="2357280" y="2143080"/>
            <a:ext cx="3638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68360" y="765000"/>
            <a:ext cx="86756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Рондо</a:t>
            </a: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 – это стихотворная форма, в которой автор повторяет одно и тоже предложение, создавая своеобразный замкнутый круг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050920" y="620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84360" y="765000"/>
            <a:ext cx="88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spcBef>
                <a:spcPts val="3376"/>
              </a:spcBef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1. Определите вид  чтения (соло, дуэт, трио и т.д.)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11280" y="3284640"/>
            <a:ext cx="89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2. Подготовьтесь выразительно читать стихотворени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07:30:54Z</dcterms:created>
  <dc:creator>Компьютер</dc:creator>
  <dc:description/>
  <dc:language>en-US</dc:language>
  <cp:lastModifiedBy>Admin</cp:lastModifiedBy>
  <dcterms:modified xsi:type="dcterms:W3CDTF">2023-04-19T18:39:08Z</dcterms:modified>
  <cp:revision>30</cp:revision>
  <dc:subject/>
  <dc:title>Слайд 1</dc:title>
</cp:coreProperties>
</file>