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F52-EC8A-4DE4-821D-3B258066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17C-FDE5-44ED-A4CE-C59D79F8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950-AAB2-490A-A7C1-2E9D758E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868-DDFD-4888-83DD-45D59713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A8ED-4875-40E5-A6EA-BF24E0FA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B396-2F25-4CA9-ACF4-4F8C1568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954F-D511-4C0D-B97D-9FDD4CC8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4811-29A6-4FC6-9F5E-7DA16FC2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0755-B7AE-4F62-89FF-877FA9E5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0A7D-6E57-4FA9-BAF6-2BE351C2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5D9F-22BF-4731-8D28-8ABA620A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A2A-EF37-42BE-BB45-2EE50DF4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2C96-C1C6-4A11-8585-2E01E96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22CA-2F85-489C-824B-55B47841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ED3A-8675-470F-A921-4795DB8D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39D7-7F3E-411A-B3D6-26E053B2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D290-A31B-4184-9AFB-201ABFF0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066-E50E-4567-A02D-8796E940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4BF-7B38-4920-8B2E-C205A198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97F-270E-4D74-818F-A8787BE2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3D0-A4AC-4567-A84F-CD529481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517-42F0-45DF-92B8-D5FAB61F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3A5-734B-46F3-B67D-220974E0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1C9-F5AD-44F7-8280-E92744A9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FDD4-0444-4E23-95AC-5C14CB30D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7"/>
          <p:cNvGrpSpPr/>
          <p:nvPr/>
        </p:nvGrpSpPr>
        <p:grpSpPr>
          <a:xfrm>
            <a:off x="-23760" y="-146160"/>
            <a:ext cx="9271080" cy="7137360"/>
            <a:chOff x="-23760" y="-146160"/>
            <a:chExt cx="9271080" cy="7137360"/>
          </a:xfrm>
        </p:grpSpPr>
        <p:pic>
          <p:nvPicPr>
            <p:cNvPr id="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-23760" y="-146160"/>
              <a:ext cx="9271080" cy="71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85840" y="142920"/>
              <a:ext cx="864396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8" descr="99b7e92a42c580ecf0109e153dc54dd2.jpg"/>
          <p:cNvPicPr/>
          <p:nvPr/>
        </p:nvPicPr>
        <p:blipFill>
          <a:blip r:embed="rId4"/>
          <a:stretch/>
        </p:blipFill>
        <p:spPr>
          <a:xfrm>
            <a:off x="0" y="5348160"/>
            <a:ext cx="1928880" cy="150984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9" descr="0_ae404_ee547a6e_S.png"/>
          <p:cNvPicPr/>
          <p:nvPr/>
        </p:nvPicPr>
        <p:blipFill>
          <a:blip r:embed="rId5"/>
          <a:stretch/>
        </p:blipFill>
        <p:spPr>
          <a:xfrm>
            <a:off x="8429760" y="1000080"/>
            <a:ext cx="714240" cy="562788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0" descr="0_ae3aa_e39187f6_S.png"/>
          <p:cNvPicPr/>
          <p:nvPr/>
        </p:nvPicPr>
        <p:blipFill>
          <a:blip r:embed="rId6"/>
          <a:stretch/>
        </p:blipFill>
        <p:spPr>
          <a:xfrm>
            <a:off x="7238880" y="5651640"/>
            <a:ext cx="1905120" cy="120636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1" descr="0_ae3a1_368ba424_S.png"/>
          <p:cNvPicPr/>
          <p:nvPr/>
        </p:nvPicPr>
        <p:blipFill>
          <a:blip r:embed="rId7"/>
          <a:stretch/>
        </p:blipFill>
        <p:spPr>
          <a:xfrm>
            <a:off x="8572680" y="3071880"/>
            <a:ext cx="738000" cy="11682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12" descr="0_ae3a1_368ba424_S.png"/>
          <p:cNvPicPr/>
          <p:nvPr/>
        </p:nvPicPr>
        <p:blipFill>
          <a:blip r:embed="rId8"/>
          <a:stretch/>
        </p:blipFill>
        <p:spPr>
          <a:xfrm>
            <a:off x="7905600" y="142920"/>
            <a:ext cx="1238400" cy="116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CA40-03F2-4CB1-9CAF-05A9630CAE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evy-niva51.ru/_fr/3/6351632.jpg" TargetMode="External"/><Relationship Id="rId2" Type="http://schemas.openxmlformats.org/officeDocument/2006/relationships/hyperlink" Target="http://blago-daru.com/sites/default/files/styles/img_350/public/photo-family/0_5b4ac_17c66fec_l.jpg?itok=np5tIvj8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3422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ал МАОУ« ОЦ № 3 «Созвездие г. Вольска Саратовской области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. Нижняя Чернавк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0080" y="1214280"/>
            <a:ext cx="73454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оект « Вернем Отчизне име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сследовательская рабо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«Мои героические пред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ппова Наталья Юрье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Война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85920"/>
            <a:ext cx="7972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2 июня... Когда смотришь на листок    календаря с этим числом, перед глазами встаёт ужасная картина 1941 года, самого важного и самого трагического года в истории нашего Отечества. Тогда весь народ - и стар и млад - встали на защиту своей Родин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7570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6760" y="214200"/>
            <a:ext cx="810252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наша страна празднует Победу. Этот день занимает особое место среди отмечаемых праздников в нашей стране.  На уроках истории, окружающего мира, литературы и географии в школе изучают историю Родины.  Одной из форм  работы по патриотическому воспитанию учащихся является проектная деятельность, которая рассчитана на активное участие обучающихс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недавно, принимая участие  со своим классом в проекте  «Вернём Отчизне имена», я обнаружила,  что мой прадедушк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ков Григорий Иванович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ся в списках, как без вести пропавший в 1942 году.  Меня  это очень удивило, ведь он захоронен на нашем местном кладбище.  Может быть это однофамилец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тала собирать информацию у своих родственников. В нашей семье есть военные и они связались с военкоматом, и оказалось, что просто произошла ошибка. Наш прадед в 1942 году получил серьезное ранение в руку и был комиссован. В  «Книгу памяти» он попал случайно.                                                                                                                                           Вернувшись домой  из санчасти, он трудился в колхозе в военное и послевоенное время. Умер 9 ноября 1984 года. Вся наша семья гордится им!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minusovka_pesni_o_toy_vesne_-_Kino_idet__muzofon.com.mp3" descr=""/>
          <p:cNvPicPr/>
          <p:nvPr/>
        </p:nvPicPr>
        <p:blipFill>
          <a:blip r:embed="rId1"/>
          <a:stretch/>
        </p:blipFill>
        <p:spPr>
          <a:xfrm>
            <a:off x="6215040" y="5857920"/>
            <a:ext cx="447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27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ков Григорий Иван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5840" y="1285920"/>
            <a:ext cx="844704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1901 г в с. Нижняя Чернавка Вольского района Саратовской области.  В 1941 году был призван  на фронт. Участвовал в боевых сражениях и в 1942 году был ранен и комиссован из  арм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Изображение0020"/>
          <p:cNvPicPr/>
          <p:nvPr/>
        </p:nvPicPr>
        <p:blipFill>
          <a:blip r:embed="rId1"/>
          <a:stretch/>
        </p:blipFill>
        <p:spPr>
          <a:xfrm>
            <a:off x="3492360" y="2349360"/>
            <a:ext cx="27943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475920"/>
            <a:ext cx="37432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ный праздничный салют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у празднует, Россия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ь ветеранов узн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рденам, а не по лиц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оль войны уже чуж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а внукам или близк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не погибший, не ж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вший – числится по списк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з без вести пропавш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йне в чужом краю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мечен среди павш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отчаянном бо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е его живог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лил землёй снаря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остава рядов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л его комб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его среди погибших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его среди жив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нём пропавшем написал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несеньях фронтов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03280" y="500040"/>
            <a:ext cx="352908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д ним прошла пехо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ки грозные прош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если в санбат кого-т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его наш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ед пробыл в санбате,                                                                                             Излечиться не пришлось.                                                                                            Получил он предписанье,                                                                                                       Дома дел ему нашлось.                                                                                                         Без руки в село вернулся,                                                                                                                      Был уволен он в запас.                          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лет прожил он                                                                                                     Счастливо без бед.                                                                                                                  В колхозе дед трудился                                                                                                      Целых сорок лет.                                                                                                                                           В неизвестных значится                                                                                                                              В памяти людской,                                                                                                                 Но домой вернулся                                                                                                                 Он тогда – живой.                                                                                            Мы тобой гордимся                                                                                            Ты для нас герой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91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2276280"/>
            <a:ext cx="49068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ю «Спасибо» деду,                                                                                                                 От всей души благодарю.                                                                                                                                       За Отчизну, за Победу,                                                                                                                    За отвагу в том бою!                                                                                                                                 Спасибо, дедушка, что выжил не погиб.                                                                                 Тебя ведь помнит вся семья,                                                                                                    Я восхищаюсь и горжусь тобой                                                                                            Мой дедушка – пример ты для меня.                                                                      Пусть мирным  будет небо над стра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0d135067e71c88d4eaba29b9e4f21557"/>
          <p:cNvPicPr/>
          <p:nvPr/>
        </p:nvPicPr>
        <p:blipFill>
          <a:blip r:embed="rId1"/>
          <a:stretch/>
        </p:blipFill>
        <p:spPr>
          <a:xfrm>
            <a:off x="4859280" y="476280"/>
            <a:ext cx="3097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ейные фотограф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C:\Users\Диман\Desktop\сканы фотографий\Изображение0020 (3).JPG"/>
          <p:cNvPicPr/>
          <p:nvPr/>
        </p:nvPicPr>
        <p:blipFill>
          <a:blip r:embed="rId1"/>
          <a:stretch/>
        </p:blipFill>
        <p:spPr>
          <a:xfrm>
            <a:off x="682560" y="1139760"/>
            <a:ext cx="227340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Диман\Desktop\сканы фотографий\Изображение0020 (4).JPG"/>
          <p:cNvPicPr/>
          <p:nvPr/>
        </p:nvPicPr>
        <p:blipFill>
          <a:blip r:embed="rId2"/>
          <a:stretch/>
        </p:blipFill>
        <p:spPr>
          <a:xfrm>
            <a:off x="6229440" y="1212840"/>
            <a:ext cx="2152440" cy="31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Диман\Desktop\сканы фотографий\Изображение0020 (2).JPG"/>
          <p:cNvPicPr/>
          <p:nvPr/>
        </p:nvPicPr>
        <p:blipFill>
          <a:blip r:embed="rId3"/>
          <a:stretch/>
        </p:blipFill>
        <p:spPr>
          <a:xfrm>
            <a:off x="3206880" y="3297240"/>
            <a:ext cx="293832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468360" y="45086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рнулся с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7072200" y="3571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56360" y="45086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родной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 flipV="1" rot="10800000">
            <a:off x="3499920" y="60123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ружн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Изображение0020 (3)"/>
          <p:cNvPicPr/>
          <p:nvPr/>
        </p:nvPicPr>
        <p:blipFill>
          <a:blip r:embed="rId4"/>
          <a:stretch/>
        </p:blipFill>
        <p:spPr>
          <a:xfrm>
            <a:off x="755640" y="1197000"/>
            <a:ext cx="216072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Изображение0020 (4)"/>
          <p:cNvPicPr/>
          <p:nvPr/>
        </p:nvPicPr>
        <p:blipFill>
          <a:blip r:embed="rId5"/>
          <a:stretch/>
        </p:blipFill>
        <p:spPr>
          <a:xfrm>
            <a:off x="6300720" y="1268280"/>
            <a:ext cx="2041560" cy="302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Изображение0020 (2) - копия"/>
          <p:cNvPicPr/>
          <p:nvPr/>
        </p:nvPicPr>
        <p:blipFill>
          <a:blip r:embed="rId6"/>
          <a:stretch/>
        </p:blipFill>
        <p:spPr>
          <a:xfrm>
            <a:off x="3348000" y="3357720"/>
            <a:ext cx="26640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6"/>
          <p:cNvSpPr txBox="1"/>
          <p:nvPr/>
        </p:nvSpPr>
        <p:spPr>
          <a:xfrm>
            <a:off x="539640" y="1052640"/>
            <a:ext cx="792000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Подвигу нар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жить в век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ы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hevy-niva51.ru/_fr/3/6351632.jpg</a:t>
            </a: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ago-daru.com/sites/default/files/styles/img_350/public/photo-family/0_5b4ac_17c66fec_l.jpg?itok=np5tIvj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stolicadetstva.com/encyclopedia/text/priodyat_k_dedushke_druzya/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дед и два вн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img-fotki.yandex.ru/get/6005/tatyana2q8-medvedeva.1fe/0_5b3fb_7c956dcc_XL.jpg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зеленый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ttp://cs417016.vk.me/v417016253/4cea/67PBTdNRmPg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ttp://img3.proshkolu.ru/content/media/pic/std/3000000/2687000/2686393-dbdd193935b02761.png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ные архи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ные фотограф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04:36:22Z</dcterms:created>
  <dc:creator>Lenovo</dc:creator>
  <dc:description/>
  <dc:language>en-US</dc:language>
  <cp:lastModifiedBy>Zverdvd.org</cp:lastModifiedBy>
  <dcterms:modified xsi:type="dcterms:W3CDTF">2024-06-03T08:57:30Z</dcterms:modified>
  <cp:revision>42</cp:revision>
  <dc:subject/>
  <dc:title>Слайд 1</dc:title>
</cp:coreProperties>
</file>