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C1D-313A-4F67-8DB0-26EFAB96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9B5-1038-4128-A276-855583F9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65C-C49D-4B2E-BB98-6A208903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799-872B-432D-B1AD-D8A6806E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50B6-090C-4621-83B5-3A5AD8B6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DB5D-C2E3-4D6D-9108-3FAB4D23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A95E-E050-4739-873B-7B14A4D4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013F-BCDB-4A7B-86EE-282E480C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CBCD-3C83-4A42-A74A-BA7C46C4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B56F-ED90-4033-B01B-F6D02F2C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EABF-6E8F-4132-9926-34379DF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F79-79C8-4E9B-99B2-2A76BD54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449B-EE3E-4FC5-8FBE-8E66724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212F-0014-41D5-87C5-D01FB957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D81F-2A8E-4E77-A464-1369DCA3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9BFF-FCF1-4ABD-90C1-2082DD79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AC78-0A50-4356-AEB2-229F6B10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B98-5556-48A6-9022-FC44EDAE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731-17F7-40BA-B41C-3186D14F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203-58F2-4B46-941D-4D2ACC2E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176-410C-4856-9569-7922375A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C83-48BB-4FEC-B1B3-B049D17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EF7-205F-43CF-86BD-6E88BC33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48D-B17E-41EF-AB6A-8813EDB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95DC-55A6-4634-AF4F-6096322ED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7"/>
          <p:cNvGrpSpPr/>
          <p:nvPr/>
        </p:nvGrpSpPr>
        <p:grpSpPr>
          <a:xfrm>
            <a:off x="-23760" y="-146160"/>
            <a:ext cx="9271080" cy="7137360"/>
            <a:chOff x="-23760" y="-146160"/>
            <a:chExt cx="9271080" cy="7137360"/>
          </a:xfrm>
        </p:grpSpPr>
        <p:pic>
          <p:nvPicPr>
            <p:cNvPr id="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-23760" y="-146160"/>
              <a:ext cx="9271080" cy="71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85840" y="142920"/>
              <a:ext cx="864396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8" descr="99b7e92a42c580ecf0109e153dc54dd2.jpg"/>
          <p:cNvPicPr/>
          <p:nvPr/>
        </p:nvPicPr>
        <p:blipFill>
          <a:blip r:embed="rId4"/>
          <a:stretch/>
        </p:blipFill>
        <p:spPr>
          <a:xfrm>
            <a:off x="0" y="5348160"/>
            <a:ext cx="1928880" cy="150984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9" descr="0_ae404_ee547a6e_S.png"/>
          <p:cNvPicPr/>
          <p:nvPr/>
        </p:nvPicPr>
        <p:blipFill>
          <a:blip r:embed="rId5"/>
          <a:stretch/>
        </p:blipFill>
        <p:spPr>
          <a:xfrm>
            <a:off x="8429760" y="1000080"/>
            <a:ext cx="714240" cy="562788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0" descr="0_ae3aa_e39187f6_S.png"/>
          <p:cNvPicPr/>
          <p:nvPr/>
        </p:nvPicPr>
        <p:blipFill>
          <a:blip r:embed="rId6"/>
          <a:stretch/>
        </p:blipFill>
        <p:spPr>
          <a:xfrm>
            <a:off x="7238880" y="5651640"/>
            <a:ext cx="1905120" cy="120636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1" descr="0_ae3a1_368ba424_S.png"/>
          <p:cNvPicPr/>
          <p:nvPr/>
        </p:nvPicPr>
        <p:blipFill>
          <a:blip r:embed="rId7"/>
          <a:stretch/>
        </p:blipFill>
        <p:spPr>
          <a:xfrm>
            <a:off x="8572680" y="3071880"/>
            <a:ext cx="738000" cy="11682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12" descr="0_ae3a1_368ba424_S.png"/>
          <p:cNvPicPr/>
          <p:nvPr/>
        </p:nvPicPr>
        <p:blipFill>
          <a:blip r:embed="rId8"/>
          <a:stretch/>
        </p:blipFill>
        <p:spPr>
          <a:xfrm>
            <a:off x="7905600" y="142920"/>
            <a:ext cx="1238400" cy="116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27C0-C7EC-42D9-97FE-71BDFBB851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evy-niva51.ru/_fr/3/6351632.jpg" TargetMode="External"/><Relationship Id="rId2" Type="http://schemas.openxmlformats.org/officeDocument/2006/relationships/hyperlink" Target="http://blago-daru.com/sites/default/files/styles/img_350/public/photo-family/0_5b4ac_17c66fec_l.jpg?itok=np5tIvj8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34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ал МАОУ« ОЦ № 3 «Созвездие г. Вольска Саратовской области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. Нижняя Чернавк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0080" y="1214280"/>
            <a:ext cx="73454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оект « Вернем Отчизне име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сследовательская рабо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«Мои героические пред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ппова Наталья Юрь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Война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85920"/>
            <a:ext cx="7972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2 июня... Когда смотришь на листок    календаря с этим числом, перед глазами встаёт ужасная картина 1941 года, самого важного и самого трагического года в истории нашего Отечества. Тогда весь народ - и стар и млад - встали на защиту своей Роди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7570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760" y="214200"/>
            <a:ext cx="810252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наша страна празднует Победу. Этот день занимает особое место среди отмечаемых праздников в нашей стране.  На уроках истории, окружающего мира, литературы и географии в школе изучают историю Родины.  Одной из форм  работы по патриотическому воспитанию учащихся является проектная деятельность, которая рассчитана на активное участие обучающихс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недавно, принимая участие  со своим классом в проекте  «Вернём Отчизне имена», я обнаружила,  что мой прадедуш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ков Григорий Иванови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ся в списках, как без вести пропавший в 1942 году.  Меня  это очень удивило, ведь он захоронен на нашем местном кладбище.  Может быть это однофамилец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тала собирать информацию у своих родственников. В нашей семье есть военные и они связались с военкоматом, и оказалось, что просто произошла ошибка. Наш прадед в 1942 году получил серьезное ранение в руку и был комиссован. В  «Книгу памяти» он попал случайно.                                                                                                                                           Вернувшись домой  из санчасти, он трудился в колхозе в военное и послевоенное время. Умер 9 ноября 1984 года. Вся наша семья гордится им!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minusovka_pesni_o_toy_vesne_-_Kino_idet__muzofon.com.mp3" descr=""/>
          <p:cNvPicPr/>
          <p:nvPr/>
        </p:nvPicPr>
        <p:blipFill>
          <a:blip r:embed="rId1"/>
          <a:stretch/>
        </p:blipFill>
        <p:spPr>
          <a:xfrm>
            <a:off x="6215040" y="5857920"/>
            <a:ext cx="447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27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ков Григорий Ив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5840" y="1285920"/>
            <a:ext cx="844704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1901 г в с. Нижняя Чернавка Вольского района Саратовской области.  В 1941 году был призван  на фронт. Участвовал в боевых сражениях и в 1942 году был ранен и комиссован из  арм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Изображение0020"/>
          <p:cNvPicPr/>
          <p:nvPr/>
        </p:nvPicPr>
        <p:blipFill>
          <a:blip r:embed="rId1"/>
          <a:stretch/>
        </p:blipFill>
        <p:spPr>
          <a:xfrm>
            <a:off x="3492360" y="2349360"/>
            <a:ext cx="27943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475920"/>
            <a:ext cx="37432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ный праздничный салют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у празднует, Россия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ь ветеранов узн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рденам, а не по лиц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оль войны уже чуж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ка внукам или близк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не погибший, не ж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вший – числится по списк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з без вести пропав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йне в чужом краю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мечен среди пав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отчаянном бо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е его живог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лил землёй снаря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става рядов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л его комб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его среди погибших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его среди жив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нём пропавшем написал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несеньях фронтовы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03280" y="500040"/>
            <a:ext cx="352908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д ним прошла пехо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ки грозные прош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если в санбат кого-т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его наш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ед пробыл в санбате,                                                                                             Излечиться не пришлось.                                                                                            Получил он предписанье,                                                                                                       Дома дел ему нашлось.                                                                                                         Без руки в село вернулся,                                                                                                                      Был уволен он в запас.            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лет прожил он                                                                                                     Счастливо без бед.                                                                                                                  В колхозе дед трудился                                                                                                      Целых сорок лет.                                                                                                                                           В неизвестных значится                                                                                                                              В памяти людской,                                                                                                                 Но домой вернулся                                                                                                                 Он тогда – живой.                                                                                            Мы тобой гордимся                                                                                            Ты для нас герой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91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2276280"/>
            <a:ext cx="49068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ю «Спасибо» деду,                                                                                                                 От всей души благодарю.                                                                                                                                       За Отчизну, за Победу,                                                                                                                    За отвагу в том бою!                                                                                                                                 Спасибо, дедушка, что выжил не погиб.                                                                                 Тебя ведь помнит вся семья,                                                                                                    Я восхищаюсь и горжусь тобой                                                                                            Мой дедушка – пример ты для меня.                                                                      Пусть мирным  будет небо над стра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0d135067e71c88d4eaba29b9e4f21557"/>
          <p:cNvPicPr/>
          <p:nvPr/>
        </p:nvPicPr>
        <p:blipFill>
          <a:blip r:embed="rId1"/>
          <a:stretch/>
        </p:blipFill>
        <p:spPr>
          <a:xfrm>
            <a:off x="4859280" y="476280"/>
            <a:ext cx="3097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7342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ейные фотограф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Users\Диман\Desktop\сканы фотографий\Изображение0020 (3).JPG"/>
          <p:cNvPicPr/>
          <p:nvPr/>
        </p:nvPicPr>
        <p:blipFill>
          <a:blip r:embed="rId1"/>
          <a:stretch/>
        </p:blipFill>
        <p:spPr>
          <a:xfrm>
            <a:off x="682560" y="1139760"/>
            <a:ext cx="227340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Диман\Desktop\сканы фотографий\Изображение0020 (4).JPG"/>
          <p:cNvPicPr/>
          <p:nvPr/>
        </p:nvPicPr>
        <p:blipFill>
          <a:blip r:embed="rId2"/>
          <a:stretch/>
        </p:blipFill>
        <p:spPr>
          <a:xfrm>
            <a:off x="6229440" y="1212840"/>
            <a:ext cx="2152440" cy="31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Диман\Desktop\сканы фотографий\Изображение0020 (2).JPG"/>
          <p:cNvPicPr/>
          <p:nvPr/>
        </p:nvPicPr>
        <p:blipFill>
          <a:blip r:embed="rId3"/>
          <a:stretch/>
        </p:blipFill>
        <p:spPr>
          <a:xfrm>
            <a:off x="3206880" y="3297240"/>
            <a:ext cx="293832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468360" y="45086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рнулся с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7072200" y="3571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56360" y="45086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родной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 flipV="1" rot="10800000">
            <a:off x="3499920" y="60123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ужн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Изображение0020 (3)"/>
          <p:cNvPicPr/>
          <p:nvPr/>
        </p:nvPicPr>
        <p:blipFill>
          <a:blip r:embed="rId4"/>
          <a:stretch/>
        </p:blipFill>
        <p:spPr>
          <a:xfrm>
            <a:off x="755640" y="1197000"/>
            <a:ext cx="216072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Изображение0020 (4)"/>
          <p:cNvPicPr/>
          <p:nvPr/>
        </p:nvPicPr>
        <p:blipFill>
          <a:blip r:embed="rId5"/>
          <a:stretch/>
        </p:blipFill>
        <p:spPr>
          <a:xfrm>
            <a:off x="6300720" y="1268280"/>
            <a:ext cx="2041560" cy="30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Изображение0020 (2) - копия"/>
          <p:cNvPicPr/>
          <p:nvPr/>
        </p:nvPicPr>
        <p:blipFill>
          <a:blip r:embed="rId6"/>
          <a:stretch/>
        </p:blipFill>
        <p:spPr>
          <a:xfrm>
            <a:off x="3348000" y="3357720"/>
            <a:ext cx="2664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6"/>
          <p:cNvSpPr txBox="1"/>
          <p:nvPr/>
        </p:nvSpPr>
        <p:spPr>
          <a:xfrm>
            <a:off x="539640" y="1052640"/>
            <a:ext cx="792000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Подвигу нар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жить в век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ы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hevy-niva51.ru/_fr/3/6351632.jpg</a:t>
            </a: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ago-daru.com/sites/default/files/styles/img_350/public/photo-family/0_5b4ac_17c66fec_l.jpg?itok=np5tIvj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stolicadetstva.com/encyclopedia/text/priodyat_k_dedushke_druzya/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дед и два вн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img-fotki.yandex.ru/get/6005/tatyana2q8-medvedeva.1fe/0_5b3fb_7c956dcc_XL.jpg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зелены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cs417016.vk.me/v417016253/4cea/67PBTdNRmPg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img3.proshkolu.ru/content/media/pic/std/3000000/2687000/2686393-dbdd193935b02761.png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ые архи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ые фотограф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04:36:22Z</dcterms:created>
  <dc:creator>Lenovo</dc:creator>
  <dc:description/>
  <dc:language>en-US</dc:language>
  <cp:lastModifiedBy>Zverdvd.org</cp:lastModifiedBy>
  <dcterms:modified xsi:type="dcterms:W3CDTF">2024-06-03T08:57:30Z</dcterms:modified>
  <cp:revision>42</cp:revision>
  <dc:subject/>
  <dc:title>Слайд 1</dc:title>
</cp:coreProperties>
</file>