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9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20.wmf" ContentType="image/x-wmf"/>
  <Override PartName="/ppt/media/image5.jpeg" ContentType="image/jpeg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937-53B3-4E2C-8A49-462D40E8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3C2-15DB-4632-996D-4180674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33-D513-4D09-8FDC-5E63C0DB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E10-9A8A-425C-BFF4-44C393F9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36D4-B7B5-4DE9-9593-B64DD970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1057-4BED-4B0C-8DAD-CC6F0FB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0CCF-3710-4B4C-8EC5-814CF63A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861C-91B0-4A39-B887-E5079F6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200D-9C4A-4964-AC9D-C6D080C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4C5-E081-413C-AA1F-60C77931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6B9-E872-42CB-875A-23F13BAB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4B6-4F89-46CC-846E-C61FD53F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7A5-EA83-44CA-98E6-6D985AB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F7E-DDF9-4AB6-9BB5-4C5E6AD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251-4C17-406C-A284-495BAC8F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F2C-2652-41EC-951D-75BFB712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C1DA-AFC9-41C4-9183-950DFC99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AC4-8443-4F46-A8B0-9DB8650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C41-E879-42D0-A58B-BA36CE6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73D-E201-4183-8221-EA86FBC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D4A-E673-4B65-9C5F-D6339CC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50A-3D6A-4B00-8E3C-39AB52F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31A-87A7-4B10-956D-F50A4AF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EDF-5EDD-4896-9F6C-F5D1E580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4FB-EB64-4574-9949-8CA04E07CC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A1C8-1217-4A95-AE26-D7CC0B089D3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Урок-игра, посвящённый всемирному дню здоровь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ДОРОВЬЕ – БОГАТСТВО ВО ВСЕ  ВРЕМЕН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весенние месяцы повышается утомляемость, вялость, раздражительность. Кровоточат десны. На коже появляются синяки. Отчего это бывает? Как с этим боротьс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j0217698"/>
          <p:cNvPicPr/>
          <p:nvPr/>
        </p:nvPicPr>
        <p:blipFill>
          <a:blip r:embed="rId1"/>
          <a:stretch/>
        </p:blipFill>
        <p:spPr>
          <a:xfrm>
            <a:off x="4932360" y="4508640"/>
            <a:ext cx="2108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скрипачи глухие на левое ух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4" descr="j0286034"/>
          <p:cNvPicPr/>
          <p:nvPr/>
        </p:nvPicPr>
        <p:blipFill>
          <a:blip r:embed="rId1"/>
          <a:stretch/>
        </p:blipFill>
        <p:spPr>
          <a:xfrm>
            <a:off x="3780000" y="3500280"/>
            <a:ext cx="286380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т ли в жару пить много во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7" descr="j0186348"/>
          <p:cNvPicPr/>
          <p:nvPr/>
        </p:nvPicPr>
        <p:blipFill>
          <a:blip r:embed="rId1"/>
          <a:stretch/>
        </p:blipFill>
        <p:spPr>
          <a:xfrm>
            <a:off x="4541760" y="2924280"/>
            <a:ext cx="21542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29296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Вопрос № 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36912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рекомендуется употреблять в пищу пророщенные семена злаков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9" descr="j0285444"/>
          <p:cNvPicPr/>
          <p:nvPr/>
        </p:nvPicPr>
        <p:blipFill>
          <a:blip r:embed="rId1"/>
          <a:stretch/>
        </p:blipFill>
        <p:spPr>
          <a:xfrm>
            <a:off x="5002200" y="4365720"/>
            <a:ext cx="230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404280"/>
            <a:ext cx="81486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240" y="1988640"/>
            <a:ext cx="6729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стья этого растения обжигают на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к из листьев этого растения спасает на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сной его используют на суп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лову мыть его отваром – волосы раст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7" descr="j0281904"/>
          <p:cNvPicPr/>
          <p:nvPr/>
        </p:nvPicPr>
        <p:blipFill>
          <a:blip r:embed="rId1"/>
          <a:stretch/>
        </p:blipFill>
        <p:spPr>
          <a:xfrm>
            <a:off x="4500720" y="4149720"/>
            <a:ext cx="23288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Sampl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189000"/>
            <a:ext cx="81486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7a"/>
                </a:solidFill>
                <a:latin typeface="Arial"/>
              </a:rPr>
              <a:t>Вопрос № 13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5851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a"/>
                </a:solidFill>
                <a:latin typeface="Arial"/>
              </a:rPr>
              <a:t>Волосы, вымытые в отваре этого растения, приобретают золотистый оттенок, а при умывании – кожа становится нежной и бархатист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60280"/>
            <a:ext cx="81486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прос № 1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240" y="1844640"/>
            <a:ext cx="6513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ерная икра – роскошь или лекарств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8" descr="j0216724"/>
          <p:cNvPicPr/>
          <p:nvPr/>
        </p:nvPicPr>
        <p:blipFill>
          <a:blip r:embed="rId1"/>
          <a:stretch/>
        </p:blipFill>
        <p:spPr>
          <a:xfrm>
            <a:off x="4535640" y="3429000"/>
            <a:ext cx="240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х ядовитых змей и для чего выращивает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4" descr="j0301252"/>
          <p:cNvPicPr/>
          <p:nvPr/>
        </p:nvPicPr>
        <p:blipFill>
          <a:blip r:embed="rId1"/>
          <a:stretch/>
        </p:blipFill>
        <p:spPr>
          <a:xfrm>
            <a:off x="3276720" y="2925720"/>
            <a:ext cx="3630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16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три принципа закаливания организма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5" descr="j0240719"/>
          <p:cNvPicPr/>
          <p:nvPr/>
        </p:nvPicPr>
        <p:blipFill>
          <a:blip r:embed="rId1"/>
          <a:stretch/>
        </p:blipFill>
        <p:spPr>
          <a:xfrm>
            <a:off x="4859280" y="2852640"/>
            <a:ext cx="2081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насекомых – индикаторов отсутствия у человека навыков гигие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4" descr="j0286034"/>
          <p:cNvPicPr/>
          <p:nvPr/>
        </p:nvPicPr>
        <p:blipFill>
          <a:blip r:embed="rId1"/>
          <a:stretch/>
        </p:blipFill>
        <p:spPr>
          <a:xfrm>
            <a:off x="4500720" y="3500280"/>
            <a:ext cx="2071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пишите лозунг о здоровом образе жизни, который может послужить эпиграфом к нашему уро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4" descr="j0199661"/>
          <p:cNvPicPr/>
          <p:nvPr/>
        </p:nvPicPr>
        <p:blipFill>
          <a:blip r:embed="rId1"/>
          <a:stretch/>
        </p:blipFill>
        <p:spPr>
          <a:xfrm>
            <a:off x="4500720" y="3525840"/>
            <a:ext cx="280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8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ая поговорка учит нас правильному режиму питани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4" descr="j0234687"/>
          <p:cNvPicPr/>
          <p:nvPr/>
        </p:nvPicPr>
        <p:blipFill>
          <a:blip r:embed="rId1"/>
          <a:stretch/>
        </p:blipFill>
        <p:spPr>
          <a:xfrm>
            <a:off x="4211640" y="3486240"/>
            <a:ext cx="3673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9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 какого возраста можно курить и употреблять спиртные напит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j0302953"/>
          <p:cNvPicPr/>
          <p:nvPr/>
        </p:nvPicPr>
        <p:blipFill>
          <a:blip r:embed="rId1"/>
          <a:stretch/>
        </p:blipFill>
        <p:spPr>
          <a:xfrm>
            <a:off x="4643280" y="29242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2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колько часов в сутки должен спать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j0195384"/>
          <p:cNvPicPr/>
          <p:nvPr/>
        </p:nvPicPr>
        <p:blipFill>
          <a:blip r:embed="rId1"/>
          <a:stretch/>
        </p:blipFill>
        <p:spPr>
          <a:xfrm>
            <a:off x="4284720" y="3141720"/>
            <a:ext cx="26431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ические правила и процед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здоровье, спорт, закаливание, труд, травы, овощи и фрукты рука об руку идут. Маски, ванны и массажи нам полезны, спора нет, ну а лень, обжорство, пьянство оставляют тоже след. Кожа – зеркало здоровья! Все недаром говорят. Ты запомни это точно. Это важно всем подря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Всем желаем здоровья и бодрости духа.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j0336075"/>
          <p:cNvPicPr/>
          <p:nvPr/>
        </p:nvPicPr>
        <p:blipFill>
          <a:blip r:embed="rId1"/>
          <a:stretch/>
        </p:blipFill>
        <p:spPr>
          <a:xfrm>
            <a:off x="3987720" y="3573360"/>
            <a:ext cx="3056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 детей чаще бывает искривление позвоночника и ног ,чем у взрослых. От наличия какого вещества в костях это зависи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з каких продуктов питания организм может получить это вещество? Какой витамин необходим организму для усвоения этого вещества костя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10" descr="j0293238"/>
          <p:cNvPicPr/>
          <p:nvPr/>
        </p:nvPicPr>
        <p:blipFill>
          <a:blip r:embed="rId1"/>
          <a:stretch/>
        </p:blipFill>
        <p:spPr>
          <a:xfrm>
            <a:off x="7236000" y="5445000"/>
            <a:ext cx="1749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яц, воспитанный в клетке, умирает при первом быстром беге. Может ли такое приключиться с человеком. Что такое гиподинамия, и чем она опасн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j0304933"/>
          <p:cNvPicPr/>
          <p:nvPr/>
        </p:nvPicPr>
        <p:blipFill>
          <a:blip r:embed="rId1"/>
          <a:stretch/>
        </p:blipFill>
        <p:spPr>
          <a:xfrm>
            <a:off x="4427640" y="3913200"/>
            <a:ext cx="2468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семье два сына. Один из них  каждое утро умывается холодной водой, другой – теплой. Кто из них реже болеет простудными заболеваниями?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j0090070"/>
          <p:cNvPicPr/>
          <p:nvPr/>
        </p:nvPicPr>
        <p:blipFill>
          <a:blip r:embed="rId1"/>
          <a:stretch/>
        </p:blipFill>
        <p:spPr>
          <a:xfrm>
            <a:off x="5580000" y="422100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, поиграв с животными, необходимо вымыть руки, даже не дожидаясь е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Сабаченок"/>
          <p:cNvPicPr/>
          <p:nvPr/>
        </p:nvPicPr>
        <p:blipFill>
          <a:blip r:embed="rId1"/>
          <a:stretch/>
        </p:blipFill>
        <p:spPr>
          <a:xfrm>
            <a:off x="2050920" y="3421080"/>
            <a:ext cx="517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нельзя самостоятельно голодать ради красивой фигур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j0295241"/>
          <p:cNvPicPr/>
          <p:nvPr/>
        </p:nvPicPr>
        <p:blipFill>
          <a:blip r:embed="rId1"/>
          <a:stretch/>
        </p:blipFill>
        <p:spPr>
          <a:xfrm>
            <a:off x="4211640" y="3041640"/>
            <a:ext cx="25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Обжора роет себе могилу зубами»,- говорит народная пословица.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5" descr="j0199283"/>
          <p:cNvPicPr/>
          <p:nvPr/>
        </p:nvPicPr>
        <p:blipFill>
          <a:blip r:embed="rId1"/>
          <a:stretch/>
        </p:blipFill>
        <p:spPr>
          <a:xfrm>
            <a:off x="3924360" y="3057480"/>
            <a:ext cx="3743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сна. Петя «загорает» на закрытом окне. Жарко, а загара нет. Открыл окно – стало светло. А через час – на теле ожог. Чем это объяснить? Полезен ли загар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j0299125"/>
          <p:cNvPicPr/>
          <p:nvPr/>
        </p:nvPicPr>
        <p:blipFill>
          <a:blip r:embed="rId1"/>
          <a:stretch/>
        </p:blipFill>
        <p:spPr>
          <a:xfrm>
            <a:off x="5580000" y="3933720"/>
            <a:ext cx="16718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6:53:13Z</dcterms:created>
  <dc:creator>1</dc:creator>
  <dc:description/>
  <dc:language>en-US</dc:language>
  <cp:lastModifiedBy>Admin</cp:lastModifiedBy>
  <dcterms:modified xsi:type="dcterms:W3CDTF">2023-03-31T05:29:39Z</dcterms:modified>
  <cp:revision>10</cp:revision>
  <dc:subject/>
  <dc:title>Викторина</dc:title>
</cp:coreProperties>
</file>