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9.wmf" ContentType="image/x-wmf"/>
  <Override PartName="/ppt/media/image21.wmf" ContentType="image/x-wmf"/>
  <Override PartName="/ppt/media/image19.jpeg" ContentType="image/jpeg"/>
  <Override PartName="/ppt/media/image4.wmf" ContentType="image/x-wmf"/>
  <Override PartName="/ppt/media/image18.gif" ContentType="image/gif"/>
  <Override PartName="/ppt/media/image3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20.wmf" ContentType="image/x-wmf"/>
  <Override PartName="/ppt/media/image5.jpeg" ContentType="image/jpeg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5BC-60EF-405F-B717-664125A6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2B7-77FC-4522-984F-28C3E44E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24C-D824-4234-82A6-607CD998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7E5-949E-4293-9096-1C3F040B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C9A-B445-47C8-96F9-3DEE92CD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D5B-AB60-432B-BF7E-2C62A909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F91B-54BE-42AA-AD57-3333525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EBC-99FF-4881-8ACC-59FEDF9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961A-9927-4917-8906-55E77C9B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9F8-00BD-4B8D-8E0C-45744E73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31FA-336A-4EDC-82FA-82925C4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645-9338-447A-A625-0B596491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7FEB-BAF8-457D-A3F5-1F279C6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637E-954E-41C4-8EEC-B096F6FD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39BA-9C3E-4A0F-BC00-01C1E9D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CFFC-B259-498C-903D-76D85174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69EC-7481-4302-89B4-3702B5D6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617-33CB-491E-AC8F-1166C34E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535-9453-4F83-944D-BFE026BA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3D9-2139-416C-8659-68B337A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76D-AB91-4D91-8CBE-6CE9DBCB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484-2197-4EF2-AC1E-B4A74F7F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90B-9F7C-4998-A7EC-D6CB1E5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722-6819-4F7A-915C-2795067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2BD4-6C33-4763-9F27-D3BD4A52B8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170D-E642-45FC-8220-52B9A2B17ABA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Arial"/>
              </a:rPr>
              <a:t>Урок-игра, посвящённый всемирному дню здоровь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ЗДОРОВЬЕ – БОГАТСТВО ВО ВСЕ  ВРЕМЕНА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весенние месяцы повышается утомляемость, вялость, раздражительность. Кровоточат десны. На коже появляются синяки. Отчего это бывает? Как с этим бороться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j0217698"/>
          <p:cNvPicPr/>
          <p:nvPr/>
        </p:nvPicPr>
        <p:blipFill>
          <a:blip r:embed="rId1"/>
          <a:stretch/>
        </p:blipFill>
        <p:spPr>
          <a:xfrm>
            <a:off x="4932360" y="4508640"/>
            <a:ext cx="2108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скрипачи глухие на левое ух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4" descr="j0286034"/>
          <p:cNvPicPr/>
          <p:nvPr/>
        </p:nvPicPr>
        <p:blipFill>
          <a:blip r:embed="rId1"/>
          <a:stretch/>
        </p:blipFill>
        <p:spPr>
          <a:xfrm>
            <a:off x="3780000" y="3500280"/>
            <a:ext cx="2863800" cy="27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1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т ли в жару пить много вод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7" descr="j0186348"/>
          <p:cNvPicPr/>
          <p:nvPr/>
        </p:nvPicPr>
        <p:blipFill>
          <a:blip r:embed="rId1"/>
          <a:stretch/>
        </p:blipFill>
        <p:spPr>
          <a:xfrm>
            <a:off x="4541760" y="2924280"/>
            <a:ext cx="21542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188640"/>
            <a:ext cx="829296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Вопрос № 11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36912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рекомендуется употреблять в пищу пророщенные семена злаков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9" descr="j0285444"/>
          <p:cNvPicPr/>
          <p:nvPr/>
        </p:nvPicPr>
        <p:blipFill>
          <a:blip r:embed="rId1"/>
          <a:stretch/>
        </p:blipFill>
        <p:spPr>
          <a:xfrm>
            <a:off x="5002200" y="4365720"/>
            <a:ext cx="2301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404280"/>
            <a:ext cx="81486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240" y="1988640"/>
            <a:ext cx="6729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Листья этого растения обжигают нас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к из листьев этого растения спасает нас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есной его используют на суп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лову мыть его отваром – волосы расту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7" descr="j0281904"/>
          <p:cNvPicPr/>
          <p:nvPr/>
        </p:nvPicPr>
        <p:blipFill>
          <a:blip r:embed="rId1"/>
          <a:stretch/>
        </p:blipFill>
        <p:spPr>
          <a:xfrm>
            <a:off x="4500720" y="4149720"/>
            <a:ext cx="23288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Sampl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189000"/>
            <a:ext cx="81486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4547a"/>
                </a:solidFill>
                <a:latin typeface="Arial"/>
              </a:rPr>
              <a:t>Вопрос № 13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58512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a"/>
                </a:solidFill>
                <a:latin typeface="Arial"/>
              </a:rPr>
              <a:t>Волосы, вымытые в отваре этого растения, приобретают золотистый оттенок, а при умывании – кожа становится нежной и бархатист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60280"/>
            <a:ext cx="81486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прос № 1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240" y="1844640"/>
            <a:ext cx="6513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ерная икра – роскошь или лекарство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8" descr="j0216724"/>
          <p:cNvPicPr/>
          <p:nvPr/>
        </p:nvPicPr>
        <p:blipFill>
          <a:blip r:embed="rId1"/>
          <a:stretch/>
        </p:blipFill>
        <p:spPr>
          <a:xfrm>
            <a:off x="4535640" y="3429000"/>
            <a:ext cx="240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х ядовитых змей и для чего выращивает челове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4" descr="j0301252"/>
          <p:cNvPicPr/>
          <p:nvPr/>
        </p:nvPicPr>
        <p:blipFill>
          <a:blip r:embed="rId1"/>
          <a:stretch/>
        </p:blipFill>
        <p:spPr>
          <a:xfrm>
            <a:off x="3276720" y="2925720"/>
            <a:ext cx="3630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16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зовите три принципа закаливания организма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5" descr="j0240719"/>
          <p:cNvPicPr/>
          <p:nvPr/>
        </p:nvPicPr>
        <p:blipFill>
          <a:blip r:embed="rId1"/>
          <a:stretch/>
        </p:blipFill>
        <p:spPr>
          <a:xfrm>
            <a:off x="4859280" y="2852640"/>
            <a:ext cx="2081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1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зовите насекомых – индикаторов отсутствия у человека навыков гигиен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4" descr="j0286034"/>
          <p:cNvPicPr/>
          <p:nvPr/>
        </p:nvPicPr>
        <p:blipFill>
          <a:blip r:embed="rId1"/>
          <a:stretch/>
        </p:blipFill>
        <p:spPr>
          <a:xfrm>
            <a:off x="4500720" y="3500280"/>
            <a:ext cx="20714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команд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пишите лозунг о здоровом образе жизни, который может послужить эпиграфом к нашему урок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4" descr="j0199661"/>
          <p:cNvPicPr/>
          <p:nvPr/>
        </p:nvPicPr>
        <p:blipFill>
          <a:blip r:embed="rId1"/>
          <a:stretch/>
        </p:blipFill>
        <p:spPr>
          <a:xfrm>
            <a:off x="4500720" y="3525840"/>
            <a:ext cx="280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18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ая поговорка учит нас правильному режиму питания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Picture 4" descr="j0234687"/>
          <p:cNvPicPr/>
          <p:nvPr/>
        </p:nvPicPr>
        <p:blipFill>
          <a:blip r:embed="rId1"/>
          <a:stretch/>
        </p:blipFill>
        <p:spPr>
          <a:xfrm>
            <a:off x="4211640" y="3486240"/>
            <a:ext cx="3673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19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 какого возраста можно курить и употреблять спиртные напитк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j0302953"/>
          <p:cNvPicPr/>
          <p:nvPr/>
        </p:nvPicPr>
        <p:blipFill>
          <a:blip r:embed="rId1"/>
          <a:stretch/>
        </p:blipFill>
        <p:spPr>
          <a:xfrm>
            <a:off x="4643280" y="292428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прос № 20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колько часов в сутки должен спать человек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Picture 4" descr="j0195384"/>
          <p:cNvPicPr/>
          <p:nvPr/>
        </p:nvPicPr>
        <p:blipFill>
          <a:blip r:embed="rId1"/>
          <a:stretch/>
        </p:blipFill>
        <p:spPr>
          <a:xfrm>
            <a:off x="4284720" y="3141720"/>
            <a:ext cx="26431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гиенические правила и процед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игиена и здоровье, спорт, закаливание, труд, травы, овощи и фрукты рука об руку идут. Маски, ванны и массажи нам полезны, спора нет, ну а лень, обжорство, пьянство оставляют тоже след. Кожа – зеркало здоровья! Все недаром говорят. Ты запомни это точно. Это важно всем подря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eaea"/>
                </a:solidFill>
                <a:latin typeface="Arial"/>
              </a:rPr>
              <a:t>Всем желаем здоровья и бодрости духа.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5" descr="j0336075"/>
          <p:cNvPicPr/>
          <p:nvPr/>
        </p:nvPicPr>
        <p:blipFill>
          <a:blip r:embed="rId1"/>
          <a:stretch/>
        </p:blipFill>
        <p:spPr>
          <a:xfrm>
            <a:off x="3987720" y="3573360"/>
            <a:ext cx="3056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 детей чаще бывает искривление позвоночника и ног ,чем у взрослых. От наличия какого вещества в костях это зависит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з каких продуктов питания организм может получить это вещество? Какой витамин необходим организму для усвоения этого вещества костям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10" descr="j0293238"/>
          <p:cNvPicPr/>
          <p:nvPr/>
        </p:nvPicPr>
        <p:blipFill>
          <a:blip r:embed="rId1"/>
          <a:stretch/>
        </p:blipFill>
        <p:spPr>
          <a:xfrm>
            <a:off x="7236000" y="5445000"/>
            <a:ext cx="1749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аяц, воспитанный в клетке, умирает при первом быстром беге. Может ли такое приключиться с человеком. Что такое гиподинамия, и чем она опасн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j0304933"/>
          <p:cNvPicPr/>
          <p:nvPr/>
        </p:nvPicPr>
        <p:blipFill>
          <a:blip r:embed="rId1"/>
          <a:stretch/>
        </p:blipFill>
        <p:spPr>
          <a:xfrm>
            <a:off x="4427640" y="3913200"/>
            <a:ext cx="2468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 семье два сына. Один из них  каждое утро умывается холодной водой, другой – теплой. Кто из них реже болеет простудными заболеваниями? Почему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5" descr="j0090070"/>
          <p:cNvPicPr/>
          <p:nvPr/>
        </p:nvPicPr>
        <p:blipFill>
          <a:blip r:embed="rId1"/>
          <a:stretch/>
        </p:blipFill>
        <p:spPr>
          <a:xfrm>
            <a:off x="5580000" y="422100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, поиграв с животными, необходимо вымыть руки, даже не дожидаясь ед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Сабаченок"/>
          <p:cNvPicPr/>
          <p:nvPr/>
        </p:nvPicPr>
        <p:blipFill>
          <a:blip r:embed="rId1"/>
          <a:stretch/>
        </p:blipFill>
        <p:spPr>
          <a:xfrm>
            <a:off x="2050920" y="3421080"/>
            <a:ext cx="517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чему нельзя самостоятельно голодать ради красивой фигуры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j0295241"/>
          <p:cNvPicPr/>
          <p:nvPr/>
        </p:nvPicPr>
        <p:blipFill>
          <a:blip r:embed="rId1"/>
          <a:stretch/>
        </p:blipFill>
        <p:spPr>
          <a:xfrm>
            <a:off x="4211640" y="3041640"/>
            <a:ext cx="25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Обжора роет себе могилу зубами»,- говорит народная пословица. Почему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5" descr="j0199283"/>
          <p:cNvPicPr/>
          <p:nvPr/>
        </p:nvPicPr>
        <p:blipFill>
          <a:blip r:embed="rId1"/>
          <a:stretch/>
        </p:blipFill>
        <p:spPr>
          <a:xfrm>
            <a:off x="3924360" y="3057480"/>
            <a:ext cx="37432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прос №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сна. Петя «загорает» на закрытом окне. Жарко, а загара нет. Открыл окно – стало светло. А через час – на теле ожог. Чем это объяснить? Полезен ли загар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4" descr="j0299125"/>
          <p:cNvPicPr/>
          <p:nvPr/>
        </p:nvPicPr>
        <p:blipFill>
          <a:blip r:embed="rId1"/>
          <a:stretch/>
        </p:blipFill>
        <p:spPr>
          <a:xfrm>
            <a:off x="5580000" y="3933720"/>
            <a:ext cx="16718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6:53:13Z</dcterms:created>
  <dc:creator>1</dc:creator>
  <dc:description/>
  <dc:language>en-US</dc:language>
  <cp:lastModifiedBy>Admin</cp:lastModifiedBy>
  <dcterms:modified xsi:type="dcterms:W3CDTF">2023-03-31T05:29:39Z</dcterms:modified>
  <cp:revision>10</cp:revision>
  <dc:subject/>
  <dc:title>Викторина</dc:title>
</cp:coreProperties>
</file>