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9.wmf" ContentType="image/x-wmf"/>
  <Override PartName="/ppt/media/image21.wmf" ContentType="image/x-wmf"/>
  <Override PartName="/ppt/media/image19.jpeg" ContentType="image/jpeg"/>
  <Override PartName="/ppt/media/image4.wmf" ContentType="image/x-wmf"/>
  <Override PartName="/ppt/media/image18.gif" ContentType="image/gif"/>
  <Override PartName="/ppt/media/image3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20.wmf" ContentType="image/x-wmf"/>
  <Override PartName="/ppt/media/image5.jpeg" ContentType="image/jpeg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77B-2190-436A-BA46-2886FB11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445-6D68-44CF-A120-2E0CF0F1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FD6-DC9D-485A-9209-03D67D9D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B9C-70E5-40DE-9384-62556551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F212-FB85-4F7D-84F5-67BBD23E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1D7A-CC31-4B81-8172-6409033D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1AB6-D6CC-4488-AB5D-8ACFA33C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EA3E-664F-473B-A373-FD7FDCB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840D-7D53-49C6-8660-661D2937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6751-299A-4076-8F54-2088A25D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6028-2271-4E03-9CE7-6AFBE65B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183-6B4A-462A-8A39-B18E12C8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16B6-4B1B-4A7E-8366-7F028EF2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9F6-0726-4355-B662-0B00CBF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3F6F-31F8-400A-8704-FBBA358B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456C-C51F-4370-9873-FEDC532B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9692-5913-4338-89A2-02C4F7E7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D63-32DF-4328-B052-64577B2C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AA7-F6A0-4BD7-9F21-636D43A3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6F3-B2BB-4399-B280-6B70691F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8FC-3B0B-4261-A451-12CCDB4B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0F4-536B-424F-8C59-FFF5A18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E79-2408-4786-9789-B03C826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B64-6106-49B1-89EC-7417A19F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7F6A-6254-4153-83AF-0C9239CB8F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9760-E960-4F1E-B042-39CFBD134A36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Урок-игра, посвящённый всемирному дню здоровь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76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ЗДОРОВЬЕ – БОГАТСТВО ВО ВСЕ  ВРЕМЕНА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весенние месяцы повышается утомляемость, вялость, раздражительность. Кровоточат десны. На коже появляются синяки. Отчего это бывает? Как с этим бороться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j0217698"/>
          <p:cNvPicPr/>
          <p:nvPr/>
        </p:nvPicPr>
        <p:blipFill>
          <a:blip r:embed="rId1"/>
          <a:stretch/>
        </p:blipFill>
        <p:spPr>
          <a:xfrm>
            <a:off x="4932360" y="4508640"/>
            <a:ext cx="21081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 скрипачи глухие на левое ух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Picture 4" descr="j0286034"/>
          <p:cNvPicPr/>
          <p:nvPr/>
        </p:nvPicPr>
        <p:blipFill>
          <a:blip r:embed="rId1"/>
          <a:stretch/>
        </p:blipFill>
        <p:spPr>
          <a:xfrm>
            <a:off x="3780000" y="3500280"/>
            <a:ext cx="2863800" cy="27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т ли в жару пить много воды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7" descr="j0186348"/>
          <p:cNvPicPr/>
          <p:nvPr/>
        </p:nvPicPr>
        <p:blipFill>
          <a:blip r:embed="rId1"/>
          <a:stretch/>
        </p:blipFill>
        <p:spPr>
          <a:xfrm>
            <a:off x="4541760" y="2924280"/>
            <a:ext cx="21542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188640"/>
            <a:ext cx="829296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Вопрос № 1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36912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 рекомендуется употреблять в пищу пророщенные семена злаков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9" descr="j0285444"/>
          <p:cNvPicPr/>
          <p:nvPr/>
        </p:nvPicPr>
        <p:blipFill>
          <a:blip r:embed="rId1"/>
          <a:stretch/>
        </p:blipFill>
        <p:spPr>
          <a:xfrm>
            <a:off x="5002200" y="4365720"/>
            <a:ext cx="2301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404280"/>
            <a:ext cx="81486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240" y="1988640"/>
            <a:ext cx="6729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стья этого растения обжигают нас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к из листьев этого растения спасает нас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сной его используют на суп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лову мыть его отваром – волосы расту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7" descr="j0281904"/>
          <p:cNvPicPr/>
          <p:nvPr/>
        </p:nvPicPr>
        <p:blipFill>
          <a:blip r:embed="rId1"/>
          <a:stretch/>
        </p:blipFill>
        <p:spPr>
          <a:xfrm>
            <a:off x="4500720" y="4149720"/>
            <a:ext cx="23288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Sampl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189000"/>
            <a:ext cx="81486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4547a"/>
                </a:solidFill>
                <a:latin typeface="Arial"/>
              </a:rPr>
              <a:t>Вопрос № 13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58512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a"/>
                </a:solidFill>
                <a:latin typeface="Arial"/>
              </a:rPr>
              <a:t>Волосы, вымытые в отваре этого растения, приобретают золотистый оттенок, а при умывании – кожа становится нежной и бархатист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60280"/>
            <a:ext cx="81486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прос № 1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240" y="1844640"/>
            <a:ext cx="6513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ерная икра – роскошь или лекарств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8" descr="j0216724"/>
          <p:cNvPicPr/>
          <p:nvPr/>
        </p:nvPicPr>
        <p:blipFill>
          <a:blip r:embed="rId1"/>
          <a:stretch/>
        </p:blipFill>
        <p:spPr>
          <a:xfrm>
            <a:off x="4535640" y="3429000"/>
            <a:ext cx="240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х ядовитых змей и для чего выращивает челове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4" descr="j0301252"/>
          <p:cNvPicPr/>
          <p:nvPr/>
        </p:nvPicPr>
        <p:blipFill>
          <a:blip r:embed="rId1"/>
          <a:stretch/>
        </p:blipFill>
        <p:spPr>
          <a:xfrm>
            <a:off x="3276720" y="2925720"/>
            <a:ext cx="3630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16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зовите три принципа закаливания организма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5" descr="j0240719"/>
          <p:cNvPicPr/>
          <p:nvPr/>
        </p:nvPicPr>
        <p:blipFill>
          <a:blip r:embed="rId1"/>
          <a:stretch/>
        </p:blipFill>
        <p:spPr>
          <a:xfrm>
            <a:off x="4859280" y="2852640"/>
            <a:ext cx="2081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1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зовите насекомых – индикаторов отсутствия у человека навыков гигиен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4" descr="j0286034"/>
          <p:cNvPicPr/>
          <p:nvPr/>
        </p:nvPicPr>
        <p:blipFill>
          <a:blip r:embed="rId1"/>
          <a:stretch/>
        </p:blipFill>
        <p:spPr>
          <a:xfrm>
            <a:off x="4500720" y="3500280"/>
            <a:ext cx="20714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команд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пишите лозунг о здоровом образе жизни, который может послужить эпиграфом к нашему уро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4" descr="j0199661"/>
          <p:cNvPicPr/>
          <p:nvPr/>
        </p:nvPicPr>
        <p:blipFill>
          <a:blip r:embed="rId1"/>
          <a:stretch/>
        </p:blipFill>
        <p:spPr>
          <a:xfrm>
            <a:off x="4500720" y="3525840"/>
            <a:ext cx="2808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 18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ая поговорка учит нас правильному режиму питания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4" descr="j0234687"/>
          <p:cNvPicPr/>
          <p:nvPr/>
        </p:nvPicPr>
        <p:blipFill>
          <a:blip r:embed="rId1"/>
          <a:stretch/>
        </p:blipFill>
        <p:spPr>
          <a:xfrm>
            <a:off x="4211640" y="3486240"/>
            <a:ext cx="3673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 19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 какого возраста можно курить и употреблять спиртные напит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j0302953"/>
          <p:cNvPicPr/>
          <p:nvPr/>
        </p:nvPicPr>
        <p:blipFill>
          <a:blip r:embed="rId1"/>
          <a:stretch/>
        </p:blipFill>
        <p:spPr>
          <a:xfrm>
            <a:off x="4643280" y="292428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 2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колько часов в сутки должен спать челове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Picture 4" descr="j0195384"/>
          <p:cNvPicPr/>
          <p:nvPr/>
        </p:nvPicPr>
        <p:blipFill>
          <a:blip r:embed="rId1"/>
          <a:stretch/>
        </p:blipFill>
        <p:spPr>
          <a:xfrm>
            <a:off x="4284720" y="3141720"/>
            <a:ext cx="26431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игиенические правила и процед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игиена и здоровье, спорт, закаливание, труд, травы, овощи и фрукты рука об руку идут. Маски, ванны и массажи нам полезны, спора нет, ну а лень, обжорство, пьянство оставляют тоже след. Кожа – зеркало здоровья! Все недаром говорят. Ты запомни это точно. Это важно всем подря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Всем желаем здоровья и бодрости духа.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Picture 5" descr="j0336075"/>
          <p:cNvPicPr/>
          <p:nvPr/>
        </p:nvPicPr>
        <p:blipFill>
          <a:blip r:embed="rId1"/>
          <a:stretch/>
        </p:blipFill>
        <p:spPr>
          <a:xfrm>
            <a:off x="3987720" y="3573360"/>
            <a:ext cx="30560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 детей чаще бывает искривление позвоночника и ног ,чем у взрослых. От наличия какого вещества в костях это зависи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з каких продуктов питания организм может получить это вещество? Какой витамин необходим организму для усвоения этого вещества костя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10" descr="j0293238"/>
          <p:cNvPicPr/>
          <p:nvPr/>
        </p:nvPicPr>
        <p:blipFill>
          <a:blip r:embed="rId1"/>
          <a:stretch/>
        </p:blipFill>
        <p:spPr>
          <a:xfrm>
            <a:off x="7236000" y="5445000"/>
            <a:ext cx="1749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аяц, воспитанный в клетке, умирает при первом быстром беге. Может ли такое приключиться с человеком. Что такое гиподинамия, и чем она опасн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4" descr="j0304933"/>
          <p:cNvPicPr/>
          <p:nvPr/>
        </p:nvPicPr>
        <p:blipFill>
          <a:blip r:embed="rId1"/>
          <a:stretch/>
        </p:blipFill>
        <p:spPr>
          <a:xfrm>
            <a:off x="4427640" y="3913200"/>
            <a:ext cx="2468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семье два сына. Один из них  каждое утро умывается холодной водой, другой – теплой. Кто из них реже болеет простудными заболеваниями? Почему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5" descr="j0090070"/>
          <p:cNvPicPr/>
          <p:nvPr/>
        </p:nvPicPr>
        <p:blipFill>
          <a:blip r:embed="rId1"/>
          <a:stretch/>
        </p:blipFill>
        <p:spPr>
          <a:xfrm>
            <a:off x="5580000" y="422100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, поиграв с животными, необходимо вымыть руки, даже не дожидаясь еды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Сабаченок"/>
          <p:cNvPicPr/>
          <p:nvPr/>
        </p:nvPicPr>
        <p:blipFill>
          <a:blip r:embed="rId1"/>
          <a:stretch/>
        </p:blipFill>
        <p:spPr>
          <a:xfrm>
            <a:off x="2050920" y="3421080"/>
            <a:ext cx="517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 нельзя самостоятельно голодать ради красивой фигуры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6" descr="j0295241"/>
          <p:cNvPicPr/>
          <p:nvPr/>
        </p:nvPicPr>
        <p:blipFill>
          <a:blip r:embed="rId1"/>
          <a:stretch/>
        </p:blipFill>
        <p:spPr>
          <a:xfrm>
            <a:off x="4211640" y="3041640"/>
            <a:ext cx="2581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Обжора роет себе могилу зубами»,- говорит народная пословица. Почему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5" descr="j0199283"/>
          <p:cNvPicPr/>
          <p:nvPr/>
        </p:nvPicPr>
        <p:blipFill>
          <a:blip r:embed="rId1"/>
          <a:stretch/>
        </p:blipFill>
        <p:spPr>
          <a:xfrm>
            <a:off x="3924360" y="3057480"/>
            <a:ext cx="37432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сна. Петя «загорает» на закрытом окне. Жарко, а загара нет. Открыл окно – стало светло. А через час – на теле ожог. Чем это объяснить? Полезен ли загар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4" descr="j0299125"/>
          <p:cNvPicPr/>
          <p:nvPr/>
        </p:nvPicPr>
        <p:blipFill>
          <a:blip r:embed="rId1"/>
          <a:stretch/>
        </p:blipFill>
        <p:spPr>
          <a:xfrm>
            <a:off x="5580000" y="3933720"/>
            <a:ext cx="16718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6:53:13Z</dcterms:created>
  <dc:creator>1</dc:creator>
  <dc:description/>
  <dc:language>en-US</dc:language>
  <cp:lastModifiedBy>Admin</cp:lastModifiedBy>
  <dcterms:modified xsi:type="dcterms:W3CDTF">2023-03-31T05:29:39Z</dcterms:modified>
  <cp:revision>10</cp:revision>
  <dc:subject/>
  <dc:title>Викторина</dc:title>
</cp:coreProperties>
</file>