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13C-0512-41F6-98EA-63D816BF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B6D-60D1-467C-95D0-9ACE691B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A16-D7EA-4BCB-B848-F0C242BA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B55-6B5D-4376-ABCB-F1BE5293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09AA-337E-4C2F-ABB3-BCD61174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C9B6-D8EE-49D2-9035-10C738E5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AE3D-E036-4FB0-8DC2-8D7312B7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0790-B80E-4B0B-9EF5-B3119FB5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87A1-62D7-4E34-95F0-2B93EA12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293-E7D4-4146-B172-F8AD4A0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7175-7FB6-4458-9FC2-94549988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A62-0E85-41F7-B6A6-D86C67C3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0D14-89A9-426C-ABAF-4B9E6C1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975C-386B-4A34-8F88-93E016C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7B28-2BB5-4D0A-855D-5A47BF6D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6839-A33C-41EB-A33C-CF82FA83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F0FA-FA16-4C72-8EA2-528B0F1F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232-A60E-4976-BC2B-15CCC685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8DF-24D8-4A0B-B6DB-335E1866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80B-A693-4BF0-8BEC-E5A0C0AC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280-94FA-40CB-8BFA-DCA5CDC9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FF5-C597-4F96-80EC-4DC8553E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6E2-A1B6-46C6-94AD-EF42ABFD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678-850C-4485-BC68-2092BF22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1AF6-7BA7-4547-8669-7BA354B79F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1229-2455-47AE-9FCB-E44AF55822B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4865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 работы  с первоклассниками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34920" y="43657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пешность  адаптационного  периода определяется  признаками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ность процессом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тепени самостоятельности при выполнении учебн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ность межличностными отношениями с учителем и однокласс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реализация направлений программы по адаптации первоклассников приводит к смягчению и ускорению процесса овладения ребёнком новым видом деятельности, новой социальной рол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ация к школе - это процесс привыкания к новым школьным условиям,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каждый первоклассник переживает и осознает по-своем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5075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адаптации ребенка к школе дли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3 недель до полугод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Изображение 075"/>
          <p:cNvPicPr/>
          <p:nvPr/>
        </p:nvPicPr>
        <p:blipFill>
          <a:blip r:embed="rId1"/>
          <a:stretch/>
        </p:blipFill>
        <p:spPr>
          <a:xfrm>
            <a:off x="3492360" y="4365720"/>
            <a:ext cx="165744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и успешной адаптации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школе нрави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 идет туда с удовольствием, охотно рассказывает о своих успехах и неудачах, он понимает, что главная цель его пребывания в школе - у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слишком уст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он активен, жизнерадостен, любопытен, редко простужается, хорошо спит, почти никогда не жалуется на боль в животе, голове, гор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классник достаточ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стоятелен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з проблем переодевается на физкультуру, уверенно ориентируется в школьном здании, при необходимости сумеет обратиться за помощью к кому-нибудь из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его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явились друзья-однокласс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м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равится его учительниц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ольшинство учителей, ведущих дополнительные предметы  в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: "А может быть, лучше вернуться в детский сад?" он решительно отвечает: "Нет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, или социальная, адаптация связан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желанием и умением ребенка принять новую роль –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школьника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стигается целым рядом условий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витие у детей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я слушать, реагировать на действия учителя, планировать свою работу, анализировать полученный результ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я налаживать контакт с другими детьм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раивать отношения со взрослыми, быть общительным и интересным для окружа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ия правильно оценивать свои действия и действия одноклассни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ьзоваться простейшими критериями оценки и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троит свою деятельность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учетом степени и длительности адаптации первоклассников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учение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оится с учетом особенностей  организации деятельности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тываются индивидуальные особенности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яется возможность выбора разных по сложности учебных зад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игры, как метода обу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ора на наглядно-образное мышление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ль общения учителя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ый и терпе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 доверительный и мяг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ствуются формы невербального общения  (взять за руку, погладить по голове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ое отношение, несмотря на успехи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развития самостоятельности и активности детей важно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оценивать каждый удавшийся шаг ребё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ть творческие учебные 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организовывать свою деятельность (давать пошаговые инструк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планировать свои действия, проговаривая последовательность дейст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на два вида игр – ролевые и с прави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0:33:39Z</dcterms:created>
  <dc:creator>admin</dc:creator>
  <dc:description/>
  <dc:language>en-US</dc:language>
  <cp:lastModifiedBy>1</cp:lastModifiedBy>
  <dcterms:modified xsi:type="dcterms:W3CDTF">2024-06-10T12:59:29Z</dcterms:modified>
  <cp:revision>26</cp:revision>
  <dc:subject/>
  <dc:title>Адаптация первоклассников в школе</dc:title>
</cp:coreProperties>
</file>