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F5F3-E2DB-426E-AF26-C0703351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32D2-9A0C-44DE-BADA-D41B4C61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ED6D-C434-47FA-A461-72743629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7EA1-F159-41E4-BB27-04CE9915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97A1-ECAA-47CF-8215-2F2B01D8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9514-8768-48E5-B93C-E1BE97ED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A21E-9678-4670-AC2C-8B43DA96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5095-8694-446D-9DE2-D3174AE7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20D5-122F-415F-9FE4-227E1C87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65FA-11C3-4A56-A994-38184524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964F-89B8-4C30-B24E-DF57EF69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B22F-17E0-4980-94DF-FDA16762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B222-A8E3-45CC-8DED-C901E352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F211-5FFD-4E74-9D92-9CB0B20A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378F-358B-40A7-B484-39A80EDC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9516-CF0E-4D5F-873E-E12632A5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52E0-06E5-411D-AF42-8D37EDB3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F1F5-ED61-4E4B-9795-CC5EA1F0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2D61-A12B-409E-9BC2-9BCD7705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65E9-9162-43D6-87E3-98422CF3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7004-B7EC-4A79-9FC9-870BF58F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ADE6-E7A4-4A7D-9974-1E68FA98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9CA2-544F-4FD6-B225-76E28BBC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EF4D-BB47-4F1C-9E0B-7530D36E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F200-AD63-4C55-9252-8FCA11BA002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509D-915A-4F81-8FEA-20647E93786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268280"/>
            <a:ext cx="748656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 работы  с первоклассниками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834920" y="436572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пешность  адаптационного  периода определяется  признаками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енность процессом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степени самостоятельности при выполнении учебных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енность межличностными отношениями с учителем и однокласс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декватного 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ая реализация направлений программы по адаптации первоклассников приводит к смягчению и ускорению процесса овладения ребёнком новым видом деятельности, новой социальной роль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40428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даптация к школе - это процесс привыкания к новым школьным условиям,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й каждый первоклассник переживает и осознает по-своему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50752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адаптации ребенка к школе дли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-3 недель до полугода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Изображение 075"/>
          <p:cNvPicPr/>
          <p:nvPr/>
        </p:nvPicPr>
        <p:blipFill>
          <a:blip r:embed="rId1"/>
          <a:stretch/>
        </p:blipFill>
        <p:spPr>
          <a:xfrm>
            <a:off x="3492360" y="4365720"/>
            <a:ext cx="1657440" cy="18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знаки успешной адаптации: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класснику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школе нрави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н идет туда с удовольствием, охотно рассказывает о своих успехах и неудачах, он понимает, что главная цель его пребывания в школе - уч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классник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 слишком уста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он активен, жизнерадостен, любопытен, редко простужается, хорошо спит, почти никогда не жалуется на боль в животе, голове, гор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классник достаточн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амостоятелен</a:t>
            </a:r>
            <a:r>
              <a:rPr b="1" lang="ru-RU" sz="20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ез проблем переодевается на физкультуру, уверенно ориентируется в школьном здании, при необходимости сумеет обратиться за помощью к кому-нибудь из взросл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него</a:t>
            </a:r>
            <a:r>
              <a:rPr b="1" lang="ru-RU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явились друзья-однокласс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му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равится его учительниц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большинство учителей, ведущих дополнительные предметы  в класс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: "А может быть, лучше вернуться в детский сад?" он решительно отвечает: "Нет!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ая, или социальная, адаптация связан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желанием и умением ребенка принять новую роль –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ль школьника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остигается целым рядом условий.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звитие у детей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ения слушать, реагировать на действия учителя, планировать свою работу, анализировать полученный результ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тие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ения налаживать контакт с другими детьми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раивать отношения со взрослыми, быть общительным и интересным для окружающ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ормирование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ения правильно оценивать свои действия и действия одноклассник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льзоваться простейшими критериями оценки и самооце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строит свою деятельность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учетом степени и длительности адаптации первоклассников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учение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оится с учетом особенностей  организации деятельности дет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итываются индивидуальные особенности ребён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оставляется возможность выбора разных по сложности учебных зада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пользование игры, как метода обуч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ора на наглядно-образное мышление ребён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иль общения учителя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желательный и терпели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 доверительный и мяг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тствуются формы невербального общения  (взять за руку, погладить по голове,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ое отношение, несмотря на успехи ребё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развития самостоятельности и активности детей важно: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о оценивать каждый удавшийся шаг ребё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ть творческие учебные 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детей организовывать свою деятельность (давать пошаговые инструкци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планировать свои действия, проговаривая последовательность действ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 на два вида игр – ролевые и с правил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10:33:39Z</dcterms:created>
  <dc:creator>admin</dc:creator>
  <dc:description/>
  <dc:language>en-US</dc:language>
  <cp:lastModifiedBy>1</cp:lastModifiedBy>
  <dcterms:modified xsi:type="dcterms:W3CDTF">2024-06-10T12:59:29Z</dcterms:modified>
  <cp:revision>26</cp:revision>
  <dc:subject/>
  <dc:title>Адаптация первоклассников в школе</dc:title>
</cp:coreProperties>
</file>