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BA7-F8C2-4549-B7D9-47B1578C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B27-8C7D-40FE-8425-103CC890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E09-AD9B-4010-85E0-CEFB24A2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24E-2C5B-4C88-96E3-1425AD57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296A-E259-4F0D-BD73-1D5C8C2B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C9F2-319D-49A0-87A7-D941780E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0013-908F-4677-9E96-222B40CC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CB8E-2850-4576-A83A-23AD5269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CEFA-C462-4476-B166-E337BF99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3E59-FB81-48CF-A12F-35C2D089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A925-4A04-4CC5-91F0-4294A692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7BEF-D821-486A-85EA-4958BF20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5799-76A3-4F5D-928D-E50FA16B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37D6-2834-4BC2-B5A0-D7580150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3CBD-EFBA-4E2E-B532-2AFD0737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439B-3B37-4442-AAC0-30BBDA93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4F69-F11B-4527-93B1-8C6B24AD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EE7A-5C22-493A-919D-17E9F263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7357-795D-4AE5-BDD5-245D5E95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C09-A29C-4101-AB5C-919D1580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88E8-CE3E-408B-90C9-CA11EF34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35B-9C80-433A-B525-6DC0504F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991-E679-4705-B8D1-59DB1C05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7B2-ED93-4FC8-9817-835596A6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2FA5-B8D4-4BC1-9AC2-2A60721F16C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76D4-67C1-416B-BB30-4642DE5156E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48656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 работы  с первоклассниками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834920" y="436572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пешность  адаптационного  периода определяется  признаками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ность процессом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степени самостоятельности при выполнении учебных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ность межличностными отношениями с учителем и однокласс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го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ая реализация направлений программы по адаптации первоклассников приводит к смягчению и ускорению процесса овладения ребёнком новым видом деятельности, новой социальной рол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40428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аптация к школе - это процесс привыкания к новым школьным условиям,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каждый первоклассник переживает и осознает по-своему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5075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адаптации ребенка к школе дли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3 недель до полугод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Изображение 075"/>
          <p:cNvPicPr/>
          <p:nvPr/>
        </p:nvPicPr>
        <p:blipFill>
          <a:blip r:embed="rId1"/>
          <a:stretch/>
        </p:blipFill>
        <p:spPr>
          <a:xfrm>
            <a:off x="3492360" y="4365720"/>
            <a:ext cx="1657440" cy="18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знаки успешной адаптации: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классник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школе нрави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н идет туда с удовольствием, охотно рассказывает о своих успехах и неудачах, он понимает, что главная цель его пребывания в школе - у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классник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слишком уста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он активен, жизнерадостен, любопытен, редко простужается, хорошо спит, почти никогда не жалуется на боль в животе, голове, гор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классник достаточ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стоятелен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ез проблем переодевается на физкультуру, уверенно ориентируется в школьном здании, при необходимости сумеет обратиться за помощью к кому-нибудь из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него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явились друзья-однокласс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м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равится его учительниц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ольшинство учителей, ведущих дополнительные предметы  в класс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: "А может быть, лучше вернуться в детский сад?" он решительно отвечает: "Нет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ая, или социальная, адаптация связан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желанием и умением ребенка принять новую роль –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ль школьника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стигается целым рядом условий.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витие у детей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ения слушать, реагировать на действия учителя, планировать свою работу, анализировать полученный результ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ти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ения налаживать контакт с другими детьми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раивать отношения со взрослыми, быть общительным и интересным для окружаю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рмировани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ения правильно оценивать свои действия и действия одноклассни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ьзоваться простейшими критериями оценки и само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строит свою деятельность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учетом степени и длительности адаптации первоклассников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учение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оится с учетом особенностей  организации деятельности де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итываются индивидуальные особенности ребё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оставляется возможность выбора разных по сложности учебных зад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ование игры, как метода обуч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ора на наглядно-образное мышление ребё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ль общения учителя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желательный и терпел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 доверительный и мяг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ствуются формы невербального общения  (взять за руку, погладить по голове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ое отношение, несмотря на успехи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развития самостоятельности и активности детей важно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оценивать каждый удавшийся шаг ребё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ть творческие учебные 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детей организовывать свою деятельность (давать пошаговые инструкци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планировать свои действия, проговаривая последовательность действ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 на два вида игр – ролевые и с правил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0:33:39Z</dcterms:created>
  <dc:creator>admin</dc:creator>
  <dc:description/>
  <dc:language>en-US</dc:language>
  <cp:lastModifiedBy>1</cp:lastModifiedBy>
  <dcterms:modified xsi:type="dcterms:W3CDTF">2024-06-10T12:59:29Z</dcterms:modified>
  <cp:revision>26</cp:revision>
  <dc:subject/>
  <dc:title>Адаптация первоклассников в школе</dc:title>
</cp:coreProperties>
</file>