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120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FD8B2-E7C0-4F1B-9213-9F4FFAC0F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36C8-7F93-4073-8805-EA1E6A90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F004-F509-4F7C-B491-1BFF5DB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5B77-0994-45C3-BB8F-3891F0926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E359F-BBEC-471C-8433-306AFFA09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3BBFB-C5E5-433B-B595-487AF61F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14272-B8CF-4356-8B31-85D02C5F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A9B86-3CC2-46D7-9A2B-456C439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05BB8-7902-474C-9F37-2586C97B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A6C85-9035-4B85-A15F-4F85E424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AF27A-52FC-4884-AE92-FB41E3A0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C21D-BDA7-4A5F-A06D-C3E4B13C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4BC91-2EB2-4303-BB6C-37AF693F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A4FBA-1CBC-4484-B090-9999B469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764F4-EC6A-4FF9-BE44-28B6D2B4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AEBAF-EC58-4297-90AB-F026E46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4964C-9EC2-4E43-BF93-DE5C79F0C9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297C-AD46-4326-B061-43C9AD827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7692-6C6B-42BE-A589-4B392AB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5250-82B9-43B7-A645-E26635B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4D45-5F26-4E23-8B6B-D9F26A31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E967-682F-4725-8081-F2524441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1802-9938-4A85-ADDA-A93BBA9D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4D53-FDA8-4C85-9DB7-CFC384EC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B4C0-6BB4-43D2-A478-BDF938A8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38B3-ED1C-4755-9ECC-4C3CFF59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6F24-CAA4-4227-A54E-9E191610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99E9-FEBB-4AB0-BC15-3BE9E22B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A5FB-BF78-4DEC-85D8-86696CB2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6868-3EDB-4ADD-AEAA-C64D01312D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0CA76-7653-4593-A344-D33A2564D0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A6AA0-8B52-4DAE-BD30-81E06D60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75010-30D4-48A8-83FF-1CFF683A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DCB8-90D8-4158-9C33-3F0F16F5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B6318-5EB4-40B9-BF8F-9407AE29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AE031-07AE-415A-85DB-B53E5FFE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87C65-1D05-4DE4-8FDA-58B9BBF1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1A1C3-B3FD-47CD-85B5-C3F7017D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2185D-9201-4C87-A51D-D858AE3D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42B26-9401-4C45-B594-15E1FB19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8FB3A-F9DF-431F-966C-C8E3713A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70721-3824-4B79-A71D-24775049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2CADE-27D8-4C5B-9A59-67C9773033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21586-E9A7-4B3A-A692-B78146DE45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CA64-F661-4FBA-877A-FEFCFD5D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5A0DB-A002-4940-A886-38044F7D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EEC2C6-AEA5-4D89-B126-FCCDC424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4F13F-7345-4CF4-9D2F-D3B844D3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29465-6267-463B-B923-E9754207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4E4CD-AD41-4B1A-B612-4D3A20A5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64A45-766D-49BD-9D54-493E947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3601F-8C07-44E1-B312-CB832D25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98C19-1113-4544-A3AE-B161B37C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7C3EE-ACA9-491D-9B8E-7619D41A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59A76-CBEF-446B-93E1-19F29E4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C38A-B3D3-47E3-B568-707FBCE8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C72D8-2E60-40A9-B285-D0A4503B9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DFD8-C32A-4C35-B673-93015E358E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2815-B28A-4D5F-80DB-FBD6DA48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0FD9-706F-40AA-8F24-D9C4AAB9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CDC7-98C2-4A0C-8184-BEF2E014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C1B01-725D-4652-9623-6160CB60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5E629-D466-4ED0-B9B1-E2B2B364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55F80-8035-40CB-ACB6-8CB992AC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601C-73BB-449B-8F9B-07C896DF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E71C-5320-471C-97EA-0156FCE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AD26-8384-4D88-B3E1-535419C5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16C9-2E61-4909-9914-C0D21DAF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49404-E339-4905-80EA-AE56DD3A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1A75-6B18-429B-9816-8E7B543143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55D2B-14FE-4F42-885F-C3C3E59261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B62EC-9226-4D04-9E7A-BC49174C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BFDBE-6ABF-46C1-A6A8-73743E61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EB8FE-9023-4717-90B7-8F95F932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85F9B-0122-4948-B812-D7BCECF5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CD0CD-7104-476B-89B0-3533B875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3BA31-831A-458E-8176-C810219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93EE-8352-43AB-92FF-2ED01C87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A3BAF-3722-401B-A8F9-2D17BB90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67667-A954-4597-B650-1556246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64C13-DA64-4CB7-ADD7-45E99249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5B8EE-6066-4A6E-827D-609E0E8B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C7561-0EAF-4BE6-8BB5-99E4690554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6D91A1-B409-4A7E-8ACC-2B76D296C3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AF3D79-0D4B-4EFD-9D96-4565A262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E73554-C637-4800-8D59-DE44147C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6BC0F2-82F6-4A0E-9F53-61FC9056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E02F95-7A6A-452B-A959-06214B90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B11A-6CC6-4C98-94BF-5A873249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7E6B66-27C9-43B7-9723-CECD596B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C524C-AAC8-42A5-9A8A-D3952167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2B8682-1FB5-4E1C-87BE-EF8670D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E5E208-0D6B-4B32-8865-BB78F86D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FBC067-80C3-43DB-8931-CE5C45CC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ADC744-F682-4281-8E64-7D3669C6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7C0305-71E0-4272-9A0D-603D913C07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9040" y="433440"/>
            <a:ext cx="8305920" cy="31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1800" y="1820520"/>
            <a:ext cx="7759800" cy="181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68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EA60FE-00A5-492B-839D-366D0678DA1C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4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5D22FC-3572-4635-8563-D854BF4EAD8B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700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498312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529920"/>
            <a:ext cx="817092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521438-D7FF-4AA3-959E-96E5C20B1E19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498312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8040" y="579240"/>
            <a:ext cx="3919680" cy="7794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5000" bIns="45000" anchor="ctr">
            <a:normAutofit fontScale="16000"/>
          </a:bodyPr>
          <a:p>
            <a:pPr marL="5472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653000" y="579600"/>
            <a:ext cx="3932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90000" tIns="45000" bIns="45000" anchor="ctr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040" y="1447920"/>
            <a:ext cx="3932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3000" y="1447920"/>
            <a:ext cx="3932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48862E-F9FB-4C42-922C-9AF22DCD5FE2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9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0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BA91A5-BE73-4605-9A6C-B6A0FA8BDE0A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38600" y="519120"/>
            <a:ext cx="2958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538600" y="1447920"/>
            <a:ext cx="2958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20916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930240"/>
            <a:ext cx="4626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1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2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673B31-BA95-4637-AE01-BEC57B48F03F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14080" y="529920"/>
            <a:ext cx="391932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4754520" y="530280"/>
            <a:ext cx="3932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4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B1F387-9118-4151-8FD4-2076030C164F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19040" y="433440"/>
            <a:ext cx="8305920" cy="434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4928760"/>
            <a:ext cx="8170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68000" y="5624280"/>
            <a:ext cx="8170920" cy="407880"/>
          </a:xfrm>
          <a:prstGeom prst="rect">
            <a:avLst/>
          </a:prstGeom>
          <a:noFill/>
          <a:ln w="0">
            <a:noFill/>
          </a:ln>
        </p:spPr>
        <p:txBody>
          <a:bodyPr lIns="118800" rIns="90000" tIns="0" bIns="45000" anchor="t">
            <a:normAutofit fontScale="8000"/>
          </a:bodyPr>
          <a:p>
            <a:pPr marL="2736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5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6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E03E88-6C71-48FD-8494-85149EEEC6D0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71640" y="5229360"/>
            <a:ext cx="5904000" cy="87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ФГОС ДО – от теории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к практике</a:t>
            </a:r>
            <a:br>
              <a:rPr sz="2400"/>
            </a:br>
            <a:br>
              <a:rPr sz="1600"/>
            </a:b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консультация для педагогов  </a:t>
            </a:r>
            <a:br>
              <a:rPr sz="4000"/>
            </a:b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МБДОУ МО  г. Краснодар «Центр – детский сад №232»</a:t>
            </a: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Автор-составитель: О.А. Бакулевич, заместитель заведующего по ВМ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3640" y="2808360"/>
            <a:ext cx="75247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b1f6f"/>
                </a:solidFill>
                <a:latin typeface="Times New Roman"/>
                <a:ea typeface="Arial Unicode MS"/>
              </a:rPr>
              <a:t>ФОП ДО и ФАОП Д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b1f6f"/>
                </a:solidFill>
                <a:latin typeface="Times New Roman"/>
                <a:ea typeface="Arial Unicode MS"/>
              </a:rPr>
              <a:t>Изменения в работе педагога-психолога в группах комбинированной и компенсирующей направленности в инклюзивной прак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-психолог Л.Г. Мура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БДОУ детского сада №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ыступление на городском МО педагогов-психологов 26.10.2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871640" y="144360"/>
            <a:ext cx="537048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71400" y="44280"/>
            <a:ext cx="7799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заимодействие педагога-психолога с семьями обучаю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1773360"/>
            <a:ext cx="8425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еспечить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сихолого-педагогическую поддержку семьи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единство подходов в ДОУ и семье в вопросах образования, воспитания и развития, укрепления здоровья обучающихся различных нозологических и целевых груп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нцип, на который мы должны опираться в соответствии с ФОП ДО и ФАОП ДО- это приоритет семьи в воспитании, обучении и развитии ребенка, развитие ответственного и осознанного родительств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менно родители обязаны заложить основы физического, нравственного и интеллектуального развития ребенка, а педагог-психолог и другие педагогические работники будут  в этом помогать и   информировать родителей( законных представителей)о мерах господдержки семей с детьми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71400" y="50328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равления взаимодействия с семь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1400" y="1906560"/>
            <a:ext cx="779940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иагностико-аналитическо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сбор данных о семьях, их запросов, планирование работы по результатам диагнос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светительское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свещение по вопросам развития детей, выбора методов их обучения и воспит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ционно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консультирование по вопросам взаимодействия с обучающимися различных нозологических или целевых групп, особенностям их поведения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71400" y="-243000"/>
            <a:ext cx="78091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Занятия как форма  работы педагога-психол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1400" y="757080"/>
            <a:ext cx="780912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нятие, когда дети сидят за столами, эксперты  считают неправильным. ФОП ДО дает такое определение занятию. </a:t>
            </a: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Это интересное и полезное дело, которое развивает инициативу и самостоятельность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учающихся различных нозологических и целевых групп, учитывает их интересы, потребности и жел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огда мы планируем образовательные ситуации, культурные практики, тематические события, психологические и волонтёрские акции, мы должны учитывать особенности современных детей, многие из которых трудности в социально-коммуникативной сфере, причин чему множ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журнале «Справочник педагога-психолога. Детский сад» № 9, 2023 год есть материал «Как составить программу фронтальных занятий по ФОП ДО». Не забываем, что в соответствии с ФАОП ДО предусмотрены только индивидуальные и подгруппов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7640" y="249120"/>
            <a:ext cx="891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емы, которые сделают занятия педагога-психолога интересным и помогут решить задачи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ОП ДО и ФАОП ДО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1400" y="1906560"/>
            <a:ext cx="7809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Опирайтесь на опыт детей</a:t>
            </a:r>
            <a:r>
              <a:rPr b="0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.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режде ч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ссказывать самим, выясните, что зн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 этом де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Принимайте любые ответы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Удивляйте и сами искренне удивляйтесь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ак многое они знают и умеют, создавайте у обучающихся любой целевой или нозологической группы ситу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успеха, опираясь на зоны  актуального и ближайше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Будьте гибкими и мобиль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Завершите занятие вопросами и рефлексие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(Зачем вам это знать? Как вам это пригодится в школе, в жизни? Кому мы об этом расскажем? Что было трудно, легко, интересно?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562800" y="1268280"/>
            <a:ext cx="255564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-144360"/>
            <a:ext cx="90727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Программы для работы педагога-психолог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4520" y="1197000"/>
            <a:ext cx="780876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ыбираются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на усмотрение образовательной организации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(ФИРО, а также все программы, где написано соответствует ФГОС ДО, или те, которые изданы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осле октября 2013 года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сли ранее я брала за основу программ коррекционной работы программы О.А. Шороховой «Играем в сказку», О.А. Монаковой «Путешествие с гномом», Л.М. Щипицыной «Азбука общения», то теперь мне понадобилось подбирать другие программы, поскольку ранее названные программы не переиздавались после 2003-2006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роверьте программы, которые вы используете в работе.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Необходимо по этому же принципу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новить материалы для стартовой и итоговой диагностики обучаю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-144360"/>
            <a:ext cx="90727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Рефлекс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4520" y="1197000"/>
            <a:ext cx="780876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язательный компонент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нятия педагога-психолога или другого педагога-психолога(в рамках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экспертной работы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едагога-психолог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- умение фиксировать и анализировать собственные эмоции и чувства, поведение, самочувствие, личностные чер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флексия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ожет проводиться в форме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дивидуального или общего разгово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исунки, фотографии, виде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флексия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ожет быть отсроченная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, когда занятие уже закончилось, то есть может быть занятие с открытым конц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71400" y="50328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Техн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71400" y="1906560"/>
            <a:ext cx="7809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104760">
              <a:lnSpc>
                <a:spcPct val="95000"/>
              </a:lnSpc>
              <a:tabLst>
                <a:tab algn="l" pos="0"/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еятельность педагога-психолога может осуществляться как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традиционной форм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так и в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истанционном формат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с использованием ИКТ 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ADALIN MOSPSI)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технологии развития эмоционального интеллекта («Жизненные навыки» С.В. Кривцово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95000"/>
              </a:lnSpc>
              <a:tabLst>
                <a:tab algn="l" pos="0"/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спользование: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ткрытых во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азвивающих  дидактических иг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логических упражнен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анимательных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ТР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115920"/>
            <a:ext cx="899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Диагностическая работа</a:t>
            </a: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 Задач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360" y="907920"/>
            <a:ext cx="83836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явить обучающихся, которые нуждаются в психолого-педагогическом сопровожден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раннюю диагностику отклонений в развитии причин трудностей социальной адаптац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индивидуальные образовательные и социально-коммуникативные потребности обучающихся различных нозологических и целевых групп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социальную ситуацию развития и условий семейного воспитания, уровень адаптации и адаптивных возможностей обучающихс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направленность детской одаренности,  интересов и склонностей обучающихс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рганизовать системный разносторонний контроль специалистов за уровнем и динамикой развития обучающихся и </a:t>
            </a:r>
            <a:r>
              <a:rPr b="0" lang="ru-RU" sz="23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условиями, которые соответствуют индивидуальным потребностя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 algn="just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4520" y="0"/>
            <a:ext cx="78087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овые задачи диагностической работы по ФОП 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4520" y="1413000"/>
            <a:ext cx="7808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Пункт 16.10. ФОП ДО- </a:t>
            </a:r>
            <a:r>
              <a:rPr b="0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ыявить и изучить индивидуально-психологические особенности детей, определить причину трудностей в освоении ОП 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Пункт 28.1 ФОП ДО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акрепляет в числе задач диагностику общего развития и возможностей коммуникации с учетом особенности нозологической груп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Выявить детей-мигрантов с трудностями в обучении и социально-психологической адаптации, оценить этнокультурную природу труд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Провести диагностику детей «группы рис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неблагоприятные факторы социокультурной и образовате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 Провести диагностику обучающихся под диспансерным наблюдение и часто болеющи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71400" y="50328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овые задачи диагностики </a:t>
            </a:r>
            <a:br>
              <a:rPr sz="3600"/>
            </a:b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по ФАОП 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1640" y="1728720"/>
            <a:ext cx="797724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пределить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ону актуального развития 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ающихся с ОВЗ, посещающих ваше ОУ, отнесенных к различным нозологическим групп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явить трудности в обучении и социализации детей с ОВ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пределить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ону ближайшего развития и резервные возможности 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«Справочник педагога-психолога. Детский сад», №2, 2023год, стр. 55 «Как определить зону ближайшего развития»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ратите внимание, что в  Стандарт психолога внесены изменения в по отношению к детям с Р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87280" y="93600"/>
            <a:ext cx="86407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b1f6f"/>
                </a:solidFill>
                <a:latin typeface="Times New Roman"/>
                <a:ea typeface="Arial Unicode MS"/>
              </a:rPr>
              <a:t>«Сложнее всего начать действовать, все остальное зависит только от упорства»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                                                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Амелия Эрха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1400" y="1906560"/>
            <a:ext cx="7809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685960" y="2376360"/>
            <a:ext cx="41544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08120" y="11592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журнале «Справочник педагога-психолога», № 4, 2023 год (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тр. 6-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4000" y="1251000"/>
            <a:ext cx="856908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дложены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адания для диагностики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ебенка (4-5 лет и 6- 7 лет) с нормой развития и с ОВЗ педагогом-психологом и воспитателем.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аются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общая осведомлённость, моторная сфера, графические навыки, внимание, память, восприятие, конструктивный праксис, речевая сфера, игровая деятельность, социально-коммуникативное развит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ланк для итоговой диагностики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ающегося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вместно с педагогом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включает в себя данные наблюдения (как основного метода мониторинга применительно к детям дошкольного возраста)  включает анализ контакта обучающегося, эмоционально-волевой сферы, жестов и мимики, общей и тонкой моторики, кругозора, познавательных психических процессов и игровой деятельности.  Полученные данные должны отражаться в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арте развития обучающегося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в том случае, если ДОУ реализует ФАОП ДО для детей той или иной нозологической группы). Электронная версия статьи по ссылке </a:t>
            </a:r>
            <a:r>
              <a:rPr b="0" lang="en-US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e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r>
              <a:rPr b="0" lang="en-US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psihologsad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r>
              <a:rPr b="0" lang="en-US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ru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79280" y="-2700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Консультатив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0360" y="620640"/>
            <a:ext cx="8640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Разработать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екомендации по основным направлениям работы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обучающимися с трудностями в обучении и социализации для всех участников образовательных отношений (приемы и методы работы в зоне ближайшего развития ребенка – «Справочник педагога-психолога. Детский сад», №2, 2023 год, с. 12.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каффолдинг-приемы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временной адаптивной помощи педагога ребенку в решении трудной задач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алгоритм приемов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Я делаю, мы делаем, вы делаете», «Дозированная помощь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Запланировать и организовать консультации с семьями обучающихся, чтобы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брать стратегии воспитания, образования и развития в ДОУ и семь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 Провести консультации в формате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ини-консилиума с педагогическими работниками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по вопросам психолого-педагогического сопровождения обучающихся и их семей (знакомство их с техниками «Я-слушания», «Эмоционального реагирования» и пр.). («Как облегчить адаптацию детей с ОВЗ» , №9, 2023 г., стр.7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71400" y="50328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тив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400" y="1906560"/>
            <a:ext cx="779940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ОП ДО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Провести консультации с семьями обучающихся и педагогическими работниками по вопросам общения, коррекции, развития и адаптации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даренных детей и детей мигрантов, обучающихся «группы риска» и билингв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Справочник педагога-психолога. Детский сад», №2, 2023 г., стр.43 «Как общаться с проблемными детьми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журнале «Справочник педагога-психолога. Детский сад» №5, 2023 год есть образец аналитического отчета по ФАОП ДО. Конструктор формулировок для всех нозологических групп(стр.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71400" y="0"/>
            <a:ext cx="7799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тив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5280" y="692280"/>
            <a:ext cx="849780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АОП ДО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вести консультации с семьями  и педагогическими работниками по вопросам общения, коррекции, развития и адаптаци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ВЗ разных нозологических групп и детей-инвали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консультации с семьями  и педагогическими работника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бору индивидуально ориентированных методов и приемов рабо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витию и коррекции личности обучающихся с ОВЗ и детьми-инвалид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авочник педагога-психолога. Детский сад», №5, 2023 г., стр.60 «Диагностическая карта и игры на развитие коммуникативных навыков детей с РАС» - этот материал можно использовать при составлении ИОМ, ведении карты развития, проведении ППк,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авочник педагога-психолога. Детский сад», №12, 2022 г., стр.7 «Карта видов агрессии», чтобы определить причины поведения ребенка, «Как организовать работу с ребенком-аутистом», стр. 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24000" y="-100080"/>
            <a:ext cx="84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нформационно-просветительская работ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4000" y="620640"/>
            <a:ext cx="8712000" cy="61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лекции, беседы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участниками образовательных отношений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подготовить информационные стенды, печатные материалы, электронные ресурсы по вопросам психолого-педагогического сопровождения дет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нять участие в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ероприятиях по плану образовательной организации или городского МО педагогов-психологов, в профессиональных конкурсах 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азличного уровн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рганизовать общение и </a:t>
            </a:r>
            <a:r>
              <a:rPr b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етевое взаимодействие </a:t>
            </a:r>
            <a:r>
              <a:rPr b="0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социокультурным пространством ДОУ, микрорайона, города, Ставропольского края (ПМПК, КДН, детской поликлиникой, психологическими и реабилитационными центрами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ОП Д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тематические мероприятия, онлайн-консультации для педагогических работников, родителей (законных представителей) и членов семей, обучающихся тех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целевых групп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которые есть в вашем ДОУ (одаренных и пр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АОП Д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тематические мероприятия, онлайн-консультации для педагогических работников, родителей (законных представителей) и членов семей, обучающихся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зологических групп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которые есть в вашем ДОУ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79280" y="0"/>
            <a:ext cx="8964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Рабочая программа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692280"/>
            <a:ext cx="899964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журнале «Справочник старшего воспитателя дошкольного учреждения» №10 за октябрь 2023 года (стр. 4-9) размещена статья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Рабочая программа-документ, которой не предусматривает закон, но требуют проверяющ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Региональные орган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контроля и надзора требуют от педагогов ДОУ рабочие программы, хотя в федеральном законе «Об образовании в Российской Федерации» от 29.12.2012, ФГОС ДО, ФОП ДО и ФАОП ДО такого требования нет. Редакция журнала  это выяснила по итогам всероссийского опроса, сформулировала предложения и направили их в Рособрнадзор, Комитет Госдумы по просвещению и в министерство Просвещения </a:t>
            </a: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дложением до 1 сентября 2023 года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править разъяснения в субъекты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 необходимости или ненужности рабочих программ педагогов ДО, чтобы снизить документальную нагрузку на педагогических работников. Если требование писать рабочие программы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держат региональные нормативные акт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то оспорить их мы сможем только после официального разъяснения федеральных органов исполнительной власти, которого пока  не поступи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9040" y="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труктура рабочей программы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9040" y="1135080"/>
            <a:ext cx="82929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2d2db9"/>
                </a:solidFill>
                <a:latin typeface="Arial"/>
                <a:ea typeface="Arial Unicode MS"/>
              </a:rPr>
              <a:t>.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жде чем писать рабочую программу,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е АОП ДО и ОП ДО,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реализуемые в вашем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ногие разделы из них вы можете перенести в свои рабочие программы,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делав активные ссылки на эти документ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расположенные на официальном сайте ДОУ, или указав разделы и стран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Титульный лист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нята Педагогическим советом, протокол, да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утверждена заведующим, дата, прик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ЩИЕ ПО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сновные направления деятельности педагога-психолога и рабочей программы «Психологическое сопровождение ребенка и семьи» (далее-Программа)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пределяются с учетом вида ДОУ и особых образовательных потребностей, обучающихся с ТНР, ЗПР и пр.   Программа разработана на основе следующих доку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24000" y="0"/>
            <a:ext cx="77994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рмативная база рабочей программы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4000" y="1125360"/>
            <a:ext cx="86407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рядок разработки и утверждения федеральных основных общеобразовательных программ от 30.09.2022 г. № 87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Федеральная адаптированная образовательная программа дошкольного образования для обучающихся с ограниченными возможностями здоровья (далее - ОВЗ) (далее - ФАОП ДО), утвержденной приказом Министерства просвещения Российской Федерации от 24 ноября 2022 г. № 102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СП 2.4.3648-20 «Санитарно - эпидемиологические требования                         к организациям воспитания и обучения, отдыха и оздоровления детей и молодёжи» утверждены постановлением Главного государственного санитарного врача Российской Федерации от 28 сентября 2020 г. № 2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Сан ПиН 1.2.3.685-21 «Гигиенические нормативы и требования к обеспечению безопасности и (или) безвредности для человека факторов среды обитания», утвержденных постановлением Главного государственного санитарного врача Российской Федерации от 28 января 2021 г. № 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Распоряжение Министерства просвещения Российской Федерации от              06 августа 2020 г. № Р-75 «Об утверждении примерного Положения об оказании логопедической помощи в организациях, осуществляющих образовательную деятельность» (ред. от 06.04.202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24000" y="0"/>
            <a:ext cx="77994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рмативная база рабочей программы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125360"/>
            <a:ext cx="8640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d2db9"/>
                </a:solidFill>
                <a:latin typeface="Arial"/>
                <a:ea typeface="Arial Unicode MS"/>
              </a:rPr>
              <a:t>- </a:t>
            </a:r>
            <a:r>
              <a:rPr b="0" lang="ru-RU" sz="2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каз Минтруда России от 13.03.2023 № 136н «Об утверждении профессионального стандарта «Педагог-дефектолог», зарегистрирован           в Минюсте России 14 апреля 2023 г. № 73027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Приказ Минпросвещения России от 08.11.2022 № 955 «О внесении изменений в некоторые приказы Минобрнауки РФ и Минпросвещения РФ, касающиеся ФГОС общего образования и образования, обучающихся с ограниченными возможностями здоровья и умственной отсталостью (интеллектуальными нарушениями)» (Зарегистрировано в Минюсте России 06.02.2023 № 72264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Устав, АОП ДО для обучающихся с ТНР, АОП ДО для обучающихся с ЗПР, ОП ДО, программа развития, локальные акт ДО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алее прописать с какими возрастными группами вы работаете, какие в них реализуются программы (АОП для обучающихся с ТНР, НОДА, ЗПР и пр. ОП ДО (может реализоваться в группе целиком, в разновозрастной группе, в комбинированной (например, с ТНР и с обучающимися без речевых нарушений), далее укажите какие в них есть целевые групп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71400" y="-22320"/>
            <a:ext cx="7799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Целевой раздел</a:t>
            </a:r>
            <a:r>
              <a:rPr b="1" lang="ru-RU" sz="3600" spc="-1" strike="noStrike">
                <a:solidFill>
                  <a:srgbClr val="2d2db9"/>
                </a:solidFill>
                <a:latin typeface="Arial"/>
                <a:ea typeface="Arial Unicode MS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2d2db9"/>
                </a:solidFill>
                <a:latin typeface="Arial"/>
                <a:ea typeface="Arial Unicode MS"/>
              </a:rPr>
              <a:t>1.1. </a:t>
            </a: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200" y="958680"/>
            <a:ext cx="88218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1.Цели и задачи реализации Программ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прописать задачи по направлениям работы педагога-психолога- диагностическая работа, консультативная, информационно-просветительская, экспертная и пр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2. Принципы и подходы к формированию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3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 Значимые для разработки и реализации Программы характеристики, в том числе особенности развития обучающихся 6-8 лет с ТНР, ЗПР и пр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 (всех нозологических и  целевых групп, с которыми вы работаете), особенности социокультурной среды( + стороны и риск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4. Планируемые результаты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целевые ориентиры) освоения Программы обучающимися дошкольного возраста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по нозологическим или целевым группам, для которых предназначена Програм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5. Развивающее оценивание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ачества образовательной деятельности по Программе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периодичность проведения мониторинга, цели, диагностические методики, используемые педагогом-психологом для обучающихся различных целевых или нозологических групп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ольшинство разделов копируете из АОП ДО или ОП ДО  ДОУ или делаете </a:t>
            </a:r>
            <a:r>
              <a:rPr b="1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активную ссылку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 эти 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44280"/>
            <a:ext cx="88203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Государственная политика в области дошкольного обра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 заседании Совета по стратегическому развитию и национальным проектам (15 декабря 2022 года)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глава государства уделил особое внимание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егулярному обновлению образовательных пространств   ДО, тиражированию положительного опыта ДОУ как источника лучших практик, методик и кад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ледующим шагом государственной политики в области ДО стала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азработка Федеральных образовательных программ дошкольного образования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1 сентября 2023 года все детские сады  начали работать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 ФОП ДО или ФАОП ДО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для детей той или иной нозологической группы)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ли по обеим программам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если в ДОУ есть группы 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мбинированной направленности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71400" y="189000"/>
            <a:ext cx="7799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Содержательный раз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0920" y="981000"/>
            <a:ext cx="86407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Содержание образовательной деятельности педагога-психолога по пяти образовательным областям в соответствии с направлениями деятельности педагога-психол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1.Психологическая диагно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сихологическая экспертиза образовательных программ, комфортности и безопасности образовате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тивно-просветитель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4.Консультативно-просветитель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5. Организационно-методическ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6. Психологическая профилак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7. Коррекционно-развивающ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7.1. Календарно- тематическое планирование по возрастным, нозологическим и целевым группам (в зависимости от специализации детского сад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7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держание деятельности педагога-психолога в рамках ППк и вариативных форм образования (служба ранней помощи, «Мамина школа» и п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79280" y="476280"/>
            <a:ext cx="88567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Организационный раз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3440" y="1341360"/>
            <a:ext cx="8569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Материально-техническое обесп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реда кабинета должна отвечать образовательным потребностям обучающихся различных целевых(ФОП ДО)  и нозологических групп(ФАОП ДО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урнале «Справочник педагога-психолога» №7,2023г., стр. 6  есть описание оснащения кабинета психолога в соответствии с данными требованиями по зонам(первичного приема, консультативной, диагностической работы)и рабочей зоны психолога(рабочий стол, нормативно-правовая документация, шкаф с замком для хранения конфиденциальной информации-карт развития, номенклатурных дел обучающихся-инвалидов и пр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 Развивающая предметно-пространственная ср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ечислить, описать для чего используется в работе с обучающимися разных целевых и нозологических групп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оснащение программы по направлениям работы психолог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 программы должны быть в наличии или хотя бы в компьютерном вариант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71400" y="189000"/>
            <a:ext cx="7799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4360" y="792000"/>
            <a:ext cx="864072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 В ходе методического объединения педагогов-психологов проанализированы особенности работы педагога-психолога с различными целевыми и нозологическими  группами в соответствии с ФАОП ДО и ФОП ДО, а также в инклюзивной прак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Даны рекомендации по внесению изменений в диагностическую, просветительскую, коррекционно-развивающую работу, экспертизу образовательных программ и документацию педагога-психолога в соответствии с новыми требованиями с 01.09.202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Внести коррективы в содержание деятельности педагога-психолога в рамках ППк и вариативных форм образования (служба ранней помощи, «Мамина школа» и п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71400" y="50328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 Unicode MS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5454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9280" y="179280"/>
            <a:ext cx="864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озологические группы обучающихся(ФАОП ДО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1400" y="1268280"/>
            <a:ext cx="81486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1.  Дети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арушениями слуха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2.  Обучающиеся с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арушениями зрения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3.  Воспитанники с 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тяжелыми нарушениями речи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ТН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4. Дети с 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арушениями опорно-двигательного аппарата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НОД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5.  Дети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  задержкой психического развития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ЗПР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6. Обучающиеся с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расстройствами аутистического спектра 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РАС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7. Воспитанники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 умственной отсталостью и/или  интеллектуальными нарушениями 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УО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8. Обучающиеся с 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тяжелыми множественными нарушениями развития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ТМН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79280" y="179280"/>
            <a:ext cx="89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Целевые группы ( ФОП ДО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880920"/>
            <a:ext cx="813600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1.Нормотипичные дети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с нормативным кризисом разви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2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Обучающиеся с ООП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( с особыми образовательными потребностя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с ОВЗ и инвалид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под диспансерным наблюдением, часто болеющ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с трудностями развития, социальной адап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Одаренные обучающие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3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в трудной жизненной ситуации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4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, находящиеся в социально-опасном положении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5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«группы риска»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( годовой отчет педагога-психолога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журнале «Справочник педагога-психолога. Детский сад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№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9, 2023 год есть материал «Пять целевых  групп для адресной психологической помощи», даны рекомендации по оптимизации работы педагога-психолога, поиску общих направлений работы с разными целевыми групп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71400" y="355680"/>
            <a:ext cx="7809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Единство задач воспитания и образования</a:t>
            </a:r>
            <a:r>
              <a:rPr b="1" lang="ru-RU" sz="22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1620720"/>
            <a:ext cx="532764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едагог-психолог наряду реализацией своего перспективного плана проводит мероприятия вместе другими педагогическими работниками в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ответствии с календарным планом воспитательной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 размещен на официальном сайте ДОУ) - включите в план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акции и проект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в соответствии с семью направлениями воспитания), поскольку совместная культурно-досуговая деятельность имеет большой воспитательный потенци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48360" y="4941720"/>
            <a:ext cx="3095640" cy="1778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6049800" y="1620720"/>
            <a:ext cx="298008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7280" y="-404640"/>
            <a:ext cx="885672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Психологические а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268280"/>
            <a:ext cx="79912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Лестница любви» 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следы с надписями «Обнимите друг друга», «Назовите друг друга ласково» и п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Ларец пожеланий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»( родитель с ребенком вынимает из ларца позитивное или шуточное  пожелание, комплимент на ден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Копилка талантов»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участие родителей с ребенком в любом мастер-классе , например, по развитию эмоционального интеллекта, признаков одарен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Смайлики любв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Забор(стена) психологической разгрузк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» (родители оставляют пожелания о работе детского сада, группы, педагога-психолога, отрывают прикрепленные на скотч релаксационные упражнения или пожелания)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Радуга настроения» 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в основе лежит методика цветовых выборов Люше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31640" y="222120"/>
            <a:ext cx="85680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Изменения терминологии, используемой в документации педагога-психоло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1640" y="1197000"/>
            <a:ext cx="82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дети, воспитанники целесообразно заменить  на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е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работа с родителями(законными представителями) заменена на работу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с семьей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х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Педагогические работник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(вместо воспитатели, специалист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НОД заменена на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занятие.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аботу педагога-психолога вы называете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нятием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если время на него предусмотрено старшим воспитателем, методистом в расписании занятий, в учебном плане ДОУ в соответствии с санитарными нормам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противном случае вы употребляете термины: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диагностическая ситуация», «развивающая ситуация», «культурная практика»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2 половина дня)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71400" y="115920"/>
            <a:ext cx="7799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Arial"/>
                <a:ea typeface="Arial Unicode MS"/>
              </a:rPr>
              <a:t>Изменения обязательной докумен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2080" y="1125360"/>
            <a:ext cx="82087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согласия</a:t>
            </a: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на проведение психолого-педагогической работы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ИОМ ребенка-инвалида </a:t>
            </a: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(ФОП ДО). Необходимо внести изменения в маршрут в зависимости от нозологической группы ребенка,  формулировки вы можете взять в ФАОП ДО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</a:t>
            </a:r>
            <a:r>
              <a:rPr b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карта развития, ИОМ </a:t>
            </a:r>
            <a:r>
              <a:rPr b="1" i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всех </a:t>
            </a: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хся (для групп, реализующих ФАОП ДО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РОДИТЕЛЕЙ (ЗАКОННЫХ ПРЕДСТАВИТЕЛЕЙ) ОБУЧАЮЩИХСЯ ГРУППЫ №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ведение педагогом-психологом в 2023-2024 учебном году индивидуальной и подгрупповой диагностической, коррекционно-развивающей, психопрофилактической и других видов работы в соответствии с должностными обязанностями и Профессиональным стандартом педагога-психолога (Приказом Минтруда РФ от 24.07.2015г.)  с сохранением конфиденциальности данных о ребе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95280" y="5589720"/>
          <a:ext cx="8642160" cy="1180440"/>
        </p:xfrm>
        <a:graphic>
          <a:graphicData uri="http://schemas.openxmlformats.org/drawingml/2006/table">
            <a:tbl>
              <a:tblPr/>
              <a:tblGrid>
                <a:gridCol w="444600"/>
                <a:gridCol w="1700640"/>
                <a:gridCol w="2173320"/>
                <a:gridCol w="1637280"/>
                <a:gridCol w="1518120"/>
                <a:gridCol w="1168200"/>
              </a:tblGrid>
              <a:tr h="11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№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Ф.И. ребё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ФИО родителя (законного представител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Даю согласие на работу психолога с моим ребёнком (роспись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Не даю согласие на работу психолога с моим ребёнком (роспись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4-06-13T09:33:17Z</dcterms:modified>
  <cp:revision>200</cp:revision>
  <dc:subject/>
  <dc:title>           ФГОС ДО – от теории  к практике  консультация для педагогов   МБДОУ МО  г. Краснодар «Центр – детский сад №232»  Автор-составитель: О.А. Бакулевич, заместитель заведующего по ВМР </dc:title>
</cp:coreProperties>
</file>