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120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316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4AAB-CF65-4571-965E-937EED827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47CF-FD8C-43D4-8962-B7DF6F9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100B-FD56-45FE-9624-8B00330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BCA0-047D-4B6D-B1DC-6172A30DF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419A4-CF2B-4DAE-B04F-B36DFDB23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8117A-D06E-4810-A786-652ED7D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6A84-234A-4AC7-9529-4750E8B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49D44-2F10-45C6-8EA2-AD6AD2E2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89D14-7674-4E7D-A139-75AC451A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6AEE1-5AA9-4260-B9C2-B60C5E31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9AD4-1CD9-4097-873B-A4837FB5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26BE-9B48-429E-8800-3CB3755A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F590C-4A85-4D47-9C85-2F92354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B26FF-7CB6-417E-A78F-BE5E519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883E4-E718-4B5B-B4FE-46D3035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8707A-CE5E-40F8-B075-BAFED942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7E72-5935-45CB-9F0F-28BD3E2D7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445-669D-44BF-BD29-1A722EC7B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DBEE-58ED-4C70-9A14-E4ACB332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4EE-71E9-47D1-93E2-7E8FBF7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AA74-AD8A-48C2-9412-D3A2A44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3C82-CB49-4010-B864-1B381889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3AD2-3A62-45FF-9F7F-2631AAA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CE8C-520E-4228-8167-F8372B7F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852B-A2E7-4916-A98F-C809A03D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B361-0962-40EE-8A38-5574723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433-5B5F-47B4-BB51-C8CF30DB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599-762C-4553-8C23-ED68F66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7C4-D140-4D06-87A3-CE5FFA1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3C33-6DB8-4F96-8E6E-202171D6BA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7C2BC-0063-4B8A-AC61-79E581017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0220F-6E27-4FA8-BC16-F0E5F01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02D0D-08D1-42F4-BBA0-8651CF0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2622-C5DB-461E-80D9-73624CF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6FC60-293A-41F3-AC6C-C87112E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CCA54-A90C-4981-9C21-524DD62C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6B7A7-6B94-4DE6-9E4C-6C1BFE60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1A42-CB0D-4D81-BB54-69B4DCB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AF7D6-87F9-48EF-BCC3-89524DE8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F7EC4-3354-4F98-A822-3C4426A5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3100C-2EB1-4EB9-BCF2-DA35BAD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44F04-8B3F-440E-897C-3DAFF0B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55910-208B-4D9F-A9FC-235C627F1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42D13-D24B-4A47-AC01-FC134ABF0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0BCA-4E04-439B-B2D4-E8D28EF0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F0261-812A-48FC-9FAB-D0F4241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8115B-19B8-4A6E-BFDA-6C656AFC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DDD4C-6E04-496D-A622-28B69FF5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3186B-364A-4D8D-8912-49192F3D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1E2830-B21A-4E9D-AC81-E5B705BD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F8A72-3F30-432C-BEB5-2F3BE08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E817E-9D35-4D5A-8EA5-522E5041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99171-AFA6-4D8A-B106-4A87FB0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6AF9B-4A18-4161-AE51-B9A8DDB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9E7C4-FAA2-4D20-B010-3F350D9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8A4D-7218-4E36-9E76-B63B8AB7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F39B7-125B-428D-86A0-493A6F8BD4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D72D-F7A0-4E52-BC31-7A43902D5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25F0-9CE2-4B2A-A230-1973D03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B2F6-3FAA-425A-BF32-40F0A81B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8FC6-B1EE-44EC-838D-C1A2B980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6B93-E4BF-403C-ABF6-BA7F4B93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DC00-5464-4B79-95B1-090611F9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8671-6B03-4F3B-ADCF-92217CF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CF47-7FA9-4E5E-9901-B4277A8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CBA6-55B0-47EB-B9DD-0E96465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0483-F909-4F12-9E03-A630A10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63BB-4144-4AD4-BB51-2402A3BF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5A17-1A66-41B1-81A8-F913B70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D74C-E296-4BC5-A74C-EFE184F59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75598-D8E0-4F6F-9F76-958F16184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0F13C-ADC4-419D-A40D-1366D794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D0C45-5BEA-4210-B00F-0BAD240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E5DE6-7A32-4F78-9D61-AE084327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8F288-DBB8-4083-A279-BC8F187D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7E12E-4465-440B-BD09-0E8828E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8F140-1EB8-43CD-A47F-FF728ADE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72D5-1BA6-476B-AB65-CAF3434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5CF2F-3AD9-4D2B-A882-E6CA1FFA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8488D-96C9-4388-9396-E8E24381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7ABBB-9FB9-4656-81FD-C69671A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5AF3B-C68A-4D5E-B14F-7EFFA1B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A3C55-9528-448C-92CF-1CF9075C8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528F9-2810-4154-8E22-A8317C668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1C16E-98A5-428C-942C-8349D078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06126-9148-41DC-8F01-ED88C6F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247AE-4336-4EAF-B90F-954D95D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8EBAF-FBC7-4170-BFB9-B96F6A2E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F94D-1596-4233-8218-D0E33890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7961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37936-413A-4DC2-88F4-240CA290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FEF4BD-12BB-4DA1-973A-047F923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898B9-7E29-4846-AEDB-9561B0E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22AA70-A7D6-4EFE-9392-DC150A04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71400" y="4156920"/>
            <a:ext cx="77961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17E753-0BB1-4E88-B8CB-97A96C11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7140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6320" y="4156920"/>
            <a:ext cx="38044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A17D6-EFE6-4F7F-93F6-4F5106A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714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43600" y="4156920"/>
            <a:ext cx="25102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E97FB-28E0-4A41-8F50-7A05EBF0E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433440"/>
            <a:ext cx="8305920" cy="31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1800" y="1820520"/>
            <a:ext cx="7759800" cy="181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68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A5E62D-E274-4CC0-9B7B-B3E99B0CC1C0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E2A714-7944-4B62-8BD0-86FF1ECCB713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700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29920"/>
            <a:ext cx="81709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48B32C-B081-4F3B-A416-A2EE0D4C1C73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8040" y="579240"/>
            <a:ext cx="3919680" cy="7794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5000" bIns="45000" anchor="ctr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653000" y="579600"/>
            <a:ext cx="3932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90000" tIns="45000" bIns="45000" anchor="ctr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04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3000" y="1447920"/>
            <a:ext cx="3932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4D9364-C3A3-45B7-B2F1-065074F3F683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9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4EF40B-9EDF-4D03-ACA7-CCB169D250E9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38600" y="519120"/>
            <a:ext cx="2958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538600" y="1447920"/>
            <a:ext cx="2958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091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160" indent="-2091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30240"/>
            <a:ext cx="4626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EC6185-64FA-4527-B360-BDC96B9FB40A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70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14080" y="529920"/>
            <a:ext cx="391932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50200" indent="-2502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4754520" y="530280"/>
            <a:ext cx="39322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084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я правки структуры щелкните мышь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ёр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Шест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Сед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осьмой уровень структу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вятый уровень структурыОбразец тек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1752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f07f09"/>
              </a:buClr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Второй уров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84120" indent="-28224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ea3a45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6120" indent="-204840">
              <a:lnSpc>
                <a:spcPct val="100000"/>
              </a:lnSpc>
              <a:spcBef>
                <a:spcPts val="238"/>
              </a:spcBef>
              <a:spcAft>
                <a:spcPts val="1426"/>
              </a:spcAft>
              <a:buClr>
                <a:srgbClr val="ea3a45"/>
              </a:buClr>
              <a:buSzPct val="112000"/>
              <a:buFont typeface="Verdana"/>
              <a:buChar char="◦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47760" indent="-206280">
              <a:lnSpc>
                <a:spcPct val="100000"/>
              </a:lnSpc>
              <a:spcBef>
                <a:spcPts val="249"/>
              </a:spcBef>
              <a:spcAft>
                <a:spcPts val="1426"/>
              </a:spcAft>
              <a:buClr>
                <a:srgbClr val="4e82bc"/>
              </a:buClr>
              <a:buFont typeface="Wingdings 2" charset="2"/>
              <a:buChar char="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-33000">
                <a:solidFill>
                  <a:srgbClr val="fffeff"/>
                </a:solidFill>
                <a:latin typeface="Verdana"/>
                <a:ea typeface="Microsoft YaHei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4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CFB0FB-38C7-4AA5-A279-28CC329B2C45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040" y="433440"/>
            <a:ext cx="830592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sq" w="2160">
            <a:solidFill>
              <a:srgbClr val="a4a4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9040" y="433440"/>
            <a:ext cx="8305920" cy="434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4928760"/>
            <a:ext cx="8170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68000" y="5624280"/>
            <a:ext cx="8170920" cy="407880"/>
          </a:xfrm>
          <a:prstGeom prst="rect">
            <a:avLst/>
          </a:prstGeom>
          <a:noFill/>
          <a:ln w="0">
            <a:noFill/>
          </a:ln>
        </p:spPr>
        <p:txBody>
          <a:bodyPr lIns="118800" rIns="90000" tIns="0" bIns="45000" anchor="t">
            <a:normAutofit fontScale="8000"/>
          </a:bodyPr>
          <a:p>
            <a:pPr marL="2736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7360" indent="-2736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5"/>
          </p:nvPr>
        </p:nvSpPr>
        <p:spPr>
          <a:xfrm>
            <a:off x="3776760" y="6111360"/>
            <a:ext cx="2273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24.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6"/>
          </p:nvPr>
        </p:nvSpPr>
        <p:spPr>
          <a:xfrm>
            <a:off x="8348760" y="6111720"/>
            <a:ext cx="444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927137-E4DD-4CA3-811E-5D9777AA1620}" type="slidenum"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961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71640" y="5229360"/>
            <a:ext cx="5904000" cy="87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ФГОС ДО – от теории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 практике</a:t>
            </a:r>
            <a:br>
              <a:rPr sz="2400"/>
            </a:br>
            <a:br>
              <a:rPr sz="16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онсультация для педагогов  </a:t>
            </a:r>
            <a:br>
              <a:rPr sz="4000"/>
            </a:b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МБДОУ МО  г. Краснодар «Центр – детский сад №232»</a:t>
            </a: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втор-составитель: О.А. Бакулевич, заместитель заведующего по ВМ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3640" y="2808360"/>
            <a:ext cx="75247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ФОП ДО и ФАОП Д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Изменения в работе педагога-психолога в группах комбинированной и компенсирующей направленности в инклюзивной прак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-психолог Л.Г. Мура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БДОУ детского сада №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ступление на городском МО педагогов-психологов 26.10.2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871640" y="144360"/>
            <a:ext cx="53704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71400" y="44280"/>
            <a:ext cx="7799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заимодействие педагога-психолога с семьями обучаю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1773360"/>
            <a:ext cx="842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еспечить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о-педагогическую поддержку семь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динство подходов в ДОУ и семье в вопросах образования, воспитания и развития, укрепления здоровья обучающихся различных нозологических и целевых гру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цип, на который мы должны опираться в соответствии с ФОП ДО и ФАОП ДО- это приоритет семьи в воспитании, обучении и развитии ребенка, развитие ответственного и осознанного родительств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менно родители обязаны заложить основы физического, нравственного и интеллектуального развития ребенка, а педагог-психолог и другие педагогические работники будут  в этом помогать и   информировать родителей( законных представителей)о мерах господдержки семей с детьми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равления взаимодействия с семь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1400" y="1906560"/>
            <a:ext cx="779940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агностико-аналитическ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сбор данных о семьях, их запросов, планирование работы по результатам диагнос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тительское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свещение по вопросам развития детей, выбора методов их обучения и воспит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ционно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консультирование по вопросам взаимодействия с обучающимися различных нозологических или целевых групп, особенностям их поведения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71400" y="-243000"/>
            <a:ext cx="7809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Занятия как форма  работы педагога-психол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1400" y="757080"/>
            <a:ext cx="780912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е, когда дети сидят за столами, эксперты  считают неправильным. ФОП ДО дает такое определение занятию. </a:t>
            </a: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Это интересное и полезное дело, которое развивает инициативу и самостоятельность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учающихся различных нозологических и целевых групп, учитывает их интересы, потребности и жел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огда мы планируем образовательные ситуации, культурные практики, тематические события, психологические и волонтёрские акции, мы должны учитывать особенности современных детей, многие из которых трудности в социально-коммуникативной сфере, причин чему множ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 9, 2023 год есть материал «Как составить программу фронтальных занятий по ФОП ДО». Не забываем, что в соответствии с ФАОП ДО предусмотрены только индивидуальные и подгруппов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640" y="249120"/>
            <a:ext cx="891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емы, которые сделают занятия педагога-психолога интересным и помогут решить задачи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ОП ДО и ФАОП ДО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Arial Unicode MS"/>
              </a:rPr>
              <a:t>Опирайтесь на опыт детей</a:t>
            </a:r>
            <a:r>
              <a:rPr b="0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.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ежде ч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сказывать самим, выясните, что зн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 этом д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Принимайте любые ответ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Удивляйте и сами искренне удивляйтесь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ак многое они знают и умеют, создавайте у обучающихся любой целевой или нозологической группы ситу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1572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успеха, опираясь на зоны  актуального и ближайше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Будьте гибкими и мобиль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Times New Roman"/>
                <a:ea typeface="Times New Roman"/>
              </a:rPr>
              <a:t>Завершите занятие вопросами и рефлексие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(Зачем вам это знать? Как вам это пригодится в школе, в жизни? Кому мы об этом расскажем? Что было трудно, легко, интересно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6562800" y="1268280"/>
            <a:ext cx="25556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рограммы для работы педагога-психолог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бираютс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а усмотрение образовательной организ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(ФИРО, а также все программы, где написано соответствует ФГОС ДО, или те, которые изданы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осле октября 2013 года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сли ранее я брала за основу программ коррекционной работы программы О.А. Шороховой «Играем в сказку», О.А. Монаковой «Путешествие с гномом», Л.М. Щипицыной «Азбука общения», то теперь мне понадобилось подбирать другие программы, поскольку ранее названные программы не переиздавались после 2003-200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оверьте программы, которые вы используете в работе.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еобходимо по этому же принципу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новить материалы для стартовой и итоговой диагностики обучаю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-144360"/>
            <a:ext cx="9072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Рефлек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4520" y="1197000"/>
            <a:ext cx="78087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Обязательный компонент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нятия педагога-психолога или другого педагога-психолога(в рамках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экспертной работы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едагога-психолог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- умение фиксировать и анализировать собственные эмоции и чувства, поведение, самочувствие, личностные чер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проводиться в форме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дивидуального или общего разгово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исунки, фотографии, виде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флексия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ожет быть отсроченная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, когда занятие уже закончилось, то есть может быть занятие с открытым конц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Техн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еятельность педагога-психолога может осуществляться как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традиционной форм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ак и в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истанционном формате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с использованием ИКТ </a:t>
            </a:r>
            <a:r>
              <a:rPr b="0" lang="en-US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ADALIN MOSPSI)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ехнологии развития эмоционального интеллекта («Жизненные навыки» С.В. Кривцово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4760">
              <a:lnSpc>
                <a:spcPct val="95000"/>
              </a:lnSpc>
              <a:tabLst>
                <a:tab algn="l" pos="0"/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спользование: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ткрытых во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вивающих  дидактических иг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огических упражнен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нимательных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1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10476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ТР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115920"/>
            <a:ext cx="899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Диагностическая работа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адач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907920"/>
            <a:ext cx="8383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обучающихся, которые нуждаются в психолого-педагогическом сопровожден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раннюю диагностику отклонений в развитии причин трудностей социальной адаптац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индивидуальные образовательные и социально-коммуникативные потребности обучающихся различных нозологических и целевых групп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социальную ситуацию развития и условий семейного воспитания, уровень адаптации и адаптивных возмож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аправленность детской одаренности,  интересов и склонностей обучающихс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системный разносторонний контроль специалистов за уровнем и динамикой развития обучающихся и </a:t>
            </a:r>
            <a:r>
              <a:rPr b="0" lang="ru-RU" sz="23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условиями, которые соответствуют индивидуальным потребностя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8400" algn="just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4520" y="0"/>
            <a:ext cx="78087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ческой работы по Ф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520" y="1413000"/>
            <a:ext cx="780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16.10. ФОП ДО- </a:t>
            </a:r>
            <a:r>
              <a:rPr b="0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ыявить и изучить индивидуально-психологические особенности детей, определить причину трудностей в освоении ОП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ункт 28.1 ФОП ДО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крепляет в числе задач диагностику общего развития и возможностей коммуникации с учетом особенности нозологической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Выявить детей-мигрантов с трудностями в обучении и социально-психологической адаптации, оценить этнокультурную природу труд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Провести диагностику детей «группы рис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ь неблагоприятные факторы социокультурной 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диагностику обучающихся под диспансерным наблюдение и часто болею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71400" y="50328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вые задачи диагностики </a:t>
            </a:r>
            <a:br>
              <a:rPr sz="3600"/>
            </a:b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о ФАОП 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1640" y="1728720"/>
            <a:ext cx="797724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актуального развития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 с ОВЗ, посещающих ваше ОУ, отнесенных к различным нозологическим групп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явить трудности в обучении и социализации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ить </a:t>
            </a:r>
            <a:r>
              <a:rPr b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ону ближайшего развития и резервные возможности </a:t>
            </a: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«Справочник педагога-психолога. Детский сад», №2, 2023год, стр. 55 «Как определить зону ближайшего развития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ратите внимание, что в  Стандарт психолога внесены изменения в по отношению к детям с Р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87280" y="93600"/>
            <a:ext cx="8640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b1f6f"/>
                </a:solidFill>
                <a:latin typeface="Times New Roman"/>
                <a:ea typeface="Arial Unicode MS"/>
              </a:rPr>
              <a:t>«Сложнее всего начать действовать, все остальное зависит только от упорства»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Амелия Эрха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400" y="1906560"/>
            <a:ext cx="78091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685960" y="2376360"/>
            <a:ext cx="41544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08120" y="11592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», № 4, 2023 год (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. 6-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1251000"/>
            <a:ext cx="85690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ы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адания для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бенка (4-5 лет и 6- 7 лет) с нормой развития и с ОВЗ педагогом-психологом и воспитателем.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ают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общая осведомлённость, моторная сфера, графические навыки, внимание, память, восприятие, конструктивный праксис, речевая сфера, игровая деятельность, социально-коммуникативное развит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ланк для итоговой диагностики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ающегося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вместно с педагогом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ключает в себя данные наблюдения (как основного метода мониторинга применительно к детям дошкольного возраста)  включает анализ контакта обучающегося, эмоционально-волевой сферы, жестов и мимики, общей и тонкой моторики, кругозора, познавательных психических процессов и игровой деятельности.  Полученные данные должны отражаться в </a:t>
            </a:r>
            <a:r>
              <a:rPr b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рте развития обучающегося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в том случае, если ДОУ реализует ФАОП ДО для детей той или иной нозологической группы). Электронная версия статьи по ссылке 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e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psihologsad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r>
              <a:rPr b="0" lang="en-US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r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79280" y="-27000"/>
            <a:ext cx="896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0360" y="620640"/>
            <a:ext cx="8640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Разработать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комендации по основным направлениям работы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обучающимися с трудностями в обучении и социализации для всех участников образовательных отношений (приемы и методы работы в зоне ближайшего развития ребенка – «Справочник педагога-психолога. Детский сад», №2, 2023 год, с. 12.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каффолдинг-приемы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ременной адаптивной помощи педагога ребенку в решении трудной задачи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алгоритм приемов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Я делаю, мы делаем, вы делаете», «Дозированная помощь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Запланировать и организовать консультации с семьями обучающихся, чтобы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брать стратегии воспитания, образования и развития в ДОУ и семь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Провести консультации в формате </a:t>
            </a:r>
            <a:r>
              <a:rPr b="1" i="1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ини-консилиума с педагогическими работниками</a:t>
            </a:r>
            <a:r>
              <a:rPr b="0" lang="ru-RU" sz="23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вопросам психолого-педагогического сопровождения обучающихся и их семей (знакомство их с техниками «Я-слушания», «Эмоционального реагирования» и пр.). («Как облегчить адаптацию детей с ОВЗ» , №9, 2023 г., стр.7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1906560"/>
            <a:ext cx="77994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Провести консультации с семьями обучающихся и педагогическими работниками по вопросам общения, коррекции, развития и адаптации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даренных детей и детей мигрантов, обучающихся «группы риска» и билингв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Справочник педагога-психолога. Детский сад», №2, 2023 г., стр.43 «Как общаться с проблемными детьми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№5, 2023 год есть образец аналитического отчета по ФАОП ДО. Конструктор формулировок для всех нозологических групп(стр.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71400" y="0"/>
            <a:ext cx="7799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692280"/>
            <a:ext cx="849780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вести консультации с семьями  и педагогическими работниками по вопросам общения, коррекции, развития и адаптаци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ВЗ разных нозологических групп и детей-инвали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консультации с семьями  и педагогическими работник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индивидуально ориентированных методов и приемов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витию и коррекции личности обучающихся с ОВЗ и детьми-инвалид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5, 2023 г., стр.60 «Диагностическая карта и игры на развитие коммуникативных навыков детей с РАС» - этот материал можно использовать при составлении ИОМ, ведении карты развития, проведении ППк,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очник педагога-психолога. Детский сад», №12, 2022 г., стр.7 «Карта видов агрессии», чтобы определить причины поведения ребенка, «Как организовать работу с ребенком-аутистом», стр. 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24000" y="-1000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нформационно-просветительская работ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620640"/>
            <a:ext cx="8712000" cy="61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лекции, беседы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участниками образовательных отношений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подготовить информационные стенды, печатные материалы, электронные ресурсы по вопросам психолого-педагогического сопровождения дет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ь участие в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ероприятиях по плану образовательной организации или городского МО педагогов-психологов, в профессиональных конкурсах 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личного уровн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рганизовать общение и </a:t>
            </a: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етевое взаимодействие </a:t>
            </a:r>
            <a:r>
              <a:rPr b="0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социокультурным пространством ДОУ, микрорайона, города, Ставропольского края (ПМПК, КДН, детской поликлиникой, психологическими и реабилитационными центрами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тех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целевы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 (одаренных и пр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вые задачи по ФАОП Д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овести тематические мероприятия, онлайн-консультации для педагогических работников, родителей (законных представителей) и членов семей, обучающихся </a:t>
            </a:r>
            <a:r>
              <a:rPr b="1" i="1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зологических групп</a:t>
            </a:r>
            <a:r>
              <a:rPr b="0" lang="ru-RU" sz="21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которые есть в вашем ДОУ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79280" y="0"/>
            <a:ext cx="8964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Arial Unicode MS"/>
              </a:rPr>
              <a:t>Рабочая программа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692280"/>
            <a:ext cx="8999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журнале «Справочник старшего воспитателя дошкольного учреждения» №10 за октябрь 2023 года (стр. 4-9) размещена статья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Рабочая программа-документ, которой не предусматривает закон, но требуют проверяющ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Региональные орган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контроля и надзора требуют от педагогов ДОУ рабочие программы, хотя в федеральном законе «Об образовании в Российской Федерации» от 29.12.2012, ФГОС ДО, ФОП ДО и ФАОП ДО такого требования нет. Редакция журнала  это выяснила по итогам всероссийского опроса, сформулировала предложения и направили их в Рособрнадзор, Комитет Госдумы по просвещению и в министерство Просвещения </a:t>
            </a:r>
            <a:r>
              <a:rPr b="0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ложением до 1 сентября 2023 года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править разъяснения в субъекты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 необходимости или ненужности рабочих программ педагогов ДО, чтобы снизить документальную нагрузку на педагогических работников. Если требование писать рабочие программы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т региональные нормативные а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то оспорить их мы сможем только после официального разъяснения федеральных органов исполнительной власти, которого пока  не поступи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9040" y="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труктур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1135080"/>
            <a:ext cx="82929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2d2db9"/>
                </a:solidFill>
                <a:latin typeface="Arial"/>
                <a:ea typeface="Arial Unicode MS"/>
              </a:rPr>
              <a:t>.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жде чем писать рабочую программу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зучите АОП ДО и ОП ДО,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реализуемые в вашем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ногие разделы из них вы можете перенести в свои рабочие программы,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делав активные ссылки на эти докумен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расположенные на официальном сайте ДОУ, или указав разделы и стра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Титульный лист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нята Педагогическим советом, протокол, д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тверждена заведующим, дата, при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сновные направления деятельности педагога-психолога и рабочей программы «Психологическое сопровождение ребенка и семьи» (далее-Программа)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пределяются с учетом вида ДОУ и особых образовательных потребностей, обучающихся с ТНР, ЗПР и пр.   Программа разработана на основе следующих докум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4000" y="1125360"/>
            <a:ext cx="86407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рядок разработки и утверждения федеральных основных общеобразовательных программ от 30.09.2022 г. № 87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Федеральная адаптированная образовательная программа дошкольного образования для обучающихся с ограниченными возможностями здоровья (далее - ОВЗ) (далее - ФАОП ДО), утвержденной приказом Министерства просвещения Российской Федерации от 24 ноября 2022 г. № 102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П 2.4.3648-20 «Санитарно - эпидемиологические требования                         к организациям воспитания и обучения, отдыха и оздоровления детей и молодёжи» утверждены постановлением Главного государственного санитарного врача Российской Федерации от 28 сентября 2020 г. № 2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Сан ПиН 1.2.3.685-21 «Гигиенические нормативы и требования к обеспечению безопасности и (или) безвредности для человека факторов среды обитания», утвержденных постановлением Главного государственного санитарного врача Российской Федерации от 28 января 2021 г. № 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Распоряжение Министерства просвещения Российской Федерации от              06 августа 2020 г. № Р-75 «Об утверждении примерного Положения об оказании логопедической помощи в организациях, осуществляющих образовательную деятельность» (ред. от 06.04.202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24000" y="0"/>
            <a:ext cx="77994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ормативная база рабочей программы педагога-психоло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125360"/>
            <a:ext cx="8640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Arial"/>
                <a:ea typeface="Arial Unicode MS"/>
              </a:rPr>
              <a:t>- </a:t>
            </a: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каз Минтруда России от 13.03.2023 № 136н «Об утверждении профессионального стандарта «Педагог-дефектолог», зарегистрирован           в Минюсте России 14 апреля 2023 г. № 73027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- Приказ Минпросвещения России от 08.11.2022 № 955 «О внесении изменений в некоторые приказы Минобрнауки РФ и Минпросвещения РФ, касающиеся ФГОС общего образования и образования, обучающихся с ограниченными возможностями здоровья и умственной отсталостью (интеллектуальными нарушениями)» (Зарегистрировано в Минюсте России 06.02.2023 № 72264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Устав, АОП ДО для обучающихся с ТНР, АОП ДО для обучающихся с ЗПР, ОП ДО, программа развития, локальные акт ДО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алее прописать с какими возрастными группами вы работаете, какие в них реализуются программы (АОП для обучающихся с ТНР, НОДА, ЗПР и пр. ОП ДО (может реализоваться в группе целиком, в разновозрастной группе, в комбинированной (например, с ТНР и с обучающимися без речевых нарушений), далее укажите какие в них есть целевые групп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71400" y="-22320"/>
            <a:ext cx="77994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Целевой раздел</a:t>
            </a: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1.1. 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200" y="958680"/>
            <a:ext cx="88218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1.Цели и задачи реализации Программ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прописать задачи по направлениям работы педагога-психолога- диагностическая работа, консультативная, информационно-просветительская, экспертная и пр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2. Принципы и подходы к формированию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3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Значимые для разработки и реализации Программы характеристики, в том числе особенности развития обучающихся 6-8 лет с ТНР, ЗПР и пр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 (всех нозологических и  целевых групп, с которыми вы работаете), особенности социокультурной среды( + стороны и рис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4. Планируемые результаты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целевые ориентиры) освоения Программы обучающимися дошкольного возраста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по нозологическим или целевым группам, для которых предназначена Програм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1.5. Развивающее оценивание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ачества образовательной деятельности по Программе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периодичность проведения мониторинга, цели, диагностические методики, используемые педагогом-психологом для обучающихся различных целевых или нозологических групп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ольшинство разделов копируете из АОП ДО или ОП ДО  ДОУ или делаете </a:t>
            </a:r>
            <a:r>
              <a:rPr b="1" i="1" lang="ru-RU" sz="24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активную ссылку </a:t>
            </a:r>
            <a:r>
              <a:rPr b="1" i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эти 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44280"/>
            <a:ext cx="88203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Государственная политика в области дошкольного обра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На заседании Совета по стратегическому развитию и национальным проектам (15 декабря 2022 года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глава государства уделил особое внимание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егулярному обновлению образовательных пространств   ДО, тиражированию положительного опыта ДОУ как источника лучших практик, методик и кад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ледующим шагом государственной политики в области ДО стала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разработка Федеральных образовательных программ дошкольного образования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 1 сентября 2023 года все детские сады  начали работать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 ФОП ДО или ФАОП ДО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(для детей той или иной нозологической группы)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ли по обеим программам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, если в ДОУ есть группы 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мбинированной направленности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Содержатель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981000"/>
            <a:ext cx="86407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Содержание образовательной деятельности педагога-психолога по пяти образовательным областям в соответствии с направлениями деятельности педагога-психол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1.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сихологическая экспертиза образовательных программ, комфортности и безопасности образовате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4.Консультативно-просветитель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5. Организационно-метод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6. Психологическая профилак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 Коррекционно-развивающ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1. Календарно- тематическое планирование по возрастным, нозологическим и целевым группам (в зависимости от специализации детского сад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1.7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79280" y="476280"/>
            <a:ext cx="88567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3440" y="1341360"/>
            <a:ext cx="856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Материально-техническ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реда кабинета должна отвечать образовательным потребностям обучающихся различных целевых(ФОП ДО)  и нозологических групп(ФАОП ДО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урнале «Справочник педагога-психолога» №7,2023г., стр. 6  есть описание оснащения кабинета психолога в соответствии с данными требованиями по зонам(первичного приема, консультативной, диагностической работы)и рабочей зоны психолога(рабочий стол, нормативно-правовая документация, шкаф с замком для хранения конфиденциальной информации-карт развития, номенклатурных дел обучающихся-инвалидов и п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Развивающая предметно-пространственная ср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числить, описать для чего используется в работе с обучающимися разных целевых и нозологических групп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снащение программы по направлениям работы психолог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программы должны быть в наличии или хотя бы в компьютерном вариант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71400" y="189000"/>
            <a:ext cx="7799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360" y="792000"/>
            <a:ext cx="864072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1. В ходе методического объединения педагогов-психологов проанализированы особенности работы педагога-психолога с различными целевыми и нозологическими  группами в соответствии с ФАОП ДО и ФОП ДО, а также в инклюзивной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Даны рекомендации по внесению изменений в диагностическую, просветительскую, коррекционно-развивающую работу, экспертизу образовательных программ и документацию педагога-психолога в соответствии с новыми требованиями с 01.09.20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Внести коррективы в содержание деятельности педагога-психолога в рамках ППк и вариативных форм образования (служба ранней помощи, «Мамина школа»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71400" y="503280"/>
            <a:ext cx="7799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545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9280" y="179280"/>
            <a:ext cx="86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spcBef>
                <a:spcPts val="249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озологические группы обучающихся(ФАОП Д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1400" y="1268280"/>
            <a:ext cx="81486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1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слуха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2. 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нарушениями зрения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3.  Воспитанник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нарушениями речи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4. Дети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рушениями опорно-двигательного аппарата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Н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5.  Дет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 задержкой психического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ЗПР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6. Обучающиеся с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асстройствами аутистического спектра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РА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7. Воспитанники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 умственной отсталостью и/или  интеллектуальными нарушениями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У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8. Обучающиеся с  </a:t>
            </a:r>
            <a:r>
              <a:rPr b="1" i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яжелыми множественными нарушениями развития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ТМН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179280"/>
            <a:ext cx="89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Целевые группы ( ФОП Д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880920"/>
            <a:ext cx="813600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1.Нормотипичные дети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с нормативным кризисом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2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бучающиеся с ООП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с особыми образовательными потребност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ОВЗ и инвалид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под диспансерным наблюдением, часто боле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с трудностями развития, социальной адапт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Одаренные 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3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в трудной жизненной ситуац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4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, находящиеся в социально-опасном положении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5. </a:t>
            </a:r>
            <a:r>
              <a:rPr b="1" i="1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Дети «группы риска»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Arial Unicode MS"/>
              </a:rPr>
              <a:t>( годовой отчет педагога-психолога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журнале «Справочник педагога-психолога. Детский сад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№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9, 2023 год есть материал «Пять целевых  групп для адресной психологической помощи», даны рекомендации по оптимизации работы педагога-психолога, поиску общих направлений работы с разными целевыми групп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71400" y="355680"/>
            <a:ext cx="7809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Единство задач воспитания и образования</a:t>
            </a:r>
            <a:r>
              <a:rPr b="1" lang="ru-RU" sz="22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1620720"/>
            <a:ext cx="532764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едагог-психолог наряду реализацией своего перспективного плана проводит мероприятия вместе другими педагогическими работниками в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оответствии с календарным планом воспитательно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 размещен на официальном сайте ДОУ) - включите в план </a:t>
            </a:r>
            <a:r>
              <a:rPr b="1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акции и проекты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в соответствии с семью направлениями воспитания), поскольку совместная культурно-досуговая деятельность имеет большой воспитательный потенци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48360" y="4941720"/>
            <a:ext cx="3095640" cy="177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049800" y="1620720"/>
            <a:ext cx="298008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7280" y="-404640"/>
            <a:ext cx="88567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Психологические а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268280"/>
            <a:ext cx="79912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естница любви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леды с надписями «Обнимите друг друга», «Назовите друг друга ласково» и п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Ларец пожеланий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( родитель с ребенком вынимает из ларца позитивное или шуточное  пожелание, комплимент на ден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Копилка талантов»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участие родителей с ребенком в любом мастер-классе , например, по развитию эмоционального интеллекта, признаков одар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Смайлики любв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Забор(стена) психологической разгруз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» (родители оставляют пожелания о работе детского сада, группы, педагога-психолога, отрывают прикрепленные на скотч релаксационные упражнения или пожелания)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Радуга настроения» 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 основе лежит методика цветовых выборов Люше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2280" indent="-316080">
              <a:lnSpc>
                <a:spcPct val="95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31640" y="222120"/>
            <a:ext cx="85680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Изменения терминологии, используемой в документации педагога-психоло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1640" y="1197000"/>
            <a:ext cx="82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дети, воспитанники целесообразно заменить 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е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работа с родителями(законными представителями) заменена на работу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 семьей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Педагогические работник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вместо воспитатели, специалис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НОД заменена н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занятие.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боту педагога-психолога вы называет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нятием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если время на него предусмотрено старшим воспитателем, методистом в расписании занятий, в учебном плане ДОУ в соответствии с санитарными нормам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 algn="just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противном случае вы употребляете термины: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диагностическая ситуация», «развивающая ситуация», «культурная практика»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2 половина дня)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71400" y="115920"/>
            <a:ext cx="7799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d2db9"/>
                </a:solidFill>
                <a:latin typeface="Arial"/>
                <a:ea typeface="Arial Unicode MS"/>
              </a:rPr>
              <a:t>Изменения обязательной докум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2080" y="1125360"/>
            <a:ext cx="8208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согласия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на проведение психолого-педагогической работы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ИОМ ребенка-инвалида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(ФОП ДО). Необходимо внести изменения в маршрут в зависимости от нозологической группы ребенка,  формулировки вы можете взять в ФАОП ДО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</a:t>
            </a:r>
            <a:r>
              <a:rPr b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карта развития, ИОМ </a:t>
            </a:r>
            <a:r>
              <a:rPr b="1" i="1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всех </a:t>
            </a: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хся (для групп, реализующих ФАОП ДО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РОДИТЕЛЕЙ (ЗАКОННЫХ ПРЕДСТАВИТЕЛЕЙ) ОБУЧАЮЩИХСЯ ГРУППЫ №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ведение педагогом-психологом в 2023-2024 учебном году индивидуальной и подгрупповой диагностической, коррекционно-развивающей, психопрофилактической и других видов работы в соответствии с должностными обязанностями и Профессиональным стандартом педагога-психолога (Приказом Минтруда РФ от 24.07.2015г.)  с сохранением конфиденциальности данных о ребе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95280" y="5589720"/>
          <a:ext cx="8642160" cy="1180440"/>
        </p:xfrm>
        <a:graphic>
          <a:graphicData uri="http://schemas.openxmlformats.org/drawingml/2006/table">
            <a:tbl>
              <a:tblPr/>
              <a:tblGrid>
                <a:gridCol w="444600"/>
                <a:gridCol w="1700640"/>
                <a:gridCol w="2173320"/>
                <a:gridCol w="1637280"/>
                <a:gridCol w="1518120"/>
                <a:gridCol w="1168200"/>
              </a:tblGrid>
              <a:tr h="11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№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.И.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ФИО родителя (законного представител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Не даю согласие на работу психолога с моим ребёнком (рос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6-13T09:33:17Z</dcterms:modified>
  <cp:revision>200</cp:revision>
  <dc:subject/>
  <dc:title>           ФГОС ДО – от теории  к практике  консультация для педагогов   МБДОУ МО  г. Краснодар «Центр – детский сад №232»  Автор-составитель: О.А. Бакулевич, заместитель заведующего по ВМР </dc:title>
</cp:coreProperties>
</file>