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12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9954-60AB-4EC9-AFE8-40DCE75E5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D880-00B8-442A-ABA4-6EBE937D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4E0F-05F2-44B5-9E5F-94EA930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37A3-8F31-44B2-857C-AA95E6BE5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A85E-345C-44EA-8344-0152CA760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130DA-1CB3-4E44-A47C-69BE766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FF06-F00D-4D32-8738-D70BFD48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4C9D2-8FFB-401E-A159-0929B795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A048-16F9-4358-8F8F-47C62C05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E4B2-CFDF-4A59-A80F-2CAD13AF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49B3-1A85-4420-9E31-7AB1F4E8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80E5-5DF5-407D-9CFA-7CBD9758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AF751-6F4A-458A-B472-E6DD35E3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CB3E7-4096-414E-9193-9E84A391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BEDA8-8BBC-4F0A-9FF7-CB84A72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2EBD-EC8C-4658-B498-D29C779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AF050-525C-422B-B95C-E04A6B441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CA3-1DB8-4F9B-B1F3-A5B27638AB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3356-E6F6-4134-AD8D-D158F97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C46-AC18-40F5-897D-EFA54CEF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5FE1-CF35-4223-B411-8FBE23B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BB1A-E955-488F-BC64-FD0EC29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FB3A-7971-4E9C-ADC1-03FC7BF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2E5-AC69-403C-980A-64C45CB3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50D-A7E3-4D46-A907-8FC6DD0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1B31-F54F-4327-975A-6C24673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EE85-BC9B-457F-B0B9-F4DBBB15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8AB2-02B1-407F-899D-747E538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87C-F532-4EDD-A6E8-27909C3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0553-52D4-4F29-9E28-CFE5D21DC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7948B-7DE5-4F3F-B07D-9D9CB7D99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78F9A-5A48-41E6-BDA3-5FF6F48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3A78B-4B8B-4F49-81E5-93383D03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8B27-E85D-4438-A907-83D03CC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3C469-E3C4-40C7-B5F6-936CD019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29BCF-E815-4062-AD9E-17DFD852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38424-6D0C-4C2A-83FD-560B1400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125CC-A322-4794-932C-694DF50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03622-E918-44DF-9270-20FD0DF5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502E1-A441-4691-8B30-3B2FE72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F0310-44BD-4C95-A3AC-404D715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5BCDE-8D31-4344-867F-3EB1F89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B9C14-7DED-4FAF-992C-F32DADDFE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C39CC-6F66-4E14-B829-27BAA017B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6750-F274-44BB-AAD3-8C76EFC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A7A8E-9355-45F7-8DB6-8C4F517E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FC353-4C89-4946-A3EE-1C9F6262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819EC-4C87-4783-BBBD-74D0CD1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FC768-C91F-44A0-9F7E-AB488965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0C05D-3135-4C29-A999-3738B29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3D0B6-4229-4807-858A-FE6AA248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23024-998F-4A23-AAB1-0277E90B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95466-C72E-46A7-A3A5-60657C0F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DAD1E-2F32-42B8-A659-B15F193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237EB-6903-47A6-BE7D-A98D819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47C1-41B5-4A39-8179-74BE6C60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10858-0C42-4A66-9EFC-8E0333B92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79EB-3115-46AF-9BD6-3154DAB67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D53A-ACA6-48D7-8A97-AB25F8F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E13F-E956-4760-B272-CD6E4A6B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37C1-FEF6-4378-A8D1-05A78E5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AAB8-90C6-483A-B9A5-CE0368C1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60D4-62AC-426D-9CF0-77345B7E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A31B-CEA4-49A2-BBB0-C164DD1C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A78B-09E9-4504-B9F6-8EADD2BE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5964-E55D-4A6A-AF4F-6974AD36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1EB6-1B8A-47A1-B852-EFF5D196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8E71-F22F-46A6-B9BB-D0905A3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E2E1-A980-46A3-A186-FBD5B6C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C792-230A-4851-BF0C-070E926B9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A4D4C-F2D8-4F61-841D-CE17A7236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12D22-4481-4F54-ACC9-06023C57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BC302-7D19-4286-9845-B3565C5E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9D470-0785-49F7-A929-DAD05338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C0DDB-94B2-4C8D-9876-16893469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461C4-22C5-4C94-9E90-91B2352D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51020-E4FA-4F4B-A47D-5A5078C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DAEE-5EC8-4727-B089-A39E567F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B36B7-90CB-4B30-B869-BD82D31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6886A-30D1-4397-BFBA-8063DF0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E2D8F-0F65-4E22-A1EA-2B1FA90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B6F7E-2ACB-4CF2-8DE9-3AB8769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1F946-D1B8-47BD-AF80-5C8B8D6BD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6448D-0548-4F4B-B23E-71D28929A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0FDB8-C059-451D-935A-BC25CC11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5F0F93-ADAF-43FB-AAAD-04D0F02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D0FEC-8D16-4781-BFAB-EAF0DC93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CDC69-AF4A-48D3-9001-3BFC4513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BE44-B086-4D80-899F-78775931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0A49A-11C1-4A58-82AD-9DE28DA2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658719-A6F2-4456-B103-80C1975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3333D-2C96-4682-BCAA-4709654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057AF-7040-4C19-AA07-24F93DF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A60E30-E2E9-4CB4-8EC1-EC18B3AB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9DA4A-7043-4FFC-B698-4113103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B3826-E308-4959-B67F-762A067E3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1800" y="1820520"/>
            <a:ext cx="7759800" cy="181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68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E9B770-0544-413A-8279-DBB5D210E17D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8E158B-78CE-415E-BC4E-A65E0FD338CC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700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29920"/>
            <a:ext cx="81709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7AB059-57DC-479D-8DAE-3CA593D4ACAC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8040" y="579240"/>
            <a:ext cx="3919680" cy="7794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5000" bIns="45000" anchor="ctr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653000" y="57960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45000" bIns="45000" anchor="ctr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04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300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BA4B92-CC67-4D7C-8060-35CE68D577B4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9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74C88-C056-454B-A258-42616F1D784E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38600" y="519120"/>
            <a:ext cx="2958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538600" y="1447920"/>
            <a:ext cx="2958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091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30240"/>
            <a:ext cx="4626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583A64-1C7E-49A5-A62C-99010CF2AABD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14080" y="529920"/>
            <a:ext cx="391932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4754520" y="530280"/>
            <a:ext cx="3932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5CDA82-BFC2-49F0-91DA-8A1D44A39E87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9040" y="433440"/>
            <a:ext cx="8305920" cy="434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4928760"/>
            <a:ext cx="8170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68000" y="5624280"/>
            <a:ext cx="8170920" cy="40788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5000" anchor="t">
            <a:normAutofit fontScale="8000"/>
          </a:bodyPr>
          <a:p>
            <a:pPr marL="273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9428B9-AAC6-471D-8A59-16249671B715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71640" y="5229360"/>
            <a:ext cx="5904000" cy="87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ФГОС ДО – от теории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 практике</a:t>
            </a:r>
            <a:br>
              <a:rPr sz="2400"/>
            </a:br>
            <a:br>
              <a:rPr sz="16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онсультация для педагогов  </a:t>
            </a:r>
            <a:br>
              <a:rPr sz="40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МБДОУ МО  г. Краснодар «Центр – детский сад №232»</a:t>
            </a: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втор-составитель: О.А. Бакулевич, заместитель заведующего по ВМ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3640" y="2808360"/>
            <a:ext cx="75247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ФОП ДО и ФАОП Д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Изменения в работе педагога-психолога в группах комбинированной и компенсирующей направленности в инклюзивной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-психолог Л.Г. Мура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ДОУ детского сада №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ступление на городском МО педагогов-психологов 26.10.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871640" y="144360"/>
            <a:ext cx="53704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71400" y="44280"/>
            <a:ext cx="7799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заимодействие педагога-психолога с семьями обучаю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773360"/>
            <a:ext cx="842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еспечить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о-педагогическую поддержку семь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динство подходов в ДОУ и семье в вопросах образования, воспитания и развития, укрепления здоровья обучающихся различных нозологических и целевых гру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цип, на который мы должны опираться в соответствии с ФОП ДО и ФАОП ДО- это приоритет семьи в воспитании, обучении и развитии ребенка, развитие ответственного и осознанного родительств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менно родители обязаны заложить основы физического, нравственного и интеллектуального развития ребенка, а педагог-психолог и другие педагогические работники будут  в этом помогать и   информировать родителей( законных представителей)о мерах господдержки семей с детьми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равления взаимодействия с семь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1400" y="1906560"/>
            <a:ext cx="779940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агностико-аналитическ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сбор данных о семьях, их запросов, планирование работы по результатам диагнос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тительское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щение по вопросам развития детей, выбора методов их обучения и воспит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ционн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консультирование по вопросам взаимодействия с обучающимися различных нозологических или целевых групп, особенностям их поведения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71400" y="-243000"/>
            <a:ext cx="7809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Занятия как форма  работы педагога-психо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1400" y="757080"/>
            <a:ext cx="780912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е, когда дети сидят за столами, эксперты  считают неправильным. ФОП ДО дает такое определение занятию. </a:t>
            </a: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Это интересное и полезное дело, которое развивает инициативу и самостоятельность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учающихся различных нозологических и целевых групп, учитывает их интересы, потребности и жел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огда мы планируем образовательные ситуации, культурные практики, тематические события, психологические и волонтёрские акции, мы должны учитывать особенности современных детей, многие из которых трудности в социально-коммуникативной сфере, причин чему множ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 9, 2023 год есть материал «Как составить программу фронтальных занятий по ФОП ДО». Не забываем, что в соответствии с ФАОП ДО предусмотрены только индивидуальные и подгруппов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640" y="249120"/>
            <a:ext cx="891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емы, которые сделают занятия педагога-психолога интересным и помогут решить задачи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ОП ДО и ФАОП Д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Опирайтесь на опыт детей</a:t>
            </a:r>
            <a:r>
              <a:rPr b="0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.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ежде ч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сказывать самим, выясните, что зн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 этом д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Принимайте любые ответ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Удивляйте и сами искренне удивляйтесь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ак многое они знают и умеют, создавайте у обучающихся любой целевой или нозологической группы ситу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успеха, опираясь на зоны  актуального и ближайше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Будьте гибкими и мобиль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Завершите занятие вопросами и рефлексие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(Зачем вам это знать? Как вам это пригодится в школе, в жизни? Кому мы об этом расскажем? Что было трудно, легко, интересно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62800" y="1268280"/>
            <a:ext cx="25556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рограммы для работы педагога-психолог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бираютс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а усмотрение образовательной организ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(ФИРО, а также все программы, где написано соответствует ФГОС ДО, или те, которые изданы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осле октября 2013 года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сли ранее я брала за основу программ коррекционной работы программы О.А. Шороховой «Играем в сказку», О.А. Монаковой «Путешествие с гномом», Л.М. Щипицыной «Азбука общения», то теперь мне понадобилось подбирать другие программы, поскольку ранее названные программы не переиздавались после 2003-200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оверьте программы, которые вы используете в работе.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еобходимо по этому же принципу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новить материалы для стартовой и итоговой диагностики обучаю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Рефлек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язательный компонент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я педагога-психолога или другого педагога-психолога(в рамках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экспертной работы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едагога-психолог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- умение фиксировать и анализировать собственные эмоции и чувства, поведение, самочувствие, личностные чер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проводиться в форме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дивидуального или общего разго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исунки, фотографии, виде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быть отсроченна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 когда занятие уже закончилось, то есть может быть занятие с открытым конц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Техн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еятельность педагога-психолога может осуществляться как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традиционной форм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ак и в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станционном формат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с использованием ИКТ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ADALIN MOSPSI)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ехнологии развития эмоционального интеллекта («Жизненные навыки» С.В. Кривцово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спользование: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ткрытых во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вивающих  дидактически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огических упражн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нимательных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ТР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15920"/>
            <a:ext cx="899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Диагностическая работа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адач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907920"/>
            <a:ext cx="8383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обучающихся, которые нуждаются в психолого-педагогическом сопровожден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раннюю диагностику отклонений в развитии причин трудностей социальной адапта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индивидуальные образовательные и социально-коммуникативные потребности обучающихся различных нозологических и целевых групп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социальную ситуацию развития и условий семейного воспитания, уровень адаптации и адаптивных возмож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аправленность детской одаренности,  интересов и склон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системный разносторонний контроль специалистов за уровнем и динамикой развития обучающихся и </a:t>
            </a:r>
            <a:r>
              <a:rPr b="0" lang="ru-RU" sz="23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условиями, которые соответствуют индивидуальным потребност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4520" y="0"/>
            <a:ext cx="78087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ческой работы по Ф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520" y="1413000"/>
            <a:ext cx="78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16.10. ФОП ДО- </a:t>
            </a:r>
            <a:r>
              <a:rPr b="0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ыявить и изучить индивидуально-психологические особенности детей, определить причину трудностей в освоении ОП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28.1 ФОП ДО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крепляет в числе задач диагностику общего развития и возможностей коммуникации с учетом особенности нозологической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Выявить детей-мигрантов с трудностями в обучении и социально-психологической адаптации, оценить этнокультурную природу труд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Провести диагностику детей «группы рис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еблагоприятные факторы социокультурной 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диагностику обучающихся под диспансерным наблюдение и часто болею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ки </a:t>
            </a:r>
            <a:br>
              <a:rPr sz="3600"/>
            </a:b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о ФА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1640" y="1728720"/>
            <a:ext cx="797724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актуального развития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 с ОВЗ, посещающих ваше ОУ, отнесенных к различным нозологическим групп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трудности в обучении и социализации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ближайшего развития и резервные возможности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«Справочник педагога-психолога. Детский сад», №2, 2023год, стр. 55 «Как определить зону ближайшего развития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ратите внимание, что в  Стандарт психолога внесены изменения в по отношению к детям с Р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87280" y="93600"/>
            <a:ext cx="8640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«Сложнее всего начать действовать, все остальное зависит только от упорства»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мелия Эрха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685960" y="2376360"/>
            <a:ext cx="41544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08120" y="11592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», № 4, 2023 год (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. 6-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1251000"/>
            <a:ext cx="85690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ы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дания для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бенка (4-5 лет и 6- 7 лет) с нормой развития и с ОВЗ педагогом-психологом и воспитателем.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ают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общая осведомлённость, моторная сфера, графические навыки, внимание, память, восприятие, конструктивный праксис, речевая сфера, игровая деятельность, социально-коммуникативное развит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ланк для итоговой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егося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вместно с педагогом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ключает в себя данные наблюдения (как основного метода мониторинга применительно к детям дошкольного возраста)  включает анализ контакта обучающегося, эмоционально-волевой сферы, жестов и мимики, общей и тонкой моторики, кругозора, познавательных психических процессов и игровой деятельности.  Полученные данные должны отражаться в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рте развития обучающего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в том случае, если ДОУ реализует ФАОП ДО для детей той или иной нозологической группы). Электронная версия статьи по ссылке 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e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psihologsad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r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79280" y="-27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0360" y="620640"/>
            <a:ext cx="8640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Разработать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комендации по основным направлениям работы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обучающимися с трудностями в обучении и социализации для всех участников образовательных отношений (приемы и методы работы в зоне ближайшего развития ребенка – «Справочник педагога-психолога. Детский сад», №2, 2023 год, с. 12.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каффолдинг-приемы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ременной адаптивной помощи педагога ребенку в решении трудной задач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алгоритм приемов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Я делаю, мы делаем, вы делаете», «Дозированная помощь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Запланировать и организовать консультации с семьями обучающихся, чтобы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брать стратегии воспитания, образования и развития в ДОУ и семь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консультации в формате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ини-консилиума с педагогическими работниками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вопросам психолого-педагогического сопровождения обучающихся и их семей (знакомство их с техниками «Я-слушания», «Эмоционального реагирования» и пр.). («Как облегчить адаптацию детей с ОВЗ» , №9, 2023 г., стр.7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1906560"/>
            <a:ext cx="7799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Провести консультации с семьями обучающихся и педагогическими работниками по вопросам общения, коррекции, развития и адаптации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даренных детей и детей мигрантов, обучающихся «группы риска» и билингв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Справочник педагога-психолога. Детский сад», №2, 2023 г., стр.43 «Как общаться с проблемными детьми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5, 2023 год есть образец аналитического отчета по ФАОП ДО. Конструктор формулировок для всех нозологических групп(стр.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71400" y="0"/>
            <a:ext cx="7799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692280"/>
            <a:ext cx="849780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консультации с семьями  и педагогическими работниками по вопросам общения, коррекции, развития и адаптаци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ВЗ разных нозологических групп и детей-инвали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консультации с семьями  и педагогическими работник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индивидуально ориентированных методов и приемов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витию и коррекции личности обучающихся с ОВЗ и детьми-инвалид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5, 2023 г., стр.60 «Диагностическая карта и игры на развитие коммуникативных навыков детей с РАС» - этот материал можно использовать при составлении ИОМ, ведении карты развития, проведении ППк,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12, 2022 г., стр.7 «Карта видов агрессии», чтобы определить причины поведения ребенка, «Как организовать работу с ребенком-аутистом», стр. 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24000" y="-1000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нформационно-просветительская работ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620640"/>
            <a:ext cx="8712000" cy="61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лекции, беседы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участниками образовательных отношений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подготовить информационные стенды, печатные материалы, электронные ресурсы по вопросам психолого-педагогического сопровождения дет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ь участие в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ероприятиях по плану образовательной организации или городского МО педагогов-психологов, в профессиональных конкурсах 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личного уровн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общение и </a:t>
            </a: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етевое взаимодействие </a:t>
            </a: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социокультурным пространством ДОУ, микрорайона, города, Ставропольского края (ПМПК, КДН, детской поликлиникой, психологическими и реабилитационными центрами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тех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целевы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 (одаренных и пр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зологически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79280" y="0"/>
            <a:ext cx="8964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Рабочая программа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92280"/>
            <a:ext cx="8999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старшего воспитателя дошкольного учреждения» №10 за октябрь 2023 года (стр. 4-9) размещена статья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Рабочая программа-документ, которой не предусматривает закон, но требуют проверяющ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Региональные орган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контроля и надзора требуют от педагогов ДОУ рабочие программы, хотя в федеральном законе «Об образовании в Российской Федерации» от 29.12.2012, ФГОС ДО, ФОП ДО и ФАОП ДО такого требования нет. Редакция журнала  это выяснила по итогам всероссийского опроса, сформулировала предложения и направили их в Рособрнадзор, Комитет Госдумы по просвещению и в министерство Просвещения </a:t>
            </a: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ием до 1 сентября 2023 года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править разъяснения в субъекты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 необходимости или ненужности рабочих программ педагогов ДО, чтобы снизить документальную нагрузку на педагогических работников. Если требование писать рабочие программы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т региональные нормативные а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о оспорить их мы сможем только после официального разъяснения федеральных органов исполнительной власти, которого пока  не поступи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9040" y="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уктур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1135080"/>
            <a:ext cx="82929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2d2db9"/>
                </a:solidFill>
                <a:latin typeface="Arial"/>
                <a:ea typeface="Arial Unicode MS"/>
              </a:rPr>
              <a:t>.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жде чем писать рабочую программу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е АОП ДО и ОП ДО,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реализуемые в вашем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ногие разделы из них вы можете перенести в свои рабочие программы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делав активные ссылки на эти докумен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расположенные на официальном сайте ДОУ, или указав разделы и стра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Титульный лист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а Педагогическим советом, протокол, д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тверждена заведующим, дата, при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сновные направления деятельности педагога-психолога и рабочей программы «Психологическое сопровождение ребенка и семьи» (далее-Программа)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яются с учетом вида ДОУ и особых образовательных потребностей, обучающихся с ТНР, ЗПР и пр.   Программа разработана на основе следующих док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1125360"/>
            <a:ext cx="86407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рядок разработки и утверждения федеральных основных общеобразовательных программ от 30.09.2022 г. № 87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Федеральная адаптированная образовательная программа дошкольного образования для обучающихся с ограниченными возможностями здоровья (далее - ОВЗ) (далее - ФАОП ДО), утвержденной приказом Министерства просвещения Российской Федерации от 24 ноября 2022 г. № 102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П 2.4.3648-20 «Санитарно - эпидемиологические требования                         к организациям воспитания и обучения, отдыха и оздоровления детей и молодёжи» утверждены постановлением Главного государственного санитарного врача Российской Федерации от 28 сентября 2020 г. № 2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ан ПиН 1.2.3.685-21 «Гигиенические нормативы и требования к обеспечению безопасности и (или) безвредности для человека факторов среды обитания», утвержденных постановлением Главного государственного санитарного врача Российской Федерации от 28 января 2021 г. № 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Распоряжение Министерства просвещения Российской Федерации от              06 августа 2020 г. № Р-75 «Об утверждении примерного Положения об оказании логопедической помощи в организациях, осуществляющих образовательную деятельность» (ред. от 06.04.202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125360"/>
            <a:ext cx="8640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Arial"/>
                <a:ea typeface="Arial Unicode MS"/>
              </a:rPr>
              <a:t>- </a:t>
            </a: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каз Минтруда России от 13.03.2023 № 136н «Об утверждении профессионального стандарта «Педагог-дефектолог», зарегистрирован           в Минюсте России 14 апреля 2023 г. № 73027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Приказ Минпросвещения России от 08.11.2022 № 955 «О внесении изменений в некоторые приказы Минобрнауки РФ и Минпросвещения РФ, касающиеся ФГОС общего образования и образования, обучающихся с ограниченными возможностями здоровья и умственной отсталостью (интеллектуальными нарушениями)» (Зарегистрировано в Минюсте России 06.02.2023 № 72264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став, АОП ДО для обучающихся с ТНР, АОП ДО для обучающихся с ЗПР, ОП ДО, программа развития, локальные акт ДО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алее прописать с какими возрастными группами вы работаете, какие в них реализуются программы (АОП для обучающихся с ТНР, НОДА, ЗПР и пр. ОП ДО (может реализоваться в группе целиком, в разновозрастной группе, в комбинированной (например, с ТНР и с обучающимися без речевых нарушений), далее укажите какие в них есть целевые груп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71400" y="-22320"/>
            <a:ext cx="7799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Целевой раздел</a:t>
            </a: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1.1. 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200" y="958680"/>
            <a:ext cx="88218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1.Цели и задачи реализации Программ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прописать задачи по направлениям работы педагога-психолога- диагностическая работа, консультативная, информационно-просветительская, экспертная и пр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2. Принципы и подходы к формированию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3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начимые для разработки и реализации Программы характеристики, в том числе особенности развития обучающихся 6-8 лет с ТНР, ЗПР и пр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(всех нозологических и  целевых групп, с которыми вы работаете), особенности социокультурной среды( + стороны и рис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4. Планируемые результаты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целевые ориентиры) освоения Программы обучающимися дошкольного возраста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нозологическим или целевым группам, для которых предназначена Програм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5. Развивающее оценивание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чества образовательной деятельности по Программе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периодичность проведения мониторинга, цели, диагностические методики, используемые педагогом-психологом для обучающихся различных целевых или нозологических групп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ольшинство разделов копируете из АОП ДО или ОП ДО  ДОУ или делаете </a:t>
            </a: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активную ссылку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эти 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44280"/>
            <a:ext cx="88203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Государственная политика в области дошкольного обра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заседании Совета по стратегическому развитию и национальным проектам (15 декабря 2022 года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глава государства уделил особое внимание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гулярному обновлению образовательных пространств   ДО, тиражированию положительного опыта ДОУ как источника лучших практик, методик и кад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ледующим шагом государственной политики в области ДО стала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работка Федеральных образовательных программ дошкольного образования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1 сентября 2023 года все детские сады  начали работать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 ФОП ДО или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для детей той или иной нозологической группы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ли по обеим программам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сли в ДОУ есть группы 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мбинированной направленности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Содержатель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981000"/>
            <a:ext cx="86407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Содержание образовательной деятельности педагога-психолога по пяти образовательным областям в соответствии с направлениями деятельности педагога-психол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1.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ическая экспертиза образовательных программ, комфортности и безопасност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4.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5. Организационно-метод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6. Психологическая профилак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 Коррекционно-развивающ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1. Календарно- тематическое планирование по возрастным, нозологическим и целевым группам (в зависимости от специализации детского сад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79280" y="476280"/>
            <a:ext cx="8856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3440" y="134136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Материально-техническ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реда кабинета должна отвечать образовательным потребностям обучающихся различных целевых(ФОП ДО)  и нозологических групп(ФАОП ДО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урнале «Справочник педагога-психолога» №7,2023г., стр. 6  есть описание оснащения кабинета психолога в соответствии с данными требованиями по зонам(первичного приема, консультативной, диагностической работы)и рабочей зоны психолога(рабочий стол, нормативно-правовая документация, шкаф с замком для хранения конфиденциальной информации-карт развития, номенклатурных дел обучающихся-инвалидов и п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Развивающая предметно-пространствен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числить, описать для чего используется в работе с обучающимися разных целевых и нозологических групп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снащение программы по направлениям работы психолог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программы должны быть в наличии или хотя бы в компьютерном вариант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360" y="792000"/>
            <a:ext cx="864072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 В ходе методического объединения педагогов-психологов проанализированы особенности работы педагога-психолога с различными целевыми и нозологическими  группами в соответствии с ФАОП ДО и ФОП ДО, а также в инклюзивной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Даны рекомендации по внесению изменений в диагностическую, просветительскую, коррекционно-развивающую работу, экспертизу образовательных программ и документацию педагога-психолога в соответствии с новыми требованиями с 01.09.20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Внести коррективы в 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545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9280" y="179280"/>
            <a:ext cx="86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зологические группы обучающихся(ФАОП Д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1400" y="1268280"/>
            <a:ext cx="81486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1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слуха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2. 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зрения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3.  Воспитанник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нарушениями речи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 Дет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рушениями опорно-двигательного аппарата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Н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5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 задержкой психического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ЗПР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6.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асстройствами аутистического спектра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РА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7. Воспитанник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умственной отсталостью и/или  интеллектуальными нарушениями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У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8. Обучающиеся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множественными нарушениями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М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179280"/>
            <a:ext cx="89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Целевые группы ( ФОП Д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880920"/>
            <a:ext cx="813600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1.Нормотипичные дети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с нормативным кризисом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2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бучающиеся с ООП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с особыми образовательными потребност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ОВЗ и инвалид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под диспансерным наблюдением, часто боле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трудностями развития, социальной адап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даренные 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3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в трудной жизненной ситу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4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, находящиеся в социально-опасном положен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5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«группы риска»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годовой отчет педагога-психолога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№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9, 2023 год есть материал «Пять целевых  групп для адресной психологической помощи», даны рекомендации по оптимизации работы педагога-психолога, поиску общих направлений работы с разными целевыми групп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71400" y="355680"/>
            <a:ext cx="7809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Единство задач воспитания и образования</a:t>
            </a:r>
            <a:r>
              <a:rPr b="1" lang="ru-RU" sz="22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1620720"/>
            <a:ext cx="532764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едагог-психолог наряду реализацией своего перспективного плана проводит мероприятия вместе другими педагогическими работниками в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ответствии с календарным планом воспитательно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 размещен на официальном сайте ДОУ) - включите в план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акции и прое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 соответствии с семью направлениями воспитания), поскольку совместная культурно-досуговая деятельность имеет большой воспитательный потенци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48360" y="4941720"/>
            <a:ext cx="3095640" cy="177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049800" y="1620720"/>
            <a:ext cx="298008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7280" y="-404640"/>
            <a:ext cx="88567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сихологические а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268280"/>
            <a:ext cx="79912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естница любви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леды с надписями «Обнимите друг друга», «Назовите друг друга ласково» и п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арец пожеланий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( родитель с ребенком вынимает из ларца позитивное или шуточное  пожелание, комплимент на ден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Копилка талантов»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участие родителей с ребенком в любом мастер-классе , например, по развитию эмоционального интеллекта, признаков одар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Смайлики любв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Забор(стена) психологической разгруз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 (родители оставляют пожелания о работе детского сада, группы, педагога-психолога, отрывают прикрепленные на скотч релаксационные упражнения или пожелания)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Радуга настроения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 основе лежит методика цветовых выборов Люше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31640" y="222120"/>
            <a:ext cx="85680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Изменения терминологии, используемой в документации педагога-психоло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1640" y="1197000"/>
            <a:ext cx="82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дети, воспитанники целесообразно заменить 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работа с родителями(законными представителями) заменена на работу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 семьей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Педагогические работник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вместо воспитатели, специалис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НОД заменена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занятие.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боту педагога-психолога вы называет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нятием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если время на него предусмотрено старшим воспитателем, методистом в расписании занятий, в учебном плане ДОУ в соответствии с санитарными нормам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противном случае вы употребляете термины: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диагностическая ситуация», «развивающая ситуация», «культурная практика»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2 половина дня)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71400" y="115920"/>
            <a:ext cx="7799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Изменения обязательной докум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080" y="1125360"/>
            <a:ext cx="8208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огласия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на проведение психолого-педагогической работы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ИОМ ребенка-инвалида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ФОП ДО). Необходимо внести изменения в маршрут в зависимости от нозологической группы ребенка,  формулировки вы можете взять в ФАОП ДО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</a:t>
            </a: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карта развития, ИОМ </a:t>
            </a:r>
            <a:r>
              <a:rPr b="1" i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сех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 (для групп, реализующих ФАОП ДО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РОДИТЕЛЕЙ (ЗАКОННЫХ ПРЕДСТАВИТЕЛЕЙ) ОБУЧАЮЩИХСЯ ГРУППЫ №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ведение педагогом-психологом в 2023-2024 учебном году индивидуальной и подгрупповой диагностической, коррекционно-развивающей, психопрофилактической и других видов работы в соответствии с должностными обязанностями и Профессиональным стандартом педагога-психолога (Приказом Минтруда РФ от 24.07.2015г.)  с сохранением конфиденциальности данных о ребе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95280" y="5589720"/>
          <a:ext cx="8642160" cy="1180440"/>
        </p:xfrm>
        <a:graphic>
          <a:graphicData uri="http://schemas.openxmlformats.org/drawingml/2006/table">
            <a:tbl>
              <a:tblPr/>
              <a:tblGrid>
                <a:gridCol w="444600"/>
                <a:gridCol w="1700640"/>
                <a:gridCol w="2173320"/>
                <a:gridCol w="1637280"/>
                <a:gridCol w="1518120"/>
                <a:gridCol w="1168200"/>
              </a:tblGrid>
              <a:tr h="11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№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.И.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ИО родителя (законного представител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е 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6-13T09:33:17Z</dcterms:modified>
  <cp:revision>200</cp:revision>
  <dc:subject/>
  <dc:title>           ФГОС ДО – от теории  к практике  консультация для педагогов   МБДОУ МО  г. Краснодар «Центр – детский сад №232»  Автор-составитель: О.А. Бакулевич, заместитель заведующего по ВМР </dc:title>
</cp:coreProperties>
</file>