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4.jpeg" ContentType="image/jpeg"/>
  <Override PartName="/ppt/media/image41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12.jpeg" ContentType="image/jpeg"/>
  <Override PartName="/ppt/media/image44.jpeg" ContentType="image/jpeg"/>
  <Override PartName="/ppt/media/image9.png" ContentType="image/png"/>
  <Override PartName="/ppt/media/image45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28.jpeg" ContentType="image/jpeg"/>
  <Override PartName="/ppt/media/image51.jpeg" ContentType="image/jpeg"/>
  <Override PartName="/ppt/media/image10.jpeg" ContentType="image/jpeg"/>
  <Override PartName="/ppt/media/image29.jpeg" ContentType="image/jpeg"/>
  <Override PartName="/ppt/media/image35.png" ContentType="image/pn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97C1-EE46-468D-8D48-EECA23F7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99D-5A50-44AF-BF17-B441DBDE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D281-0570-49A0-9C8C-C4A13C8F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E93-2851-4F0C-AD6D-9F08A7F1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6602-BF80-4C53-BFCC-17C7CA2A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99D9-784F-47EF-A7DE-3B201670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DDE7-AFA9-4197-A0F5-F7806C39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70E-4667-4155-A5BE-F0000331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ED2-DCF2-4415-AE13-FE6924F8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F90-A7D2-4003-BA32-66D3E075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8A5A-0264-4DB7-BC78-3A1CC299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7613-75F0-4916-BAF5-8720A633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E080-9DF9-42D3-9F55-36E21C9E37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639720" y="1341360"/>
            <a:ext cx="7772400" cy="2328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Calibri"/>
              </a:rPr>
              <a:t>МАДОУ «Детский сад № 6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Calibri"/>
              </a:rPr>
              <a:t>Проскурина Л.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e46c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71520" y="428400"/>
            <a:ext cx="6357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Объект 2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3141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"/>
          <p:cNvPicPr/>
          <p:nvPr/>
        </p:nvPicPr>
        <p:blipFill>
          <a:blip r:embed="rId2"/>
          <a:stretch/>
        </p:blipFill>
        <p:spPr>
          <a:xfrm>
            <a:off x="0" y="3141720"/>
            <a:ext cx="4427640" cy="37162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5" descr=""/>
          <p:cNvPicPr/>
          <p:nvPr/>
        </p:nvPicPr>
        <p:blipFill>
          <a:blip r:embed="rId3"/>
          <a:stretch/>
        </p:blipFill>
        <p:spPr>
          <a:xfrm>
            <a:off x="4017960" y="0"/>
            <a:ext cx="5148360" cy="33577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"/>
          <p:cNvPicPr/>
          <p:nvPr/>
        </p:nvPicPr>
        <p:blipFill>
          <a:blip r:embed="rId4"/>
          <a:stretch/>
        </p:blipFill>
        <p:spPr>
          <a:xfrm>
            <a:off x="4417920" y="3284640"/>
            <a:ext cx="4726080" cy="35701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7"/>
          <p:cNvSpPr/>
          <p:nvPr/>
        </p:nvSpPr>
        <p:spPr>
          <a:xfrm>
            <a:off x="1547640" y="241308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Calibri"/>
              </a:rPr>
              <a:t>Обитатели Куршской к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859c"/>
            </a:gs>
            <a:gs pos="100000">
              <a:srgbClr val="21596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0360" y="260280"/>
            <a:ext cx="651528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усев в довоенные времена назывался Гумбиннен.</a:t>
            </a: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годня Гусев — промышленный город со своей богатой историей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7640" y="2205000"/>
            <a:ext cx="3816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Лось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символ Гусева, его образ изображён на гербе города. После войны скульптуру перевезли в Калининградский зоопарк, но весной 1991 года вернули обратно. Объект находится под охран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2" descr=""/>
          <p:cNvPicPr/>
          <p:nvPr/>
        </p:nvPicPr>
        <p:blipFill>
          <a:blip r:embed="rId1"/>
          <a:stretch/>
        </p:blipFill>
        <p:spPr>
          <a:xfrm>
            <a:off x="3995640" y="2276640"/>
            <a:ext cx="5015160" cy="44510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"/>
          <p:cNvPicPr/>
          <p:nvPr/>
        </p:nvPicPr>
        <p:blipFill>
          <a:blip r:embed="rId2"/>
          <a:stretch/>
        </p:blipFill>
        <p:spPr>
          <a:xfrm>
            <a:off x="7470720" y="115920"/>
            <a:ext cx="1657440" cy="2562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57862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мятник С. И. Гусев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4785840"/>
            <a:ext cx="450072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3" descr=""/>
          <p:cNvPicPr/>
          <p:nvPr/>
        </p:nvPicPr>
        <p:blipFill>
          <a:blip r:embed="rId2"/>
          <a:stretch/>
        </p:blipFill>
        <p:spPr>
          <a:xfrm>
            <a:off x="3059280" y="1484280"/>
            <a:ext cx="6006960" cy="52434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179280" y="1268280"/>
            <a:ext cx="2880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канун праздника День Победы 2010 года, в Гусеве торжественно был открыт памятник, являющийся благодарностью за отвагу и мужество героя Великой Отечественной войны — С.И. Гусева. Именно под его командованием зимой 1945 года удалось прорвать оборону противника. В этом бою капитан поги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2523"/>
            </a:gs>
            <a:gs pos="100000">
              <a:srgbClr val="d996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дание «Амател»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 из главных символов города Гусева - бывшее здание правительства Гумбиннена, построенное в 1911 год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сад здания украшают куранты, которые бьют каждые три час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Объект 4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6985080" cy="4608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рам Всех Святых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рам-памятник павшим в годы Первой мировой войн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2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8928000" cy="5435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ece1"/>
                </a:solidFill>
                <a:latin typeface="Calibri"/>
              </a:rPr>
              <a:t>Памятник «Памяти забытой войны, изменившей ход истории»</a:t>
            </a:r>
            <a:br>
              <a:rPr sz="1600"/>
            </a:b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2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6985080" cy="42768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108000" y="981000"/>
            <a:ext cx="8785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ыл установлен на этом месте летом 2014 года. Монумент состоит из трёх фигур: скульптуры распятого солдата, рядом с которым стоят мать и вдова. На их лицах изображена скорбь за всех бойцов, которые не вернулись с войны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dead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мятник «Штыковая атака»</a:t>
            </a: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скульптура унтер-офицера армии Российской империи, который идёт в атаку. Над созданием мемориала несколько лет трудились местные скульпторы, художники и архитекторы. Открытие состоялось летом 2014 года. Памятник посвящён Гумбинненскому сражению 1914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2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105160" cy="4667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нумент Танк ИС-2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динственный памятник военной технике в Гусеве. Был установлен в канун празднования 70-ой годовщины со дня Победы над фашистской Германией. В аббревиатуре названия зашифрованы инициалы лидера Советского государства — Иосифа Сталина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5113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2752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кет Эйфелевой башн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том 2005 года макет был установлен в Городском парке. Сейчас является одной из визитных карточек города. 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108000" y="2133720"/>
            <a:ext cx="4464000" cy="45417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4176720" cy="53290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6"/>
          <p:cNvSpPr/>
          <p:nvPr/>
        </p:nvSpPr>
        <p:spPr>
          <a:xfrm>
            <a:off x="5148360" y="69228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ульптура лице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dead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усевский историко-краеведческий музе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м. А.М. Иванова</a:t>
            </a: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ыл основан зимой 1992 года. В музее находится несколько коллекций, которые посвящены довоенной истории края, Первой и Второй Мировым войнам. Действует постоянная археологическая экспозиция. До создания музея, в стенах здания в разное время располагались полицейский участок, финансовое управление, детский дом. Является объектом культурного наследия.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2" descr=""/>
          <p:cNvPicPr/>
          <p:nvPr/>
        </p:nvPicPr>
        <p:blipFill>
          <a:blip r:embed="rId1"/>
          <a:stretch/>
        </p:blipFill>
        <p:spPr>
          <a:xfrm>
            <a:off x="971640" y="2784600"/>
            <a:ext cx="619128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лининградская область на карте рос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2627280" y="4653000"/>
            <a:ext cx="3529080" cy="2160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5" name="Рисунок 4" descr=""/>
          <p:cNvPicPr/>
          <p:nvPr/>
        </p:nvPicPr>
        <p:blipFill>
          <a:blip r:embed="rId2"/>
          <a:stretch/>
        </p:blipFill>
        <p:spPr>
          <a:xfrm>
            <a:off x="324000" y="857160"/>
            <a:ext cx="8351640" cy="3651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med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b7dee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амятник районной газете «За доблестный труд»</a:t>
            </a:r>
            <a:br>
              <a:rPr sz="16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первый памятник в России посвящённый газете. Выполнен из бронзы. Открытие приурочили к 65-летию со дня основания редакции местной газеты «За доблестный труд». Был установлен в центре города в ноябре 2012 года на деньги работников.</a:t>
            </a:r>
            <a:br>
              <a:rPr sz="1600"/>
            </a:b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Рисунок 2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6220080" cy="4508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42640" y="188640"/>
            <a:ext cx="39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нетный са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Объект 3" descr=""/>
          <p:cNvPicPr/>
          <p:nvPr/>
        </p:nvPicPr>
        <p:blipFill>
          <a:blip r:embed="rId1"/>
          <a:stretch/>
        </p:blipFill>
        <p:spPr>
          <a:xfrm>
            <a:off x="55440" y="2997360"/>
            <a:ext cx="4535640" cy="38350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0" y="1052640"/>
            <a:ext cx="90360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д был открыт в мае 2011 года. На его территории, вдоль тротуаров, установлены макеты монет царской России и Советского Союза, превышающие их оригинальный размер в несколько сотен раз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Объект 7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4110120" cy="3860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зложение цветов к памятнику В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1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496000" cy="5229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650a"/>
            </a:gs>
            <a:gs pos="100000">
              <a:srgbClr val="fae3b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785840"/>
            <a:ext cx="521496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и расположены на том месте, где располагались одноимённые ворота, относившиеся к первому вальному укреплению горо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13840" y="5713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осгартенские ворота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28800" y="47145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ролевские вор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Текст 11"/>
          <p:cNvSpPr/>
          <p:nvPr/>
        </p:nvSpPr>
        <p:spPr>
          <a:xfrm>
            <a:off x="4714920" y="14292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5"/>
          <p:cNvSpPr/>
          <p:nvPr/>
        </p:nvSpPr>
        <p:spPr>
          <a:xfrm>
            <a:off x="4214880" y="357120"/>
            <a:ext cx="492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и из семи сохранившихся городских ворот Калинингра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10" descr=""/>
          <p:cNvPicPr/>
          <p:nvPr/>
        </p:nvPicPr>
        <p:blipFill>
          <a:blip r:embed="rId1"/>
          <a:stretch/>
        </p:blipFill>
        <p:spPr>
          <a:xfrm>
            <a:off x="144360" y="1065240"/>
            <a:ext cx="8891640" cy="3948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6bc23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492912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мятник барону Мюнхгаузен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760" y="1928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мятник барону Мюнхгаузену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й веселый памятник 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лининграде. Скульптура ста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арком на 750-лет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лининграда от немецкого горо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денведена – родины барон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остаменте с одной сторон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ита надпись «Кенигсберг», а 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угой – «Калининград», даб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черкнуть историческую связ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мецкого города с русск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5" descr=""/>
          <p:cNvPicPr/>
          <p:nvPr/>
        </p:nvPicPr>
        <p:blipFill>
          <a:blip r:embed="rId1"/>
          <a:stretch/>
        </p:blipFill>
        <p:spPr>
          <a:xfrm>
            <a:off x="4932360" y="692280"/>
            <a:ext cx="381780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лининградский зоопар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7120" y="1600200"/>
            <a:ext cx="41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ин из самых больших 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арых зоопарков Росс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оопарк  был  откры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1896 год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3280" y="2071440"/>
            <a:ext cx="42530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его коллекци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нимающей площадь в 16,5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а, представлены 315 видо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животных, численност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живых экспонатов составляе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264 особ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D:\Аня\география\калининград\Samp.gif"/>
          <p:cNvPicPr/>
          <p:nvPr/>
        </p:nvPicPr>
        <p:blipFill>
          <a:blip r:embed="rId2"/>
          <a:stretch/>
        </p:blipFill>
        <p:spPr>
          <a:xfrm>
            <a:off x="0" y="0"/>
            <a:ext cx="1657440" cy="1638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9" descr=""/>
          <p:cNvPicPr/>
          <p:nvPr/>
        </p:nvPicPr>
        <p:blipFill>
          <a:blip r:embed="rId3"/>
          <a:stretch/>
        </p:blipFill>
        <p:spPr>
          <a:xfrm>
            <a:off x="11160" y="3860640"/>
            <a:ext cx="4465440" cy="2826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"/>
          <p:cNvPicPr/>
          <p:nvPr/>
        </p:nvPicPr>
        <p:blipFill>
          <a:blip r:embed="rId4"/>
          <a:stretch/>
        </p:blipFill>
        <p:spPr>
          <a:xfrm>
            <a:off x="4788000" y="1052640"/>
            <a:ext cx="388764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Животные в зоопарк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108000" y="901800"/>
            <a:ext cx="3527280" cy="2520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"/>
          <p:cNvPicPr/>
          <p:nvPr/>
        </p:nvPicPr>
        <p:blipFill>
          <a:blip r:embed="rId2"/>
          <a:stretch/>
        </p:blipFill>
        <p:spPr>
          <a:xfrm>
            <a:off x="6084720" y="836640"/>
            <a:ext cx="2951280" cy="244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"/>
          <p:cNvPicPr/>
          <p:nvPr/>
        </p:nvPicPr>
        <p:blipFill>
          <a:blip r:embed="rId3"/>
          <a:stretch/>
        </p:blipFill>
        <p:spPr>
          <a:xfrm>
            <a:off x="5292720" y="3716280"/>
            <a:ext cx="3781440" cy="28576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"/>
          <p:cNvPicPr/>
          <p:nvPr/>
        </p:nvPicPr>
        <p:blipFill>
          <a:blip r:embed="rId4"/>
          <a:stretch/>
        </p:blipFill>
        <p:spPr>
          <a:xfrm>
            <a:off x="108000" y="3645000"/>
            <a:ext cx="3743280" cy="31845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7" descr=""/>
          <p:cNvPicPr/>
          <p:nvPr/>
        </p:nvPicPr>
        <p:blipFill>
          <a:blip r:embed="rId5"/>
          <a:stretch/>
        </p:blipFill>
        <p:spPr>
          <a:xfrm>
            <a:off x="3564000" y="3716280"/>
            <a:ext cx="2808360" cy="2952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9" descr=""/>
          <p:cNvPicPr/>
          <p:nvPr/>
        </p:nvPicPr>
        <p:blipFill>
          <a:blip r:embed="rId6"/>
          <a:stretch/>
        </p:blipFill>
        <p:spPr>
          <a:xfrm>
            <a:off x="2700360" y="836640"/>
            <a:ext cx="3527280" cy="2809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0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узей Мирового океан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360" y="620280"/>
            <a:ext cx="493236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услышать удивительные истории о морских путешествиях, раскрыть тайны подводного мира. 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2" descr=""/>
          <p:cNvPicPr/>
          <p:nvPr/>
        </p:nvPicPr>
        <p:blipFill>
          <a:blip r:embed="rId1"/>
          <a:stretch/>
        </p:blipFill>
        <p:spPr>
          <a:xfrm>
            <a:off x="4859280" y="3789360"/>
            <a:ext cx="3816360" cy="27129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"/>
          <p:cNvPicPr/>
          <p:nvPr/>
        </p:nvPicPr>
        <p:blipFill>
          <a:blip r:embed="rId2"/>
          <a:stretch/>
        </p:blipFill>
        <p:spPr>
          <a:xfrm>
            <a:off x="4788000" y="476280"/>
            <a:ext cx="3887640" cy="29527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4859280" y="2637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ece1"/>
                </a:solidFill>
                <a:latin typeface="Calibri"/>
              </a:rPr>
              <a:t>Научно исследовательское судно космонавта Виктора Пацае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7" descr=""/>
          <p:cNvPicPr/>
          <p:nvPr/>
        </p:nvPicPr>
        <p:blipFill>
          <a:blip r:embed="rId3"/>
          <a:stretch/>
        </p:blipFill>
        <p:spPr>
          <a:xfrm>
            <a:off x="108000" y="2133720"/>
            <a:ext cx="4608360" cy="37987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8"/>
          <p:cNvSpPr/>
          <p:nvPr/>
        </p:nvSpPr>
        <p:spPr>
          <a:xfrm>
            <a:off x="250920" y="52275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Канадский самоходный подводный обитаемый аппарат сделанный в 1977 году, который мог погружаться на глубину 2 000 метр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19280" y="18720"/>
            <a:ext cx="2592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4" descr=""/>
          <p:cNvPicPr/>
          <p:nvPr/>
        </p:nvPicPr>
        <p:blipFill>
          <a:blip r:embed="rId2"/>
          <a:stretch/>
        </p:blipFill>
        <p:spPr>
          <a:xfrm>
            <a:off x="4572000" y="115920"/>
            <a:ext cx="4464000" cy="3003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00720" y="836640"/>
            <a:ext cx="46591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eeece1"/>
                </a:solidFill>
                <a:latin typeface="Calibri"/>
              </a:rPr>
              <a:t>Создание музея янтаря обусловлено тем, что на территории Калининградского полуострова находится крупнейшее в мире месторождение янтаря, а также единственное предприятие, где добыча и переработка солнечного камня ведется в промышленных объем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6" descr=""/>
          <p:cNvPicPr/>
          <p:nvPr/>
        </p:nvPicPr>
        <p:blipFill>
          <a:blip r:embed="rId3"/>
          <a:stretch/>
        </p:blipFill>
        <p:spPr>
          <a:xfrm>
            <a:off x="0" y="189000"/>
            <a:ext cx="4572000" cy="37288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"/>
          <p:cNvPicPr/>
          <p:nvPr/>
        </p:nvPicPr>
        <p:blipFill>
          <a:blip r:embed="rId4"/>
          <a:stretch/>
        </p:blipFill>
        <p:spPr>
          <a:xfrm>
            <a:off x="3780000" y="3284640"/>
            <a:ext cx="2571480" cy="33130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6"/>
          <p:cNvSpPr/>
          <p:nvPr/>
        </p:nvSpPr>
        <p:spPr>
          <a:xfrm>
            <a:off x="179280" y="18900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ашня является историко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рхитектурным памятник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редины XIX столет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7" descr=""/>
          <p:cNvPicPr/>
          <p:nvPr/>
        </p:nvPicPr>
        <p:blipFill>
          <a:blip r:embed="rId5"/>
          <a:stretch/>
        </p:blipFill>
        <p:spPr>
          <a:xfrm>
            <a:off x="6516720" y="3573360"/>
            <a:ext cx="2482920" cy="27352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8" descr=""/>
          <p:cNvPicPr/>
          <p:nvPr/>
        </p:nvPicPr>
        <p:blipFill>
          <a:blip r:embed="rId6"/>
          <a:stretch/>
        </p:blipFill>
        <p:spPr>
          <a:xfrm>
            <a:off x="179280" y="4005360"/>
            <a:ext cx="3384720" cy="25192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0"/>
          <p:cNvSpPr/>
          <p:nvPr/>
        </p:nvSpPr>
        <p:spPr>
          <a:xfrm>
            <a:off x="179280" y="3244680"/>
            <a:ext cx="39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ece1"/>
                </a:solidFill>
                <a:latin typeface="Calibri"/>
              </a:rPr>
              <a:t>Музей янта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56880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шская кос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естественный природный заповедник, представляющий в миниатюре сразу несколько миров. Ученые называют ее «музеем природных зон», настолько разнообразны здесь пейзажи: от березовых лесов до песчаных пустынь. И все это на узкой ленточке зем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284720" y="907920"/>
            <a:ext cx="464328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одержимое 7"/>
          <p:cNvSpPr/>
          <p:nvPr/>
        </p:nvSpPr>
        <p:spPr>
          <a:xfrm>
            <a:off x="0" y="4572000"/>
            <a:ext cx="4500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" descr=""/>
          <p:cNvPicPr/>
          <p:nvPr/>
        </p:nvPicPr>
        <p:blipFill>
          <a:blip r:embed="rId2"/>
          <a:stretch/>
        </p:blipFill>
        <p:spPr>
          <a:xfrm>
            <a:off x="5508720" y="44280"/>
            <a:ext cx="3419280" cy="35420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0" descr=""/>
          <p:cNvPicPr/>
          <p:nvPr/>
        </p:nvPicPr>
        <p:blipFill>
          <a:blip r:embed="rId3"/>
          <a:stretch/>
        </p:blipFill>
        <p:spPr>
          <a:xfrm>
            <a:off x="4859280" y="3645000"/>
            <a:ext cx="4105440" cy="30495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2" descr=""/>
          <p:cNvPicPr/>
          <p:nvPr/>
        </p:nvPicPr>
        <p:blipFill>
          <a:blip r:embed="rId4"/>
          <a:stretch/>
        </p:blipFill>
        <p:spPr>
          <a:xfrm>
            <a:off x="0" y="1844640"/>
            <a:ext cx="4716360" cy="4897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шка</dc:creator>
  <dc:description/>
  <dc:language>en-US</dc:language>
  <cp:lastModifiedBy>Гусев Сад</cp:lastModifiedBy>
  <dcterms:modified xsi:type="dcterms:W3CDTF">2024-07-25T07:09:23Z</dcterms:modified>
  <cp:revision>65</cp:revision>
  <dc:subject/>
  <dc:title>Достопримечательности  Калиниграда</dc:title>
</cp:coreProperties>
</file>