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402-58AD-4A1E-86F2-6C81F2D3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3D7-1CF7-4158-B868-5690306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CD0-19A8-4C8D-A6EE-E9779208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6C1-EFFD-41C0-9DEE-C640F193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F17-A941-468B-9152-F1F5492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959-EB65-4EDC-B179-5E382000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B08-D409-4F15-97BB-66DF8105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8F3-0FB2-4790-B993-2DAC732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DE1-EB10-4EFA-8D26-0BE0DA81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FCB-2C8E-4FC5-8705-022571B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D0B-A8E6-4F30-BC44-3E9844C7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A94-A09A-482E-8340-2A19E87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187A-BE58-48E2-9E17-013E81AA8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9720" y="1341360"/>
            <a:ext cx="7772400" cy="23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МАДОУ «Детский сад № 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Проскурина Л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71520" y="42840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3"/>
          <a:stretch/>
        </p:blipFill>
        <p:spPr>
          <a:xfrm>
            <a:off x="4017960" y="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4417920" y="3284640"/>
            <a:ext cx="4726080" cy="35701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1547640" y="24130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Обитатели Куршской к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2159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260280"/>
            <a:ext cx="6515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усев в довоенные времена назывался Гумбиннен.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Гусев — промышленный город со своей богатой истори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7640" y="220500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ос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имвол Гусева, его образ изображён на гербе города. После войны скульптуру перевезли в Калининградский зоопарк, но весной 1991 года вернули обратно. Объект находится под охра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5015160" cy="4451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7470720" y="115920"/>
            <a:ext cx="165744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5786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ник С. И. Гусе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478584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6006960" cy="524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9280" y="1268280"/>
            <a:ext cx="28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нун праздника День Победы 2010 года, в Гусеве торжественно был открыт памятник, являющийся благодарностью за отвагу и мужество героя Великой Отечественной войны — С.И. Гусева. Именно под его командованием зимой 1945 года удалось прорвать оборону противника. В этом бою капитан поги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2523"/>
            </a:gs>
            <a:gs pos="100000">
              <a:srgbClr val="d996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ание «Амател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главных символов города Гусева - бывшее здание правительства Гумбиннена, построенное в 1911 г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ад здания украшают куранты, которые бьют каждые три ча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69850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 Всех Святы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-памятник павшим в годы Первой мировой вой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2800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Памятник «Памяти забытой войны, изменившей ход истории»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985080" cy="4276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08000" y="981000"/>
            <a:ext cx="878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 установлен на этом месте летом 2014 года. Монумент состоит из трёх фигур: скульптуры распятого солдата, рядом с которым стоят мать и вдова. На их лицах изображена скорбь за всех бойцов, которые не вернулись с войны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ник «Штыковая атака»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кульптура унтер-офицера армии Российской империи, который идёт в атаку. Над созданием мемориала несколько лет трудились местные скульпторы, художники и архитекторы. Открытие состоялось летом 2014 года. Памятник посвящён Гумбинненскому сражению 1914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105160" cy="4667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нумент Танк ИС-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ственный памятник военной технике в Гусеве. Был установлен в канун празднования 70-ой годовщины со дня Победы над фашистской Германией. В аббревиатуре названия зашифрованы инициалы лидера Советского государства — Иосифа Сталин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 Эйфелевой баш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ом 2005 года макет был установлен в Городском парке. Сейчас является одной из визитных карточек города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464000" cy="4541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176720" cy="5329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5148360" y="6922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ура лице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евский историко-краеведческий муз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А.М. Иванова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основан зимой 1992 года. В музее находится несколько коллекций, которые посвящены довоенной истории края, Первой и Второй Мировым войнам. Действует постоянная археологическая экспозиция. До создания музея, в стенах здания в разное время располагались полицейский участок, финансовое управление, детский дом. Является объектом культурного наследия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971640" y="2784600"/>
            <a:ext cx="61912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нинградская область на карте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3529080" cy="216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324000" y="857160"/>
            <a:ext cx="8351640" cy="365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b7de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амятник районной газете «За доблестный труд»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ервый памятник в России посвящённый газете. Выполнен из бронзы. Открытие приурочили к 65-летию со дня основания редакции местной газеты «За доблестный труд». Был установлен в центре города в ноябре 2012 года на деньги работников.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22008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42640" y="18864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етны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55440" y="2997360"/>
            <a:ext cx="4535640" cy="3835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052640"/>
            <a:ext cx="903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д был открыт в мае 2011 года. На его территории, вдоль тротуаров, установлены макеты монет царской России и Советского Союза, превышающие их оригинальный размер в несколько сотен раз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1012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ложение цветов к памятнику В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650a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5214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расположены на том месте, где располагались одноимённые ворота, относившиеся к первому вальному укреплению го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840" y="571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гартенские ворот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28800" y="471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левские во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 11"/>
          <p:cNvSpPr/>
          <p:nvPr/>
        </p:nvSpPr>
        <p:spPr>
          <a:xfrm>
            <a:off x="4714920" y="14292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4214880" y="357120"/>
            <a:ext cx="49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 из семи сохранившихся городских ворот Калинингр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0" descr=""/>
          <p:cNvPicPr/>
          <p:nvPr/>
        </p:nvPicPr>
        <p:blipFill>
          <a:blip r:embed="rId1"/>
          <a:stretch/>
        </p:blipFill>
        <p:spPr>
          <a:xfrm>
            <a:off x="144360" y="1065240"/>
            <a:ext cx="8891640" cy="3948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6bc23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9291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барону Мюнхгаузе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928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мятник барону Мюнхгаузену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й веселый памятник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е. Скульптура ст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рком на 750-ле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а от немецкого го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денведена – родины бар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стаменте с одной сто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та надпись «Кенигсберг», а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– «Калининград», да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черкнуть историческую связ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цкого города с русс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17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ининградский зоопа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из самых больших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ых зоопарков Росс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опарк  был  откры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896 г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3280" y="2071440"/>
            <a:ext cx="4253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его коллекци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нимающей площадь в 16,5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а, представлены 315 вид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отных, численно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ых экспонатов составля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264 особ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Аня\география\калининград\Samp.gif"/>
          <p:cNvPicPr/>
          <p:nvPr/>
        </p:nvPicPr>
        <p:blipFill>
          <a:blip r:embed="rId2"/>
          <a:stretch/>
        </p:blipFill>
        <p:spPr>
          <a:xfrm>
            <a:off x="0" y="0"/>
            <a:ext cx="165744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"/>
          <p:cNvPicPr/>
          <p:nvPr/>
        </p:nvPicPr>
        <p:blipFill>
          <a:blip r:embed="rId3"/>
          <a:stretch/>
        </p:blipFill>
        <p:spPr>
          <a:xfrm>
            <a:off x="11160" y="3860640"/>
            <a:ext cx="4465440" cy="2826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4788000" y="105264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Животные в зоопар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08000" y="901800"/>
            <a:ext cx="352728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7814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4"/>
          <a:stretch/>
        </p:blipFill>
        <p:spPr>
          <a:xfrm>
            <a:off x="108000" y="3645000"/>
            <a:ext cx="3743280" cy="3184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35272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ей Мирового океа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620280"/>
            <a:ext cx="4932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услышать удивительные истории о морских путешествиях, раскрыть тайны подводного мира. 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816360" cy="2712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88764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859280" y="263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Научно исследовательское судно космонавта Виктора Паца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4608360" cy="3798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250920" y="522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надский самоходный подводный обитаемый аппарат сделанный в 1977 году, который мог погружаться на глубину 2 000 ме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19280" y="18720"/>
            <a:ext cx="25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464000" cy="3003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00720" y="836640"/>
            <a:ext cx="46591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eeece1"/>
                </a:solidFill>
                <a:latin typeface="Calibri"/>
              </a:rPr>
              <a:t>Создание музея янтаря обусловлено тем, что на территории Калининградского полуострова находится крупнейшее в мире месторождение янтаря, а также единственное предприятие, где добыча и переработка солнечного камня ведется в промышленных объе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37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2571480" cy="3313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179280" y="189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шня является историко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тектурным памятни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дины XIX столе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5"/>
          <a:stretch/>
        </p:blipFill>
        <p:spPr>
          <a:xfrm>
            <a:off x="6516720" y="3573360"/>
            <a:ext cx="248292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179280" y="32446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Музей янта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5688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шская ко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стественный природный заповедник, представляющий в миниатюре сразу несколько миров. Ученые называют ее «музеем природных зон», настолько разнообразны здесь пейзажи: от березовых лесов до песчаных пустынь. И все это на узкой ленточке зем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4720" y="907920"/>
            <a:ext cx="46432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7"/>
          <p:cNvSpPr/>
          <p:nvPr/>
        </p:nvSpPr>
        <p:spPr>
          <a:xfrm>
            <a:off x="0" y="4572000"/>
            <a:ext cx="4500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508720" y="44280"/>
            <a:ext cx="3419280" cy="354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4105440" cy="3049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"/>
          <p:cNvPicPr/>
          <p:nvPr/>
        </p:nvPicPr>
        <p:blipFill>
          <a:blip r:embed="rId4"/>
          <a:stretch/>
        </p:blipFill>
        <p:spPr>
          <a:xfrm>
            <a:off x="0" y="1844640"/>
            <a:ext cx="47163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шка</dc:creator>
  <dc:description/>
  <dc:language>en-US</dc:language>
  <cp:lastModifiedBy>Гусев Сад</cp:lastModifiedBy>
  <dcterms:modified xsi:type="dcterms:W3CDTF">2024-07-25T07:09:23Z</dcterms:modified>
  <cp:revision>65</cp:revision>
  <dc:subject/>
  <dc:title>Достопримечательности  Калиниграда</dc:title>
</cp:coreProperties>
</file>