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9.png" ContentType="image/png"/>
  <Override PartName="/ppt/media/image45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51.jpeg" ContentType="image/jpeg"/>
  <Override PartName="/ppt/media/image10.jpeg" ContentType="image/jpeg"/>
  <Override PartName="/ppt/media/image29.jpeg" ContentType="image/jpeg"/>
  <Override PartName="/ppt/media/image35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9F3-63BB-4B6A-9E2E-93120994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186-09DA-4924-B17C-2B1B8B43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258-36D6-4482-833C-30D3854A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7F9-3CFE-4FD9-B252-DC7B2E37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0C0-E0CC-4F5A-A502-8EB720AE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27E-D4FE-4FDC-818A-99EA19ED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B27-38CD-4FBF-9B34-BF90FB7D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175-7BAF-465C-AF1C-E1EC52CF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80E-1B5E-4813-8B3C-12260282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CCF-DE9A-456E-A1FE-8400C32C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D4D-CB52-43BE-BEEF-6AB1B8A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537-9AC0-4193-B1DF-81C8AD60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85A7-346F-4029-9289-2FBFBC90D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39720" y="1341360"/>
            <a:ext cx="7772400" cy="232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Calibri"/>
              </a:rPr>
              <a:t>МАДОУ «Детский сад № 6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Calibri"/>
              </a:rPr>
              <a:t>Проскурина Л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e46c0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71520" y="42840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141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0" y="3141720"/>
            <a:ext cx="4427640" cy="37162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"/>
          <p:cNvPicPr/>
          <p:nvPr/>
        </p:nvPicPr>
        <p:blipFill>
          <a:blip r:embed="rId3"/>
          <a:stretch/>
        </p:blipFill>
        <p:spPr>
          <a:xfrm>
            <a:off x="4017960" y="0"/>
            <a:ext cx="5148360" cy="3357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4"/>
          <a:stretch/>
        </p:blipFill>
        <p:spPr>
          <a:xfrm>
            <a:off x="4417920" y="3284640"/>
            <a:ext cx="4726080" cy="35701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7"/>
          <p:cNvSpPr/>
          <p:nvPr/>
        </p:nvSpPr>
        <p:spPr>
          <a:xfrm>
            <a:off x="1547640" y="241308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Обитатели Куршской к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859c"/>
            </a:gs>
            <a:gs pos="100000">
              <a:srgbClr val="2159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260280"/>
            <a:ext cx="65152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усев в довоенные времена назывался Гумбиннен.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годня Гусев — промышленный город со своей богатой историе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7640" y="2205000"/>
            <a:ext cx="3816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Лос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имвол Гусева, его образ изображён на гербе города. После войны скульптуру перевезли в Калининградский зоопарк, но весной 1991 года вернули обратно. Объект находится под охран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5015160" cy="44510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7470720" y="115920"/>
            <a:ext cx="1657440" cy="2562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5786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мятник С. И. Гусе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4785840"/>
            <a:ext cx="45007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2"/>
          <a:stretch/>
        </p:blipFill>
        <p:spPr>
          <a:xfrm>
            <a:off x="3059280" y="1484280"/>
            <a:ext cx="6006960" cy="52434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9280" y="1268280"/>
            <a:ext cx="2880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анун праздника День Победы 2010 года, в Гусеве торжественно был открыт памятник, являющийся благодарностью за отвагу и мужество героя Великой Отечественной войны — С.И. Гусева. Именно под его командованием зимой 1945 года удалось прорвать оборону противника. В этом бою капитан поги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2523"/>
            </a:gs>
            <a:gs pos="100000">
              <a:srgbClr val="d996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дание «Амател»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главных символов города Гусева - бывшее здание правительства Гумбиннена, построенное в 1911 го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сад здания украшают куранты, которые бьют каждые три ча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Объект 4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698508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рам Всех Святы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рам-памятник павшим в годы Первой мировой войн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928000" cy="543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ce1"/>
                </a:solidFill>
                <a:latin typeface="Calibri"/>
              </a:rPr>
              <a:t>Памятник «Памяти забытой войны, изменившей ход истории»</a:t>
            </a:r>
            <a:br>
              <a:rPr sz="16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2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6985080" cy="42768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08000" y="981000"/>
            <a:ext cx="8785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л установлен на этом месте летом 2014 года. Монумент состоит из трёх фигур: скульптуры распятого солдата, рядом с которым стоят мать и вдова. На их лицах изображена скорбь за всех бойцов, которые не вернулись с войны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dea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мятник «Штыковая атака»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кульптура унтер-офицера армии Российской империи, который идёт в атаку. Над созданием мемориала несколько лет трудились местные скульпторы, художники и архитекторы. Открытие состоялось летом 2014 года. Памятник посвящён Гумбинненскому сражению 1914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105160" cy="4667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eeece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нумент Танк ИС-2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инственный памятник военной технике в Гусеве. Был установлен в канун празднования 70-ой годовщины со дня Победы над фашистской Германией. В аббревиатуре названия зашифрованы инициалы лидера Советского государства — Иосифа Сталин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ет Эйфелевой башн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ом 2005 года макет был установлен в Городском парке. Сейчас является одной из визитных карточек города.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4464000" cy="45417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4176720" cy="53290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6"/>
          <p:cNvSpPr/>
          <p:nvPr/>
        </p:nvSpPr>
        <p:spPr>
          <a:xfrm>
            <a:off x="5148360" y="6922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ульптура лице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dea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усевский историко-краеведческий муз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. А.М. Иванова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 основан зимой 1992 года. В музее находится несколько коллекций, которые посвящены довоенной истории края, Первой и Второй Мировым войнам. Действует постоянная археологическая экспозиция. До создания музея, в стенах здания в разное время располагались полицейский участок, финансовое управление, детский дом. Является объектом культурного наследия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2" descr=""/>
          <p:cNvPicPr/>
          <p:nvPr/>
        </p:nvPicPr>
        <p:blipFill>
          <a:blip r:embed="rId1"/>
          <a:stretch/>
        </p:blipFill>
        <p:spPr>
          <a:xfrm>
            <a:off x="971640" y="2784600"/>
            <a:ext cx="61912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ининградская область на карте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2627280" y="4653000"/>
            <a:ext cx="3529080" cy="216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324000" y="857160"/>
            <a:ext cx="8351640" cy="3651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b7de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амятник районной газете «За доблестный труд»</a:t>
            </a:r>
            <a:br>
              <a:rPr sz="1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ервый памятник в России посвящённый газете. Выполнен из бронзы. Открытие приурочили к 65-летию со дня основания редакции местной газеты «За доблестный труд». Был установлен в центре города в ноябре 2012 года на деньги работников.</a:t>
            </a: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22008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42640" y="188640"/>
            <a:ext cx="39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етный с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Объект 3" descr=""/>
          <p:cNvPicPr/>
          <p:nvPr/>
        </p:nvPicPr>
        <p:blipFill>
          <a:blip r:embed="rId1"/>
          <a:stretch/>
        </p:blipFill>
        <p:spPr>
          <a:xfrm>
            <a:off x="55440" y="2997360"/>
            <a:ext cx="4535640" cy="3835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052640"/>
            <a:ext cx="9036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д был открыт в мае 2011 года. На его территории, вдоль тротуаров, установлены макеты монет царской России и Советского Союза, превышающие их оригинальный размер в несколько сотен раз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Объект 7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1012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ложение цветов к памятнику В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960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650a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785840"/>
            <a:ext cx="52149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расположены на том месте, где располагались одноимённые ворота, относившиеся к первому вальному укреплению го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840" y="571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осгартенские ворота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28800" y="4714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олевские вор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Текст 11"/>
          <p:cNvSpPr/>
          <p:nvPr/>
        </p:nvSpPr>
        <p:spPr>
          <a:xfrm>
            <a:off x="4714920" y="14292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4214880" y="357120"/>
            <a:ext cx="492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 из семи сохранившихся городских ворот Калинингра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0" descr=""/>
          <p:cNvPicPr/>
          <p:nvPr/>
        </p:nvPicPr>
        <p:blipFill>
          <a:blip r:embed="rId1"/>
          <a:stretch/>
        </p:blipFill>
        <p:spPr>
          <a:xfrm>
            <a:off x="144360" y="1065240"/>
            <a:ext cx="8891640" cy="3948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6bc23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9291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мятник барону Мюнхгаузе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928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мятник барону Мюнхгаузену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й веселый памятник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ининграде. Скульптура ст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рком на 750-ле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ининграда от немецкого гор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денведена – родины баро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стаменте с одной сторо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ита надпись «Кенигсберг», а 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ой – «Калининград», даб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черкнуть историческую связ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ецкого города с русск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5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1780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лининградский зоопар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120" y="1600200"/>
            <a:ext cx="41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из самых больших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ых зоопарков Росс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опарк  был  откры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1896 г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3280" y="2071440"/>
            <a:ext cx="4253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его коллекци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нимающей площадь в 16,5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а, представлены 315 вид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ивотных, численност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ивых экспонатов составляе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264 особ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Аня\география\калининград\Samp.gif"/>
          <p:cNvPicPr/>
          <p:nvPr/>
        </p:nvPicPr>
        <p:blipFill>
          <a:blip r:embed="rId2"/>
          <a:stretch/>
        </p:blipFill>
        <p:spPr>
          <a:xfrm>
            <a:off x="0" y="0"/>
            <a:ext cx="165744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"/>
          <p:cNvPicPr/>
          <p:nvPr/>
        </p:nvPicPr>
        <p:blipFill>
          <a:blip r:embed="rId3"/>
          <a:stretch/>
        </p:blipFill>
        <p:spPr>
          <a:xfrm>
            <a:off x="11160" y="3860640"/>
            <a:ext cx="4465440" cy="2826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4"/>
          <a:stretch/>
        </p:blipFill>
        <p:spPr>
          <a:xfrm>
            <a:off x="4788000" y="105264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Животные в зоопар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108000" y="901800"/>
            <a:ext cx="3527280" cy="2520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6084720" y="836640"/>
            <a:ext cx="295128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78144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"/>
          <p:cNvPicPr/>
          <p:nvPr/>
        </p:nvPicPr>
        <p:blipFill>
          <a:blip r:embed="rId4"/>
          <a:stretch/>
        </p:blipFill>
        <p:spPr>
          <a:xfrm>
            <a:off x="108000" y="3645000"/>
            <a:ext cx="3743280" cy="3184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"/>
          <p:cNvPicPr/>
          <p:nvPr/>
        </p:nvPicPr>
        <p:blipFill>
          <a:blip r:embed="rId5"/>
          <a:stretch/>
        </p:blipFill>
        <p:spPr>
          <a:xfrm>
            <a:off x="3564000" y="3716280"/>
            <a:ext cx="280836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"/>
          <p:cNvPicPr/>
          <p:nvPr/>
        </p:nvPicPr>
        <p:blipFill>
          <a:blip r:embed="rId6"/>
          <a:stretch/>
        </p:blipFill>
        <p:spPr>
          <a:xfrm>
            <a:off x="2700360" y="836640"/>
            <a:ext cx="352728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зей Мирового океан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620280"/>
            <a:ext cx="49323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услышать удивительные истории о морских путешествиях, раскрыть тайны подводного мира. 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816360" cy="2712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388764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4859280" y="2637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Calibri"/>
              </a:rPr>
              <a:t>Научно исследовательское судно космонавта Виктора Пацае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7" descr=""/>
          <p:cNvPicPr/>
          <p:nvPr/>
        </p:nvPicPr>
        <p:blipFill>
          <a:blip r:embed="rId3"/>
          <a:stretch/>
        </p:blipFill>
        <p:spPr>
          <a:xfrm>
            <a:off x="108000" y="2133720"/>
            <a:ext cx="4608360" cy="3798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"/>
          <p:cNvSpPr/>
          <p:nvPr/>
        </p:nvSpPr>
        <p:spPr>
          <a:xfrm>
            <a:off x="250920" y="522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анадский самоходный подводный обитаемый аппарат сделанный в 1977 году, который мог погружаться на глубину 2 000 мет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19280" y="18720"/>
            <a:ext cx="2592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4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4464000" cy="3003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00720" y="836640"/>
            <a:ext cx="46591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eeece1"/>
                </a:solidFill>
                <a:latin typeface="Calibri"/>
              </a:rPr>
              <a:t>Создание музея янтаря обусловлено тем, что на территории Калининградского полуострова находится крупнейшее в мире месторождение янтаря, а также единственное предприятие, где добыча и переработка солнечного камня ведется в промышленных объем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6" descr=""/>
          <p:cNvPicPr/>
          <p:nvPr/>
        </p:nvPicPr>
        <p:blipFill>
          <a:blip r:embed="rId3"/>
          <a:stretch/>
        </p:blipFill>
        <p:spPr>
          <a:xfrm>
            <a:off x="0" y="189000"/>
            <a:ext cx="4572000" cy="3728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"/>
          <p:cNvPicPr/>
          <p:nvPr/>
        </p:nvPicPr>
        <p:blipFill>
          <a:blip r:embed="rId4"/>
          <a:stretch/>
        </p:blipFill>
        <p:spPr>
          <a:xfrm>
            <a:off x="3780000" y="3284640"/>
            <a:ext cx="2571480" cy="3313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179280" y="18900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шня является историко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хитектурным памятни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едины XIX столе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5"/>
          <a:stretch/>
        </p:blipFill>
        <p:spPr>
          <a:xfrm>
            <a:off x="6516720" y="3573360"/>
            <a:ext cx="2482920" cy="2735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"/>
          <p:cNvPicPr/>
          <p:nvPr/>
        </p:nvPicPr>
        <p:blipFill>
          <a:blip r:embed="rId6"/>
          <a:stretch/>
        </p:blipFill>
        <p:spPr>
          <a:xfrm>
            <a:off x="179280" y="4005360"/>
            <a:ext cx="338472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0"/>
          <p:cNvSpPr/>
          <p:nvPr/>
        </p:nvSpPr>
        <p:spPr>
          <a:xfrm>
            <a:off x="179280" y="324468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Calibri"/>
              </a:rPr>
              <a:t>Музей янта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56880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шская кос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естественный природный заповедник, представляющий в миниатюре сразу несколько миров. Ученые называют ее «музеем природных зон», настолько разнообразны здесь пейзажи: от березовых лесов до песчаных пустынь. И все это на узкой ленточке зем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4720" y="907920"/>
            <a:ext cx="46432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7"/>
          <p:cNvSpPr/>
          <p:nvPr/>
        </p:nvSpPr>
        <p:spPr>
          <a:xfrm>
            <a:off x="0" y="4572000"/>
            <a:ext cx="4500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5508720" y="44280"/>
            <a:ext cx="3419280" cy="354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4105440" cy="3049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2" descr=""/>
          <p:cNvPicPr/>
          <p:nvPr/>
        </p:nvPicPr>
        <p:blipFill>
          <a:blip r:embed="rId4"/>
          <a:stretch/>
        </p:blipFill>
        <p:spPr>
          <a:xfrm>
            <a:off x="0" y="1844640"/>
            <a:ext cx="471636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шка</dc:creator>
  <dc:description/>
  <dc:language>en-US</dc:language>
  <cp:lastModifiedBy>Гусев Сад</cp:lastModifiedBy>
  <dcterms:modified xsi:type="dcterms:W3CDTF">2024-07-25T07:09:23Z</dcterms:modified>
  <cp:revision>65</cp:revision>
  <dc:subject/>
  <dc:title>Достопримечательности  Калиниграда</dc:title>
</cp:coreProperties>
</file>