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1F3-F114-4D0C-B5AA-A2AA2F50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F72-4A8A-4A36-A45E-1A17760C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DA1-3C94-418E-AD1A-04BEC895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7C5-59DC-48DC-8F07-FF53E0FF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EC6-16F3-4F69-AB92-ADA16CA0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059-E079-49EB-8B4A-9BEC0A36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539-DE54-47C3-99FA-9CDE5B30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36E-073F-49F1-8550-EAFE245D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7CD-554A-4D07-89A4-6C308EDE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41F-F38C-4BF3-88B8-CFF18B20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74F-DDE9-4368-85E5-F3FE840D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750-CB05-41DD-A747-D8E344DE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F45F-452B-4F4E-BA84-445F1A1E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426"/>
          <p:cNvPicPr/>
          <p:nvPr/>
        </p:nvPicPr>
        <p:blipFill>
          <a:blip r:embed="rId1"/>
          <a:stretch/>
        </p:blipFill>
        <p:spPr>
          <a:xfrm>
            <a:off x="232092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_VPN2929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441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0" y="5029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многих нынешних мальчишек и девчонок Великая Отечественная война - это далекое прошлое. Прошлое, о котором они знают по рассказам своих дедов или узнают  о войне из фильмов и кни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1331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7ba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42900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Стихи посвященные Дню поб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645440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650293"/>
          <p:cNvPicPr/>
          <p:nvPr/>
        </p:nvPicPr>
        <p:blipFill>
          <a:blip r:embed="rId2"/>
          <a:stretch/>
        </p:blipFill>
        <p:spPr>
          <a:xfrm>
            <a:off x="0" y="3244680"/>
            <a:ext cx="4952880" cy="3613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029200" y="3581280"/>
            <a:ext cx="4114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День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2. Еще тогда нас не было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. Помните! Через века, через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4. Солнце скрылось за го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5. 9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6. Памятник с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7. Давно закончилась войн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8. Пусть будет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0" y="-1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5545080"/>
          <a:ext cx="3570120" cy="1311480"/>
        </p:xfrm>
        <a:graphic>
          <a:graphicData uri="http://schemas.openxmlformats.org/drawingml/2006/table">
            <a:tbl>
              <a:tblPr/>
              <a:tblGrid>
                <a:gridCol w="3570120"/>
              </a:tblGrid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ский праздник -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 вся страна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вают наши дед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евые орд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6"/>
          <p:cNvSpPr/>
          <p:nvPr/>
        </p:nvSpPr>
        <p:spPr>
          <a:xfrm>
            <a:off x="4481640" y="2101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181480" y="5300640"/>
          <a:ext cx="3962520" cy="18622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86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с утра зовет дорог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оржественный парад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думчиво с порог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лед им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ушки глядят.             (Т. Белозер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27"/>
          <p:cNvSpPr/>
          <p:nvPr/>
        </p:nvSpPr>
        <p:spPr>
          <a:xfrm>
            <a:off x="4481640" y="640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3" descr="IMG_0023"/>
          <p:cNvPicPr/>
          <p:nvPr/>
        </p:nvPicPr>
        <p:blipFill>
          <a:blip r:embed="rId1"/>
          <a:stretch/>
        </p:blipFill>
        <p:spPr>
          <a:xfrm>
            <a:off x="0" y="0"/>
            <a:ext cx="6324480" cy="548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504389"/>
          <p:cNvPicPr/>
          <p:nvPr/>
        </p:nvPicPr>
        <p:blipFill>
          <a:blip r:embed="rId2"/>
          <a:stretch/>
        </p:blipFill>
        <p:spPr>
          <a:xfrm>
            <a:off x="5119560" y="0"/>
            <a:ext cx="402444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105520" y="1461960"/>
          <a:ext cx="4190760" cy="11908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гремел салют из края в край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даты, подарили вы планет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й Май, победный Ма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9"/>
          <p:cNvSpPr/>
          <p:nvPr/>
        </p:nvSpPr>
        <p:spPr>
          <a:xfrm>
            <a:off x="4481640" y="-2336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94360" y="2757600"/>
          <a:ext cx="5268960" cy="1736640"/>
        </p:xfrm>
        <a:graphic>
          <a:graphicData uri="http://schemas.openxmlformats.org/drawingml/2006/table">
            <a:tbl>
              <a:tblPr/>
              <a:tblGrid>
                <a:gridCol w="526896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в военной буре огневой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бу решая будущих столетий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бой вели, священный бой!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271294952373267"/>
          <p:cNvPicPr/>
          <p:nvPr/>
        </p:nvPicPr>
        <p:blipFill>
          <a:blip r:embed="rId1"/>
          <a:stretch/>
        </p:blipFill>
        <p:spPr>
          <a:xfrm>
            <a:off x="0" y="0"/>
            <a:ext cx="5064120" cy="6648480"/>
          </a:xfrm>
          <a:prstGeom prst="rect">
            <a:avLst/>
          </a:prstGeom>
          <a:ln w="0">
            <a:noFill/>
          </a:ln>
        </p:spPr>
      </p:pic>
      <p:sp>
        <p:nvSpPr>
          <p:cNvPr id="88" name="WordArt 20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9" descr="MPj04337300000[1]"/>
          <p:cNvPicPr/>
          <p:nvPr/>
        </p:nvPicPr>
        <p:blipFill>
          <a:blip r:embed="rId1"/>
          <a:stretch/>
        </p:blipFill>
        <p:spPr>
          <a:xfrm>
            <a:off x="0" y="0"/>
            <a:ext cx="4646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2"/>
          <p:cNvSpPr/>
          <p:nvPr/>
        </p:nvSpPr>
        <p:spPr>
          <a:xfrm>
            <a:off x="4877280" y="1336680"/>
            <a:ext cx="400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тогда нас не было на све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 Победой вы домой приш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Мая, слава вам наве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всей земли, от всей земл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им, солдаты, ва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жизнь, за детство и вес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иши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ный д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, в котором мы живем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(М. Влади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2" descr="MPj04224230000[1]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-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-63360"/>
          <a:ext cx="6477120" cy="173988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ните! Через века, через года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е придет никогда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лачьте! В горле сдержите стоны, горькие стоны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и павших будьте достойны! Вечно достойны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ом и песней, мечтой и стихами, жизнью просторной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ой секундой, каждым дыханьем будьте достойны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5"/>
          <p:cNvSpPr/>
          <p:nvPr/>
        </p:nvSpPr>
        <p:spPr>
          <a:xfrm>
            <a:off x="4481640" y="453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4481640" y="9149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0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0" y="5181480"/>
          <a:ext cx="5638680" cy="16765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! Покуда сердца стучатся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ю ценой завоевано счастье,- пожалуйста,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ю свою отправляя в полет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икогда не споет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своим расскажите о них, чтоб запомнили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детей расскажите о них, чтобы тоже запомнил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94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MPj04337520000[1]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4040" y="23760"/>
            <a:ext cx="58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 все времена бессмертной Земли помните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 мерцающим звездам ведя корабли,- о погибших помните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стречайте трепетную весну, люди Земли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бейте войну, прокляните войну, люди Земли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чту пронесите через года и жизнью наполните!.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о о тех, кто уже не придет никогда,- заклинаю,- помните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.Рождествен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-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29200" y="1400040"/>
          <a:ext cx="4114800" cy="11908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5"/>
          <p:cNvSpPr/>
          <p:nvPr/>
        </p:nvSpPr>
        <p:spPr>
          <a:xfrm>
            <a:off x="4481640" y="179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29200" y="2371680"/>
          <a:ext cx="4267080" cy="44863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48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жары, от злого зно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ерки на плечах повыгорали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 знамя боево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рагов солдаты сердцем заслоняли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жизни не щадили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щая отчий край - страну родную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лели, победи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 врагов в боях за Родину святую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(А. Ковален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6"/>
          <p:cNvSpPr/>
          <p:nvPr/>
        </p:nvSpPr>
        <p:spPr>
          <a:xfrm>
            <a:off x="4481640" y="8051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2" descr="MPj04008580000[1]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3"/>
          <p:cNvSpPr txBox="1"/>
          <p:nvPr/>
        </p:nvSpPr>
        <p:spPr>
          <a:xfrm>
            <a:off x="853452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4" descr="40867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0" y="-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152280"/>
          <a:ext cx="3733560" cy="1114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111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на бой смертельный шли в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зны верные сын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жизни мирной и счастливой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чталось вам среди вой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5"/>
          <p:cNvSpPr/>
          <p:nvPr/>
        </p:nvSpPr>
        <p:spPr>
          <a:xfrm>
            <a:off x="4481640" y="-6447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5000" y="4419720"/>
          <a:ext cx="3581280" cy="24382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24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героически прошл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боями все четыре года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победить врага смогл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служить любовь народа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 вам, отцы и дед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, братья и сын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ваш подарок к Дню Побед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лавный праздник всей страны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 Воскобойни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26"/>
          <p:cNvSpPr/>
          <p:nvPr/>
        </p:nvSpPr>
        <p:spPr>
          <a:xfrm>
            <a:off x="4481640" y="9424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3"/>
          <p:cNvSpPr txBox="1"/>
          <p:nvPr/>
        </p:nvSpPr>
        <p:spPr>
          <a:xfrm>
            <a:off x="45720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639584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м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всенародный праздник. Солдаты воевали, а женщины растили детей - будущее страны. Общими усилиями была достигнута победа над врагом! В этом году наш народ отмечает 63-летие  Великой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562720" y="30708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оляне, от лагеря близко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де багульник все лето цветет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орогу глядят с обелиск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хотинец, матрос и пил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-1382760"/>
          <a:ext cx="208080" cy="10220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9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562720" y="1295280"/>
          <a:ext cx="3429000" cy="45720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57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ечаток счастливого детств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лся на лицах солдат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уже никуда им не детьс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оенной суровости дат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Вот в таком же зеленом июне,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 сказал пожилой старшина,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рала их, веселых и юных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омой не вернула война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свете, прижав автомат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олдаты на штурм высоты..."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тареющим нашим вожатым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к ногам положили цве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(В. Фети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WordArt 32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34" descr="035nesvizh07v"/>
          <p:cNvPicPr/>
          <p:nvPr/>
        </p:nvPicPr>
        <p:blipFill>
          <a:blip r:embed="rId1"/>
          <a:stretch/>
        </p:blipFill>
        <p:spPr>
          <a:xfrm>
            <a:off x="0" y="0"/>
            <a:ext cx="49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Pj04328780000[1]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5638680" y="-2520"/>
            <a:ext cx="3505320" cy="350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Брест, Москву, за Сталингра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за блокаду Ленинград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Керчь, Одессу и Белград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се осколки от снаряд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 ночам вам до сих по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и под Бугом где-то сня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"мессеры" строчат в упо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з ложбинки не поднять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вет в атаку лейтенан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тут же падает, сраженны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5228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MPj04318560000[1]"/>
          <p:cNvPicPr/>
          <p:nvPr/>
        </p:nvPicPr>
        <p:blipFill>
          <a:blip r:embed="rId1"/>
          <a:stretch/>
        </p:blipFill>
        <p:spPr>
          <a:xfrm>
            <a:off x="0" y="0"/>
            <a:ext cx="8610480" cy="6889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6324480" y="0"/>
            <a:ext cx="2819520" cy="6908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дома долго будут жда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лишь дождутся похоронн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дин и тот же день и ча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стречу вы к друзьям спеш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 каждым годом меньше вас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с за это вы прост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не сумели вас сбереч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алечили ваши ра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от на место этих встреч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ходят внуки ветеран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м всем, кто вынес ту войну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ылу иль на полях сражений, Принес победную весну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лон и память поколений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 Кочур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view_1378"/>
          <p:cNvPicPr/>
          <p:nvPr/>
        </p:nvPicPr>
        <p:blipFill>
          <a:blip r:embed="rId1"/>
          <a:stretch/>
        </p:blipFill>
        <p:spPr>
          <a:xfrm>
            <a:off x="457200" y="96840"/>
            <a:ext cx="8153280" cy="5924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76320" y="6172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ть много важных слов на свете - Мама, Родина, счастье. А есть еще важное слово - МИР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- это Земля, мир - это люди, мир - это дети. Мир - это спокойная и  радостная жизнь. Нет войны, нет горя и слез. Мир нужен вс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MPj042442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07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будет тогда, когда все люди на нашей планете будут др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MPj04309370000[1]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961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60" y="-152640"/>
            <a:ext cx="46479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сть небо будет голубым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сть в небе не клубится дым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сть пушки грозные молча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пулеметы не строчат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тоб жили люди, города..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ир нужен на земле всегда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Н. Найден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6581880" y="152280"/>
            <a:ext cx="23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15228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victory_day_37_resize"/>
          <p:cNvPicPr/>
          <p:nvPr/>
        </p:nvPicPr>
        <p:blipFill>
          <a:blip r:embed="rId1"/>
          <a:stretch/>
        </p:blipFill>
        <p:spPr>
          <a:xfrm>
            <a:off x="0" y="609480"/>
            <a:ext cx="5562720" cy="4681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52"/>
          <p:cNvPicPr/>
          <p:nvPr/>
        </p:nvPicPr>
        <p:blipFill>
          <a:blip r:embed="rId2"/>
          <a:stretch/>
        </p:blipFill>
        <p:spPr>
          <a:xfrm>
            <a:off x="5562720" y="304920"/>
            <a:ext cx="3546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 в России семьи, которую война обошла стороной. В этот день вспоминают тех, кто остался на полях сражений, тех, кто после войны налаживал мирну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_23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66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ay9_04"/>
          <p:cNvPicPr/>
          <p:nvPr/>
        </p:nvPicPr>
        <p:blipFill>
          <a:blip r:embed="rId2"/>
          <a:stretch/>
        </p:blipFill>
        <p:spPr>
          <a:xfrm>
            <a:off x="0" y="2838600"/>
            <a:ext cx="45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еще поздравляют тех воинов Великой Отечественной Войны, которые живут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9%20%CC%E0%FF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9_may_2004_072"/>
          <p:cNvPicPr/>
          <p:nvPr/>
        </p:nvPicPr>
        <p:blipFill>
          <a:blip r:embed="rId1"/>
          <a:stretch/>
        </p:blipFill>
        <p:spPr>
          <a:xfrm>
            <a:off x="76320" y="3816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т Великий день принято бывать на могилах погибших воинов, возлагать венки, живые цветы тем, кто не вернулся с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ВАЙТЕ ПОЧТИМ ПАМЯТЬ ВСЕХ ПОГИБШИХ ЗА РОДИНУ 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0" y="609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дальше в прошлое уходят годы страшной войны. Но подвиг людей, вставших на защиту отечества, будет вечно жить в памяти россий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MPj043375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5090722"/>
          <p:cNvPicPr/>
          <p:nvPr/>
        </p:nvPicPr>
        <p:blipFill>
          <a:blip r:embed="rId1"/>
          <a:stretch/>
        </p:blipFill>
        <p:spPr>
          <a:xfrm>
            <a:off x="228600" y="19044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6477120"/>
            <a:ext cx="929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жегодно  9 мая устраивают парад военных в честь праздника Поб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139350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всей стране слышны залпы праздничного салюта в честь тех, кто сражался за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rt</cp:lastModifiedBy>
  <dcterms:modified xsi:type="dcterms:W3CDTF">2020-04-29T04:31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