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F057-721F-477E-9023-6628B49D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F9EB-BDDC-4A50-AA1A-D9A9F977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69F5-8EA2-4F1A-97F8-3805A579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7C74-B0CC-482C-A09F-2C216983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E47E-DE07-4AFE-953F-92EC35E6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AA5-CB6F-40C2-970C-3991CD1D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533A-496B-4B25-A9C0-03A7B050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C357-88D3-4D60-B389-C5FDB970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4D12-CD44-4862-80D4-FEEACE5A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27DE-0CC6-429A-AE1C-3930F307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60A-3EF1-4FD2-BD61-0BBC1C01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82D3-B9E3-4B67-B56E-37FA2D2A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64EE-6F54-447F-8305-2334CC9F7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426"/>
          <p:cNvPicPr/>
          <p:nvPr/>
        </p:nvPicPr>
        <p:blipFill>
          <a:blip r:embed="rId1"/>
          <a:stretch/>
        </p:blipFill>
        <p:spPr>
          <a:xfrm>
            <a:off x="232092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_VPN2929"/>
          <p:cNvPicPr/>
          <p:nvPr/>
        </p:nvPicPr>
        <p:blipFill>
          <a:blip r:embed="rId1"/>
          <a:stretch/>
        </p:blipFill>
        <p:spPr>
          <a:xfrm>
            <a:off x="2514600" y="0"/>
            <a:ext cx="6629400" cy="4441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572000" y="50292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многих нынешних мальчишек и девчонок Великая Отечественная война - это далекое прошлое. Прошлое, о котором они знают по рассказам своих дедов или узнают  о войне из фильмов и кни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1331"/>
          <p:cNvPicPr/>
          <p:nvPr/>
        </p:nvPicPr>
        <p:blipFill>
          <a:blip r:embed="rId2"/>
          <a:stretch/>
        </p:blipFill>
        <p:spPr>
          <a:xfrm>
            <a:off x="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7bad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3429000" cy="2209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Стихи посвященные Дню поб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645440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3505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650293"/>
          <p:cNvPicPr/>
          <p:nvPr/>
        </p:nvPicPr>
        <p:blipFill>
          <a:blip r:embed="rId2"/>
          <a:stretch/>
        </p:blipFill>
        <p:spPr>
          <a:xfrm>
            <a:off x="0" y="3244680"/>
            <a:ext cx="4952880" cy="3613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5029200" y="3581280"/>
            <a:ext cx="4114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День Поб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2. Еще тогда нас не было на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3. Помните! Через века, через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4. Солнце скрылось за гор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5. 9 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6. Памятник сла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7. Давно закончилась войн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8. Пусть будет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e94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0" y="-1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14400" y="5545080"/>
          <a:ext cx="3570120" cy="1311480"/>
        </p:xfrm>
        <a:graphic>
          <a:graphicData uri="http://schemas.openxmlformats.org/drawingml/2006/table">
            <a:tbl>
              <a:tblPr/>
              <a:tblGrid>
                <a:gridCol w="3570120"/>
              </a:tblGrid>
              <a:tr h="131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ский праздник -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Победы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чает вся страна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евают наши деды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евые орде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Rectangle 16"/>
          <p:cNvSpPr/>
          <p:nvPr/>
        </p:nvSpPr>
        <p:spPr>
          <a:xfrm>
            <a:off x="4481640" y="21016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181480" y="5300640"/>
          <a:ext cx="3962520" cy="186228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86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х с утра зовет дорога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торжественный парад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задумчиво с порога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лед им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бушки глядят.             (Т. Белозер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Rectangle 27"/>
          <p:cNvSpPr/>
          <p:nvPr/>
        </p:nvSpPr>
        <p:spPr>
          <a:xfrm>
            <a:off x="4481640" y="6403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3" descr="IMG_0023"/>
          <p:cNvPicPr/>
          <p:nvPr/>
        </p:nvPicPr>
        <p:blipFill>
          <a:blip r:embed="rId1"/>
          <a:stretch/>
        </p:blipFill>
        <p:spPr>
          <a:xfrm>
            <a:off x="0" y="0"/>
            <a:ext cx="6324480" cy="5486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4" descr="504389"/>
          <p:cNvPicPr/>
          <p:nvPr/>
        </p:nvPicPr>
        <p:blipFill>
          <a:blip r:embed="rId2"/>
          <a:stretch/>
        </p:blipFill>
        <p:spPr>
          <a:xfrm>
            <a:off x="5119560" y="0"/>
            <a:ext cx="4024440" cy="5486400"/>
          </a:xfrm>
          <a:prstGeom prst="rect">
            <a:avLst/>
          </a:prstGeom>
          <a:ln w="0">
            <a:noFill/>
          </a:ln>
        </p:spPr>
      </p:pic>
      <p:sp>
        <p:nvSpPr>
          <p:cNvPr id="81" name="WordArt 35"/>
          <p:cNvSpPr txBox="1"/>
          <p:nvPr/>
        </p:nvSpPr>
        <p:spPr>
          <a:xfrm>
            <a:off x="76320" y="621036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-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105520" y="1461960"/>
          <a:ext cx="4190760" cy="119088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119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ще тогда нас не было на свете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гремел салют из края в край.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даты, подарили вы планете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ий Май, победный Май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9"/>
          <p:cNvSpPr/>
          <p:nvPr/>
        </p:nvSpPr>
        <p:spPr>
          <a:xfrm>
            <a:off x="4481640" y="-2336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94360" y="2757600"/>
          <a:ext cx="5268960" cy="1736640"/>
        </p:xfrm>
        <a:graphic>
          <a:graphicData uri="http://schemas.openxmlformats.org/drawingml/2006/table">
            <a:tbl>
              <a:tblPr/>
              <a:tblGrid>
                <a:gridCol w="5268960"/>
              </a:tblGrid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ще тогда нас не было на свете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в военной буре огневой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ьбу решая будущих столетий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 бой вели, священный бой!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Rectangle 16"/>
          <p:cNvSpPr/>
          <p:nvPr/>
        </p:nvSpPr>
        <p:spPr>
          <a:xfrm>
            <a:off x="4481640" y="873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8" descr="271294952373267"/>
          <p:cNvPicPr/>
          <p:nvPr/>
        </p:nvPicPr>
        <p:blipFill>
          <a:blip r:embed="rId1"/>
          <a:stretch/>
        </p:blipFill>
        <p:spPr>
          <a:xfrm>
            <a:off x="0" y="0"/>
            <a:ext cx="5064120" cy="6648480"/>
          </a:xfrm>
          <a:prstGeom prst="rect">
            <a:avLst/>
          </a:prstGeom>
          <a:ln w="0">
            <a:noFill/>
          </a:ln>
        </p:spPr>
      </p:pic>
      <p:sp>
        <p:nvSpPr>
          <p:cNvPr id="88" name="WordArt 20"/>
          <p:cNvSpPr txBox="1"/>
          <p:nvPr/>
        </p:nvSpPr>
        <p:spPr>
          <a:xfrm>
            <a:off x="8534520" y="624852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-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4481640" y="873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9" descr="MPj04337300000[1]"/>
          <p:cNvPicPr/>
          <p:nvPr/>
        </p:nvPicPr>
        <p:blipFill>
          <a:blip r:embed="rId1"/>
          <a:stretch/>
        </p:blipFill>
        <p:spPr>
          <a:xfrm>
            <a:off x="0" y="0"/>
            <a:ext cx="46465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2"/>
          <p:cNvSpPr/>
          <p:nvPr/>
        </p:nvSpPr>
        <p:spPr>
          <a:xfrm>
            <a:off x="4877280" y="1336680"/>
            <a:ext cx="4001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е тогда нас не было на свет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с Победой вы домой приш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даты Мая, слава вам наве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всей земли, от всей земли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им, солдаты, ва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жизнь, за детство и весн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тишин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мирный до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мир, в котором мы живем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(М. Владим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2" descr="MPj04224230000[1]"/>
          <p:cNvPicPr/>
          <p:nvPr/>
        </p:nvPicPr>
        <p:blipFill>
          <a:blip r:embed="rId1"/>
          <a:stretch/>
        </p:blipFill>
        <p:spPr>
          <a:xfrm>
            <a:off x="0" y="414360"/>
            <a:ext cx="9144000" cy="644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0" y="-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-63360"/>
          <a:ext cx="6477120" cy="1739880"/>
        </p:xfrm>
        <a:graphic>
          <a:graphicData uri="http://schemas.openxmlformats.org/drawingml/2006/table">
            <a:tbl>
              <a:tblPr/>
              <a:tblGrid>
                <a:gridCol w="6477120"/>
              </a:tblGrid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ните! Через века, через года,- помните!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тех, кто уже не придет никогда,- помните!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лачьте! В горле сдержите стоны, горькие стоны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мяти павших будьте достойны! Вечно достойны!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ом и песней, мечтой и стихами, жизнью просторной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ждой секундой, каждым дыханьем будьте достойны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15"/>
          <p:cNvSpPr/>
          <p:nvPr/>
        </p:nvSpPr>
        <p:spPr>
          <a:xfrm>
            <a:off x="4481640" y="4536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6"/>
          <p:cNvSpPr/>
          <p:nvPr/>
        </p:nvSpPr>
        <p:spPr>
          <a:xfrm>
            <a:off x="4481640" y="9149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35"/>
          <p:cNvSpPr txBox="1"/>
          <p:nvPr/>
        </p:nvSpPr>
        <p:spPr>
          <a:xfrm>
            <a:off x="76320" y="621036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0" descr="38881_800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0" y="5181480"/>
          <a:ext cx="5638680" cy="1676520"/>
        </p:xfrm>
        <a:graphic>
          <a:graphicData uri="http://schemas.openxmlformats.org/drawingml/2006/table">
            <a:tbl>
              <a:tblPr/>
              <a:tblGrid>
                <a:gridCol w="5638680"/>
              </a:tblGrid>
              <a:tr h="167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ди! Покуда сердца стучатся,- помните!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ю ценой завоевано счастье,- пожалуйста, помните!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сню свою отправляя в полет,- помните!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тех, кто уже никогда не споет,- помните!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ям своим расскажите о них, чтоб запомнили!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ям детей расскажите о них, чтобы тоже запомнили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94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MPj04337520000[1]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14040" y="23760"/>
            <a:ext cx="5843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 все времена бессмертной Земли помните!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 мерцающим звездам ведя корабли,- о погибших помните!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стречайте трепетную весну, люди Земли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бейте войну, прокляните войну, люди Земли!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чту пронесите через года и жизнью наполните!.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о о тех, кто уже не придет никогда,- заклинаю,- помните!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Р.Рождественс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-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029200" y="1400040"/>
          <a:ext cx="4114800" cy="119088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119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це скрылось за горою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уманились речные перекаты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дорогою степною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ли с войны домой советские солда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15"/>
          <p:cNvSpPr/>
          <p:nvPr/>
        </p:nvSpPr>
        <p:spPr>
          <a:xfrm>
            <a:off x="4481640" y="1792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029200" y="2371680"/>
          <a:ext cx="4267080" cy="448632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448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жары, от злого зно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стерки на плечах повыгорали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 знамя боево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врагов солдаты сердцем заслоняли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и жизни не щадили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щищая отчий край - страну родную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олели, победил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х врагов в боях за Родину святую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це скрылось за горою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уманились речные перекаты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дорогою степною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ли с войны домой советские солдаты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(А. Коваленк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26"/>
          <p:cNvSpPr/>
          <p:nvPr/>
        </p:nvSpPr>
        <p:spPr>
          <a:xfrm>
            <a:off x="4481640" y="8051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2" descr="MPj04008580000[1]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33"/>
          <p:cNvSpPr txBox="1"/>
          <p:nvPr/>
        </p:nvSpPr>
        <p:spPr>
          <a:xfrm>
            <a:off x="8534520" y="152280"/>
            <a:ext cx="457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4" descr="40867_800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0" y="-32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562720" y="152280"/>
          <a:ext cx="3733560" cy="1114560"/>
        </p:xfrm>
        <a:graphic>
          <a:graphicData uri="http://schemas.openxmlformats.org/drawingml/2006/table">
            <a:tbl>
              <a:tblPr/>
              <a:tblGrid>
                <a:gridCol w="3733560"/>
              </a:tblGrid>
              <a:tr h="111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на бой смертельный шли вы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изны верные сыны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жизни мирной и счастливой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чталось вам среди войн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3" name="Rectangle 15"/>
          <p:cNvSpPr/>
          <p:nvPr/>
        </p:nvSpPr>
        <p:spPr>
          <a:xfrm>
            <a:off x="4481640" y="-6447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715000" y="4419720"/>
          <a:ext cx="3581280" cy="243828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243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 героически прошли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боями все четыре года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 победить врага смогли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заслужить любовь народа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асибо вам, отцы и деды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асибо, братья и сыны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ваш подарок к Дню Победы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главный праздник всей страны!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. Воскобойник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26"/>
          <p:cNvSpPr/>
          <p:nvPr/>
        </p:nvSpPr>
        <p:spPr>
          <a:xfrm>
            <a:off x="4481640" y="9424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3"/>
          <p:cNvSpPr txBox="1"/>
          <p:nvPr/>
        </p:nvSpPr>
        <p:spPr>
          <a:xfrm>
            <a:off x="457200" y="624852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e94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639584"/>
          <p:cNvPicPr/>
          <p:nvPr/>
        </p:nvPicPr>
        <p:blipFill>
          <a:blip r:embed="rId1"/>
          <a:stretch/>
        </p:blipFill>
        <p:spPr>
          <a:xfrm>
            <a:off x="762120" y="152280"/>
            <a:ext cx="7696080" cy="56134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6858000" y="152280"/>
            <a:ext cx="1600200" cy="533520"/>
          </a:xfrm>
          <a:prstGeom prst="rect">
            <a:avLst/>
          </a:prstGeom>
          <a:solidFill>
            <a:srgbClr val="3b7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594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9 м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это всенародный праздник. Солдаты воевали, а женщины растили детей - будущее страны. Общими усилиями была достигнута победа над врагом! В этом году наш народ отмечает 63-летие  Великой Поб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0" y="-13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-13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5562720" y="307080"/>
            <a:ext cx="419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поляне, от лагеря близко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де багульник все лето цветет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дорогу глядят с обелиска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хотинец, матрос и пило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-1382760"/>
          <a:ext cx="208080" cy="102204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9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562720" y="1295280"/>
          <a:ext cx="3429000" cy="45720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457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печаток счастливого детства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хранился на лицах солдат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 уже никуда им не деться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военной суровости дат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Вот в таком же зеленом июне, -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м сказал пожилой старшина, -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рала их, веселых и юных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домой не вернула война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рассвете, прижав автоматы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ли солдаты на штурм высоты..."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тареющим нашим вожатым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к ногам положили цветы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(В. Фетис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WordArt 32"/>
          <p:cNvSpPr txBox="1"/>
          <p:nvPr/>
        </p:nvSpPr>
        <p:spPr>
          <a:xfrm>
            <a:off x="8534520" y="624852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34" descr="035nesvizh07v"/>
          <p:cNvPicPr/>
          <p:nvPr/>
        </p:nvPicPr>
        <p:blipFill>
          <a:blip r:embed="rId1"/>
          <a:stretch/>
        </p:blipFill>
        <p:spPr>
          <a:xfrm>
            <a:off x="0" y="0"/>
            <a:ext cx="490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b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MPj04328780000[1]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5638680" y="-2520"/>
            <a:ext cx="3505320" cy="350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вно закончилась войн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вно с войны пришли солдат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 груди их орден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ят, как памятные даты, —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Брест, Москву, за Сталинград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за блокаду Ленинград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Керчь, Одессу и Белград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все осколки от снаряд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по ночам вам до сих пор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и под Бугом где-то снятся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"мессеры" строчат в упор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из ложбинки не поднятьс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овет в атаку лейтенан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тут же падает, сраженный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6"/>
          <p:cNvSpPr txBox="1"/>
          <p:nvPr/>
        </p:nvSpPr>
        <p:spPr>
          <a:xfrm>
            <a:off x="152280" y="152280"/>
            <a:ext cx="457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MPj04318560000[1]"/>
          <p:cNvPicPr/>
          <p:nvPr/>
        </p:nvPicPr>
        <p:blipFill>
          <a:blip r:embed="rId1"/>
          <a:stretch/>
        </p:blipFill>
        <p:spPr>
          <a:xfrm>
            <a:off x="0" y="0"/>
            <a:ext cx="8610480" cy="68896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6324480" y="0"/>
            <a:ext cx="2819520" cy="6908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дома долго будут ждать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лишь дождутся похоронно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дин и тот же день и ча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встречу вы к друзьям спешит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с каждым годом меньше вас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с за это вы простит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не сумели вас сберечь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залечили ваши ран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вот на место этих встреч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ходят внуки ветеран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вно закончилась войн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вно с войны пришли солдат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 груди их орден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ят, как памятные дат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м всем, кто вынес ту войну —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ылу иль на полях сражений, Принес победную весну, —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лон и память поколений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. Кочуров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view_1378"/>
          <p:cNvPicPr/>
          <p:nvPr/>
        </p:nvPicPr>
        <p:blipFill>
          <a:blip r:embed="rId1"/>
          <a:stretch/>
        </p:blipFill>
        <p:spPr>
          <a:xfrm>
            <a:off x="457200" y="96840"/>
            <a:ext cx="8153280" cy="5924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76320" y="61722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ть много важных слов на свете - Мама, Родина, счастье. А есть еще важное слово - МИР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0" y="6172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Р - это Земля, мир - это люди, мир - это дети. Мир - это спокойная и  радостная жизнь. Нет войны, нет горя и слез. Мир нужен вс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MPj0430642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MPj0424428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7071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р будет тогда, когда все люди на нашей планете будут друж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7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MPj04309370000[1]"/>
          <p:cNvPicPr/>
          <p:nvPr/>
        </p:nvPicPr>
        <p:blipFill>
          <a:blip r:embed="rId1"/>
          <a:stretch/>
        </p:blipFill>
        <p:spPr>
          <a:xfrm>
            <a:off x="76320" y="0"/>
            <a:ext cx="8991360" cy="69613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960" y="-152640"/>
            <a:ext cx="464796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усть небо будет голубым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усть в небе не клубится дым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усть пушки грозные молчат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 пулеметы не строчат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Чтоб жили люди, города..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ир нужен на земле всегда!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Н. Найденов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9"/>
          <p:cNvSpPr txBox="1"/>
          <p:nvPr/>
        </p:nvSpPr>
        <p:spPr>
          <a:xfrm>
            <a:off x="6581880" y="152280"/>
            <a:ext cx="2333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И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WordArt 10"/>
          <p:cNvSpPr txBox="1"/>
          <p:nvPr/>
        </p:nvSpPr>
        <p:spPr>
          <a:xfrm>
            <a:off x="152280" y="624852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victory_day_37_resize"/>
          <p:cNvPicPr/>
          <p:nvPr/>
        </p:nvPicPr>
        <p:blipFill>
          <a:blip r:embed="rId1"/>
          <a:stretch/>
        </p:blipFill>
        <p:spPr>
          <a:xfrm>
            <a:off x="0" y="609480"/>
            <a:ext cx="5562720" cy="4681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52"/>
          <p:cNvPicPr/>
          <p:nvPr/>
        </p:nvPicPr>
        <p:blipFill>
          <a:blip r:embed="rId2"/>
          <a:stretch/>
        </p:blipFill>
        <p:spPr>
          <a:xfrm>
            <a:off x="5562720" y="304920"/>
            <a:ext cx="3546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 в России семьи, которую война обошла стороной. В этот день вспоминают тех, кто остался на полях сражений, тех, кто после войны налаживал мирную жи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1_23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5662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may9_04"/>
          <p:cNvPicPr/>
          <p:nvPr/>
        </p:nvPicPr>
        <p:blipFill>
          <a:blip r:embed="rId2"/>
          <a:stretch/>
        </p:blipFill>
        <p:spPr>
          <a:xfrm>
            <a:off x="0" y="2838600"/>
            <a:ext cx="45720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еще поздравляют тех воинов Великой Отечественной Войны, которые живут сего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9%20%CC%E0%FF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9_may_2004_072"/>
          <p:cNvPicPr/>
          <p:nvPr/>
        </p:nvPicPr>
        <p:blipFill>
          <a:blip r:embed="rId1"/>
          <a:stretch/>
        </p:blipFill>
        <p:spPr>
          <a:xfrm>
            <a:off x="76320" y="38160"/>
            <a:ext cx="8991360" cy="67435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этот Великий день принято бывать на могилах погибших воинов, возлагать венки, живые цветы тем, кто не вернулся с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8881_800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АВАЙТЕ ПОЧТИМ ПАМЯТЬ ВСЕХ ПОГИБШИХ ЗА РОДИНУ МИНУТОЙ МОЛЧ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0" y="6095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дальше в прошлое уходят годы страшной войны. Но подвиг людей, вставших на защиту отечества, будет вечно жить в памяти российского на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MPj0433756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5090722"/>
          <p:cNvPicPr/>
          <p:nvPr/>
        </p:nvPicPr>
        <p:blipFill>
          <a:blip r:embed="rId1"/>
          <a:stretch/>
        </p:blipFill>
        <p:spPr>
          <a:xfrm>
            <a:off x="228600" y="19044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0" y="6477120"/>
            <a:ext cx="929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жегодно  9 мая устраивают парад военных в честь праздника Поб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139350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всей стране слышны залпы праздничного салюта в честь тех, кто сражался за Род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rt</cp:lastModifiedBy>
  <dcterms:modified xsi:type="dcterms:W3CDTF">2020-04-29T04:31:0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