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0DC-78B5-4507-B906-4830A7F3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FE1-A0DC-4491-92CD-FC1840D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52E-66D0-463A-8E75-E499240E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63E-530F-47ED-804A-D46B4C54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24E-5DFA-496C-BBAA-97202111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402-A6B6-4F6F-B0F0-E362468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2EBA-A54E-4185-9F83-7D3ABE94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01A-F2DA-4EBB-9D33-7A3A692E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420-6CDA-4113-8063-5032044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9613-042A-475B-933D-54AC6B9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812B-7DB3-4019-9F31-2A4C475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612-25F0-4F5C-B1A7-E833F0D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6091-8AA4-498B-B978-30C9896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59BF-D50A-46AA-9D66-8C80833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AB6A-14AE-4161-9782-AD68507F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FD7D-B961-4FA5-ACF5-89DDC120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A094-50A6-4D0C-92EE-CD7DCA1F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F9F-3931-4667-80ED-58E50F0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46B-F7B2-41D3-B933-7BDE725E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C4B-8DCB-4BAA-BD2C-3D17466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855-F99B-4182-B6F9-1BEC7D2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763-A59A-45E0-AEA5-4D02076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858-1F46-46A7-8719-9E15D065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67E-B4E8-4BF2-83C7-D0EB1060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4AC-E551-4C17-B190-D0D9BAE43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E04E-B1B3-47F9-A02E-5947B4EBB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5.nnm.ru/9/4/1/d/9/bc85a555efe0cfc685aae8879a4.gif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omec.ru/upload/userfiles/WWI_dog_messenger.jpg" TargetMode="External"/><Relationship Id="rId3" Type="http://schemas.openxmlformats.org/officeDocument/2006/relationships/hyperlink" Target="http://www.pitomec.ru/upload/userfiles/WWI_dog_messenger.jpg" TargetMode="External"/><Relationship Id="rId4" Type="http://schemas.openxmlformats.org/officeDocument/2006/relationships/hyperlink" Target="http://www.pitomec.ru/upload/userfiles/(e)SPM_A0028.jpg" TargetMode="External"/><Relationship Id="rId5" Type="http://schemas.openxmlformats.org/officeDocument/2006/relationships/hyperlink" Target="http://www.pitomec.ru/upload/userfiles/(e)2f21f9fd14e5.jpg" TargetMode="External"/><Relationship Id="rId6" Type="http://schemas.openxmlformats.org/officeDocument/2006/relationships/hyperlink" Target="http://www.pitomec.ru/upload/userfiles/(e)gallery_3719_7_60205.jpg" TargetMode="External"/><Relationship Id="rId7" Type="http://schemas.openxmlformats.org/officeDocument/2006/relationships/hyperlink" Target="http://www.pitomec.ru/upload/userfiles/(e)0d060fda7d3d(1).jpg" TargetMode="External"/><Relationship Id="rId8" Type="http://schemas.openxmlformats.org/officeDocument/2006/relationships/hyperlink" Target="http://www.pitomec.ru/upload/userfiles/1267896128_126.jpg" TargetMode="External"/><Relationship Id="rId9" Type="http://schemas.openxmlformats.org/officeDocument/2006/relationships/hyperlink" Target="http://www.pitomec.ru/upload/userfiles/(e)4e77d61d2fd1&#1072;.jpg" TargetMode="External"/><Relationship Id="rId10" Type="http://schemas.openxmlformats.org/officeDocument/2006/relationships/hyperlink" Target="http://i1.2photo.ru/w/s/442976.jpg" TargetMode="External"/><Relationship Id="rId11" Type="http://schemas.openxmlformats.org/officeDocument/2006/relationships/hyperlink" Target="http://d-pankratov.ru/wp-content/uploads/2010/03/sobaki.WOW_.12-300x225.jpg" TargetMode="External"/><Relationship Id="rId12" Type="http://schemas.openxmlformats.org/officeDocument/2006/relationships/hyperlink" Target="http://d-pankratov.ru/wp-content/uploads/2010/03/sobaki.WOW_.12-300x225.jpg" TargetMode="External"/><Relationship Id="rId13" Type="http://schemas.openxmlformats.org/officeDocument/2006/relationships/hyperlink" Target="http://d-pankratov.ru/wp-content/uploads/2010/03/sobaki.WOW_.12-300x225.jpg" TargetMode="External"/><Relationship Id="rId14" Type="http://schemas.openxmlformats.org/officeDocument/2006/relationships/hyperlink" Target="http://d-pankratov.ru/wp-content/uploads/2010/03/sobaki.WOW_.12-300x225.jpg" TargetMode="External"/><Relationship Id="rId15" Type="http://schemas.openxmlformats.org/officeDocument/2006/relationships/hyperlink" Target="http://d-pankratov.ru/wp-content/uploads/2010/03/sobaki.WOW_.12-300x225.jpg" TargetMode="External"/><Relationship Id="rId16" Type="http://schemas.openxmlformats.org/officeDocument/2006/relationships/hyperlink" Target="http://d-pankratov.ru/wp-content/uploads/2010/03/sobaki.WOW_.12-300x225.jpg" TargetMode="External"/><Relationship Id="rId17" Type="http://schemas.openxmlformats.org/officeDocument/2006/relationships/hyperlink" Target="http://d-pankratov.ru/wp-content/uploads/2010/03/sobaki.WOW_.12-300x225.jpg" TargetMode="External"/><Relationship Id="rId18" Type="http://schemas.openxmlformats.org/officeDocument/2006/relationships/hyperlink" Target="http://d-pankratov.ru/wp-content/uploads/2010/03/sobaki.WOW_.12-300x225.jpg" TargetMode="External"/><Relationship Id="rId19" Type="http://schemas.openxmlformats.org/officeDocument/2006/relationships/hyperlink" Target="http://d-pankratov.ru/wp-content/uploads/2010/03/sobaki.WOW_.12-300x225.jpg" TargetMode="External"/><Relationship Id="rId20" Type="http://schemas.openxmlformats.org/officeDocument/2006/relationships/hyperlink" Target="http://d-pankratov.ru/wp-content/uploads/2010/03/sobaki.WOW_.12-300x225.jpg" TargetMode="External"/><Relationship Id="rId21" Type="http://schemas.openxmlformats.org/officeDocument/2006/relationships/hyperlink" Target="http://d-pankratov.ru/wp-content/uploads/2010/03/sobaki.WOW_.12-300x225.jpg" TargetMode="External"/><Relationship Id="rId22" Type="http://schemas.openxmlformats.org/officeDocument/2006/relationships/hyperlink" Target="http://d-pankratov.ru/wp-content/uploads/2010/03/sobaki.WOW_.12-300x225.jpg" TargetMode="External"/><Relationship Id="rId23" Type="http://schemas.openxmlformats.org/officeDocument/2006/relationships/hyperlink" Target="http://d-pankratov.ru/wp-content/uploads/2010/03/sobaki.WOW_.12-300x225.jpg" TargetMode="External"/><Relationship Id="rId24" Type="http://schemas.openxmlformats.org/officeDocument/2006/relationships/hyperlink" Target="http://d-pankratov.ru/wp-content/uploads/2010/03/sobaki.WOW_.12-300x225.jpg" TargetMode="External"/><Relationship Id="rId25" Type="http://schemas.openxmlformats.org/officeDocument/2006/relationships/hyperlink" Target="http://d-pankratov.ru/wp-content/uploads/2010/03/sobaki.WOW_.12-300x225.jpg" TargetMode="External"/><Relationship Id="rId26" Type="http://schemas.openxmlformats.org/officeDocument/2006/relationships/hyperlink" Target="http://d-pankratov.ru/wp-content/uploads/2010/03/sobaki.WOW_.12-300x225.jpg" TargetMode="External"/><Relationship Id="rId27" Type="http://schemas.openxmlformats.org/officeDocument/2006/relationships/hyperlink" Target="http://d-pankratov.ru/wp-content/uploads/2010/03/sobaki.WOW_.12-300x225.jpg" TargetMode="External"/><Relationship Id="rId28" Type="http://schemas.openxmlformats.org/officeDocument/2006/relationships/hyperlink" Target="http://d-pankratov.ru/wp-content/uploads/2010/03/sobaki.WOW_.12-300x225.jpg" TargetMode="External"/><Relationship Id="rId29" Type="http://schemas.openxmlformats.org/officeDocument/2006/relationships/hyperlink" Target="http://d-pankratov.ru/wp-content/uploads/2010/03/sobaki.WOW_.12-300x225.jpg" TargetMode="External"/><Relationship Id="rId30" Type="http://schemas.openxmlformats.org/officeDocument/2006/relationships/hyperlink" Target="http://d-pankratov.ru/wp-content/uploads/2010/03/sobaki.WOW_.12-300x225.jpg" TargetMode="External"/><Relationship Id="rId31" Type="http://schemas.openxmlformats.org/officeDocument/2006/relationships/hyperlink" Target="http://d-pankratov.ru/wp-content/uploads/2010/03/sobaki.WOW_.12-300x225.jpg" TargetMode="External"/><Relationship Id="rId32" Type="http://schemas.openxmlformats.org/officeDocument/2006/relationships/hyperlink" Target="http://d-pankratov.ru/wp-content/uploads/2010/03/sobaki.WOW_.12-300x225.jpg" TargetMode="External"/><Relationship Id="rId33" Type="http://schemas.openxmlformats.org/officeDocument/2006/relationships/hyperlink" Target="http://d-pankratov.ru/wp-content/uploads/2010/03/sobaki.WOW_.04-300x220.jpg" TargetMode="External"/><Relationship Id="rId34" Type="http://schemas.openxmlformats.org/officeDocument/2006/relationships/hyperlink" Target="http://d-pankratov.ru/wp-content/uploads/2010/03/sobaki.WOW_.04-300x220.jpg" TargetMode="External"/><Relationship Id="rId35" Type="http://schemas.openxmlformats.org/officeDocument/2006/relationships/hyperlink" Target="http://d-pankratov.ru/wp-content/uploads/2010/03/sobaki.WOW_.04-300x220.jpg" TargetMode="External"/><Relationship Id="rId36" Type="http://schemas.openxmlformats.org/officeDocument/2006/relationships/hyperlink" Target="http://d-pankratov.ru/wp-content/uploads/2010/03/sobaki.WOW_.04-300x220.jpg" TargetMode="External"/><Relationship Id="rId37" Type="http://schemas.openxmlformats.org/officeDocument/2006/relationships/hyperlink" Target="http://d-pankratov.ru/wp-content/uploads/2010/03/sobaki.WOW_.04-300x220.jpg" TargetMode="External"/><Relationship Id="rId38" Type="http://schemas.openxmlformats.org/officeDocument/2006/relationships/hyperlink" Target="http://d-pankratov.ru/wp-content/uploads/2010/03/sobaki.WOW_.04-300x220.jpg" TargetMode="External"/><Relationship Id="rId39" Type="http://schemas.openxmlformats.org/officeDocument/2006/relationships/hyperlink" Target="http://d-pankratov.ru/wp-content/uploads/2010/03/sobaki.WOW_.04-300x220.jpg" TargetMode="External"/><Relationship Id="rId40" Type="http://schemas.openxmlformats.org/officeDocument/2006/relationships/hyperlink" Target="http://d-pankratov.ru/wp-content/uploads/2010/03/sobaki.WOW_.04-300x220.jpg" TargetMode="External"/><Relationship Id="rId41" Type="http://schemas.openxmlformats.org/officeDocument/2006/relationships/hyperlink" Target="http://d-pankratov.ru/wp-content/uploads/2010/03/sobaki.WOW_.09-300x225.jpg" TargetMode="External"/><Relationship Id="rId42" Type="http://schemas.openxmlformats.org/officeDocument/2006/relationships/hyperlink" Target="http://d-pankratov.ru/wp-content/uploads/2010/03/sobaki.WOW_.09-300x225.jpg" TargetMode="External"/><Relationship Id="rId43" Type="http://schemas.openxmlformats.org/officeDocument/2006/relationships/hyperlink" Target="http://d-pankratov.ru/wp-content/uploads/2010/03/sobaki.WOW_.09-300x225.jpg" TargetMode="External"/><Relationship Id="rId44" Type="http://schemas.openxmlformats.org/officeDocument/2006/relationships/hyperlink" Target="http://d-pankratov.ru/wp-content/uploads/2010/03/sobaki.WOW_.09-300x225.jpg" TargetMode="External"/><Relationship Id="rId45" Type="http://schemas.openxmlformats.org/officeDocument/2006/relationships/hyperlink" Target="http://d-pankratov.ru/wp-content/uploads/2010/03/sobaki.WOW_.09-300x225.jpg" TargetMode="External"/><Relationship Id="rId46" Type="http://schemas.openxmlformats.org/officeDocument/2006/relationships/hyperlink" Target="http://d-pankratov.ru/wp-content/uploads/2010/03/sobaki.WOW_.09-300x225.jpg" TargetMode="External"/><Relationship Id="rId47" Type="http://schemas.openxmlformats.org/officeDocument/2006/relationships/hyperlink" Target="http://d-pankratov.ru/wp-content/uploads/2010/03/sobaki.WOW_.09-300x225.jpg" TargetMode="External"/><Relationship Id="rId48" Type="http://schemas.openxmlformats.org/officeDocument/2006/relationships/hyperlink" Target="http://d-pankratov.ru/wp-content/uploads/2010/03/sobaki.WOW_.09-300x225.jpg" TargetMode="External"/><Relationship Id="rId49" Type="http://schemas.openxmlformats.org/officeDocument/2006/relationships/hyperlink" Target="http://d-pankratov.ru/wp-content/uploads/2010/03/sobaki.WOW_.20-300x163.jpg" TargetMode="External"/><Relationship Id="rId50" Type="http://schemas.openxmlformats.org/officeDocument/2006/relationships/hyperlink" Target="http://d-pankratov.ru/wp-content/uploads/2010/03/sobaki.WOW_.20-300x163.jpg" TargetMode="External"/><Relationship Id="rId51" Type="http://schemas.openxmlformats.org/officeDocument/2006/relationships/hyperlink" Target="http://d-pankratov.ru/wp-content/uploads/2010/03/sobaki.WOW_.20-300x163.jpg" TargetMode="External"/><Relationship Id="rId52" Type="http://schemas.openxmlformats.org/officeDocument/2006/relationships/hyperlink" Target="http://d-pankratov.ru/wp-content/uploads/2010/03/sobaki.WOW_.20-300x163.jpg" TargetMode="External"/><Relationship Id="rId53" Type="http://schemas.openxmlformats.org/officeDocument/2006/relationships/hyperlink" Target="http://d-pankratov.ru/wp-content/uploads/2010/03/sobaki.WOW_.20-300x163.jpg" TargetMode="External"/><Relationship Id="rId54" Type="http://schemas.openxmlformats.org/officeDocument/2006/relationships/hyperlink" Target="http://d-pankratov.ru/wp-content/uploads/2010/03/sobaki.WOW_.20-300x163.jpg" TargetMode="External"/><Relationship Id="rId55" Type="http://schemas.openxmlformats.org/officeDocument/2006/relationships/hyperlink" Target="http://d-pankratov.ru/wp-content/uploads/2010/03/sobaki.WOW_.20-300x163.jpg" TargetMode="External"/><Relationship Id="rId56" Type="http://schemas.openxmlformats.org/officeDocument/2006/relationships/hyperlink" Target="http://d-pankratov.ru/wp-content/uploads/2010/03/sobaki.WOW_.20-300x163.jpg" TargetMode="External"/><Relationship Id="rId57" Type="http://schemas.openxmlformats.org/officeDocument/2006/relationships/hyperlink" Target="http://d-pankratov.ru/wp-content/uploads/2010/03/sobaki.WOW_.14-223x300.jpg" TargetMode="External"/><Relationship Id="rId58" Type="http://schemas.openxmlformats.org/officeDocument/2006/relationships/hyperlink" Target="http://d-pankratov.ru/wp-content/uploads/2010/03/sobaki.WOW_.14-223x300.jpg" TargetMode="External"/><Relationship Id="rId59" Type="http://schemas.openxmlformats.org/officeDocument/2006/relationships/hyperlink" Target="http://d-pankratov.ru/wp-content/uploads/2010/03/sobaki.WOW_.14-223x300.jpg" TargetMode="External"/><Relationship Id="rId60" Type="http://schemas.openxmlformats.org/officeDocument/2006/relationships/hyperlink" Target="http://d-pankratov.ru/wp-content/uploads/2010/03/sobaki.WOW_.14-223x300.jpg" TargetMode="External"/><Relationship Id="rId61" Type="http://schemas.openxmlformats.org/officeDocument/2006/relationships/hyperlink" Target="http://d-pankratov.ru/wp-content/uploads/2010/03/sobaki.WOW_.14-223x300.jpg" TargetMode="External"/><Relationship Id="rId62" Type="http://schemas.openxmlformats.org/officeDocument/2006/relationships/hyperlink" Target="http://d-pankratov.ru/wp-content/uploads/2010/03/sobaki.WOW_.14-223x300.jpg" TargetMode="External"/><Relationship Id="rId63" Type="http://schemas.openxmlformats.org/officeDocument/2006/relationships/hyperlink" Target="http://d-pankratov.ru/wp-content/uploads/2010/03/sobaki.WOW_.14-223x300.jpg" TargetMode="External"/><Relationship Id="rId64" Type="http://schemas.openxmlformats.org/officeDocument/2006/relationships/hyperlink" Target="http://d-pankratov.ru/wp-content/uploads/2010/03/sobaki.WOW_.14-223x300.jpg" TargetMode="External"/><Relationship Id="rId65" Type="http://schemas.openxmlformats.org/officeDocument/2006/relationships/hyperlink" Target="http://d-pankratov.ru/wp-content/uploads/2010/03/sobaki.WOW_.18-300x182.jpg" TargetMode="External"/><Relationship Id="rId66" Type="http://schemas.openxmlformats.org/officeDocument/2006/relationships/hyperlink" Target="http://d-pankratov.ru/wp-content/uploads/2010/03/sobaki.WOW_.18-300x182.jpg" TargetMode="External"/><Relationship Id="rId67" Type="http://schemas.openxmlformats.org/officeDocument/2006/relationships/hyperlink" Target="http://d-pankratov.ru/wp-content/uploads/2010/03/sobaki.WOW_.18-300x182.jpg" TargetMode="External"/><Relationship Id="rId68" Type="http://schemas.openxmlformats.org/officeDocument/2006/relationships/hyperlink" Target="http://d-pankratov.ru/wp-content/uploads/2010/03/sobaki.WOW_.18-300x182.jpg" TargetMode="External"/><Relationship Id="rId69" Type="http://schemas.openxmlformats.org/officeDocument/2006/relationships/hyperlink" Target="http://d-pankratov.ru/wp-content/uploads/2010/03/sobaki.WOW_.18-300x182.jpg" TargetMode="External"/><Relationship Id="rId70" Type="http://schemas.openxmlformats.org/officeDocument/2006/relationships/hyperlink" Target="http://d-pankratov.ru/wp-content/uploads/2010/03/sobaki.WOW_.18-300x182.jpg" TargetMode="External"/><Relationship Id="rId71" Type="http://schemas.openxmlformats.org/officeDocument/2006/relationships/hyperlink" Target="http://d-pankratov.ru/wp-content/uploads/2010/03/sobaki.WOW_.18-300x182.jpg" TargetMode="External"/><Relationship Id="rId72" Type="http://schemas.openxmlformats.org/officeDocument/2006/relationships/hyperlink" Target="http://d-pankratov.ru/wp-content/uploads/2010/03/sobaki.WOW_.18-300x182.jpg" TargetMode="External"/><Relationship Id="rId73" Type="http://schemas.openxmlformats.org/officeDocument/2006/relationships/hyperlink" Target="http://d-pankratov.ru/wp-content/uploads/2010/03/sobaki.WOW_.16-295x300.jpg" TargetMode="External"/><Relationship Id="rId74" Type="http://schemas.openxmlformats.org/officeDocument/2006/relationships/hyperlink" Target="http://d-pankratov.ru/wp-content/uploads/2010/03/sobaki.WOW_.16-295x300.jpg" TargetMode="External"/><Relationship Id="rId75" Type="http://schemas.openxmlformats.org/officeDocument/2006/relationships/hyperlink" Target="http://d-pankratov.ru/wp-content/uploads/2010/03/sobaki.WOW_.16-295x300.jpg" TargetMode="External"/><Relationship Id="rId76" Type="http://schemas.openxmlformats.org/officeDocument/2006/relationships/hyperlink" Target="http://d-pankratov.ru/wp-content/uploads/2010/03/sobaki.WOW_.16-295x300.jpg" TargetMode="External"/><Relationship Id="rId77" Type="http://schemas.openxmlformats.org/officeDocument/2006/relationships/hyperlink" Target="http://d-pankratov.ru/wp-content/uploads/2010/03/sobaki.WOW_.16-295x300.jpg" TargetMode="External"/><Relationship Id="rId78" Type="http://schemas.openxmlformats.org/officeDocument/2006/relationships/hyperlink" Target="http://d-pankratov.ru/wp-content/uploads/2010/03/sobaki.WOW_.16-295x300.jpg" TargetMode="External"/><Relationship Id="rId79" Type="http://schemas.openxmlformats.org/officeDocument/2006/relationships/hyperlink" Target="http://d-pankratov.ru/wp-content/uploads/2010/03/sobaki.WOW_.16-295x300.jpg" TargetMode="External"/><Relationship Id="rId80" Type="http://schemas.openxmlformats.org/officeDocument/2006/relationships/hyperlink" Target="http://d-pankratov.ru/wp-content/uploads/2010/03/sobaki.WOW_.16-295x300.jpg" TargetMode="External"/><Relationship Id="rId81" Type="http://schemas.openxmlformats.org/officeDocument/2006/relationships/hyperlink" Target="http://img12.nnm.ru/6/b/3/2/4/d52dca988eadce8937032d8fbca_prev.jpg" TargetMode="External"/><Relationship Id="rId82" Type="http://schemas.openxmlformats.org/officeDocument/2006/relationships/hyperlink" Target="http://img12.nnm.ru/6/b/3/2/4/d52dca988eadce8937032d8fbca_prev.jpg" TargetMode="External"/><Relationship Id="rId83" Type="http://schemas.openxmlformats.org/officeDocument/2006/relationships/hyperlink" Target="http://img-fotki.yandex.ru/get/5818/10706545.406/0_6729a_e40dc99a_XL.jpg" TargetMode="External"/><Relationship Id="rId84" Type="http://schemas.openxmlformats.org/officeDocument/2006/relationships/hyperlink" Target="http://img-fotki.yandex.ru/get/5818/10706545.406/0_6729a_e40dc99a_XL.jpg" TargetMode="External"/><Relationship Id="rId85" Type="http://schemas.openxmlformats.org/officeDocument/2006/relationships/hyperlink" Target="http://img-fotki.yandex.ru/get/5818/10706545.406/0_6729a_e40dc99a_XL.jpg" TargetMode="External"/><Relationship Id="rId86" Type="http://schemas.openxmlformats.org/officeDocument/2006/relationships/hyperlink" Target="http://img-fotki.yandex.ru/get/5818/10706545.406/0_6729a_e40dc99a_XL.jpg" TargetMode="External"/><Relationship Id="rId87" Type="http://schemas.openxmlformats.org/officeDocument/2006/relationships/hyperlink" Target="http://img-fotki.yandex.ru/get/5818/10706545.406/0_6729a_e40dc99a_XL.jpg" TargetMode="External"/><Relationship Id="rId88" Type="http://schemas.openxmlformats.org/officeDocument/2006/relationships/hyperlink" Target="http://img-fotki.yandex.ru/get/5818/10706545.406/0_6729a_e40dc99a_XL.jpg" TargetMode="External"/><Relationship Id="rId89" Type="http://schemas.openxmlformats.org/officeDocument/2006/relationships/hyperlink" Target="http://img15.nnm.ru/0/3/4/b/6/6e1afb542d10a4fe79b7c6a39b1.jpg" TargetMode="External"/><Relationship Id="rId90" Type="http://schemas.openxmlformats.org/officeDocument/2006/relationships/hyperlink" Target="http://img15.nnm.ru/0/3/4/b/6/6e1afb542d10a4fe79b7c6a39b1.jpg" TargetMode="External"/><Relationship Id="rId91" Type="http://schemas.openxmlformats.org/officeDocument/2006/relationships/hyperlink" Target="http://www.e-bike.com.ua/image/data/stat/statya_id418/velotur%2001.jpg" TargetMode="External"/><Relationship Id="rId92" Type="http://schemas.openxmlformats.org/officeDocument/2006/relationships/hyperlink" Target="http://www.e-bike.com.ua/image/data/stat/statya_id418/velotur%2001.jpg" TargetMode="External"/><Relationship Id="rId93" Type="http://schemas.openxmlformats.org/officeDocument/2006/relationships/hyperlink" Target="http://www.e-bike.com.ua/image/data/stat/statya_id418/velotur%2001.jpg" TargetMode="External"/><Relationship Id="rId94" Type="http://schemas.openxmlformats.org/officeDocument/2006/relationships/hyperlink" Target="http://www.e-bike.com.ua/image/data/stat/statya_id418/velotur%2001.jpg" TargetMode="External"/><Relationship Id="rId95" Type="http://schemas.openxmlformats.org/officeDocument/2006/relationships/hyperlink" Target="http://www.e-bike.com.ua/image/data/stat/statya_id418/velotur%2001.jpg" TargetMode="External"/><Relationship Id="rId96" Type="http://schemas.openxmlformats.org/officeDocument/2006/relationships/hyperlink" Target="http://www.e-bike.com.ua/image/data/stat/statya_id418/velotur%2001.jpg" TargetMode="External"/><Relationship Id="rId97" Type="http://schemas.openxmlformats.org/officeDocument/2006/relationships/hyperlink" Target="http://www.e-bike.com.ua/image/data/stat/statya_id418/velotur%2001.jpg" TargetMode="External"/><Relationship Id="rId98" Type="http://schemas.openxmlformats.org/officeDocument/2006/relationships/hyperlink" Target="http://www.e-bike.com.ua/image/data/stat/statya_id418/velotur%2001.jpg" TargetMode="External"/><Relationship Id="rId99" Type="http://schemas.openxmlformats.org/officeDocument/2006/relationships/hyperlink" Target="http://www.e-bike.com.ua/image/data/stat/statya_id418/velotur%2001.jpg" TargetMode="External"/><Relationship Id="rId100" Type="http://schemas.openxmlformats.org/officeDocument/2006/relationships/hyperlink" Target="http://www.e-bike.com.ua/image/data/stat/statya_id418/velotur%2001.jpg" TargetMode="External"/><Relationship Id="rId101" Type="http://schemas.openxmlformats.org/officeDocument/2006/relationships/hyperlink" Target="http://s019.radikal.ru/i629/1204/65/ac2a032e8322.jpg" TargetMode="External"/><Relationship Id="rId102" Type="http://schemas.openxmlformats.org/officeDocument/2006/relationships/hyperlink" Target="http://s019.radikal.ru/i629/1204/65/ac2a032e8322.jpg" TargetMode="External"/><Relationship Id="rId103" Type="http://schemas.openxmlformats.org/officeDocument/2006/relationships/hyperlink" Target="http://www.theunknownwar.ru/images/articles/c6b0478fe4ee177d4b1faf96533.jpg" TargetMode="External"/><Relationship Id="rId104" Type="http://schemas.openxmlformats.org/officeDocument/2006/relationships/hyperlink" Target="http://www.theunknownwar.ru/images/articles/c6b0478fe4ee177d4b1faf96533.jpg" TargetMode="External"/><Relationship Id="rId105" Type="http://schemas.openxmlformats.org/officeDocument/2006/relationships/hyperlink" Target="http://www.theunknownwar.ru/images/articles/c6b0478fe4ee177d4b1faf96533.jpg" TargetMode="External"/><Relationship Id="rId106" Type="http://schemas.openxmlformats.org/officeDocument/2006/relationships/hyperlink" Target="http://www.theunknownwar.ru/images/articles/c6b0478fe4ee177d4b1faf96533.jpg" TargetMode="External"/><Relationship Id="rId107" Type="http://schemas.openxmlformats.org/officeDocument/2006/relationships/hyperlink" Target="http://www.theunknownwar.ru/images/articles/c6b0478fe4ee177d4b1faf96533.jpg" TargetMode="External"/><Relationship Id="rId108" Type="http://schemas.openxmlformats.org/officeDocument/2006/relationships/hyperlink" Target="http://www.theunknownwar.ru/images/articles/c6b0478fe4ee177d4b1faf96533.jpg" TargetMode="External"/><Relationship Id="rId109" Type="http://schemas.openxmlformats.org/officeDocument/2006/relationships/hyperlink" Target="http://www.theunknownwar.ru/images/articles/c6b0478fe4ee177d4b1faf96533.jpg" TargetMode="External"/><Relationship Id="rId110" Type="http://schemas.openxmlformats.org/officeDocument/2006/relationships/hyperlink" Target="http://www.theunknownwar.ru/images/articles/32f8305e55115d36cbe1252ce5a_prev.jpg" TargetMode="External"/><Relationship Id="rId111" Type="http://schemas.openxmlformats.org/officeDocument/2006/relationships/hyperlink" Target="http://www.theunknownwar.ru/images/articles/32f8305e55115d36cbe1252ce5a_prev.jpg" TargetMode="External"/><Relationship Id="rId112" Type="http://schemas.openxmlformats.org/officeDocument/2006/relationships/hyperlink" Target="http://www.theunknownwar.ru/images/articles/32f8305e55115d36cbe1252ce5a_prev.jpg" TargetMode="External"/><Relationship Id="rId113" Type="http://schemas.openxmlformats.org/officeDocument/2006/relationships/hyperlink" Target="http://www.theunknownwar.ru/images/articles/32f8305e55115d36cbe1252ce5a_prev.jpg" TargetMode="External"/><Relationship Id="rId114" Type="http://schemas.openxmlformats.org/officeDocument/2006/relationships/hyperlink" Target="http://www.theunknownwar.ru/images/articles/32f8305e55115d36cbe1252ce5a_prev.jpg" TargetMode="External"/><Relationship Id="rId115" Type="http://schemas.openxmlformats.org/officeDocument/2006/relationships/hyperlink" Target="http://www.theunknownwar.ru/images/articles/32f8305e55115d36cbe1252ce5a_prev.jpg" TargetMode="External"/><Relationship Id="rId116" Type="http://schemas.openxmlformats.org/officeDocument/2006/relationships/hyperlink" Target="http://www.theunknownwar.ru/images/articles/32f8305e55115d36cbe1252ce5a_prev.jpg" TargetMode="External"/><Relationship Id="rId117" Type="http://schemas.openxmlformats.org/officeDocument/2006/relationships/hyperlink" Target="http://www.theunknownwar.ru/images/articles/32f8305e55115d36cbe1252ce5a_prev.jpg" TargetMode="External"/><Relationship Id="rId118" Type="http://schemas.openxmlformats.org/officeDocument/2006/relationships/hyperlink" Target="http://www.theunknownwar.ru/images/articles/513bfb168ec53c96a027029a51a_prev.jpg" TargetMode="External"/><Relationship Id="rId119" Type="http://schemas.openxmlformats.org/officeDocument/2006/relationships/hyperlink" Target="http://www.theunknownwar.ru/images/articles/513bfb168ec53c96a027029a51a_prev.jpg" TargetMode="External"/><Relationship Id="rId120" Type="http://schemas.openxmlformats.org/officeDocument/2006/relationships/hyperlink" Target="http://www.theunknownwar.ru/images/articles/513bfb168ec53c96a027029a51a_prev.jpg" TargetMode="External"/><Relationship Id="rId121" Type="http://schemas.openxmlformats.org/officeDocument/2006/relationships/hyperlink" Target="http://www.theunknownwar.ru/images/articles/513bfb168ec53c96a027029a51a_prev.jpg" TargetMode="External"/><Relationship Id="rId122" Type="http://schemas.openxmlformats.org/officeDocument/2006/relationships/hyperlink" Target="http://www.theunknownwar.ru/images/articles/513bfb168ec53c96a027029a51a_prev.jpg" TargetMode="External"/><Relationship Id="rId123" Type="http://schemas.openxmlformats.org/officeDocument/2006/relationships/hyperlink" Target="http://www.theunknownwar.ru/images/articles/513bfb168ec53c96a027029a51a_prev.jpg" TargetMode="External"/><Relationship Id="rId124" Type="http://schemas.openxmlformats.org/officeDocument/2006/relationships/hyperlink" Target="http://www.theunknownwar.ru/images/articles/513bfb168ec53c96a027029a51a_prev.jpg" TargetMode="External"/><Relationship Id="rId125" Type="http://schemas.openxmlformats.org/officeDocument/2006/relationships/hyperlink" Target="http://www.theunknownwar.ru/images/articles/513bfb168ec53c96a027029a51a_prev.jpg" TargetMode="External"/><Relationship Id="rId126" Type="http://schemas.openxmlformats.org/officeDocument/2006/relationships/hyperlink" Target="http://s41.radikal.ru/i091/1004/7e/838222283157.jpg" TargetMode="External"/><Relationship Id="rId127" Type="http://schemas.openxmlformats.org/officeDocument/2006/relationships/hyperlink" Target="http://s41.radikal.ru/i091/1004/7e/838222283157.jpg" TargetMode="External"/><Relationship Id="rId128" Type="http://schemas.openxmlformats.org/officeDocument/2006/relationships/hyperlink" Target="http://s5.uploads.ru/x7dJN.jpg" TargetMode="External"/><Relationship Id="rId129" Type="http://schemas.openxmlformats.org/officeDocument/2006/relationships/hyperlink" Target="http://s5.uploads.ru/x7dJN.jpg" TargetMode="External"/><Relationship Id="rId130" Type="http://schemas.openxmlformats.org/officeDocument/2006/relationships/hyperlink" Target="http://s5.uploads.ru/x7dJN.jpg" TargetMode="External"/><Relationship Id="rId131" Type="http://schemas.openxmlformats.org/officeDocument/2006/relationships/hyperlink" Target="http://s5.uploads.ru/x7dJN.jpg" TargetMode="External"/><Relationship Id="rId132" Type="http://schemas.openxmlformats.org/officeDocument/2006/relationships/hyperlink" Target="http://s5.uploads.ru/x7dJN.jpg" TargetMode="External"/><Relationship Id="rId133" Type="http://schemas.openxmlformats.org/officeDocument/2006/relationships/hyperlink" Target="http://s5.uploads.ru/x7dJN.jpg" TargetMode="External"/><Relationship Id="rId134" Type="http://schemas.openxmlformats.org/officeDocument/2006/relationships/hyperlink" Target="http://s5.uploads.ru/x7dJN.jpg" TargetMode="External"/><Relationship Id="rId135" Type="http://schemas.openxmlformats.org/officeDocument/2006/relationships/hyperlink" Target="http://s5.uploads.ru/x7dJN.jpg" TargetMode="External"/><Relationship Id="rId136" Type="http://schemas.openxmlformats.org/officeDocument/2006/relationships/hyperlink" Target="http://s5.uploads.ru/x7dJN.jpg" TargetMode="External"/><Relationship Id="rId137" Type="http://schemas.openxmlformats.org/officeDocument/2006/relationships/hyperlink" Target="http://s5.uploads.ru/x7dJN.jpg" TargetMode="External"/><Relationship Id="rId1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36400" y="1071720"/>
            <a:ext cx="621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колько сказано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жет чья-нибудь муза ус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Говорить о во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 тревожить солдатские сн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олько кажется мн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о обиды написано м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 собаках-бойца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щищавших нас в годы войны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4672800" y="785880"/>
            <a:ext cx="4095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связис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авили свы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тысяч боевых донес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становления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ложили 8 тысяч 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ного про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2" descr="http://s020.radikal.ru/i713/1405/7d/e194d6c24eca.jpg"/>
          <p:cNvPicPr/>
          <p:nvPr/>
        </p:nvPicPr>
        <p:blipFill>
          <a:blip r:embed="rId2"/>
          <a:stretch/>
        </p:blipFill>
        <p:spPr>
          <a:xfrm>
            <a:off x="571680" y="714240"/>
            <a:ext cx="426240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http://s005.radikal.ru/i210/1405/72/ef1434b3b8b8.jpg"/>
          <p:cNvPicPr/>
          <p:nvPr/>
        </p:nvPicPr>
        <p:blipFill>
          <a:blip r:embed="rId3"/>
          <a:stretch/>
        </p:blipFill>
        <p:spPr>
          <a:xfrm>
            <a:off x="2928960" y="3643200"/>
            <a:ext cx="5238720" cy="2295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2379600" y="714240"/>
            <a:ext cx="56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 – истребители та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4" descr="(e)SPM_A0028.jpg"/>
          <p:cNvPicPr/>
          <p:nvPr/>
        </p:nvPicPr>
        <p:blipFill>
          <a:blip r:embed="rId2"/>
          <a:stretch/>
        </p:blipFill>
        <p:spPr>
          <a:xfrm>
            <a:off x="500040" y="1285920"/>
            <a:ext cx="5786640" cy="3660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WWI_dog_messenger.jpg"/>
          <p:cNvPicPr/>
          <p:nvPr/>
        </p:nvPicPr>
        <p:blipFill>
          <a:blip r:embed="rId3"/>
          <a:stretch/>
        </p:blipFill>
        <p:spPr>
          <a:xfrm>
            <a:off x="4429080" y="3500280"/>
            <a:ext cx="4318200" cy="2973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661840" y="571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версионн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http://d-pankratov.ru/wp-content/uploads/2010/03/sobaki.WOW_.04-300x220.jpg"/>
          <p:cNvPicPr/>
          <p:nvPr/>
        </p:nvPicPr>
        <p:blipFill>
          <a:blip r:embed="rId2"/>
          <a:stretch/>
        </p:blipFill>
        <p:spPr>
          <a:xfrm>
            <a:off x="4000680" y="2286000"/>
            <a:ext cx="4500360" cy="3262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120200" y="57150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а знаменитая собака Д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4" descr="(e)2f21f9fd14e5.jpg"/>
          <p:cNvPicPr/>
          <p:nvPr/>
        </p:nvPicPr>
        <p:blipFill>
          <a:blip r:embed="rId3"/>
          <a:stretch/>
        </p:blipFill>
        <p:spPr>
          <a:xfrm>
            <a:off x="571680" y="135720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71720" y="57168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и-разведч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2" descr="Неизвестная война. Собачья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786040"/>
            <a:ext cx="3595680" cy="32432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Неизвестная война. Собачья."/>
          <p:cNvPicPr/>
          <p:nvPr/>
        </p:nvPicPr>
        <p:blipFill>
          <a:blip r:embed="rId4"/>
          <a:stretch/>
        </p:blipFill>
        <p:spPr>
          <a:xfrm>
            <a:off x="571680" y="1285920"/>
            <a:ext cx="4643280" cy="337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60560" y="50004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рожевые соб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(e)0d060fda7d3d(1).jpg"/>
          <p:cNvPicPr/>
          <p:nvPr/>
        </p:nvPicPr>
        <p:blipFill>
          <a:blip r:embed="rId2"/>
          <a:stretch/>
        </p:blipFill>
        <p:spPr>
          <a:xfrm>
            <a:off x="500040" y="1143000"/>
            <a:ext cx="47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(e)gallery_3719_7_60205.jpg"/>
          <p:cNvPicPr/>
          <p:nvPr/>
        </p:nvPicPr>
        <p:blipFill>
          <a:blip r:embed="rId3"/>
          <a:stretch/>
        </p:blipFill>
        <p:spPr>
          <a:xfrm>
            <a:off x="3429000" y="3000240"/>
            <a:ext cx="53229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1657440" y="571680"/>
            <a:ext cx="589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еще собаки служили живыми талисман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огали солдатам преодолевать тяготы войн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иногда и просто воевали вместе с н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3" descr="1267896128_126.jpg"/>
          <p:cNvPicPr/>
          <p:nvPr/>
        </p:nvPicPr>
        <p:blipFill>
          <a:blip r:embed="rId2"/>
          <a:stretch/>
        </p:blipFill>
        <p:spPr>
          <a:xfrm>
            <a:off x="5214960" y="1785960"/>
            <a:ext cx="2876400" cy="4286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442976.jpg"/>
          <p:cNvPicPr/>
          <p:nvPr/>
        </p:nvPicPr>
        <p:blipFill>
          <a:blip r:embed="rId3"/>
          <a:stretch/>
        </p:blipFill>
        <p:spPr>
          <a:xfrm>
            <a:off x="1143000" y="1714680"/>
            <a:ext cx="3452760" cy="44384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f7a252c480cd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velotur 01.jpg"/>
          <p:cNvPicPr/>
          <p:nvPr/>
        </p:nvPicPr>
        <p:blipFill>
          <a:blip r:embed="rId2"/>
          <a:stretch/>
        </p:blipFill>
        <p:spPr>
          <a:xfrm>
            <a:off x="1285920" y="1000080"/>
            <a:ext cx="6715080" cy="5450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238400" y="35712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 в селе Легедзи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ac2a032e8322.jpg"/>
          <p:cNvPicPr/>
          <p:nvPr/>
        </p:nvPicPr>
        <p:blipFill>
          <a:blip r:embed="rId2"/>
          <a:stretch/>
        </p:blipFill>
        <p:spPr>
          <a:xfrm>
            <a:off x="1785960" y="428760"/>
            <a:ext cx="5580000" cy="3857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687600" y="428616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Остановись и поклонись. Тут в июле 1941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нялись в последнюю атаку на вра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йцы отдельной Коломийской пограничной коменда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00 пограничников и 150 их служебных соб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егли смертью храбрых в том бо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остались навсегда верными присяге, родной земл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105920" y="50004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в Москв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оенный инструктор с собако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2" descr="102661317_Ashampoo_Snap_20130705_11h03m40s_007_.jpg"/>
          <p:cNvPicPr/>
          <p:nvPr/>
        </p:nvPicPr>
        <p:blipFill>
          <a:blip r:embed="rId2"/>
          <a:stretch/>
        </p:blipFill>
        <p:spPr>
          <a:xfrm>
            <a:off x="1643040" y="1571760"/>
            <a:ext cx="5977080" cy="4473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440000" y="42876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мятник собакам-подрывн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Волгогра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2" descr="65564180.jpg"/>
          <p:cNvPicPr/>
          <p:nvPr/>
        </p:nvPicPr>
        <p:blipFill>
          <a:blip r:embed="rId2"/>
          <a:stretch/>
        </p:blipFill>
        <p:spPr>
          <a:xfrm>
            <a:off x="1500120" y="1428840"/>
            <a:ext cx="645336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536400" y="2938320"/>
            <a:ext cx="4821480" cy="1560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86650379.jpg"/>
          <p:cNvPicPr/>
          <p:nvPr/>
        </p:nvPicPr>
        <p:blipFill>
          <a:blip r:embed="rId3"/>
          <a:stretch/>
        </p:blipFill>
        <p:spPr>
          <a:xfrm>
            <a:off x="5143680" y="785880"/>
            <a:ext cx="3643200" cy="5290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022040" y="1359000"/>
            <a:ext cx="38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Неизвестна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вой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84120" y="1428840"/>
            <a:ext cx="341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мятни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оям-медик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нитарн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ака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е Ессен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2" descr="img.jpg"/>
          <p:cNvPicPr/>
          <p:nvPr/>
        </p:nvPicPr>
        <p:blipFill>
          <a:blip r:embed="rId2"/>
          <a:stretch/>
        </p:blipFill>
        <p:spPr>
          <a:xfrm>
            <a:off x="4000680" y="571680"/>
            <a:ext cx="432252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http://s019.radikal.ru/i618/1405/2a/436403c88fd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Times New Roman"/>
              </a:rPr>
              <a:t>Интернет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"/>
              </a:rPr>
              <a:t>www.pitomec.ru/upload/userfiles/WWI_dog_messenger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4"/>
              </a:rPr>
              <a:t>http://www.pitomec.ru/upload/userfiles/(e)SPM_A0028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5"/>
              </a:rPr>
              <a:t>http://www.pitomec.ru/upload/userfiles/(e)2f21f9fd14e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6"/>
              </a:rPr>
              <a:t>http://www.pitomec.ru/upload/userfiles/(e)gallery_3719_7_60205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7"/>
              </a:rPr>
              <a:t>http://www.pitomec.ru/upload/userfiles/(e)0d060fda7d3d(1)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8"/>
              </a:rPr>
              <a:t>http://www.pitomec.ru/upload/userfiles/1267896128_12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9"/>
              </a:rPr>
              <a:t>http://www.pitomec.ru/upload/userfiles/(e)4e77d61d2fd1%D0%B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0"/>
              </a:rPr>
              <a:t>http://i1.2photo.ru/w/s/442976.jpg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"/>
              </a:rPr>
              <a:t>htt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"/>
              </a:rPr>
              <a:t>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4"/>
              </a:rPr>
              <a:t>d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6"/>
              </a:rPr>
              <a:t>pankratov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8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0"/>
              </a:rPr>
              <a:t>w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2"/>
              </a:rPr>
              <a:t>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4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5"/>
              </a:rPr>
              <a:t>/2010/03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6"/>
              </a:rPr>
              <a:t>sobaki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7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28"/>
              </a:rPr>
              <a:t>WOW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29"/>
              </a:rPr>
              <a:t>_.12-300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0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1"/>
              </a:rPr>
              <a:t>22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32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3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0"/>
              </a:rPr>
              <a:t>/2010/03/sobaki.WOW_.04-300x22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3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5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7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8"/>
              </a:rPr>
              <a:t>/2010/03/sobaki.WOW_.09-300x225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4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0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1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3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5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6"/>
              </a:rPr>
              <a:t>/2010/03/sobaki.WOW_.20-300x16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7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8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59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1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2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3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4"/>
              </a:rPr>
              <a:t>/2010/03/sobaki.WOW_.14-223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5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6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7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69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0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1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2"/>
              </a:rPr>
              <a:t>/2010/03/sobaki.WOW_.18-300x182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5"/>
              </a:rPr>
              <a:t>d-pankratov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7"/>
              </a:rPr>
              <a:t>wp-conten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79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0"/>
              </a:rPr>
              <a:t>/2010/03/sobaki.WOW_.16-295x300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2"/>
              </a:rPr>
              <a:t>://img12.nnm.ru/6/b/3/2/4/d52dca988eadce8937032d8fbc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3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4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5"/>
              </a:rPr>
              <a:t>img-fotki.yandex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7"/>
              </a:rPr>
              <a:t>ge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8"/>
              </a:rPr>
              <a:t>/5818/10706545.406/0_6729a_e40dc99a_XL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89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0"/>
              </a:rPr>
              <a:t>://img15.nnm.ru/0/3/4/b/6/6e1afb542d10a4fe79b7c6a39b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2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3"/>
              </a:rPr>
              <a:t>www.e-bike.com.u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4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5"/>
              </a:rPr>
              <a:t>image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6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7"/>
              </a:rPr>
              <a:t>data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8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99"/>
              </a:rPr>
              <a:t>stat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0"/>
              </a:rPr>
              <a:t>/statya_id418/velotur%2001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1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2"/>
              </a:rPr>
              <a:t>://s019.radikal.ru/i629/1204/65/ac2a032e8322.jpg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3"/>
              </a:rPr>
              <a:t>http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4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6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7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8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09"/>
              </a:rPr>
              <a:t>/c6b0478fe4ee177d4b1faf96533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0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1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2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4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5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6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7"/>
              </a:rPr>
              <a:t>/32f8305e55115d36cbe1252ce5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19"/>
              </a:rPr>
              <a:t>:/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0"/>
              </a:rPr>
              <a:t>www.theunknownwar.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1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2"/>
              </a:rPr>
              <a:t>imag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3"/>
              </a:rPr>
              <a:t>/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4"/>
              </a:rPr>
              <a:t>article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5"/>
              </a:rPr>
              <a:t>/513bfb168ec53c96a027029a51a_prev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6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7"/>
              </a:rPr>
              <a:t>://s41.radikal.ru/i091/1004/7e/838222283157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28"/>
              </a:rPr>
              <a:t>http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29"/>
              </a:rPr>
              <a:t>:/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0"/>
              </a:rPr>
              <a:t>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1"/>
              </a:rPr>
              <a:t>5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2"/>
              </a:rPr>
              <a:t>uploads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3"/>
              </a:rPr>
              <a:t>.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4"/>
              </a:rPr>
              <a:t>ru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5"/>
              </a:rPr>
              <a:t>/</a:t>
            </a:r>
            <a:r>
              <a:rPr b="0" lang="en-US" sz="1100" spc="-1" strike="noStrike" u="sng">
                <a:solidFill>
                  <a:srgbClr val="7a0000"/>
                </a:solidFill>
                <a:uFillTx/>
                <a:latin typeface="Times New Roman"/>
                <a:hlinkClick r:id="rId136"/>
              </a:rPr>
              <a:t>x</a:t>
            </a:r>
            <a:r>
              <a:rPr b="0" lang="ru-RU" sz="1100" spc="-1" strike="noStrike" u="sng">
                <a:solidFill>
                  <a:srgbClr val="7a0000"/>
                </a:solidFill>
                <a:uFillTx/>
                <a:latin typeface="Times New Roman"/>
                <a:hlinkClick r:id="rId137"/>
              </a:rPr>
              <a:t>7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dJN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1.liveinternet.ru/images/attach/b/4/112/813/112813955_large_5150049_112798985_30723ef332d9200cc884b7f52de8924dgif.jpg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- вечный огон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мка -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c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428760"/>
            <a:ext cx="5656320" cy="4000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010680" y="4357800"/>
            <a:ext cx="593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шли с человеком, бок о б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в трудные времена выходили 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делили с человеком окоп и паё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и трудились и гибли вместо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то собаки, собаки на вой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785880" y="642960"/>
            <a:ext cx="62863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013200" y="528624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рад Победы 24 июня 1945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0efa127c85fd.jpg"/>
          <p:cNvPicPr/>
          <p:nvPr/>
        </p:nvPicPr>
        <p:blipFill>
          <a:blip r:embed="rId2"/>
          <a:stretch/>
        </p:blipFill>
        <p:spPr>
          <a:xfrm>
            <a:off x="642960" y="2286000"/>
            <a:ext cx="4656240" cy="364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5214600" y="1119240"/>
            <a:ext cx="370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ужебная 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личке 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наружила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68 ми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ее 150 снаряд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1 марта 1945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успешное выпол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ево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уль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награжд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ал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боевые заслуги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3" descr="1203.jpg"/>
          <p:cNvPicPr/>
          <p:nvPr/>
        </p:nvPicPr>
        <p:blipFill>
          <a:blip r:embed="rId3"/>
          <a:stretch/>
        </p:blipFill>
        <p:spPr>
          <a:xfrm>
            <a:off x="714240" y="500040"/>
            <a:ext cx="862200" cy="1593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14240" y="246204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ездовые и санитарные             собаки-миноиск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обаки-связисты             собаки-истребители т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диверсионные собаки                   собаки-развед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сторожевые соб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28760" y="50004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военным дорогам от Москвы до Берлина прополз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шагало, проехало и пробежало 68 тысяч соб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одных и не очень, больших и малых, гладких и лохмат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они внесли неоценимый вклад в великое дело поб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112812465_16.jpg"/>
          <p:cNvPicPr/>
          <p:nvPr/>
        </p:nvPicPr>
        <p:blipFill>
          <a:blip r:embed="rId2"/>
          <a:stretch/>
        </p:blipFill>
        <p:spPr>
          <a:xfrm>
            <a:off x="5143680" y="4000680"/>
            <a:ext cx="3544560" cy="2263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Рисунок6.png"/>
          <p:cNvPicPr/>
          <p:nvPr/>
        </p:nvPicPr>
        <p:blipFill>
          <a:blip r:embed="rId3"/>
          <a:stretch/>
        </p:blipFill>
        <p:spPr>
          <a:xfrm>
            <a:off x="500040" y="4002120"/>
            <a:ext cx="335772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429160" y="1500120"/>
            <a:ext cx="34290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здовые и санитарные соба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огнем и взрыв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зли с поля бо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оло 700 тыся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яжелоране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езли к боевым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 тонн боеприпасов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2" descr="http://s018.radikal.ru/i507/1405/2e/920690c693b2.jpg"/>
          <p:cNvPicPr/>
          <p:nvPr/>
        </p:nvPicPr>
        <p:blipFill>
          <a:blip r:embed="rId2"/>
          <a:stretch/>
        </p:blipFill>
        <p:spPr>
          <a:xfrm>
            <a:off x="571680" y="500040"/>
            <a:ext cx="48574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http://s019.radikal.ru/i605/1405/91/5782fbe7ed30.jpg"/>
          <p:cNvPicPr/>
          <p:nvPr/>
        </p:nvPicPr>
        <p:blipFill>
          <a:blip r:embed="rId3"/>
          <a:stretch/>
        </p:blipFill>
        <p:spPr>
          <a:xfrm>
            <a:off x="1643040" y="3786120"/>
            <a:ext cx="400068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572000" y="214200"/>
            <a:ext cx="4014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аки-миноискате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х было около 6 тысяч, обнаружи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ожатые саперы обезвредили 4 млн. м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гасов и других взрывчатых веществ. 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2" descr="Неизвестная война. Собачья."/>
          <p:cNvPicPr/>
          <p:nvPr/>
        </p:nvPicPr>
        <p:blipFill>
          <a:blip r:embed="rId2"/>
          <a:stretch/>
        </p:blipFill>
        <p:spPr>
          <a:xfrm>
            <a:off x="500040" y="785880"/>
            <a:ext cx="4062600" cy="4405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(e)4e77d61d2fd1а.jpg"/>
          <p:cNvPicPr/>
          <p:nvPr/>
        </p:nvPicPr>
        <p:blipFill>
          <a:blip r:embed="rId3"/>
          <a:stretch/>
        </p:blipFill>
        <p:spPr>
          <a:xfrm>
            <a:off x="4648320" y="3419640"/>
            <a:ext cx="3900240" cy="3081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http://s52.radikal.ru/i137/1405/a4/3d2a3d988d50.jpg"/>
          <p:cNvPicPr/>
          <p:nvPr/>
        </p:nvPicPr>
        <p:blipFill>
          <a:blip r:embed="rId2"/>
          <a:stretch/>
        </p:blipFill>
        <p:spPr>
          <a:xfrm>
            <a:off x="1071720" y="571680"/>
            <a:ext cx="523872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213280" y="4857840"/>
            <a:ext cx="63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стник Великой Отечественной войн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отландский колли Ди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й смог обнаружить более 12 тысяч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5:51:03Z</dcterms:created>
  <dc:creator>Ранько Елена</dc:creator>
  <dc:description/>
  <dc:language>en-US</dc:language>
  <cp:lastModifiedBy>Virt</cp:lastModifiedBy>
  <dcterms:modified xsi:type="dcterms:W3CDTF">2020-04-29T06:54:55Z</dcterms:modified>
  <cp:revision>30</cp:revision>
  <dc:subject/>
  <dc:title>Нам дороги эти позабыть нельзя!</dc:title>
</cp:coreProperties>
</file>