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22D-AC5F-4F54-BC00-B1093BD8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DD1-3803-4A6D-B59E-33B428A3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BE8-CA45-4322-A05F-837945A8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B34-3913-419C-9D78-49005F23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22E-E673-4C51-BFFD-492A2030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A57A-12BA-4B9D-B997-3DFC2256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D1B4-DBD7-437E-85C3-05A53D49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9A1-6362-4766-B243-2CE0C01A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543-758B-440C-B888-5F099CF5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4E8-37A4-4D3B-B400-0943F4E5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2F4-571B-4409-BCC4-AF51925D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4EA-A00F-46FB-9485-060FF0EA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4633-26B2-47C0-98DB-C819DBFE9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Интерактивная игра «Загадки о войне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трелка вправо 3">
            <a:hlinkClick r:id="" action="ppaction://hlinkshowjump?jump=nextslide"/>
          </p:cNvPr>
          <p:cNvSpPr/>
          <p:nvPr/>
        </p:nvSpPr>
        <p:spPr>
          <a:xfrm>
            <a:off x="428472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04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05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Пушки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08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Стоят три старушки: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Вздохнут они да охнут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Вблизи все люди глохнут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12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13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Миномёт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16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На пушку не похоже,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А палит дай боже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20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21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Шинель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24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Под себя положу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И под голову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Да и укрыться сверху останется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28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29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Ствол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32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Что общего между деревом и винтовкой?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36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37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Граната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40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Хоть зовут меня ручная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Но характер колкий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Будет помнить навсегда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Враг мои осколки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44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45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Стрела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48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Летит птица перната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Без глаз, без крыл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Сама свистит, сама бьет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52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53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Катюша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56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Имя девичье носил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И врага огнём косила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Вражьи замыслы поруша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Легендарная …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160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161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Танк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64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Нагоняет страха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Стальная черепаха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Бензином питается,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Огнем кусается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5"/>
          <p:cNvSpPr/>
          <p:nvPr/>
        </p:nvSpPr>
        <p:spPr>
          <a:xfrm>
            <a:off x="1403280" y="40464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http://mypresentation.ru/documents/7947364f7afb5eb96f5de5b2e3fdf0f2/img3.jpg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 ф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http://www.vsezagadki.ru/2011/04/zagadki-pro-vojnu-ko-dnyu-pobedy/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загад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5-конечная звезда 1">
            <a:hlinkClick r:id="" action="ppaction://hlinkshowjump?jump=endshow"/>
          </p:cNvPr>
          <p:cNvSpPr/>
          <p:nvPr/>
        </p:nvSpPr>
        <p:spPr>
          <a:xfrm>
            <a:off x="3203640" y="3645000"/>
            <a:ext cx="3384360" cy="2520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авершить пок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835280" y="457200"/>
            <a:ext cx="66974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Отгадайте загад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Проверьте себя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Чтобы узнать ответ, нажмит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на вопро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Появится ответ и стрелка для перехода на следующий слай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Удачи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трелка вправо 2">
            <a:hlinkClick r:id="" action="ppaction://hlinkshowjump?jump=nextslide"/>
          </p:cNvPr>
          <p:cNvSpPr/>
          <p:nvPr/>
        </p:nvSpPr>
        <p:spPr>
          <a:xfrm>
            <a:off x="428472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254640" y="273060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48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49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Автомат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52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С врагом Егорка Скороговоркой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Поговорил — и страх внушил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Просто хват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    </a:t>
              </a: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Говорливый …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56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57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Сапоги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60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Два брата, ростом по колено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Везде с нами гуляют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И нас защищают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64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65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Бинокль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68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Дальнозоркого мне дали —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Он ко мне приблизил дали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72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73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Ружье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76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Петушок без глаз,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А метко клюет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80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81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Пуля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84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Летит ворон, весь окован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Кого клюнет, тому смерть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88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89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Пулемёт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92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Из ограды ствол торчит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Беспощадно он строчит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Кто догадлив, тот поймет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То, что это …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Антон\Desktop\Question-Mark-yellow.jpg"/>
          <p:cNvPicPr/>
          <p:nvPr/>
        </p:nvPicPr>
        <p:blipFill>
          <a:blip r:embed="rId1"/>
          <a:stretch/>
        </p:blipFill>
        <p:spPr>
          <a:xfrm>
            <a:off x="6576840" y="3664080"/>
            <a:ext cx="1086120" cy="1083960"/>
          </a:xfrm>
          <a:prstGeom prst="rect">
            <a:avLst/>
          </a:prstGeom>
          <a:ln w="0">
            <a:noFill/>
          </a:ln>
        </p:spPr>
      </p:pic>
      <p:grpSp>
        <p:nvGrpSpPr>
          <p:cNvPr id="96" name="Овал 2"/>
          <p:cNvGrpSpPr/>
          <p:nvPr/>
        </p:nvGrpSpPr>
        <p:grpSpPr>
          <a:xfrm>
            <a:off x="2103480" y="3981600"/>
            <a:ext cx="4151160" cy="1485720"/>
            <a:chOff x="2103480" y="3981600"/>
            <a:chExt cx="4151160" cy="1485720"/>
          </a:xfrm>
        </p:grpSpPr>
        <p:pic>
          <p:nvPicPr>
            <p:cNvPr id="97" name="Овал 2" descr=""/>
            <p:cNvPicPr/>
            <p:nvPr/>
          </p:nvPicPr>
          <p:blipFill>
            <a:blip r:embed="rId2"/>
            <a:stretch/>
          </p:blipFill>
          <p:spPr>
            <a:xfrm>
              <a:off x="2103480" y="3981600"/>
              <a:ext cx="41511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724120" y="4222800"/>
              <a:ext cx="29034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Снаряд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Прямоугольник 3"/>
          <p:cNvGrpSpPr/>
          <p:nvPr/>
        </p:nvGrpSpPr>
        <p:grpSpPr>
          <a:xfrm>
            <a:off x="1847880" y="128520"/>
            <a:ext cx="7101000" cy="3432240"/>
            <a:chOff x="1847880" y="128520"/>
            <a:chExt cx="7101000" cy="3432240"/>
          </a:xfrm>
        </p:grpSpPr>
        <p:pic>
          <p:nvPicPr>
            <p:cNvPr id="100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847880" y="128520"/>
              <a:ext cx="710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979640" y="260280"/>
              <a:ext cx="684036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Летит — лается,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Упадет — рассыпается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Стрелка вправо 4">
            <a:hlinkClick r:id="" action="ppaction://hlinkshowjump?jump=nextslide"/>
          </p:cNvPr>
          <p:cNvSpPr/>
          <p:nvPr/>
        </p:nvSpPr>
        <p:spPr>
          <a:xfrm>
            <a:off x="3727440" y="590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06:29:17Z</dcterms:created>
  <dc:creator>ЛАД</dc:creator>
  <dc:description/>
  <dc:language>en-US</dc:language>
  <cp:lastModifiedBy>Virt</cp:lastModifiedBy>
  <dcterms:modified xsi:type="dcterms:W3CDTF">2020-04-29T06:58:51Z</dcterms:modified>
  <cp:revision>17</cp:revision>
  <dc:subject/>
  <dc:title>Презентация PowerPoint</dc:title>
</cp:coreProperties>
</file>