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7418-D17C-4E44-9B20-F3065899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00B0-02EA-4497-A2D1-A253B251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AEE0-40AA-48A4-99B9-D1B78019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807F-4C56-4496-8B61-EE08CC1C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DB4C-A21F-42B0-BE55-1544B578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124F-BC65-49FC-8540-B9C48CA9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B012-ED2B-4E30-878C-6B3900D2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E66B-6982-4074-998D-351FB2B2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DB8D-D4D8-42F5-BBE4-61AB9898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E384-57B9-433D-8C02-ABA1E058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62A2-6DAE-4576-931B-39237FA5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7FC-2299-4805-B3F7-D85723D2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58CE-AEAA-496C-8B90-C639C8746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Интерактивная игра «Загадки о войне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трелка вправо 3">
            <a:hlinkClick r:id="" action="ppaction://hlinkshowjump?jump=nextslide"/>
          </p:cNvPr>
          <p:cNvSpPr/>
          <p:nvPr/>
        </p:nvSpPr>
        <p:spPr>
          <a:xfrm>
            <a:off x="428472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104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105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Пушки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108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Стоят три старушки: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Вздохнут они да охнут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Вблизи все люди глохнут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112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113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Миномёт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116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На пушку не похоже,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А палит дай боже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120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121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Шинель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124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Под себя положу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И под голову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Да и укрыться сверху останется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128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129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Ствол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132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Что общего между деревом и винтовкой?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136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137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Граната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140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Хоть зовут меня ручная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Но характер колкий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Будет помнить навсегда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Враг мои осколки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25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144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145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Стрела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148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Летит птица перната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Без глаз, без крыл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Сама свистит, сама бьет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25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152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153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Катюша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156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Имя девичье носил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И врага огнём косила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Вражьи замыслы поруша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Легендарная …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250" autoRev="1" fill="hold"/>
                                        <p:tgtEl>
                                          <p:spTgt spid="1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160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161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Танк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164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Нагоняет страха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Стальная черепаха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Бензином питается,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Огнем кусается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25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5"/>
          <p:cNvSpPr/>
          <p:nvPr/>
        </p:nvSpPr>
        <p:spPr>
          <a:xfrm>
            <a:off x="1403280" y="40464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Источни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http://mypresentation.ru/documents/7947364f7afb5eb96f5de5b2e3fdf0f2/img3.jpg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 ф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http://www.vsezagadki.ru/2011/04/zagadki-pro-vojnu-ko-dnyu-pobedy/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загад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5-конечная звезда 1">
            <a:hlinkClick r:id="" action="ppaction://hlinkshowjump?jump=endshow"/>
          </p:cNvPr>
          <p:cNvSpPr/>
          <p:nvPr/>
        </p:nvSpPr>
        <p:spPr>
          <a:xfrm>
            <a:off x="3203640" y="3645000"/>
            <a:ext cx="3384360" cy="2520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авершить пока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835280" y="457200"/>
            <a:ext cx="66974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Отгадайте загад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Проверьте себя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Чтобы узнать ответ, нажмит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на вопро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Появится ответ и стрелка для перехода на следующий слай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Удачи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трелка вправо 2">
            <a:hlinkClick r:id="" action="ppaction://hlinkshowjump?jump=nextslide"/>
          </p:cNvPr>
          <p:cNvSpPr/>
          <p:nvPr/>
        </p:nvSpPr>
        <p:spPr>
          <a:xfrm>
            <a:off x="428472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254640" y="273060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48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49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Автомат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52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С врагом Егорка Скороговоркой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Поговорил — и страх внушил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Просто хват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    </a:t>
              </a: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Говорливый …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56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57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Сапоги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60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Два брата, ростом по колено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Везде с нами гуляют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И нас защищают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64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65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Бинокль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68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Дальнозоркого мне дали —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Он ко мне приблизил дали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72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73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Ружье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76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Петушок без глаз,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А метко клюет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80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81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Пуля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84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Летит ворон, весь окован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Кого клюнет, тому смерть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88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89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Пулемёт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92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Из ограды ствол торчит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Беспощадно он строчит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Кто догадлив, тот поймет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То, что это …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25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96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97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Снаряд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100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Летит — лается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Упадет — рассыпается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3T06:29:17Z</dcterms:created>
  <dc:creator>ЛАД</dc:creator>
  <dc:description/>
  <dc:language>en-US</dc:language>
  <cp:lastModifiedBy>Virt</cp:lastModifiedBy>
  <dcterms:modified xsi:type="dcterms:W3CDTF">2020-04-29T06:58:51Z</dcterms:modified>
  <cp:revision>17</cp:revision>
  <dc:subject/>
  <dc:title>Презентация PowerPoint</dc:title>
</cp:coreProperties>
</file>