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395-9029-4192-9356-98B2DE3E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592-7AF6-422A-BD4E-BF5212AD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0D2-F2E0-4B10-853E-0F650652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C38-70CF-4929-B419-01460ACC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AE2-0D6A-473A-8B41-EA030A41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CB6-4E0C-40FA-BF24-31C72AB0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FE0-E84D-47E8-B73C-2701DC6E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75A-66A2-4F13-9AB1-A53771C4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3BB-659A-401F-B4D9-13BE5615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663-F299-43F6-94D7-2D2EC7B3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ED7-C37F-4F6A-96CB-EBEB3414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D113-B08D-47ED-BADC-B1728DD0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50FD-0464-4A53-A55A-851868435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29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«Изучение способов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торичного использования бумаги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и её применение в быт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43400" y="1928880"/>
            <a:ext cx="2701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Автор  рабо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Табунщик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д/о "Зеленый класс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ГБУ ДО БелОДЭБ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уководитель работы: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Гриценко Е.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изображение_viber_2024-05-13_23-57-08-754"/>
          <p:cNvPicPr/>
          <p:nvPr/>
        </p:nvPicPr>
        <p:blipFill>
          <a:blip r:embed="rId1"/>
          <a:stretch/>
        </p:blipFill>
        <p:spPr>
          <a:xfrm>
            <a:off x="357120" y="2143080"/>
            <a:ext cx="5910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C:\Users\Работа\Desktop\Снимок222.PNG"/>
          <p:cNvPicPr/>
          <p:nvPr/>
        </p:nvPicPr>
        <p:blipFill>
          <a:blip r:embed="rId1"/>
          <a:stretch/>
        </p:blipFill>
        <p:spPr>
          <a:xfrm>
            <a:off x="142920" y="142920"/>
            <a:ext cx="8912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C:\Users\Работа\Desktop\Снимокро.PNG"/>
          <p:cNvPicPr/>
          <p:nvPr/>
        </p:nvPicPr>
        <p:blipFill>
          <a:blip r:embed="rId1"/>
          <a:stretch/>
        </p:blipFill>
        <p:spPr>
          <a:xfrm>
            <a:off x="642960" y="214200"/>
            <a:ext cx="757224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IV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этап Заключительный этап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7156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процессе работы, я выяснила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з проведённых исслед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аиболее легкодоступны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именения переработанной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являются способы изгото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живой бумаги и стаканч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я пикирования расс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, полученная в домашних условиях из вторичного сырья, обладает основными свойствами обычной бумаги. На ней можно писать и рисовать, а также использовать ее для изготовления сувени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я подтвердила гипотезу о возможности получения бумаги в домашних условиях и её примен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изображение_viber_2024-05-13_23-57-08-754"/>
          <p:cNvPicPr/>
          <p:nvPr/>
        </p:nvPicPr>
        <p:blipFill>
          <a:blip r:embed="rId1"/>
          <a:stretch/>
        </p:blipFill>
        <p:spPr>
          <a:xfrm>
            <a:off x="5000760" y="114300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дальнейших перспектив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ывая, что использованная бумага может перерабатываться, сохраняя при этом свои свойства, мы предлагаем: продолжить вторичную переработку макулатуры и организовать изготовление поздравительных открыток к календарным праздникам из бумаги, полученной от вторичной переработки макулатуры, проведя агитационную работу среди обучающихся и моих знако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ить и применить на практике способы вторичного использования бумаги, привлекая внимание к более бережному использованию природных ресурсов через изготовление бумаги из вторичного сырья  в домашних условия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Задач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еть экологический аспект данной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 возможности переработки бумаги и ее вторичного использования в домашни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нить на практике способы использования переработанной 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улировать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облема проекта 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0" i="1" lang="ru-RU" sz="4000" spc="-1" strike="noStrike">
                <a:solidFill>
                  <a:srgbClr val="008000"/>
                </a:solidFill>
                <a:latin typeface="Arial"/>
              </a:rPr>
              <a:t>почему это важно для меня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28840"/>
            <a:ext cx="8229600" cy="257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требность в бумажных изделиях возрастает с каждым днем, и с каждым же днем возрастает вырубка лесов, а использование макулатуры позволяет существенно экономить древес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умага ручной работы - это интересный и редкий материал . Процесс бумажного литья - это, хоть и весьма трудоёмкое, но очень увлекательное и творческое дело. Натуральная бумага экологична, она обладает своей индивидуальностью, дарит необычные тактильные ощущения и стильно оттеняет все что на ней напиш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71680" y="3857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Социальная значим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28760" y="4842000"/>
            <a:ext cx="8435880" cy="15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поможет сохранить природные ресурс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ить отходы и сохранить жизнь деревь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04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 привлекает внимание к проблемам экологии и необходимости вторичного использования природных ресурсов, учит ответственному бережному отношению к окружающей среде и природным ресурсам; переработка макулатуры экономит ценные природ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визна исслед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ается в попытке производства изделий из вторичного сырья в домашни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потез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зучить возможные методы переработки бумаги в домашних условиях, то можно подарить ей вторую жизнь и тем самым уменьшить количество от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логический аспек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есина используется во многих отраслях народного хозяйства: строительство, изготовление мебели и, конечно же, производство бумаги. С каждым годом площадь лесов неуклонно пад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м потребителям древесины нужно помнить, что лес это: один из основных факторов поддержания постоянного химического состава атмосферы; место обитания многих животных;. источник фитонцидов – веществ, убивающих микробы. Кроме того, лес поглощает некоторые компоненты; промышленных загряз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ому рациональное использование бумаги также является одним из способов сохранения л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Этапы работы над проектом</a:t>
            </a:r>
            <a:br>
              <a:rPr sz="4000"/>
            </a:b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 I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 этап. Подготовительный этап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13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умага используется уже несколько столетий. Первая известная бумага была изобретена в Китае во II веке н.э. Изготавливалась она из льняного и хлопчатобумажного волокна с добавлением рваной шелковой ткан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cale_1200"/>
          <p:cNvPicPr/>
          <p:nvPr/>
        </p:nvPicPr>
        <p:blipFill>
          <a:blip r:embed="rId1"/>
          <a:stretch/>
        </p:blipFill>
        <p:spPr>
          <a:xfrm>
            <a:off x="4929120" y="2286000"/>
            <a:ext cx="3857760" cy="1855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85840" y="4214880"/>
            <a:ext cx="492912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ермин «макулатура» происходит от латинского слова «macula» (в переводе – пачка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Это изделия из бумаги и картона, которые уже были в использовании и различного рода бумажные отх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f95b2274279eeff0800cdf649af7f7ae"/>
          <p:cNvPicPr/>
          <p:nvPr/>
        </p:nvPicPr>
        <p:blipFill>
          <a:blip r:embed="rId2"/>
          <a:stretch/>
        </p:blipFill>
        <p:spPr>
          <a:xfrm>
            <a:off x="5357880" y="4260960"/>
            <a:ext cx="35384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умага из вторичного сыр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28680" y="928800"/>
            <a:ext cx="5000760" cy="55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 настоящее время бумага изготавливается из целлюлозы, которую получают из древеси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Бумага, произведенная из вторичного сырья, имеет несколько преимуществ перед изготовленной из целлюлозы или древесины. Она значительно дешевле, ее переработка уменьшает количество отходов, позволяет сэкономить воду и электроэнерги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 процессе ее производства не используется никаких химикатов, а что самое главное, переработка макулатуры сокращает интенсивность вырубки ле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yMSayvdD9Gw"/>
          <p:cNvPicPr/>
          <p:nvPr/>
        </p:nvPicPr>
        <p:blipFill>
          <a:blip r:embed="rId1"/>
          <a:stretch/>
        </p:blipFill>
        <p:spPr>
          <a:xfrm>
            <a:off x="214200" y="128592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бласть применения вторсыр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85880"/>
            <a:ext cx="8786880" cy="15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именений сырья, полученного из макул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упаковочная и оберточная бумага, а также картон, лотки для яиц, упаковки для бытовой техники, горшки для высадки семян, одноразовые стаканч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исчая, типографская и туалетной бумага, стройматериалы, кровельные материалы, контейнеры для транспортировки овощей, одноразовые автомобильные коврики, средства личной гигиены, одноразовая одеж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-aEb17Jc1w"/>
          <p:cNvPicPr/>
          <p:nvPr/>
        </p:nvPicPr>
        <p:blipFill>
          <a:blip r:embed="rId1"/>
          <a:stretch/>
        </p:blipFill>
        <p:spPr>
          <a:xfrm>
            <a:off x="1714680" y="2428920"/>
            <a:ext cx="519588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еское выполнение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2296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 переработанной макулатуры сделали листы бумаги «ручного отлива» для записей, рисования, поздравительных открыток, а также стаканчики для пикирования расс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Работа\Desktop\11.PNG"/>
          <p:cNvPicPr/>
          <p:nvPr/>
        </p:nvPicPr>
        <p:blipFill>
          <a:blip r:embed="rId1"/>
          <a:stretch/>
        </p:blipFill>
        <p:spPr>
          <a:xfrm>
            <a:off x="1214280" y="2428920"/>
            <a:ext cx="6678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4-17T14:04:58Z</dcterms:created>
  <dc:creator>Андрей</dc:creator>
  <dc:description/>
  <dc:language>en-US</dc:language>
  <cp:lastModifiedBy>Работа</cp:lastModifiedBy>
  <dcterms:modified xsi:type="dcterms:W3CDTF">2024-05-20T19:09:43Z</dcterms:modified>
  <cp:revision>28</cp:revision>
  <dc:subject/>
  <dc:title>Исследовательский проект «Изучение способов вторичного использования бумаги»</dc:title>
</cp:coreProperties>
</file>