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1AB-58D5-4DC0-BDA3-1461F003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F9F-686B-4525-8A97-21A03A34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3D8-C20F-4A96-919F-7DC1DA1B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954-6069-4258-B293-361E0919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2126-FE76-4068-AFE8-515D4799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E17D-5AF3-4CCC-B1A6-C5617229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D278-D967-4549-AEE1-2378282E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9C67-CD69-4D7B-A1B3-7DD7E3A9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CB8D-99F2-4C2D-86A7-BE855D29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44A7-180C-4CEE-9A3E-0BD01834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6311-D15E-4C3D-9CC0-EA7990D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051-EF5E-4892-8AE5-3BFBD6A9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5C83-5AC3-488E-8FC7-3F82C8F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2AD7-58F2-43F6-B9E7-87E03FE8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92DE-1BEE-43DC-A60B-275AFD05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F48C-1694-4D03-9A8C-CC3395B0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D14-05AC-42F3-8A7C-B3F1B124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04F-DC56-4E90-AD64-071306E7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8DF-884D-417C-8EAC-4E84E373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292-C521-4785-B4ED-34B70F0C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D72-A535-4E14-8F85-ABEB94C6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15F-493B-473B-B81B-29BDAFC0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D8F-FB6F-4234-A569-0EE562B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C09-BF1D-4B63-95DF-8722E17E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19D3-21A0-4327-B894-AF3B7A15334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4127-D33F-4284-8BA2-9E1CAC84FA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426960"/>
            <a:ext cx="822960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2565000"/>
            <a:ext cx="81435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10082"/>
                </a:solidFill>
                <a:latin typeface="Times New Roman"/>
              </a:rPr>
              <a:t>Обличение человеческих пороков в баснях И.А.Крылова</a:t>
            </a:r>
            <a:r>
              <a:rPr b="0" lang="ru-RU" sz="4400" spc="-1" strike="noStrike">
                <a:solidFill>
                  <a:srgbClr val="410082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310212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3079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Случается нередко н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И труд и мудрость видеть та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Где стоит только догад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За дело просто взя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Содержимое 4" descr="list3_b.jpg"/>
          <p:cNvPicPr/>
          <p:nvPr/>
        </p:nvPicPr>
        <p:blipFill>
          <a:blip r:embed="rId2"/>
          <a:stretch/>
        </p:blipFill>
        <p:spPr>
          <a:xfrm>
            <a:off x="3701880" y="500040"/>
            <a:ext cx="51562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пробуйте перечислить, какие пороки человека высмеивает Крылов в басн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 «А Васька слушает 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 «Чтоб музыкантом быть, так надобн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3. «Хоть видит око, да зуб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4. «Ай, Моська, знать, она сильн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5. « Когда в товарищах согласья нет, на лад их дел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395280" y="620640"/>
            <a:ext cx="8039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"Закончи строчку из басни Крылова"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10082"/>
                </a:solidFill>
                <a:latin typeface="Times New Roman"/>
              </a:rPr>
              <a:t>«Из каких басен Крылова   взяты эти строчки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WordArt 14"/>
          <p:cNvGrpSpPr/>
          <p:nvPr/>
        </p:nvGrpSpPr>
        <p:grpSpPr>
          <a:xfrm>
            <a:off x="438120" y="262080"/>
            <a:ext cx="8261280" cy="1170000"/>
            <a:chOff x="438120" y="262080"/>
            <a:chExt cx="8261280" cy="1170000"/>
          </a:xfrm>
        </p:grpSpPr>
        <p:pic>
          <p:nvPicPr>
            <p:cNvPr id="114" name="WordArt 1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8120" y="262080"/>
              <a:ext cx="8261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иктори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4182840"/>
            <a:ext cx="7128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Уж сколько раз твердили миру, что лесть гнусна, вредна; но только всё не впрок, и в сердце льстец всегда отыщет уг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(«Ворона и         Лисиц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9" descr="Рисунок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0" y="836640"/>
            <a:ext cx="471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464400"/>
            <a:ext cx="719280" cy="36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2000" y="620640"/>
            <a:ext cx="289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Когда в товарищах согласья нет, на лад их дело не пойдёт и выйдет из него не дело, только м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Лебедь, Щука и Ра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Рисунок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12880"/>
            <a:ext cx="608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-3602880"/>
            <a:ext cx="7128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У сильного всегда бессильный винов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Волк и  Ягнёно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Рисунок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-4477320"/>
            <a:ext cx="9216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72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Попрыгунья Стрекоза лето красное пропела; оглянуться не успела, как зима катит в гла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Стрекоза и Мураве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Рисунок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47005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-2005200"/>
            <a:ext cx="7164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Невежда так же в ослепленье бранит науки и ученье и все учёные труды, не чувствуя, что он вкушает их пл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Times New Roman"/>
              </a:rPr>
              <a:t>(«Свинья под дубом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Фотка 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4707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54960"/>
            <a:ext cx="946080" cy="31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87640" y="1341000"/>
            <a:ext cx="388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Голодная кума Лиса залезла в сад; в нём винограду кисти рдели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(«Лисица и виноград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4716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7640" y="44064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33112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Люблю, где случай есть, пороки пощипа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921e81"/>
                </a:solidFill>
                <a:latin typeface="Times New Roman"/>
              </a:rPr>
              <a:t>И.А.Кры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4" descr="Эггинк ИЕ.jpg"/>
          <p:cNvPicPr/>
          <p:nvPr/>
        </p:nvPicPr>
        <p:blipFill>
          <a:blip r:embed="rId1"/>
          <a:stretch/>
        </p:blipFill>
        <p:spPr>
          <a:xfrm>
            <a:off x="4143240" y="285840"/>
            <a:ext cx="4429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333360"/>
            <a:ext cx="8445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Басня  - это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краткий стихотворный или прозаический рассказ нравоучительного характера, имеющий иносказательный, аллегорический смыс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Мораль – 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начальные или заключительные строки басни с нравоучительным выв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Аллегория – это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изображение предмета, за которым скрывается другое понятие или другой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0" y="92232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«Осёл и Солове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181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Содержимое 4" descr="list5_b.jpg"/>
          <p:cNvPicPr/>
          <p:nvPr/>
        </p:nvPicPr>
        <p:blipFill>
          <a:blip r:embed="rId1"/>
          <a:stretch/>
        </p:blipFill>
        <p:spPr>
          <a:xfrm>
            <a:off x="4286160" y="71424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то было причиной появления басни «Осёл и Соловей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Над чем заставляет читателя смеяться баснописе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ем восхищались современни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Почему особенно важно было показать в басне красоту пения Соловья и восхищение слушате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11040" y="-23760"/>
            <a:ext cx="3432240" cy="1724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300816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…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Избави Бог и нас  от этаких суд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4" descr="krylov16.gif"/>
          <p:cNvPicPr/>
          <p:nvPr/>
        </p:nvPicPr>
        <p:blipFill>
          <a:blip r:embed="rId2"/>
          <a:stretch/>
        </p:blipFill>
        <p:spPr>
          <a:xfrm>
            <a:off x="4000680" y="285840"/>
            <a:ext cx="4643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3157560" cy="1457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Как вы объясните иллюстрацию художника К.Трутовского к басне «Листы и Корн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Почему там нет ни листов ни корн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4" descr="Тургенев 008.jpg"/>
          <p:cNvPicPr/>
          <p:nvPr/>
        </p:nvPicPr>
        <p:blipFill>
          <a:blip r:embed="rId2"/>
          <a:stretch/>
        </p:blipFill>
        <p:spPr>
          <a:xfrm>
            <a:off x="3714840" y="357120"/>
            <a:ext cx="5072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Что хотел сказать И.А.Крылов басней «Листы и Корни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 каких словах выражена мораль в этой басн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 каких жизненных ситуациях говорится в этих строк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3181320" cy="1481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Над чем смеётся баснописец в басне «Ларчик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Что изменилось бы в басне от перестановки ударения (на слове «просто» или «открывался»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4" descr="Тургенев.jpg"/>
          <p:cNvPicPr/>
          <p:nvPr/>
        </p:nvPicPr>
        <p:blipFill>
          <a:blip r:embed="rId2"/>
          <a:stretch/>
        </p:blipFill>
        <p:spPr>
          <a:xfrm>
            <a:off x="4143240" y="285840"/>
            <a:ext cx="46436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49:10Z</dcterms:created>
  <dc:creator>Kolpbushka333</dc:creator>
  <dc:description/>
  <dc:language>en-US</dc:language>
  <cp:lastModifiedBy>Asus</cp:lastModifiedBy>
  <dcterms:modified xsi:type="dcterms:W3CDTF">2022-02-08T14:40:37Z</dcterms:modified>
  <cp:revision>41</cp:revision>
  <dc:subject/>
  <dc:title>Урок литературы в 6 классе.</dc:title>
</cp:coreProperties>
</file>