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7952-63DA-4E2B-B741-31D3B1EBB0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4E66-0F0C-4155-88F1-A2ABFCBF29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8EAE-C1AD-4C48-9863-401FBD2A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435-CE8B-44CA-9CF5-8E73BC56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702-18FA-4E3F-8743-B59ECF9D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909-A239-48D4-B1CE-7632863B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A1B6-A968-4BA8-9AE5-7E13D506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347-F1A6-4D84-891D-AFEB7CA5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D7E8-1F56-43A4-856E-94990AB4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125-0DDE-46C9-B1C4-DEC4AB05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318-754B-4DDE-8519-6115FF9F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4585-B386-49B7-A5AC-69C06C45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02D-6C33-4E81-967D-39966888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BB0D-2FEA-45A5-8B64-1A5A4B7E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CBFA-5826-4806-B0C6-65A6DDBAE8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Картинки по запросу фото рисунков ладоня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Нетрадиционные техники в художественном творч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183280" y="5950080"/>
            <a:ext cx="396072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тель: Старовойтова Е Ю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cc"/>
                </a:solidFill>
                <a:latin typeface="Times New Roman"/>
              </a:rPr>
              <a:t>«Тычок (жёсткой полусухой кистью)» - используется жёсткая кисть, она опускается в краску, а затем ударяется  по бумаге, держа вертикально. Правило - кисть в воду не опускается. Получается имитация фактурности пушистой или колючей поверх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img6"/>
          <p:cNvPicPr/>
          <p:nvPr/>
        </p:nvPicPr>
        <p:blipFill>
          <a:blip r:embed="rId1"/>
          <a:stretch/>
        </p:blipFill>
        <p:spPr>
          <a:xfrm>
            <a:off x="1500120" y="1928880"/>
            <a:ext cx="653112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99cc"/>
                </a:solidFill>
                <a:latin typeface="Times New Roman"/>
              </a:rPr>
              <a:t>«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Оттиск пробкой» - используются различные пробки и крышки. Изображение получают, прижимая пробку к штемпельной подушечке с краской, нанося оттиск на бумагу. Для другого цвета меняется и мисочка и пробка. Для лучшей выразительности можно использовать крышку с 2-х сторон. (Правило - прижимать уверенно и ритмично не сдвигая с мес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img7"/>
          <p:cNvPicPr/>
          <p:nvPr/>
        </p:nvPicPr>
        <p:blipFill>
          <a:blip r:embed="rId1"/>
          <a:stretch/>
        </p:blipFill>
        <p:spPr>
          <a:xfrm>
            <a:off x="2786040" y="2143080"/>
            <a:ext cx="462132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Times New Roman"/>
              </a:rPr>
              <a:t>«Оттиск печатками из картофеля» - из картофеля заготавливаются заранее печатки. Ребёнок прижимает печатку к мисочке с густой краской, лишнюю вытирая об край мисочки (можно использовать штемпельную подушечку с краской) наносит оттиск на бумаг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img8"/>
          <p:cNvPicPr/>
          <p:nvPr/>
        </p:nvPicPr>
        <p:blipFill>
          <a:blip r:embed="rId1"/>
          <a:stretch/>
        </p:blipFill>
        <p:spPr>
          <a:xfrm>
            <a:off x="1428840" y="2643120"/>
            <a:ext cx="60246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«Кляксография» Нанести кляксу, приподнимая и наклоняя лист бумаги с растекающейся краской, создавать изображения. Затем сверху кладется другой лист и разглаживается рукой для лучшего отпечатывания. Определить на что похоже, дорисовать недостающие де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img12"/>
          <p:cNvPicPr/>
          <p:nvPr/>
        </p:nvPicPr>
        <p:blipFill>
          <a:blip r:embed="rId1"/>
          <a:stretch/>
        </p:blipFill>
        <p:spPr>
          <a:xfrm>
            <a:off x="2571840" y="2071800"/>
            <a:ext cx="502452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cc"/>
                </a:solidFill>
                <a:latin typeface="Times New Roman"/>
              </a:rPr>
              <a:t>«Набрызг» - (рисование зубной щёткой). На зубную щётку набирается краска (тушь или разведённая гуашь с ПВА) и с помощью палочки разбрызгивается краска на рисунок. Правило - проводить палочкой движением к себе, направляя щётку на бумагу. Также можно зубной щёткой, рисуя всем ворсом изобразить волны, бахрому, густую траву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img16"/>
          <p:cNvPicPr/>
          <p:nvPr/>
        </p:nvPicPr>
        <p:blipFill>
          <a:blip r:embed="rId1"/>
          <a:stretch/>
        </p:blipFill>
        <p:spPr>
          <a:xfrm>
            <a:off x="0" y="1628640"/>
            <a:ext cx="4067280" cy="4753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Картинки по запросу фото рисунком набрызгом"/>
          <p:cNvPicPr/>
          <p:nvPr/>
        </p:nvPicPr>
        <p:blipFill>
          <a:blip r:embed="rId2"/>
          <a:stretch/>
        </p:blipFill>
        <p:spPr>
          <a:xfrm>
            <a:off x="4140360" y="1628640"/>
            <a:ext cx="4824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imes New Roman"/>
              </a:rPr>
              <a:t>«Скатывание бумаги» – берется бумага и мнется в руках, пока она не станет мягкой. Затем скатывается из нее шарик. Размеры могут быть разными (маленькая – ягодка, большой – снеговик). После этого бумажный комочек опускается в клей и приклеивается на основ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img19"/>
          <p:cNvPicPr/>
          <p:nvPr/>
        </p:nvPicPr>
        <p:blipFill>
          <a:blip r:embed="rId1"/>
          <a:stretch/>
        </p:blipFill>
        <p:spPr>
          <a:xfrm>
            <a:off x="2292480" y="2343240"/>
            <a:ext cx="48513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«Обрывание бумаги» – отрывается от бумаги небольшие кусочки или длинные полоски. Затем рисуется клеем, то, что хочет изобразить. Накладываются кусочки бумаги на клей. Получается объемный пушистый или ворсистый рису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img20"/>
          <p:cNvPicPr/>
          <p:nvPr/>
        </p:nvPicPr>
        <p:blipFill>
          <a:blip r:embed="rId1"/>
          <a:stretch/>
        </p:blipFill>
        <p:spPr>
          <a:xfrm>
            <a:off x="2786040" y="2089080"/>
            <a:ext cx="392904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«Знакомая форма» - («новый образ») – карандашом обводится выбранный предмет (ножницы, очки, вилка, степлер, ложка и т.д.). Затем превращают его во что-то другое, путём дорисовывания любыми подходящими материалами. Можно обновить любые предметы, а также кисти рук и ступни но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img22"/>
          <p:cNvPicPr/>
          <p:nvPr/>
        </p:nvPicPr>
        <p:blipFill>
          <a:blip r:embed="rId1"/>
          <a:stretch/>
        </p:blipFill>
        <p:spPr>
          <a:xfrm>
            <a:off x="1258920" y="1557360"/>
            <a:ext cx="6553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«Витраж» (клеевые картинки) – клеем ПВА (из флакона с дозированным носиком) на лист бумаги наносится контур будущего рисунка (можно предварительно сделать контур простым карандашом), даётся время для подсыхания клеевой основы рисунка – витража, затем пространство между контурами раскрашивают яркими красками. Клеевые границы не позволяют краске растекаться и смешиваться. Правило – клеевой контур должен обязательно подсохнуть. Одним цветом несколько участков в разных местах, а только после этого менять ц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3920" y="2356920"/>
            <a:ext cx="747252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img27"/>
          <p:cNvPicPr/>
          <p:nvPr/>
        </p:nvPicPr>
        <p:blipFill>
          <a:blip r:embed="rId1"/>
          <a:stretch/>
        </p:blipFill>
        <p:spPr>
          <a:xfrm>
            <a:off x="1928880" y="2643120"/>
            <a:ext cx="60325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7"/>
          <p:cNvSpPr/>
          <p:nvPr/>
        </p:nvSpPr>
        <p:spPr>
          <a:xfrm>
            <a:off x="3924360" y="3573360"/>
            <a:ext cx="4968720" cy="3097440"/>
          </a:xfrm>
          <a:prstGeom prst="wedgeEllipseCallout">
            <a:avLst>
              <a:gd name="adj1" fmla="val -55430"/>
              <a:gd name="adj2" fmla="val 359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обретая соответствующий опыт рисования в нетрадиционных техниках, и, таким образом,  преодолев страх перед неудачей, ребенок в дальнейшем будет получать удовольствие от работы, беспрепятственно переходить к овладению  все новых  и новых техник  в рисовани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250920" y="1484280"/>
            <a:ext cx="4716360" cy="2519280"/>
          </a:xfrm>
          <a:prstGeom prst="wedgeEllipseCallout">
            <a:avLst>
              <a:gd name="adj1" fmla="val -49597"/>
              <a:gd name="adj2" fmla="val 5176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Творческий процесс - это настоящее чудо. Каждая из нетрадиционных  техник - это маленькая игр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8360" y="2257200"/>
            <a:ext cx="442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анные техники не утомляют дошкольников, у них сохраняется высокая активность, работоспособность на протяжении всего времени, отведенного на выполнение зада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1"/>
          <p:cNvSpPr/>
          <p:nvPr/>
        </p:nvSpPr>
        <p:spPr>
          <a:xfrm>
            <a:off x="684360" y="189000"/>
            <a:ext cx="7704000" cy="2808360"/>
          </a:xfrm>
          <a:prstGeom prst="cloudCallout">
            <a:avLst>
              <a:gd name="adj1" fmla="val -15611"/>
              <a:gd name="adj2" fmla="val 40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8000" y="692280"/>
            <a:ext cx="5904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Это правда!</a:t>
            </a:r>
            <a:br>
              <a:rPr sz="1800"/>
            </a:b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Ну что же тут скрывать?</a:t>
            </a:r>
            <a:br>
              <a:rPr sz="1800"/>
            </a:b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ети любят, очень любят рисовать.</a:t>
            </a:r>
            <a:br>
              <a:rPr sz="1800"/>
            </a:b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На бумаге, на асфальте, на стене</a:t>
            </a:r>
            <a:br>
              <a:rPr sz="1800"/>
            </a:b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И в трамвае на окне!</a:t>
            </a:r>
            <a:br>
              <a:rPr sz="1800"/>
            </a:b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Э. Успенский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1332000" y="3357720"/>
            <a:ext cx="7127640" cy="3240000"/>
          </a:xfrm>
          <a:prstGeom prst="cloudCallout">
            <a:avLst>
              <a:gd name="adj1" fmla="val -46972"/>
              <a:gd name="adj2" fmla="val 18837"/>
            </a:avLst>
          </a:prstGeom>
          <a:solidFill>
            <a:srgbClr val="bbe0e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Все дети любят рисовать, когда это у них хорошо получается. Рисование карандашами, кистью требует высокого уровня владения техникой рисования, сформированных навыков и знаний, приемов работы. Очень часто отсутствие этих знаний и навыков быстро отвращает ребенка от рисования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Картинки по запросу фото рисующих дет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5065200"/>
            <a:ext cx="8229600" cy="17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Успехов в развитии творческих способностей у ваших воспитанников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812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Наблюдения за эффективностью рисования  в детском саду  приводят  к выводу о необходимости использования нетрадиционных  техник, которые создадут ситуацию успеха у воспитан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 flipV="1">
            <a:off x="2408400" y="3481560"/>
            <a:ext cx="183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24000" y="3213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324000" y="3933720"/>
            <a:ext cx="820872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186084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Что подразумевается под словосочетанием «нетрадиционное рисование»?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324000" y="314676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исование нетрадиционными способами - увлекательная, завораживающая деятельность, которая удивляет и восхищает дет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8a8"/>
                </a:solidFill>
                <a:latin typeface="Arial"/>
                <a:ea typeface="Times New Roman"/>
              </a:rPr>
              <a:t>Необычные материалы и</a:t>
            </a:r>
            <a:r>
              <a:rPr b="0" lang="ru-RU" sz="4000" spc="-1" strike="noStrike">
                <a:solidFill>
                  <a:srgbClr val="0038a8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38a8"/>
                </a:solidFill>
                <a:latin typeface="Arial"/>
                <a:ea typeface="Times New Roman"/>
              </a:rPr>
              <a:t>оригинальные техники привлекают детей тем, что здесь не присутствует слово «Нельзя», можно рисовать, чем хочешь и как хочешь и даже можно придумать свою необычную технику. Дети ощущают незабываемые, положительные эмо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500200"/>
            <a:ext cx="718668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Картинки по запросу фото детей измазанных краской"/>
          <p:cNvPicPr/>
          <p:nvPr/>
        </p:nvPicPr>
        <p:blipFill>
          <a:blip r:embed="rId1"/>
          <a:stretch/>
        </p:blipFill>
        <p:spPr>
          <a:xfrm>
            <a:off x="2143080" y="2306520"/>
            <a:ext cx="471492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Нетрадиционные техники: пальцевая живопись, рисование ладошкой, рисование различными оттисками, монотипия, граттаж, ниткопись, рисование свечой, углем, точечное рисование (пуантолизм), рисование по ткани, кляксография и т.д.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79280" y="3139560"/>
            <a:ext cx="8964720" cy="326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Цели нетрадиционной изобразительной 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художественного творчества, воображения, фантазию дошкольников. Формирование индивидуальных, интеллектуальных творческих способностей через использование нетрадиционных техник и материалов  в изобрази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умения самостоятельно создавать, применять, использовать различный нетрадиционный материал и нетрадиционные техники в художественном творчеств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дач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1181880"/>
            <a:ext cx="9144000" cy="523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1.Прививать и поддерживать интерес  к нетрадиционным техникам  рисования: создавать предметно-развивающую среду по художественному творчеству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2.Продолжать знакомить дошкольников с нетрадиционными техниками рисования; находить нестандартные (креативные) способы изображения предметов и явлени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3.Развивать  изобразительные умения, навыки, систематизировать полученные зна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4.Развивать технические художественные умения и навыки по принципу: от простого к сложному (переход от простых  нетрадиционных способов изображения к более сложным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5.Продолжать развивать чувство цвета, формы, композиции, пространственное воображение, художественный и эстетический вкус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6.Расширять представление о прекрасном  через наблюдение в природе, рассматривание красивых предметов интерьера, репродукций художников, иллюстраций в книгах, альбомах, прослушивание классической музыки, посещение красивых и культурных  мест в городе: художественных салонов, выставо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7.Сплотить детский коллектив путем совместного творчеств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8.Развивать желание экспериментировать, проявляя яркие познавательные чувства: удивление, сомнение, радость от узнавания новог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9Закреплять и обогащать знания детей о разных видах художественного  творчеств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10.Воспитывать трудолюбие и желание добиваться успеха собственным труд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11.Воспитывать внимание, аккуратность, целеустремлённость, творческую самореализацию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«Пальцевая живопись» (краска наносится пальцами, ладошкой). В этом случае краска наливается в плоские мисочки, розетки, ставится вода. Правило - каждый палец набирает одну определённую краску. Вымытые пальцы тут же вытираются салфет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Картинки по запросу фото рисования пальчиками"/>
          <p:cNvPicPr/>
          <p:nvPr/>
        </p:nvPicPr>
        <p:blipFill>
          <a:blip r:embed="rId1"/>
          <a:stretch/>
        </p:blipFill>
        <p:spPr>
          <a:xfrm>
            <a:off x="0" y="1557360"/>
            <a:ext cx="4356000" cy="5300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Картинки по запросу фото рисования пальчиками"/>
          <p:cNvPicPr/>
          <p:nvPr/>
        </p:nvPicPr>
        <p:blipFill>
          <a:blip r:embed="rId2"/>
          <a:stretch/>
        </p:blipFill>
        <p:spPr>
          <a:xfrm>
            <a:off x="4356000" y="1557360"/>
            <a:ext cx="4788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«Печать листьев» - используются различные листья с разных деревьев. Они покрываются краской при помощи кисточки, не оставляя пустых мест, делается это на отдельном листе бумаги. Затем окрашенной стороной плотно прижимают к бумаге, стараясь не сдвигать с места. Листья  можно использовать и повторно, нанося на него другой цвет, при смешении красок может получиться необычный оттенок, остальное прорисовывается кистью. Получаются великолепные пейзаж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img4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«Рисование методом тычка» - (ватным тампоном) для тычка достаточно взять какой-либо предмет (ватный тампон) опустить его в краску и ударить им по листу сверху вниз, остаётся чёткий определённой формы отпечаток. Тычок можно использовать и по готовому контуру, так и внутри его, изображаемый объект получается интересной неоднородной фак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mg5"/>
          <p:cNvPicPr/>
          <p:nvPr/>
        </p:nvPicPr>
        <p:blipFill>
          <a:blip r:embed="rId1"/>
          <a:stretch/>
        </p:blipFill>
        <p:spPr>
          <a:xfrm>
            <a:off x="324000" y="1916280"/>
            <a:ext cx="8208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5T16:20:13Z</dcterms:created>
  <dc:creator>user</dc:creator>
  <dc:description/>
  <dc:language>en-US</dc:language>
  <cp:lastModifiedBy>Пользователь Windows</cp:lastModifiedBy>
  <dcterms:modified xsi:type="dcterms:W3CDTF">2021-01-30T10:01:02Z</dcterms:modified>
  <cp:revision>9</cp:revision>
  <dc:subject/>
  <dc:title>Нетрадиционные техники в художественном творчестве</dc:title>
</cp:coreProperties>
</file>