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14658-3E67-4419-AF0D-EB543A02D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82589F-F52F-41FB-A0DF-C1F8E31C62D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28680"/>
            <a:ext cx="8532720" cy="6197400"/>
          </a:xfrm>
          <a:custGeom>
            <a:avLst/>
            <a:gdLst/>
            <a:ahLst/>
            <a:rect l="l" t="t" r="r" b="b"/>
            <a:pathLst>
              <a:path w="23703" h="17216">
                <a:moveTo>
                  <a:pt x="357" y="0"/>
                </a:moveTo>
                <a:lnTo>
                  <a:pt x="358" y="0"/>
                </a:lnTo>
                <a:cubicBezTo>
                  <a:pt x="295" y="0"/>
                  <a:pt x="233" y="17"/>
                  <a:pt x="179" y="48"/>
                </a:cubicBezTo>
                <a:cubicBezTo>
                  <a:pt x="125" y="79"/>
                  <a:pt x="79" y="125"/>
                  <a:pt x="48" y="179"/>
                </a:cubicBezTo>
                <a:cubicBezTo>
                  <a:pt x="17" y="233"/>
                  <a:pt x="0" y="295"/>
                  <a:pt x="0" y="358"/>
                </a:cubicBezTo>
                <a:lnTo>
                  <a:pt x="0" y="16858"/>
                </a:lnTo>
                <a:lnTo>
                  <a:pt x="0" y="16858"/>
                </a:lnTo>
                <a:cubicBezTo>
                  <a:pt x="0" y="16921"/>
                  <a:pt x="17" y="16983"/>
                  <a:pt x="48" y="17037"/>
                </a:cubicBezTo>
                <a:cubicBezTo>
                  <a:pt x="79" y="17091"/>
                  <a:pt x="125" y="17137"/>
                  <a:pt x="179" y="17168"/>
                </a:cubicBezTo>
                <a:cubicBezTo>
                  <a:pt x="233" y="17199"/>
                  <a:pt x="295" y="17216"/>
                  <a:pt x="358" y="17216"/>
                </a:cubicBezTo>
                <a:lnTo>
                  <a:pt x="23345" y="17216"/>
                </a:lnTo>
                <a:lnTo>
                  <a:pt x="23345" y="17216"/>
                </a:lnTo>
                <a:cubicBezTo>
                  <a:pt x="23408" y="17216"/>
                  <a:pt x="23470" y="17199"/>
                  <a:pt x="23524" y="17168"/>
                </a:cubicBezTo>
                <a:cubicBezTo>
                  <a:pt x="23578" y="17137"/>
                  <a:pt x="23624" y="17091"/>
                  <a:pt x="23655" y="17037"/>
                </a:cubicBezTo>
                <a:cubicBezTo>
                  <a:pt x="23686" y="16983"/>
                  <a:pt x="23703" y="16921"/>
                  <a:pt x="23703" y="16858"/>
                </a:cubicBezTo>
                <a:lnTo>
                  <a:pt x="23702" y="357"/>
                </a:lnTo>
                <a:lnTo>
                  <a:pt x="23703" y="358"/>
                </a:lnTo>
                <a:lnTo>
                  <a:pt x="23703" y="358"/>
                </a:lnTo>
                <a:cubicBezTo>
                  <a:pt x="23703" y="295"/>
                  <a:pt x="23686" y="233"/>
                  <a:pt x="23655" y="179"/>
                </a:cubicBezTo>
                <a:cubicBezTo>
                  <a:pt x="23624" y="125"/>
                  <a:pt x="23578" y="79"/>
                  <a:pt x="23524" y="48"/>
                </a:cubicBezTo>
                <a:cubicBezTo>
                  <a:pt x="23470" y="17"/>
                  <a:pt x="23408" y="0"/>
                  <a:pt x="23345" y="0"/>
                </a:cubicBezTo>
                <a:lnTo>
                  <a:pt x="357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14360" y="426960"/>
            <a:ext cx="8313840" cy="5496120"/>
            <a:chOff x="414360" y="426960"/>
            <a:chExt cx="8313840" cy="5496120"/>
          </a:xfrm>
        </p:grpSpPr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3840" cy="549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7520" cy="5416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328680"/>
            <a:ext cx="8532720" cy="6197400"/>
          </a:xfrm>
          <a:custGeom>
            <a:avLst/>
            <a:gdLst/>
            <a:ahLst/>
            <a:rect l="l" t="t" r="r" b="b"/>
            <a:pathLst>
              <a:path w="23703" h="17216">
                <a:moveTo>
                  <a:pt x="357" y="0"/>
                </a:moveTo>
                <a:lnTo>
                  <a:pt x="358" y="0"/>
                </a:lnTo>
                <a:cubicBezTo>
                  <a:pt x="295" y="0"/>
                  <a:pt x="233" y="17"/>
                  <a:pt x="179" y="48"/>
                </a:cubicBezTo>
                <a:cubicBezTo>
                  <a:pt x="125" y="79"/>
                  <a:pt x="79" y="125"/>
                  <a:pt x="48" y="179"/>
                </a:cubicBezTo>
                <a:cubicBezTo>
                  <a:pt x="17" y="233"/>
                  <a:pt x="0" y="295"/>
                  <a:pt x="0" y="358"/>
                </a:cubicBezTo>
                <a:lnTo>
                  <a:pt x="0" y="16858"/>
                </a:lnTo>
                <a:lnTo>
                  <a:pt x="0" y="16858"/>
                </a:lnTo>
                <a:cubicBezTo>
                  <a:pt x="0" y="16921"/>
                  <a:pt x="17" y="16983"/>
                  <a:pt x="48" y="17037"/>
                </a:cubicBezTo>
                <a:cubicBezTo>
                  <a:pt x="79" y="17091"/>
                  <a:pt x="125" y="17137"/>
                  <a:pt x="179" y="17168"/>
                </a:cubicBezTo>
                <a:cubicBezTo>
                  <a:pt x="233" y="17199"/>
                  <a:pt x="295" y="17216"/>
                  <a:pt x="358" y="17216"/>
                </a:cubicBezTo>
                <a:lnTo>
                  <a:pt x="23345" y="17216"/>
                </a:lnTo>
                <a:lnTo>
                  <a:pt x="23345" y="17216"/>
                </a:lnTo>
                <a:cubicBezTo>
                  <a:pt x="23408" y="17216"/>
                  <a:pt x="23470" y="17199"/>
                  <a:pt x="23524" y="17168"/>
                </a:cubicBezTo>
                <a:cubicBezTo>
                  <a:pt x="23578" y="17137"/>
                  <a:pt x="23624" y="17091"/>
                  <a:pt x="23655" y="17037"/>
                </a:cubicBezTo>
                <a:cubicBezTo>
                  <a:pt x="23686" y="16983"/>
                  <a:pt x="23703" y="16921"/>
                  <a:pt x="23703" y="16858"/>
                </a:cubicBezTo>
                <a:lnTo>
                  <a:pt x="23702" y="357"/>
                </a:lnTo>
                <a:lnTo>
                  <a:pt x="23703" y="358"/>
                </a:lnTo>
                <a:lnTo>
                  <a:pt x="23703" y="358"/>
                </a:lnTo>
                <a:cubicBezTo>
                  <a:pt x="23703" y="295"/>
                  <a:pt x="23686" y="233"/>
                  <a:pt x="23655" y="179"/>
                </a:cubicBezTo>
                <a:cubicBezTo>
                  <a:pt x="23624" y="125"/>
                  <a:pt x="23578" y="79"/>
                  <a:pt x="23524" y="48"/>
                </a:cubicBezTo>
                <a:cubicBezTo>
                  <a:pt x="23470" y="17"/>
                  <a:pt x="23408" y="0"/>
                  <a:pt x="23345" y="0"/>
                </a:cubicBezTo>
                <a:lnTo>
                  <a:pt x="357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14360" y="426960"/>
            <a:ext cx="8313840" cy="5496120"/>
            <a:chOff x="414360" y="426960"/>
            <a:chExt cx="8313840" cy="549612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3840" cy="549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452520" y="468360"/>
              <a:ext cx="8237520" cy="5416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328680"/>
            <a:ext cx="8532720" cy="6197400"/>
          </a:xfrm>
          <a:custGeom>
            <a:avLst/>
            <a:gdLst/>
            <a:ahLst/>
            <a:rect l="l" t="t" r="r" b="b"/>
            <a:pathLst>
              <a:path w="23703" h="17216">
                <a:moveTo>
                  <a:pt x="357" y="0"/>
                </a:moveTo>
                <a:lnTo>
                  <a:pt x="358" y="0"/>
                </a:lnTo>
                <a:cubicBezTo>
                  <a:pt x="295" y="0"/>
                  <a:pt x="233" y="17"/>
                  <a:pt x="179" y="48"/>
                </a:cubicBezTo>
                <a:cubicBezTo>
                  <a:pt x="125" y="79"/>
                  <a:pt x="79" y="125"/>
                  <a:pt x="48" y="179"/>
                </a:cubicBezTo>
                <a:cubicBezTo>
                  <a:pt x="17" y="233"/>
                  <a:pt x="0" y="295"/>
                  <a:pt x="0" y="358"/>
                </a:cubicBezTo>
                <a:lnTo>
                  <a:pt x="0" y="16858"/>
                </a:lnTo>
                <a:lnTo>
                  <a:pt x="0" y="16858"/>
                </a:lnTo>
                <a:cubicBezTo>
                  <a:pt x="0" y="16921"/>
                  <a:pt x="17" y="16983"/>
                  <a:pt x="48" y="17037"/>
                </a:cubicBezTo>
                <a:cubicBezTo>
                  <a:pt x="79" y="17091"/>
                  <a:pt x="125" y="17137"/>
                  <a:pt x="179" y="17168"/>
                </a:cubicBezTo>
                <a:cubicBezTo>
                  <a:pt x="233" y="17199"/>
                  <a:pt x="295" y="17216"/>
                  <a:pt x="358" y="17216"/>
                </a:cubicBezTo>
                <a:lnTo>
                  <a:pt x="23345" y="17216"/>
                </a:lnTo>
                <a:lnTo>
                  <a:pt x="23345" y="17216"/>
                </a:lnTo>
                <a:cubicBezTo>
                  <a:pt x="23408" y="17216"/>
                  <a:pt x="23470" y="17199"/>
                  <a:pt x="23524" y="17168"/>
                </a:cubicBezTo>
                <a:cubicBezTo>
                  <a:pt x="23578" y="17137"/>
                  <a:pt x="23624" y="17091"/>
                  <a:pt x="23655" y="17037"/>
                </a:cubicBezTo>
                <a:cubicBezTo>
                  <a:pt x="23686" y="16983"/>
                  <a:pt x="23703" y="16921"/>
                  <a:pt x="23703" y="16858"/>
                </a:cubicBezTo>
                <a:lnTo>
                  <a:pt x="23702" y="357"/>
                </a:lnTo>
                <a:lnTo>
                  <a:pt x="23703" y="358"/>
                </a:lnTo>
                <a:lnTo>
                  <a:pt x="23703" y="358"/>
                </a:lnTo>
                <a:cubicBezTo>
                  <a:pt x="23703" y="295"/>
                  <a:pt x="23686" y="233"/>
                  <a:pt x="23655" y="179"/>
                </a:cubicBezTo>
                <a:cubicBezTo>
                  <a:pt x="23624" y="125"/>
                  <a:pt x="23578" y="79"/>
                  <a:pt x="23524" y="48"/>
                </a:cubicBezTo>
                <a:cubicBezTo>
                  <a:pt x="23470" y="17"/>
                  <a:pt x="23408" y="0"/>
                  <a:pt x="23345" y="0"/>
                </a:cubicBezTo>
                <a:lnTo>
                  <a:pt x="357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14360" y="426960"/>
            <a:ext cx="8313840" cy="5496120"/>
            <a:chOff x="414360" y="426960"/>
            <a:chExt cx="8313840" cy="549612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3840" cy="549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52520" y="468360"/>
              <a:ext cx="8237520" cy="5416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57120" y="333360"/>
            <a:ext cx="85726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е бюджетное дошкольное образовательное учреждение </a:t>
            </a: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Детский сад №24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951200"/>
            <a:ext cx="856908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1e12be"/>
                </a:solidFill>
                <a:latin typeface="Arial"/>
                <a:ea typeface="DejaVu Sans"/>
              </a:rPr>
              <a:t>«Куда ты, тропинка, меня приведешь?»</a:t>
            </a:r>
            <a:br>
              <a:rPr sz="18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DejaVu Sans"/>
              </a:rPr>
              <a:t>про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(для детей старшего дошкольного возраста 5-7 л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4920" y="4643280"/>
            <a:ext cx="4071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DejaVu Sans"/>
              </a:rPr>
              <a:t>Татьяна Михайловна Марченк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DejaVu Sans"/>
              </a:rPr>
              <a:t>воспитатель МБДОУ № 24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DejaVu Sans"/>
              </a:rPr>
              <a:t>Ленинск-Кузнецкий 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1e12be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1e12be"/>
                </a:solidFill>
                <a:latin typeface="Arial"/>
                <a:ea typeface="Arial"/>
              </a:rPr>
              <a:t>Этапы реализации проекта </a:t>
            </a:r>
            <a:br>
              <a:rPr sz="1800"/>
            </a:br>
            <a:r>
              <a:rPr b="0" lang="ru-RU" sz="2700" spc="-1" strike="noStrike">
                <a:solidFill>
                  <a:srgbClr val="1e12be"/>
                </a:solidFill>
                <a:latin typeface="Arial"/>
                <a:ea typeface="Arial"/>
              </a:rPr>
              <a:t>«Куда ты, тропинка, меня приведешь?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2960" y="1977840"/>
            <a:ext cx="807228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16000" indent="-216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ключительный этап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июнь – август 202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 альбома о посещении одного из туристических маршрутов по результатам фоторепортажей 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ить путеводитель «Туристические маршруты выходного дн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арить родителям буклеты «Туристические маршруты выходного дн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ещение  туристических маршрутов выходного д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ведение итогов реализации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98440" y="189000"/>
            <a:ext cx="7377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781080" y="9261360"/>
            <a:ext cx="3573360" cy="2214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00040" y="6429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1e12be"/>
                </a:solidFill>
                <a:latin typeface="Arial"/>
                <a:ea typeface="DejaVu Sans"/>
              </a:rPr>
              <a:t>Работа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33240" y="1352520"/>
            <a:ext cx="3286440" cy="4371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565520" y="633240"/>
            <a:ext cx="4011840" cy="25178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4638600" y="3139920"/>
            <a:ext cx="3908520" cy="25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5280" y="4371840"/>
            <a:ext cx="813744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57120" y="500040"/>
            <a:ext cx="8358120" cy="5697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826920" y="189000"/>
            <a:ext cx="74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b45f07"/>
                </a:solidFill>
                <a:latin typeface="Arial Narro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00080" y="471492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340000" y="62064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1e12be"/>
                </a:solidFill>
                <a:latin typeface="Arial"/>
                <a:ea typeface="DejaVu Sans"/>
              </a:rPr>
              <a:t>Музей-заповед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1e12be"/>
                </a:solidFill>
                <a:latin typeface="Arial"/>
                <a:ea typeface="DejaVu Sans"/>
              </a:rPr>
              <a:t>«Томская Писани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22240" y="1481040"/>
            <a:ext cx="3578400" cy="4329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797360" y="1481040"/>
            <a:ext cx="3524400" cy="44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072040" y="828720"/>
            <a:ext cx="3608280" cy="3646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00040" y="7858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1e12be"/>
                </a:solidFill>
                <a:latin typeface="Verdana"/>
                <a:ea typeface="DejaVu Sans"/>
              </a:rPr>
              <a:t>Санаторий курорт «Тана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76440" y="2341440"/>
            <a:ext cx="4236840" cy="31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63720" y="281160"/>
            <a:ext cx="7686720" cy="17967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85840" y="35712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1e12be"/>
                </a:solidFill>
                <a:latin typeface="Arial"/>
                <a:ea typeface="DejaVu Sans"/>
              </a:rPr>
              <a:t>Приглашаем к сотрудничеств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14880" y="1428840"/>
            <a:ext cx="450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Марч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Татьяна Михайл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воспит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МБДОУ № 24</a:t>
            </a:r>
            <a:br>
              <a:rPr sz="1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ул. Шевцовой,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сайт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dou24_lk@mail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персональный сай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https://nsportal.ru/marchenkotoka-tatyana-mikhaylovna</a:t>
            </a:r>
            <a:br>
              <a:rPr sz="1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личная электронная почт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marchenko.70@mail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85880" y="1243080"/>
            <a:ext cx="325584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11080" y="1779480"/>
            <a:ext cx="7894800" cy="30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03280" y="498636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1e12be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0040" y="571680"/>
            <a:ext cx="8143920" cy="65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я реализации цели необходимо  решение следующих зада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Сформировать интерес родителей и детей старшего дошкольного возраста к туризму, как к средству активного совместного семейного отдыха, формирование ценности семейных тради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Обогатить  педагогические знания родителей и детей по вопросам важности физической активности, здорового образа жизни, тур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040" y="642960"/>
            <a:ext cx="8069400" cy="5214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5000" anchor="t">
            <a:noAutofit/>
          </a:bodyPr>
          <a:p>
            <a:pPr marL="264960" indent="-26352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352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ать туристические маршрут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352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352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спитывать любовь к малой родине Кузбассу, его достопримечательностям, бережное отношение к окружающему ми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380880"/>
            <a:ext cx="850752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20840" y="1639800"/>
            <a:ext cx="2889000" cy="4078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85840" y="714240"/>
            <a:ext cx="8640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1e12be"/>
                </a:solidFill>
                <a:latin typeface="Arial Narrow"/>
                <a:ea typeface="Times New Roman"/>
              </a:rPr>
              <a:t>Предметно-пространственная развивающая с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352680" y="1639800"/>
            <a:ext cx="5437440" cy="407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143160" y="1428840"/>
            <a:ext cx="2782800" cy="370980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279520" y="974880"/>
            <a:ext cx="4584960" cy="377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85840" y="5716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1e12be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1e12be"/>
                </a:solidFill>
                <a:latin typeface="Arial Narrow"/>
                <a:ea typeface="Times New Roman"/>
              </a:rPr>
              <a:t>Совместная 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00040" y="2286000"/>
            <a:ext cx="2575080" cy="357192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6000840" y="2286000"/>
            <a:ext cx="2619360" cy="362124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9640" y="428760"/>
            <a:ext cx="7981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07f09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e12be"/>
                </a:solidFill>
                <a:latin typeface="Arial"/>
                <a:ea typeface="Arial"/>
              </a:rPr>
              <a:t>Этапы реализации проекта </a:t>
            </a:r>
            <a:br>
              <a:rPr sz="1800"/>
            </a:br>
            <a:r>
              <a:rPr b="0" lang="ru-RU" sz="2400" spc="-1" strike="noStrike">
                <a:solidFill>
                  <a:srgbClr val="1e12be"/>
                </a:solidFill>
                <a:latin typeface="Arial"/>
                <a:ea typeface="Arial"/>
              </a:rPr>
              <a:t>«Куда ты, тропинка, меня приведешь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680" y="1500120"/>
            <a:ext cx="82864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5000" anchor="t">
            <a:noAutofit/>
          </a:bodyPr>
          <a:p>
            <a:pPr marL="264960" indent="-263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3520" algn="ctr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онный  этап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сентябрь 20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3520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инициативной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3520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гласование и распределение ролей и функций участников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3520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зучение опыта по созданию туристических маршру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3520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зучение участка природы - планируемого туристического маршрута, краеведческой литерату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3520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возможных вариантов маршру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3520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дительское собрание  «Куда ты, тропинка, мен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ведешь?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95280" y="4371840"/>
            <a:ext cx="813744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358120" cy="5697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826920" y="189000"/>
            <a:ext cx="74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b45f07"/>
                </a:solidFill>
                <a:latin typeface="Arial Narro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00080" y="471492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1e12be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e12be"/>
                </a:solidFill>
                <a:latin typeface="Arial"/>
                <a:ea typeface="Arial"/>
              </a:rPr>
              <a:t>Этапы реализации проекта </a:t>
            </a:r>
            <a:br>
              <a:rPr sz="1800"/>
            </a:br>
            <a:r>
              <a:rPr b="0" lang="ru-RU" sz="2400" spc="-1" strike="noStrike">
                <a:solidFill>
                  <a:srgbClr val="1e12be"/>
                </a:solidFill>
                <a:latin typeface="Arial"/>
                <a:ea typeface="Arial"/>
              </a:rPr>
              <a:t>«Куда ты, тропинка, меня приведешь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2960" y="2000160"/>
            <a:ext cx="792972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8720" indent="-5126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DejaVu Sans"/>
              </a:rPr>
              <a:t>Практический  этап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(октябрь2020 – май 202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8720" indent="-5126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7280" indent="-5130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Опрос родителей «Где мы отдыхаем всей семьей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7280" indent="-5130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Разработка  туристического маршрута «Краеведческий маршрут. Сквер военного комиссариата – площадь Победы – Аллея героев Советского Союз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7280" indent="-5130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Разработка  туристического маршрута «Экологический маршрут. Музей-заповедник «Томская Писаниц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7280" indent="-5130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Разработка  туристического маршрута «Спортивно-оздоровительный маршрут. Курорт «Тана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7280" indent="-5130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Оформление и презентация туристических маршру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7280" indent="-5130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Спортивный праздник «Мама, папа, я – туристическая семь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7280" indent="-5130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Выбор маршрута выходного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7280" indent="-5130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Изготовление буклетов для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8720" indent="-5126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5:26:05Z</dcterms:created>
  <dc:creator>Admin</dc:creator>
  <dc:description/>
  <dc:language>en-US</dc:language>
  <cp:lastModifiedBy>ДОУ №24 Алёнка</cp:lastModifiedBy>
  <dcterms:modified xsi:type="dcterms:W3CDTF">2021-10-11T04:22:12Z</dcterms:modified>
  <cp:revision>20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