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28AD-85BD-43D7-BC1D-C3F1ADC9A3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48CF-A558-4CE6-A9A7-5A23D251B3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475D-FE5B-4558-8AC2-D438AE81A2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AF3C-0097-4BB0-907D-6DB3B1797F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819-CE6F-47C0-A902-FF4DF369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7FC-8F51-4909-AF1D-B7407035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242-9B3E-4005-B83C-9EBC1533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CEF-A25E-4870-AB81-DA2B78B2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26D-8EFF-4B38-A0C8-AB4F2674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3F7-F7A2-4EC7-8775-BB5A7D35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7BA-FED0-4581-A804-7E631BA8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8CD-0BF0-4D20-87A5-18F9E315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E23-64AC-47C2-BA44-84E6C6D9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E62-AAEB-457E-B91A-2279311F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1AD-5EC8-4170-8FED-0E732B4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638-3AF7-432F-A2FE-724A938D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B6BA-9899-4E30-BC7A-A64E396B7D2D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3500280"/>
            <a:ext cx="7417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339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720" y="4005360"/>
            <a:ext cx="78213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Составила: Байкина Т.Ю.,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учитель-логопед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42960" y="500040"/>
            <a:ext cx="7993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общеразвивающего вида с приоритетным осуществл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по познавательно-речевому направлению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ов №4 «Ручеек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4" descr=""/>
          <p:cNvPicPr/>
          <p:nvPr/>
        </p:nvPicPr>
        <p:blipFill>
          <a:blip r:embed="rId1"/>
          <a:stretch/>
        </p:blipFill>
        <p:spPr>
          <a:xfrm>
            <a:off x="73080" y="1268280"/>
            <a:ext cx="9070920" cy="2901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  </a:t>
            </a: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Звукопроизношение  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 норме вся звуковая сторона речи должна быть усвоена ребёнком полностью к 5– 6 годам.  Ребенок должен уметь различать звуки на слух и в произношении. Приходя в школу, ребёнок должен отчётливо произносить звуки в различных словах, во фразовой речи. Он не должен их пропускать, искажать, заменять другими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Владение элементарными навыками звукового анализа: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ние выделять начальный гласный звук из слова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анализ гласных из трех звуков типа «ауи»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анализ обратного слога гласный - согласный типа «ап»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лышать и выделять первый и последний согласный звук в слове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количество и последовательность звуков в слове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азывать слова на заданный звук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Дети должны знать и правильно употреблять термины «звук», «слог», «слово», «предложение»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719280" y="500040"/>
            <a:ext cx="7772400" cy="2998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1424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83226"/>
                </a:solidFill>
                <a:latin typeface="Arial Black"/>
              </a:rPr>
              <a:t>«Какой звук есть во всех словах? »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0000"/>
                </a:solidFill>
                <a:latin typeface="Arial Black"/>
              </a:rPr>
              <a:t>         </a:t>
            </a:r>
            <a:r>
              <a:rPr b="0" lang="ru-RU" sz="2000" spc="-1" strike="noStrike">
                <a:solidFill>
                  <a:srgbClr val="f20000"/>
                </a:solidFill>
                <a:latin typeface="Arial Black"/>
              </a:rPr>
              <a:t>Шуба, кошка, мышь, шампунь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401"/>
                </a:solidFill>
                <a:latin typeface="Arial Black"/>
              </a:rPr>
              <a:t>- Подбери слово, которое начинается на последний звук слова «стол» (лак, л).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Вспомни название птицы, в котором есть последний звук слова «сыр» (грач).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Подбери слово, чтобы первый звук был бы [к], а последний [а] (кошка).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Назови предмет в комнате с заданным звуком (Что заканчивается на "А";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что начитается на "С", в середине слова звук "Т" и т. д.) .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 rot="21187200">
            <a:off x="115560" y="596520"/>
            <a:ext cx="415908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Словарный запас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5280" y="1844640"/>
            <a:ext cx="4537080" cy="44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К 7 годам у ребёнка должен быть достаточно большой словарный запас </a:t>
            </a:r>
            <a:r>
              <a:rPr b="0" lang="ru-RU" sz="1400" spc="-1" strike="noStrike">
                <a:solidFill>
                  <a:srgbClr val="01316b"/>
                </a:solidFill>
                <a:latin typeface="Arial"/>
              </a:rPr>
              <a:t>(около  3000  слов)</a:t>
            </a:r>
            <a:r>
              <a:rPr b="0" lang="ru-RU" sz="18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В своей речи он должен активно использовать антонимы (грустный -весёлый, молодой – старый), синонимы (например, лошадь, конь, жеребец, скакун), слова – действия, слова –</a:t>
            </a:r>
            <a:r>
              <a:rPr b="0" lang="ru-RU" sz="20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признаки.</a:t>
            </a:r>
            <a:r>
              <a:rPr b="0" lang="ru-RU" sz="2000" spc="-1" strike="noStrike">
                <a:solidFill>
                  <a:srgbClr val="4832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148360" y="3365640"/>
            <a:ext cx="352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788000" y="615240"/>
            <a:ext cx="403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Ребенок должен уметь пользоваться разными способами словообразования, правильно употреблять слова с уменьшительно-ласкательным значением, образовывать слова в нужной форме, выделять звуковые и смысловые различия между словами; образовывать прилагательные от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лист"/>
          <p:cNvPicPr/>
          <p:nvPr/>
        </p:nvPicPr>
        <p:blipFill>
          <a:blip r:embed="rId1"/>
          <a:stretch/>
        </p:blipFill>
        <p:spPr>
          <a:xfrm>
            <a:off x="3635280" y="558972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рамматическ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ий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стро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й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речи</a:t>
            </a:r>
            <a:br>
              <a:rPr sz="3600"/>
            </a:br>
            <a:r>
              <a:rPr b="1" lang="ru-RU" sz="2500" spc="-1" strike="noStrike">
                <a:solidFill>
                  <a:srgbClr val="00339a"/>
                </a:solidFill>
                <a:latin typeface="Arial"/>
              </a:rPr>
              <a:t>В норме к 6 – 7 годам у ребенка сформированы: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пользоваться развернутой фразовой речью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работать с предложением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равильно строить простые предложения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идеть связь слов в предложениях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аспространять предложения второстепенными и однородными членами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аботать с деформированным предложением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амостоятельно находить ошибки и устранять их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оставлять предложения по опорным словам и картинкам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Связная речь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К 7 годам ребёнок должен уметь пересказывать небольшие по объёму незнакомые рассказы и сказки. </a:t>
            </a:r>
            <a:r>
              <a:rPr b="1" lang="ru-RU" sz="2400" spc="-1" strike="noStrike">
                <a:solidFill>
                  <a:srgbClr val="01316b"/>
                </a:solidFill>
                <a:latin typeface="Franklin Gothic Book"/>
              </a:rPr>
              <a:t>При пересказе обращается внимание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понимание ребёнком текста (он должен правильно формулировать основную мысль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структурирование текста (он должен уметь последовательно и точно строить пересказ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лексику (полнота использования лексики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грамматику (он должен правильно строить предложения, уметь использовать сложные предложения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плавность речи (отсутствие подсказок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по ходу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пересказа).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0" name="Рисунок 22" descr="anmated_doll_100048.gif"/>
          <p:cNvPicPr/>
          <p:nvPr/>
        </p:nvPicPr>
        <p:blipFill>
          <a:blip r:embed="rId6"/>
          <a:stretch/>
        </p:blipFill>
        <p:spPr>
          <a:xfrm>
            <a:off x="7020000" y="3213000"/>
            <a:ext cx="2124000" cy="2043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714240" y="571680"/>
            <a:ext cx="792972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90000"/>
                </a:solidFill>
                <a:uFillTx/>
                <a:latin typeface="Arial Black"/>
              </a:rPr>
              <a:t>Как Вы можете помочь своему </a:t>
            </a:r>
            <a:r>
              <a:rPr b="1" lang="ru-RU" sz="2400" spc="-1" strike="noStrike" u="sng">
                <a:solidFill>
                  <a:srgbClr val="790000"/>
                </a:solidFill>
                <a:uFillTx/>
                <a:latin typeface="Arial Black"/>
              </a:rPr>
              <a:t>ребён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те с ним, задавайте вопросы, побуждая его отвечать предложе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те художественные произ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айте прочитанную книгу, просмотренный мультфиль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инайте знакомые произведения и мультфильмы, предлагайте ребёнку рассказать их сам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йте внимание на собственную речь. Речь ребенка во многом зависит оттого, как говорят окружающие его взросл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Речевая коммуникация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бёнок должен быть достаточно активен в общени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ть слушать и понимать речь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троить общение с учетом ситуации,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легко входить в контакт с детьми и взрослым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ясно и последовательно выражать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вои мысл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ользоваться формами речевого этикета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circl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a"/>
                </a:solidFill>
                <a:latin typeface="Franklin Gothic Medium"/>
              </a:rPr>
              <a:t>Чем заниматься с ребенком, чтобы он оказался готовым к школе?</a:t>
            </a:r>
            <a:endParaRPr b="1" lang="en-US" sz="32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292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В первую очередь надо позаботиться о его здоровье.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Плавание, прогулки, велосипед - это занятия, способствующие будущему успешному вступлению в школьную жизнь. Развивать навыки самообслуживания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8" name="Picture 4" descr="73452985"/>
          <p:cNvPicPr/>
          <p:nvPr/>
        </p:nvPicPr>
        <p:blipFill>
          <a:blip r:embed="rId2"/>
          <a:stretch/>
        </p:blipFill>
        <p:spPr>
          <a:xfrm>
            <a:off x="2556000" y="1484280"/>
            <a:ext cx="309564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83226"/>
                </a:solidFill>
                <a:uFillTx/>
                <a:latin typeface="Franklin Gothic Book"/>
              </a:rPr>
              <a:t>Важно, чтобы ребенок развивал в себе волевые качества.</a:t>
            </a: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 Для этого его нужно приучать любое начатое им дело доводить до конца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69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460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Чтобы ребенок хорошо говорил, с ним надо разговаривать: так задаются образцы устной речи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Чтобы ребенок научился быть внимательным, ему надо читать и рассказывать сказки: так задаются образцы восприятия слова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Чтобы книга воспринималась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как необходимый элемент жизн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она должна жить в доме и быть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остребованной взрослым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Так задаются образцы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определенного жизненного стиля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7499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Полезны занятия, которые заставляют работать фантазию, воображение, самостоятельную смекалку: </a:t>
            </a:r>
            <a:r>
              <a:rPr b="1" lang="ru-RU" sz="3200" spc="-1" strike="noStrike" u="sng">
                <a:solidFill>
                  <a:srgbClr val="483226"/>
                </a:solidFill>
                <a:uFillTx/>
                <a:latin typeface="Franklin Gothic Book"/>
              </a:rPr>
              <a:t>рисование, лепка, конструирование</a:t>
            </a: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2" name="Picture 4" descr="Картинка 1 сентября на сайт"/>
          <p:cNvPicPr/>
          <p:nvPr/>
        </p:nvPicPr>
        <p:blipFill>
          <a:blip r:embed="rId2"/>
          <a:stretch/>
        </p:blipFill>
        <p:spPr>
          <a:xfrm>
            <a:off x="2050920" y="2843280"/>
            <a:ext cx="4826160" cy="347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Franklin Gothic Medium"/>
              </a:rPr>
              <a:t>Готовы ли родители к школе?</a:t>
            </a:r>
            <a:endParaRPr b="1" lang="en-US" sz="35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30968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Жертвовать своим личным временем  и некоторыми привычками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держивать свои эмоции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е кричать, не унижать и не обижать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е сравнивать своего ребенка с другими детьми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е наказывать ребенка без причины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Всегда встречать ребенка из школы с улыбкой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Быть щедрым на похвалу за достигнутые результаты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21187200">
            <a:off x="139320" y="596160"/>
            <a:ext cx="41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товность к школе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39640" y="2060640"/>
            <a:ext cx="36007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Когда говорят о      "готовности к школе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то имеют в ви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не отдельные умения и знания, а их определенный набор, в котором присутствуют все осно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компоненты.</a:t>
            </a: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лист"/>
          <p:cNvPicPr/>
          <p:nvPr/>
        </p:nvPicPr>
        <p:blipFill>
          <a:blip r:embed="rId2"/>
          <a:stretch/>
        </p:blipFill>
        <p:spPr>
          <a:xfrm>
            <a:off x="2700360" y="5157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148360" y="29743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https://www.b17.ru/foto/uploaded/upl_1625034423_683937_dnb5a.jpg"/>
          <p:cNvPicPr/>
          <p:nvPr/>
        </p:nvPicPr>
        <p:blipFill>
          <a:blip r:embed="rId3"/>
          <a:stretch/>
        </p:blipFill>
        <p:spPr>
          <a:xfrm>
            <a:off x="4660920" y="352440"/>
            <a:ext cx="43750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535752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Быть готовым к школе уже сегодня -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Не значит уметь писать, читать, считать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Быть готовым к школе — значит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Быть готовым всему этому научиться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f2c1f"/>
                </a:solidFill>
                <a:latin typeface="Arial"/>
              </a:rPr>
              <a:t>Наша речь 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cf2c1f"/>
                </a:solidFill>
                <a:latin typeface="Arial"/>
              </a:rPr>
              <a:t>процесс общения</a:t>
            </a:r>
            <a:r>
              <a:rPr b="1" lang="ru-RU" sz="4000" spc="-1" strike="noStrike">
                <a:solidFill>
                  <a:srgbClr val="cf2c1f"/>
                </a:solidFill>
                <a:latin typeface="Arial"/>
              </a:rPr>
              <a:t>,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поэтому готовность или неготовность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к обучению в школе во многом определяется уровнем  речевого развития. Ведь, именно, при помощи речи устной и письменной ребенку предстоит усвоить всю систему знаний. Чем лучше у него будет развита речь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до поступления в школу, тем быстрее ученик овладеет чтением и письмом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a"/>
                </a:solidFill>
                <a:latin typeface="Franklin Gothic Medium"/>
              </a:rPr>
              <a:t>Родителям в первую очередь следует обратить внимание на: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равильное произношение всех звуков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различать звуки речи на слух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ладение элементарными навыками звукового анализа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ловарный запас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амматический стро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й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речи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вязную речь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чевую коммуникацию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Мелкую моторику рук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Общую моторику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Мелкая моторика рук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60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83226"/>
                </a:solidFill>
                <a:latin typeface="Franklin Gothic Book"/>
              </a:rPr>
              <a:t>Часто  обучение  письму  вызывает  у  детей  наибольшие  трудности,  проблемы.    Для  того    чтобы  избежать проблемы,  нужно  решить    вопрос  с  готовностью  к  письму  непосредственно  руки.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Franklin Gothic Book"/>
              </a:rPr>
              <a:t>Попробуйте  хотя бы по 20 минут обводить в тетради клеточки, рисовать в них кружочки, составлять орнаменты из палочек, лепить из глины, пластилина, выполнение движений с мелкими предметами (мозаика, конструктор, нанизывание бусинок, завязывание веревочек, вырезание ножницами).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Franklin Gothic Book"/>
              </a:rPr>
              <a:t>Учите ребенка правильно сидеть за столом, держать ручку, сосредотачивать внимание. Если у вас есть старые прописи, можно просто обводить буквы-образцы помногу раз.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/>
  <dcterms:modified xsi:type="dcterms:W3CDTF">2023-04-17T14:25:44Z</dcterms:modified>
  <cp:revision>22</cp:revision>
  <dc:subject/>
  <dc:title>Логопедическая готовность к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9990</vt:lpwstr>
  </property>
</Properties>
</file>